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ECC1-F5E0-43EE-8A36-4D982880C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F38E-4375-409E-AD91-5A5ECBE9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D427-D8C4-4210-B1E1-5D549E7B3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1C69-1D39-4BCE-942A-703193E19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D21C-AD3C-4DBD-8293-6FA677A2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696A-883F-46E3-90AA-70AC078D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B64D-4FB7-43DC-B8ED-67A263CB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BE3E-5698-4BB2-9943-71B0320C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DBD0-2EEB-4A9B-B5F1-6AD434E0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6F8B-8F76-4ADD-AAF6-7EA8371D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F375-18F0-44E0-B0C7-07EE61AF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A48E-65D1-4A6A-B531-9147B6BA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F3E8-B256-4B93-A631-9CDFB8800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vid Conr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rc@isc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 Software Consort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ENET Structure &amp; Operation (cont’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entral control or autho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create and post a news arti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newsgroups can be created by any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y post a specially formatted article called a “control messag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messages are easily for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55840" indent="-2077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cryptographically signed using PG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l policy determines how long articles are kept in sto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ENET Structure &amp; Operation (cont’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sgroups are hierarch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- articles related to compu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p.protoco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- articles related to computer (networking) protoc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p.protocols.tcp-i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- articles related to TCP/IP net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p.protocols.tcp-ip.d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- articles related to the DNS (which uses TCP/IP and allows computers to talk to each oth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sgroup hierarchies vary wild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ition/deletion of newsgroups in “the big eight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ierarchies controlled by the “USENET Caba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“big eight” ar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, humanities, misc, news, rec, sci, soc, &amp; ta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rried by most news ser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“alt” hierarchy established because some people didn’t like the USENET Cab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hierarchies are “private” but propag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, news hierarchies for a corporation’s 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.g.,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icrosoft.public.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ptance of a particular hierarchy is a local policy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sgroups (cont’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sgroups can be moderated or unmode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ticles posted to a moderated newsgroup must have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pprov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eader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rator is supposed to be the one to do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y to forge the appropriate magic to get past this ch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rators are volunteers interested in the subject of the news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newsgroups are not moder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moderated ones usually have better signal to noise rat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sgroups (cont’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ly there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0 newsgroup hierarch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,948 news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p hierarchie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.9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do7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7.2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o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3.3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3.3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2.4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2.0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352680" y="1589040"/>
          <a:ext cx="6324840" cy="484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1589040"/>
                    <a:ext cx="6324840" cy="48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ood Fill Article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NET articles are propagated using“flood fil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USENET news server has one or more pe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article received from a peer or from a user of that server (a posting) is sent to all other peers that haven’t yet seen the art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“push” model of data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ull article is copied all over th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using real-time feeders, the article can reach all major news hosts on the Internet in a matter of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ticl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in 7-bit ASCII 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n-ASCII encoded into AS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ypically using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uen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ME encoding becoming more and more pop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mbles an email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s article format a subset of e-mail (RFC 822)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bed in RFC 10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n of RFC 1036” is in prog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of articles moving more and more to 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6 required hea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- who wrote the arti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- the date the article was pos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wsgroup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- the newsgroup(s) the article was posted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bj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- the subject of the arti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ssage-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- a globally unique identifier for the arti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- the UUCP path the article has take to reach the current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headers op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known headers passed unchang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USENET Arti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981080"/>
            <a:ext cx="80010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th: papaya.bbn.com!rsal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rom: rsalz@bbn.com (Rich Sal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wsgroups: news.software.nntp,news.admin,comp.org.usen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ject: Seeking beta-testers for a new NNTP transfer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essage-ID: &lt;3632@litchi.bbn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ate: 18 Jun 91 15:47:21 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llowup-To: po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rganization: Bolt, Beranek and Newman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ines: 7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ref: papaya.bbn.com news.software.nntp:1550 news.admin:15565 comp.org.usenix:4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NetNews, or INN, is a news transport system.  The core part of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ckage is a single long-running daemon that handles all incoming NN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nnections.  It files the articles and arranges for them to be forward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o downstream sites.  Because it is long-running, it can be directed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pawn other long-running processes, telling them exactly when an arti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hould be sent to a fe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…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r$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Pa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Fie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n a server receives an article, it adds its own name to the front of th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Pat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e.g.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efore sending an article to a peer, the news server checks th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Pat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see if the peer is already lis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ops loop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2895480"/>
            <a:ext cx="81532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rticle with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th: usenet.dec.com!usenet.sony.com!u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be modifi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th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n.isc.org!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senet.dec.com!usenet.sony.com!u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it is sent from usenet.dec.com to inn.isc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ontrol Message Propagation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trol messages come in several flavo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ance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moves a previously posted arti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wgrou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s a newsgrou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mgrou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moves a newsgrou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eckgroup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ks the server to check its list of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wsgroups against an official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ndsy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quest a copy of the configuration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cribing the server’s pe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ers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quest information about the type and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ersion of the software being ru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NET Introduction and The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USE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NET Structure and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NET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ontrol Messages (cont’d)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Cance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Newgrou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Rmgrou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re in common usage now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eckgroup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ndsy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ers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onsidered security ris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Cance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ontrol messages are by far the most comm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d the most frequently forg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Newgrou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Rmgrou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re important to tra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uld not be blindly execu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GP header verification if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NNTP and Its Use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NTP is a simple application layer protoco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andard” verb/numeric response code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scribed in RFC 97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ostly a command/response protoco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e server sends  “I have article &lt;number&gt;” to pe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eer sends “no thanks, seen it already” or “OK, send it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Internet Network News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C’s INN is an open source USENET news syste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vailable from ftp://ftp.isc.org/isc/inn/inn.tar.g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N is a transport syste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ll use an appropriate application layer transport mechanis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NTP (by preferen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U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M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also handle compressed batches of new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extended easily to handle other transport mechanisms as nee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History of INN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reated in the early 1990’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iginally written by Rich Sal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rst beta release June 18, 199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urrent version 2.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leased January 21, 199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as the first real-time News transport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 news used the NNTP reference implementation, but incoming articles were put into batch files for later process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What INN Does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ansport news artic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mplements NNTP (RFC 977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imarily uses TCP/I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n use UUCP or other transport mechanis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ovides network client (reader) interfa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eeds in real-time or in batch mod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pressed or uncompressed artic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What INN Doesn’t Do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 client software (news reader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obs of news readers ex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Old style: rn, trn, vnews,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New style: Netscape Communicator, Microsoft Explor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 extra support for large-scale “reverse” (sucking) fee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ull” model instead of “push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 web interfaces for users or administrators (ye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agement of INN is a painfu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N is middleware and not a vertical solu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ertical solutions such as Netscape’s Collabra ex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Types of News Servers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ansit serv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ually at enterprise gatew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ve no regular reader cli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n’t keep articles around for lo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ess resource requirements than read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sier to sec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ader Serv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quire significantly more resources than transit serv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quire more management resour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ually stores articles for long perio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rgets for spamm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aching NNTP Server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vides some level of scalabil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Reduced resource requirements, higher performan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n a reader requests articles, the caching server first checks local storage and (if article isn’t found) requests the article from an upstream server using NNTP reader comman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pstream server treats the request like any other reader reque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ticles typically fetched on demand, but large numbers of articles can be pre-fetch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aching NNTP Servers (cont’d)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s the site running the caching server avoid accepting a full fe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ull feeds demand large amounts of disk spa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Useful for sites with inconsistent or sparse reading patter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ot a good idea for sites with poor network connec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ader performance affected by upstream serv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Futures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roupware” such as Lotus Notes and Netscape Collabra are the next evolutionary of USENET New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ery pretty user interfaces on the news reading cli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ch more easily managed serv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ighter integration of transport / user interface / article sto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s database retrieval mechanisms for article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NET messages will likely become more HTML ric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wsreaders unable to handle HTML will likely fade aw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NET will continue to evol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Should You Ca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NET News is typically provided as a matter of course by Internet service provi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heck-box i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NET “push” model of content transmission is still use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the proliferation of “groupware” would demonst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NET can be very resource inten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, hardware, management perso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NET articles can get you into tr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NET 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USENET technology results in tremendous resource uti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k, network, CPU, management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gabytes / day of mess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ly, only a tiny percentage of these messages are ever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percentage of messages are sp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NET Evolution (Cont’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NET articles will likely move to a header/pointer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only fetched if article is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teways to “old” USENET that fetch the content a create/post a “legacy” arti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kely permits a reduction in the amount of resources consu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aided by integration with WWW cac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help in the reduction of sp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with tools like MAPS/RB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NET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with any service which provides content, “inappropriate” content can be f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teful literature, pornography, libel/sl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constant calls to censor this 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Ps often get caught in the midd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arg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ttle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ological advances may “help” content control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NET growth will continue to be an iss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technology many help this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NET has been around since the beginning of the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s is still useful for pushing information to a wide aud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lood fill model of information propagation assures globa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NET News hierarchy is largely chao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NET articles are similar to mail is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NET will likely evolve to a header/pointer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reduce the resource requirements and (hopefully) help the signal to noise 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Get More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FC 1036 -- Standard for Interchange of USENET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isi.edu/in-notes/rfc1036.t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FC 977 -- Network News Transfer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isi.edu/in-notes/rfc1036.t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ry Spencer &amp; David Lawre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naging Usen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1st Edition January 1998, O’Reilly &amp; Associ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 Network News (IN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isc.org/inn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NET Introduction and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NE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ontent transport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ke electronic mail, only diffe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ogical network layered on top of other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broadcast, one-to-many 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ived from very early Unix networking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 to Unix Copy (UUCP)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 USENET hosts normally runs its own protocol (NNTP) over TCP/IP, but can also use UUCP over T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UCP over TCP useful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ad network con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gression #1: UU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UCP -- Unix to Unix C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ually a suite of programs to facilitate transfer of files from one machine to another machine over a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ither a dialup network (my machine calls yours) or an Internet(-like)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ant command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ux -- execute a command on another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ucp -- queue a file for copy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ucico -- copy in/copy out queued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usched -- the scheduler for UUCP comm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Unix manual pages for more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gression #2: UUCP Addr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UCP Addressing is position-rel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ddress varies depending on where you are in th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a path concept to trace route from originating machine to dest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n.isc.org!usenet.dec.com!usenet.sony.com!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tor 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ser@usenet.sony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got 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n.isc.or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i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senet.dec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ies very little flexibility if any of the machines in a path are bro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NET still uses UUCP addressing in pl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ort History of USE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started at Duke University in USA in late 1970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ually, similar to posting a note on a subject specific bulletin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software was called “A News Softwa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News” and then “C News” soon follow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B and C News still found on the Internet to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ginally, USENET consisted of two sets of bulletin boards, mod.* and net.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.* was moderated, net.* wasn’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(cont’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id-1980’s Network News Transport Protocol (NNTP) was develo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application layer protocol using T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et Network News (INN) and other TCP/IP based news servers follow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986, the Great USENET Renaming occur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litting mod.* and net.* into “the big 8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he explosion of the Internet since the early 1990s, traffic has grown from a few megabytes per day to many gigabytes per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fortunately, the signal to noise ratio is pretty p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ew sites carry full newsfeeds anym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NET Structure and Op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ributed Bulletin Boar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 your message and “post” it on the B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post messages (“articles”) to areas called “newsgroup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sgroups have themes or top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article is gi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ite relative article numb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globally unique message 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cles can be posted to multiple newsgroups at on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wned upon, but comm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cles are copied to other USENET news 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servers willing to accept the article on the entire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3T02:05:23Z</dcterms:created>
  <dc:creator>David R. Conrad</dc:creator>
  <dc:description/>
  <dc:language>en-US</dc:language>
  <cp:lastModifiedBy>gih</cp:lastModifiedBy>
  <dcterms:modified xsi:type="dcterms:W3CDTF">2000-07-12T11:08:26Z</dcterms:modified>
  <cp:revision>8</cp:revision>
  <dc:subject/>
  <dc:title>USENET and INN</dc:title>
</cp:coreProperties>
</file>