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50E-579E-492E-8C96-41B1EBAE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1C0-19BA-4B91-9C0F-7A4B3A63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A11-6915-4664-A495-3AE2BA69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4E7-4956-487A-A02D-B2219E9D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AE1A-9AC9-4F19-B0F6-2BBCF7E0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67C1-80B6-41FB-BF45-0686746B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E15E-09D4-425E-96CF-E23D7633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7EE1-9A4B-4885-B232-B965FAC3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D1D-77CA-49DD-923D-C2312C2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865D-43D9-475F-8CC4-A3CEB6A3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BEE1-7296-4BFB-A279-E692FDB8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25A-675D-41B0-93D4-8C59C63D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8EFF-B764-439E-8350-79BFCC02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0C4-51CF-48B6-BC43-F548DE48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12D2-7694-4583-9F93-A433E75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897A-2C44-4DB1-80D6-84B6584D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02BD-F096-4BEE-B372-1EA61A03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1D0-A4B8-4F40-B159-F4043CDC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6A7-E0BB-400B-BEFA-DD82DAB5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BC5-BCC6-4802-8A67-46639F7D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038-AC28-45DF-A69D-FCD8A2F1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AC3-40D6-4CE9-BEE9-7B8013AD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627-4C58-4C95-BDF5-D96DCE26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746-3557-4AD0-9395-C79B0B47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2645-4ECC-49DE-A25C-13C87179888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EDE-CD35-46C6-A9D9-8BD59FDDC16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7028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URKEY: 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EVELOPING COUNTR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r Zincir-Heyw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zincir@cs.dal.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5 years later...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backbo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ducational backbone will dimin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re security and operations management probl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business on the 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in the number of IS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rease in the us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bile phone networks will carry more internet traff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do we need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Economica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ist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egulatory bod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at has power and budg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presentatives from the government, the industry, the academ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aw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security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ectronic cr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pyright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e-commerce oriented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lecommunication carri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vatization in telco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carrier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ering between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ad sharing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Usage of I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busi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tate off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edu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urity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tions management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ain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chnical peo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forming people about the benefits of Inter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or more use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Internet caf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od market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r fe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onten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k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information about the state serv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tter designed home p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urrent Cas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national back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ademi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international li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000 host in March 1995, 37327 hosts in June 1998 and 85000 hosts in June 2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timated number of users 1000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urke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about the Internet usage in Turk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urs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k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roblem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conomic probl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lco mono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el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ck of regulatory bo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cial and cultural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Econom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enough money f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sonn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qui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ue for academic backbone (stat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lco Monopo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real infra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real motivation to give better serv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reselling is allow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ue for both academic and commerc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esell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problem for commercial n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lco do not like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market at the begin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racting custom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egulatio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regulatory bo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state offices have power to do different th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do not have respons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th for academia and commerc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ocial and cultural issu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2080" y="1980720"/>
            <a:ext cx="789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most people even accessing basic life facilities is a prob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nguage / cont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trai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ensive service for an ordinary dial-up user (pc + ISP fee + phone bil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ining peop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th academic and commerc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02:15:30Z</dcterms:created>
  <dc:creator>Nur Zincir-Heywood</dc:creator>
  <dc:description/>
  <dc:language>en-US</dc:language>
  <cp:lastModifiedBy>gih</cp:lastModifiedBy>
  <dcterms:modified xsi:type="dcterms:W3CDTF">2000-07-12T11:01:46Z</dcterms:modified>
  <cp:revision>25</cp:revision>
  <dc:subject/>
  <dc:title>TURKEY:  A DEVELOPING COUNTRY</dc:title>
</cp:coreProperties>
</file>