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7A2-DD4F-4626-A2D1-E920621A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0A7-5808-408E-A8D4-95302DF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70F-DEB6-411B-BDE4-E4D3E921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9BC-19AA-4EBF-AD54-7A5BB99C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EC92-A616-42F2-B436-60885BCB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8F8-4015-457B-9200-2D72405D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9EF5-BC0D-4478-BBD3-CF9AB1C5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ECB7-AF9E-416C-AF11-FAD15E6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33E-B6C5-42C6-A914-F262663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7C5A-59ED-4FCB-BF3A-A78CFE9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A9AF-9550-4FA1-B727-B318EE6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3D2-C827-44FA-AD46-C1BD0F08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496-076E-4F5D-A023-DAF0290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FFD4-1774-4F98-9946-6D88BBE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4664-96A6-4667-9060-C1888570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AC39-6F06-4270-9E51-05424180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F83A-B338-41A3-94C7-E1502E96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5B1-8B6E-414E-AFD4-76783947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596-63FD-4ACB-ABD1-58D1302B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D78-9FF6-42A7-B456-001E55C2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BD8-6A3E-4AE7-8B12-825FEA8E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FCD-45DF-4308-A5C4-DF97726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FEB-7608-470E-8931-AAD1D345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00E-F25F-4E22-A5E0-C1BE5F9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6D91-7996-4D58-9DCB-25645D2DD4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2666-EAEA-4D0B-A684-5F90F42EAA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ck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ditional Topic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Sell a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 you want to sel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apital gai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match with cor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match with public positio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 cri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Sell a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you sell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Leas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and serv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ff expertis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expertis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Buy a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 you want to buy a net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it opport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ter the market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ever off existing related skills and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urchase skills and market sh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is highly profi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high grade engineering for peak de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is highly predic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is easy to build and evidently profitable to ope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used the margins of voice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was very very small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was used by corporates for private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was priced at voice pricing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was was highly profi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value ad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entry cost to the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subscription of the IP 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growth in data dem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egulation of the communications indu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entrants comp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competition in high profit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tion for data transmission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voice market share for traditional tel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et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now about 70% of the transmissio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grow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s now about 2% of the revenue to the traditional tel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marg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money to exp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available network for more IP-base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where is the Internet mone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cost of transmission switching by combining all traffic into a single switch and transmission fab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data does not use ATM effici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is expensive to use f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y Reques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sked for a few notes on these topics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534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will drive a market for low margin dedicated communications pl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bypass over the Internet will increase for a while - until voice prices come 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co copper plant operating margins will decrease - mobile will remain good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DM will further drive down transmission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data switching costs will come 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cations Industry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we willing to forego the telephone complete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- ‘traditional’ voice has a viable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 WORKS for telepho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telephony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‘viable’ is not the same as ‘highly profitable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WHAT WILL HAPP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uncertain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to connect to Everyone El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a link to another ISP in your reg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Y “transit” from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lesale / retail relation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ntrol over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ntrol ove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to connect to Everyone El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 your own circuit to another cou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come a customer of a remote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cou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Provid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 Provid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Provid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to connect to Everyone El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kind of circu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ase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b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ow to connect to Everyone El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vider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estic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estic sett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 Poli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twork is a collection of packet swit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switches use packet headers not data paylo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switches cannot enforce content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 Poli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t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ess to certain sites from the boundar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MAKE IT LESS OBVIOUS BUT Y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P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 Poli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right tool to enforce public poli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policy problems typically require human solution, NOT network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cket switch cannot enforce policy if you want to have a productive and scaleabl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0T11:22:24Z</dcterms:created>
  <dc:creator>gih</dc:creator>
  <dc:description/>
  <dc:language>en-US</dc:language>
  <cp:lastModifiedBy>g</cp:lastModifiedBy>
  <dcterms:modified xsi:type="dcterms:W3CDTF">2002-12-03T18:41:21Z</dcterms:modified>
  <cp:revision>4</cp:revision>
  <dc:subject/>
  <dc:title>Track 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