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CARBRAK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5000-0A5A-4764-8C7D-7DEEE22E1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E03E-697F-4A05-AC96-7DC59EF6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8D78-4C9F-478B-A52C-F6A527F42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20F8-F462-4805-8CFB-05224B782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D6EA-8240-4F80-8FA4-C645F48D8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5118-66A7-4F60-A156-1070DEAA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6EFF1-CF48-43A8-81E2-410E825C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E698-6205-4606-99E1-2B4A810B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2FD7-05D2-42C8-9E85-920AA9EE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FB1F-8E10-4229-8865-37871002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3FBD-33F2-48F4-813E-6199C0D1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DAD6-B8DA-4643-8248-5098D56A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690E-250E-4773-A8E0-1F53F8C9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7A485-C38D-4599-A02E-54420EC8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38CA-AACF-4541-8359-09D091DA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1AFB5-60B5-4D4E-8263-197F69B27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492A-2117-42AE-9C05-1DAAF9719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48D0-CB14-45C5-B3E2-47073443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741C-2771-4752-9312-064BA1AC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D3B1-36A9-4A7B-98C5-E9B3477B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80F8-4981-45D6-B798-0A2EDFC9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38A6-BE3C-4766-A0D3-E0A31BA1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101B-8390-4FF8-A4D0-C956B4B7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5B93-CEF9-4734-A909-42B3751B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7E35-30A0-494D-A1D8-8CF7ADE34A3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F83C-FD16-4DCE-A892-77FF8D397B4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A Clash of Two Cultur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SPs and Telco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Geoff Huston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eneric ISP Profile - Lar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484920" y="1763640"/>
            <a:ext cx="7023600" cy="4865400"/>
            <a:chOff x="484920" y="1763640"/>
            <a:chExt cx="7023600" cy="4865400"/>
          </a:xfrm>
        </p:grpSpPr>
        <p:grpSp>
          <p:nvGrpSpPr>
            <p:cNvPr id="278" name=""/>
            <p:cNvGrpSpPr/>
            <p:nvPr/>
          </p:nvGrpSpPr>
          <p:grpSpPr>
            <a:xfrm>
              <a:off x="4508640" y="3173400"/>
              <a:ext cx="1416960" cy="1069920"/>
              <a:chOff x="4508640" y="3173400"/>
              <a:chExt cx="1416960" cy="1069920"/>
            </a:xfrm>
          </p:grpSpPr>
          <p:sp>
            <p:nvSpPr>
              <p:cNvPr id="279" name=""/>
              <p:cNvSpPr/>
              <p:nvPr/>
            </p:nvSpPr>
            <p:spPr>
              <a:xfrm flipV="1">
                <a:off x="4533480" y="3173400"/>
                <a:ext cx="1104480" cy="59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>
                <a:off x="4546440" y="3477960"/>
                <a:ext cx="1066320" cy="35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4559040" y="3618000"/>
                <a:ext cx="1155240" cy="24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559040" y="3846600"/>
                <a:ext cx="1002960" cy="2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508640" y="3859200"/>
                <a:ext cx="1231560" cy="20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4559040" y="3363840"/>
                <a:ext cx="1041120" cy="4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5" name=""/>
              <p:cNvGrpSpPr/>
              <p:nvPr/>
            </p:nvGrpSpPr>
            <p:grpSpPr>
              <a:xfrm>
                <a:off x="5270040" y="3230640"/>
                <a:ext cx="655560" cy="1012680"/>
                <a:chOff x="5270040" y="3230640"/>
                <a:chExt cx="655560" cy="1012680"/>
              </a:xfrm>
            </p:grpSpPr>
            <p:grpSp>
              <p:nvGrpSpPr>
                <p:cNvPr id="286" name=""/>
                <p:cNvGrpSpPr/>
                <p:nvPr/>
              </p:nvGrpSpPr>
              <p:grpSpPr>
                <a:xfrm>
                  <a:off x="5498640" y="3230640"/>
                  <a:ext cx="185760" cy="237960"/>
                  <a:chOff x="5498640" y="3230640"/>
                  <a:chExt cx="185760" cy="237960"/>
                </a:xfrm>
              </p:grpSpPr>
              <p:sp>
                <p:nvSpPr>
                  <p:cNvPr id="287" name=""/>
                  <p:cNvSpPr/>
                  <p:nvPr/>
                </p:nvSpPr>
                <p:spPr>
                  <a:xfrm>
                    <a:off x="5498640" y="3394440"/>
                    <a:ext cx="185760" cy="74160"/>
                  </a:xfrm>
                  <a:prstGeom prst="rect">
                    <a:avLst/>
                  </a:prstGeom>
                  <a:solidFill>
                    <a:srgbClr val="deded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498640" y="3230640"/>
                    <a:ext cx="185760" cy="148320"/>
                  </a:xfrm>
                  <a:prstGeom prst="rect">
                    <a:avLst/>
                  </a:prstGeom>
                  <a:solidFill>
                    <a:srgbClr val="deded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5512680" y="3242880"/>
                    <a:ext cx="148320" cy="1155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5521680" y="3253680"/>
                    <a:ext cx="2448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520240" y="3253680"/>
                    <a:ext cx="0" cy="154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2" name=""/>
                <p:cNvGrpSpPr/>
                <p:nvPr/>
              </p:nvGrpSpPr>
              <p:grpSpPr>
                <a:xfrm>
                  <a:off x="5651280" y="3382920"/>
                  <a:ext cx="185760" cy="238320"/>
                  <a:chOff x="5651280" y="3382920"/>
                  <a:chExt cx="185760" cy="238320"/>
                </a:xfrm>
              </p:grpSpPr>
              <p:sp>
                <p:nvSpPr>
                  <p:cNvPr id="293" name=""/>
                  <p:cNvSpPr/>
                  <p:nvPr/>
                </p:nvSpPr>
                <p:spPr>
                  <a:xfrm>
                    <a:off x="5651280" y="3547080"/>
                    <a:ext cx="185760" cy="74160"/>
                  </a:xfrm>
                  <a:prstGeom prst="rect">
                    <a:avLst/>
                  </a:prstGeom>
                  <a:solidFill>
                    <a:srgbClr val="deded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5651280" y="3382920"/>
                    <a:ext cx="185760" cy="148680"/>
                  </a:xfrm>
                  <a:prstGeom prst="rect">
                    <a:avLst/>
                  </a:prstGeom>
                  <a:solidFill>
                    <a:srgbClr val="deded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5665320" y="3395160"/>
                    <a:ext cx="148320" cy="1159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5674320" y="3405960"/>
                    <a:ext cx="2448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5672880" y="3405960"/>
                    <a:ext cx="0" cy="154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8" name=""/>
                <p:cNvGrpSpPr/>
                <p:nvPr/>
              </p:nvGrpSpPr>
              <p:grpSpPr>
                <a:xfrm>
                  <a:off x="5397120" y="3471840"/>
                  <a:ext cx="185760" cy="238320"/>
                  <a:chOff x="5397120" y="3471840"/>
                  <a:chExt cx="185760" cy="238320"/>
                </a:xfrm>
              </p:grpSpPr>
              <p:sp>
                <p:nvSpPr>
                  <p:cNvPr id="299" name=""/>
                  <p:cNvSpPr/>
                  <p:nvPr/>
                </p:nvSpPr>
                <p:spPr>
                  <a:xfrm>
                    <a:off x="5397120" y="3636000"/>
                    <a:ext cx="185760" cy="74160"/>
                  </a:xfrm>
                  <a:prstGeom prst="rect">
                    <a:avLst/>
                  </a:prstGeom>
                  <a:solidFill>
                    <a:srgbClr val="deded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5397120" y="3471840"/>
                    <a:ext cx="185760" cy="148680"/>
                  </a:xfrm>
                  <a:prstGeom prst="rect">
                    <a:avLst/>
                  </a:prstGeom>
                  <a:solidFill>
                    <a:srgbClr val="deded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5411160" y="3484080"/>
                    <a:ext cx="148320" cy="1159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5420160" y="3494880"/>
                    <a:ext cx="2448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5418720" y="3494880"/>
                    <a:ext cx="0" cy="154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4" name=""/>
                <p:cNvGrpSpPr/>
                <p:nvPr/>
              </p:nvGrpSpPr>
              <p:grpSpPr>
                <a:xfrm>
                  <a:off x="5702040" y="3548160"/>
                  <a:ext cx="185760" cy="237960"/>
                  <a:chOff x="5702040" y="3548160"/>
                  <a:chExt cx="185760" cy="237960"/>
                </a:xfrm>
              </p:grpSpPr>
              <p:sp>
                <p:nvSpPr>
                  <p:cNvPr id="305" name=""/>
                  <p:cNvSpPr/>
                  <p:nvPr/>
                </p:nvSpPr>
                <p:spPr>
                  <a:xfrm>
                    <a:off x="5702040" y="3711960"/>
                    <a:ext cx="185760" cy="74160"/>
                  </a:xfrm>
                  <a:prstGeom prst="rect">
                    <a:avLst/>
                  </a:prstGeom>
                  <a:solidFill>
                    <a:srgbClr val="deded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5702040" y="3548160"/>
                    <a:ext cx="185760" cy="148320"/>
                  </a:xfrm>
                  <a:prstGeom prst="rect">
                    <a:avLst/>
                  </a:prstGeom>
                  <a:solidFill>
                    <a:srgbClr val="deded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5716080" y="3560400"/>
                    <a:ext cx="148320" cy="1155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5725080" y="3571200"/>
                    <a:ext cx="2448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5723640" y="3571200"/>
                    <a:ext cx="0" cy="154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0" name=""/>
                <p:cNvGrpSpPr/>
                <p:nvPr/>
              </p:nvGrpSpPr>
              <p:grpSpPr>
                <a:xfrm>
                  <a:off x="5435280" y="3662280"/>
                  <a:ext cx="185760" cy="238320"/>
                  <a:chOff x="5435280" y="3662280"/>
                  <a:chExt cx="185760" cy="238320"/>
                </a:xfrm>
              </p:grpSpPr>
              <p:sp>
                <p:nvSpPr>
                  <p:cNvPr id="311" name=""/>
                  <p:cNvSpPr/>
                  <p:nvPr/>
                </p:nvSpPr>
                <p:spPr>
                  <a:xfrm>
                    <a:off x="5435280" y="3826440"/>
                    <a:ext cx="185760" cy="74160"/>
                  </a:xfrm>
                  <a:prstGeom prst="rect">
                    <a:avLst/>
                  </a:prstGeom>
                  <a:solidFill>
                    <a:srgbClr val="deded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5435280" y="3662280"/>
                    <a:ext cx="185760" cy="148680"/>
                  </a:xfrm>
                  <a:prstGeom prst="rect">
                    <a:avLst/>
                  </a:prstGeom>
                  <a:solidFill>
                    <a:srgbClr val="deded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449320" y="3674520"/>
                    <a:ext cx="148320" cy="1159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5458320" y="3685320"/>
                    <a:ext cx="2448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5456880" y="3685320"/>
                    <a:ext cx="0" cy="154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6" name=""/>
                <p:cNvGrpSpPr/>
                <p:nvPr/>
              </p:nvGrpSpPr>
              <p:grpSpPr>
                <a:xfrm>
                  <a:off x="5689080" y="3827520"/>
                  <a:ext cx="185760" cy="238320"/>
                  <a:chOff x="5689080" y="3827520"/>
                  <a:chExt cx="185760" cy="23832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>
                    <a:off x="5689080" y="3991680"/>
                    <a:ext cx="185760" cy="74160"/>
                  </a:xfrm>
                  <a:prstGeom prst="rect">
                    <a:avLst/>
                  </a:prstGeom>
                  <a:solidFill>
                    <a:srgbClr val="deded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5689080" y="3827520"/>
                    <a:ext cx="185760" cy="148680"/>
                  </a:xfrm>
                  <a:prstGeom prst="rect">
                    <a:avLst/>
                  </a:prstGeom>
                  <a:solidFill>
                    <a:srgbClr val="deded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5703120" y="3839760"/>
                    <a:ext cx="148320" cy="1159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5712120" y="3850560"/>
                    <a:ext cx="2448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5710680" y="3850560"/>
                    <a:ext cx="0" cy="154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2" name=""/>
                <p:cNvGrpSpPr/>
                <p:nvPr/>
              </p:nvGrpSpPr>
              <p:grpSpPr>
                <a:xfrm>
                  <a:off x="5270040" y="3814920"/>
                  <a:ext cx="185760" cy="237960"/>
                  <a:chOff x="5270040" y="3814920"/>
                  <a:chExt cx="185760" cy="237960"/>
                </a:xfrm>
              </p:grpSpPr>
              <p:sp>
                <p:nvSpPr>
                  <p:cNvPr id="323" name=""/>
                  <p:cNvSpPr/>
                  <p:nvPr/>
                </p:nvSpPr>
                <p:spPr>
                  <a:xfrm>
                    <a:off x="5270040" y="3978720"/>
                    <a:ext cx="185760" cy="74160"/>
                  </a:xfrm>
                  <a:prstGeom prst="rect">
                    <a:avLst/>
                  </a:prstGeom>
                  <a:solidFill>
                    <a:srgbClr val="deded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5270040" y="3814920"/>
                    <a:ext cx="185760" cy="148320"/>
                  </a:xfrm>
                  <a:prstGeom prst="rect">
                    <a:avLst/>
                  </a:prstGeom>
                  <a:solidFill>
                    <a:srgbClr val="deded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5284080" y="3827160"/>
                    <a:ext cx="148320" cy="1155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5293080" y="3837960"/>
                    <a:ext cx="2448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5291640" y="3837960"/>
                    <a:ext cx="0" cy="154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8" name=""/>
                <p:cNvGrpSpPr/>
                <p:nvPr/>
              </p:nvGrpSpPr>
              <p:grpSpPr>
                <a:xfrm>
                  <a:off x="5473440" y="3942000"/>
                  <a:ext cx="185760" cy="237960"/>
                  <a:chOff x="5473440" y="3942000"/>
                  <a:chExt cx="185760" cy="237960"/>
                </a:xfrm>
              </p:grpSpPr>
              <p:sp>
                <p:nvSpPr>
                  <p:cNvPr id="329" name=""/>
                  <p:cNvSpPr/>
                  <p:nvPr/>
                </p:nvSpPr>
                <p:spPr>
                  <a:xfrm>
                    <a:off x="5473440" y="4105800"/>
                    <a:ext cx="185760" cy="74160"/>
                  </a:xfrm>
                  <a:prstGeom prst="rect">
                    <a:avLst/>
                  </a:prstGeom>
                  <a:solidFill>
                    <a:srgbClr val="deded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5473440" y="3942000"/>
                    <a:ext cx="185760" cy="148320"/>
                  </a:xfrm>
                  <a:prstGeom prst="rect">
                    <a:avLst/>
                  </a:prstGeom>
                  <a:solidFill>
                    <a:srgbClr val="deded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5487480" y="3954240"/>
                    <a:ext cx="148320" cy="1155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496480" y="3965040"/>
                    <a:ext cx="2448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5495040" y="3965040"/>
                    <a:ext cx="0" cy="154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4" name=""/>
                <p:cNvGrpSpPr/>
                <p:nvPr/>
              </p:nvGrpSpPr>
              <p:grpSpPr>
                <a:xfrm>
                  <a:off x="5740200" y="4005360"/>
                  <a:ext cx="185400" cy="237960"/>
                  <a:chOff x="5740200" y="4005360"/>
                  <a:chExt cx="185400" cy="237960"/>
                </a:xfrm>
              </p:grpSpPr>
              <p:sp>
                <p:nvSpPr>
                  <p:cNvPr id="335" name=""/>
                  <p:cNvSpPr/>
                  <p:nvPr/>
                </p:nvSpPr>
                <p:spPr>
                  <a:xfrm>
                    <a:off x="5740200" y="4169160"/>
                    <a:ext cx="185400" cy="74160"/>
                  </a:xfrm>
                  <a:prstGeom prst="rect">
                    <a:avLst/>
                  </a:prstGeom>
                  <a:solidFill>
                    <a:srgbClr val="deded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5740200" y="4005360"/>
                    <a:ext cx="185400" cy="148320"/>
                  </a:xfrm>
                  <a:prstGeom prst="rect">
                    <a:avLst/>
                  </a:prstGeom>
                  <a:solidFill>
                    <a:srgbClr val="deded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5753880" y="4017600"/>
                    <a:ext cx="147960" cy="1155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5763240" y="4028400"/>
                    <a:ext cx="2448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5761800" y="4028400"/>
                    <a:ext cx="0" cy="154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40" name=""/>
            <p:cNvSpPr/>
            <p:nvPr/>
          </p:nvSpPr>
          <p:spPr>
            <a:xfrm>
              <a:off x="2311560" y="2665440"/>
              <a:ext cx="99036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2870280" y="3897360"/>
              <a:ext cx="482400" cy="105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68960" y="3948120"/>
              <a:ext cx="990360" cy="173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4457880" y="2614680"/>
              <a:ext cx="1587240" cy="838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117440" y="2322720"/>
              <a:ext cx="74952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168560" y="2475000"/>
              <a:ext cx="6728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1117440" y="2601720"/>
              <a:ext cx="72396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1231920" y="2665080"/>
              <a:ext cx="63504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1270080" y="2690640"/>
              <a:ext cx="64764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104840" y="2183040"/>
              <a:ext cx="825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1828800" y="2519280"/>
              <a:ext cx="752400" cy="231840"/>
              <a:chOff x="1828800" y="2519280"/>
              <a:chExt cx="752400" cy="231840"/>
            </a:xfrm>
          </p:grpSpPr>
          <p:sp>
            <p:nvSpPr>
              <p:cNvPr id="351" name=""/>
              <p:cNvSpPr/>
              <p:nvPr/>
            </p:nvSpPr>
            <p:spPr>
              <a:xfrm>
                <a:off x="1828800" y="2519280"/>
                <a:ext cx="752400" cy="231840"/>
              </a:xfrm>
              <a:prstGeom prst="rect">
                <a:avLst/>
              </a:prstGeom>
              <a:solidFill>
                <a:srgbClr val="8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869120" y="2592360"/>
                <a:ext cx="665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872000" y="2549160"/>
                <a:ext cx="665280" cy="1926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869120" y="2631600"/>
                <a:ext cx="665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69120" y="2675160"/>
                <a:ext cx="665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6" name=""/>
              <p:cNvGrpSpPr/>
              <p:nvPr/>
            </p:nvGrpSpPr>
            <p:grpSpPr>
              <a:xfrm>
                <a:off x="1901880" y="2574360"/>
                <a:ext cx="56880" cy="77760"/>
                <a:chOff x="1901880" y="2574360"/>
                <a:chExt cx="56880" cy="7776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1901880" y="261324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901880" y="265212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901880" y="257436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2002320" y="2574360"/>
                <a:ext cx="57240" cy="77760"/>
                <a:chOff x="2002320" y="2574360"/>
                <a:chExt cx="57240" cy="7776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2002320" y="261324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002320" y="265212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002320" y="257436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2103120" y="2574360"/>
                <a:ext cx="56880" cy="77760"/>
                <a:chOff x="2103120" y="2574360"/>
                <a:chExt cx="56880" cy="7776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2103120" y="261324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2103120" y="265212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2103120" y="257436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2204640" y="2574360"/>
                <a:ext cx="57240" cy="77760"/>
                <a:chOff x="2204640" y="2574360"/>
                <a:chExt cx="57240" cy="7776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2204640" y="261324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204640" y="265212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204640" y="257436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2305440" y="2574360"/>
                <a:ext cx="56880" cy="77760"/>
                <a:chOff x="2305440" y="2574360"/>
                <a:chExt cx="56880" cy="7776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2305440" y="261324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2305440" y="265212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2305440" y="257436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2406960" y="2574360"/>
                <a:ext cx="57240" cy="77760"/>
                <a:chOff x="2406960" y="2574360"/>
                <a:chExt cx="57240" cy="7776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2406960" y="261324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2406960" y="265212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2406960" y="257436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0" name=""/>
            <p:cNvSpPr/>
            <p:nvPr/>
          </p:nvSpPr>
          <p:spPr>
            <a:xfrm>
              <a:off x="1857240" y="2847960"/>
              <a:ext cx="743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ff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851040" y="2125800"/>
              <a:ext cx="185760" cy="237960"/>
              <a:chOff x="851040" y="2125800"/>
              <a:chExt cx="185760" cy="237960"/>
            </a:xfrm>
          </p:grpSpPr>
          <p:sp>
            <p:nvSpPr>
              <p:cNvPr id="382" name=""/>
              <p:cNvSpPr/>
              <p:nvPr/>
            </p:nvSpPr>
            <p:spPr>
              <a:xfrm>
                <a:off x="851040" y="2289600"/>
                <a:ext cx="185760" cy="74160"/>
              </a:xfrm>
              <a:prstGeom prst="rect">
                <a:avLst/>
              </a:prstGeom>
              <a:solidFill>
                <a:srgbClr val="dede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51040" y="2125800"/>
                <a:ext cx="185760" cy="148320"/>
              </a:xfrm>
              <a:prstGeom prst="rect">
                <a:avLst/>
              </a:prstGeom>
              <a:solidFill>
                <a:srgbClr val="dede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65080" y="2138040"/>
                <a:ext cx="148320" cy="1155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74080" y="2148840"/>
                <a:ext cx="24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72640" y="2148840"/>
                <a:ext cx="0" cy="15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1003320" y="2278080"/>
              <a:ext cx="185760" cy="238320"/>
              <a:chOff x="1003320" y="2278080"/>
              <a:chExt cx="185760" cy="238320"/>
            </a:xfrm>
          </p:grpSpPr>
          <p:sp>
            <p:nvSpPr>
              <p:cNvPr id="388" name=""/>
              <p:cNvSpPr/>
              <p:nvPr/>
            </p:nvSpPr>
            <p:spPr>
              <a:xfrm>
                <a:off x="1003320" y="2442240"/>
                <a:ext cx="185760" cy="74160"/>
              </a:xfrm>
              <a:prstGeom prst="rect">
                <a:avLst/>
              </a:prstGeom>
              <a:solidFill>
                <a:srgbClr val="dede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003320" y="2278080"/>
                <a:ext cx="185760" cy="148680"/>
              </a:xfrm>
              <a:prstGeom prst="rect">
                <a:avLst/>
              </a:prstGeom>
              <a:solidFill>
                <a:srgbClr val="dede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017360" y="2290320"/>
                <a:ext cx="148320" cy="115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026360" y="2301120"/>
                <a:ext cx="24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024920" y="2301120"/>
                <a:ext cx="0" cy="15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749160" y="2367000"/>
              <a:ext cx="185760" cy="238320"/>
              <a:chOff x="749160" y="2367000"/>
              <a:chExt cx="185760" cy="238320"/>
            </a:xfrm>
          </p:grpSpPr>
          <p:sp>
            <p:nvSpPr>
              <p:cNvPr id="394" name=""/>
              <p:cNvSpPr/>
              <p:nvPr/>
            </p:nvSpPr>
            <p:spPr>
              <a:xfrm>
                <a:off x="749160" y="2531160"/>
                <a:ext cx="185760" cy="74160"/>
              </a:xfrm>
              <a:prstGeom prst="rect">
                <a:avLst/>
              </a:prstGeom>
              <a:solidFill>
                <a:srgbClr val="dede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49160" y="2367000"/>
                <a:ext cx="185760" cy="148680"/>
              </a:xfrm>
              <a:prstGeom prst="rect">
                <a:avLst/>
              </a:prstGeom>
              <a:solidFill>
                <a:srgbClr val="dede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63200" y="2379240"/>
                <a:ext cx="148320" cy="115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72200" y="2390040"/>
                <a:ext cx="24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70760" y="2390040"/>
                <a:ext cx="0" cy="15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1054080" y="2443320"/>
              <a:ext cx="185760" cy="237960"/>
              <a:chOff x="1054080" y="2443320"/>
              <a:chExt cx="185760" cy="237960"/>
            </a:xfrm>
          </p:grpSpPr>
          <p:sp>
            <p:nvSpPr>
              <p:cNvPr id="400" name=""/>
              <p:cNvSpPr/>
              <p:nvPr/>
            </p:nvSpPr>
            <p:spPr>
              <a:xfrm>
                <a:off x="1054080" y="2607120"/>
                <a:ext cx="185760" cy="74160"/>
              </a:xfrm>
              <a:prstGeom prst="rect">
                <a:avLst/>
              </a:prstGeom>
              <a:solidFill>
                <a:srgbClr val="dede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054080" y="2443320"/>
                <a:ext cx="185760" cy="148320"/>
              </a:xfrm>
              <a:prstGeom prst="rect">
                <a:avLst/>
              </a:prstGeom>
              <a:solidFill>
                <a:srgbClr val="dede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068120" y="2455560"/>
                <a:ext cx="148320" cy="1155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077120" y="2466360"/>
                <a:ext cx="24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075680" y="2466360"/>
                <a:ext cx="0" cy="15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787320" y="2557440"/>
              <a:ext cx="185760" cy="238320"/>
              <a:chOff x="787320" y="2557440"/>
              <a:chExt cx="185760" cy="238320"/>
            </a:xfrm>
          </p:grpSpPr>
          <p:sp>
            <p:nvSpPr>
              <p:cNvPr id="406" name=""/>
              <p:cNvSpPr/>
              <p:nvPr/>
            </p:nvSpPr>
            <p:spPr>
              <a:xfrm>
                <a:off x="787320" y="2721600"/>
                <a:ext cx="185760" cy="74160"/>
              </a:xfrm>
              <a:prstGeom prst="rect">
                <a:avLst/>
              </a:prstGeom>
              <a:solidFill>
                <a:srgbClr val="dede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87320" y="2557440"/>
                <a:ext cx="185760" cy="148680"/>
              </a:xfrm>
              <a:prstGeom prst="rect">
                <a:avLst/>
              </a:prstGeom>
              <a:solidFill>
                <a:srgbClr val="dede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801360" y="2569680"/>
                <a:ext cx="148320" cy="115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10360" y="2580480"/>
                <a:ext cx="24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808920" y="2580480"/>
                <a:ext cx="0" cy="15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1041480" y="2722680"/>
              <a:ext cx="185760" cy="237960"/>
              <a:chOff x="1041480" y="2722680"/>
              <a:chExt cx="185760" cy="237960"/>
            </a:xfrm>
          </p:grpSpPr>
          <p:sp>
            <p:nvSpPr>
              <p:cNvPr id="412" name=""/>
              <p:cNvSpPr/>
              <p:nvPr/>
            </p:nvSpPr>
            <p:spPr>
              <a:xfrm>
                <a:off x="1041480" y="2886480"/>
                <a:ext cx="185760" cy="74160"/>
              </a:xfrm>
              <a:prstGeom prst="rect">
                <a:avLst/>
              </a:prstGeom>
              <a:solidFill>
                <a:srgbClr val="dede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041480" y="2722680"/>
                <a:ext cx="185760" cy="148320"/>
              </a:xfrm>
              <a:prstGeom prst="rect">
                <a:avLst/>
              </a:prstGeom>
              <a:solidFill>
                <a:srgbClr val="dede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055520" y="2734920"/>
                <a:ext cx="148320" cy="1155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064520" y="2745720"/>
                <a:ext cx="24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063080" y="2745720"/>
                <a:ext cx="0" cy="15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622440" y="2710080"/>
              <a:ext cx="185760" cy="237960"/>
              <a:chOff x="622440" y="2710080"/>
              <a:chExt cx="185760" cy="237960"/>
            </a:xfrm>
          </p:grpSpPr>
          <p:sp>
            <p:nvSpPr>
              <p:cNvPr id="418" name=""/>
              <p:cNvSpPr/>
              <p:nvPr/>
            </p:nvSpPr>
            <p:spPr>
              <a:xfrm>
                <a:off x="622440" y="2873880"/>
                <a:ext cx="185760" cy="74160"/>
              </a:xfrm>
              <a:prstGeom prst="rect">
                <a:avLst/>
              </a:prstGeom>
              <a:solidFill>
                <a:srgbClr val="dede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22440" y="2710080"/>
                <a:ext cx="185760" cy="148320"/>
              </a:xfrm>
              <a:prstGeom prst="rect">
                <a:avLst/>
              </a:prstGeom>
              <a:solidFill>
                <a:srgbClr val="dede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36480" y="2722320"/>
                <a:ext cx="148320" cy="1155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45480" y="2733120"/>
                <a:ext cx="24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44040" y="2733120"/>
                <a:ext cx="0" cy="15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825480" y="2836800"/>
              <a:ext cx="185760" cy="238320"/>
              <a:chOff x="825480" y="2836800"/>
              <a:chExt cx="185760" cy="238320"/>
            </a:xfrm>
          </p:grpSpPr>
          <p:sp>
            <p:nvSpPr>
              <p:cNvPr id="424" name=""/>
              <p:cNvSpPr/>
              <p:nvPr/>
            </p:nvSpPr>
            <p:spPr>
              <a:xfrm>
                <a:off x="825480" y="3000960"/>
                <a:ext cx="185760" cy="74160"/>
              </a:xfrm>
              <a:prstGeom prst="rect">
                <a:avLst/>
              </a:prstGeom>
              <a:solidFill>
                <a:srgbClr val="dede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25480" y="2836800"/>
                <a:ext cx="185760" cy="148680"/>
              </a:xfrm>
              <a:prstGeom prst="rect">
                <a:avLst/>
              </a:prstGeom>
              <a:solidFill>
                <a:srgbClr val="dede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39520" y="2849040"/>
                <a:ext cx="148320" cy="115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48520" y="2859840"/>
                <a:ext cx="24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847080" y="2859840"/>
                <a:ext cx="0" cy="15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1092240" y="2900520"/>
              <a:ext cx="185760" cy="237960"/>
              <a:chOff x="1092240" y="2900520"/>
              <a:chExt cx="185760" cy="237960"/>
            </a:xfrm>
          </p:grpSpPr>
          <p:sp>
            <p:nvSpPr>
              <p:cNvPr id="430" name=""/>
              <p:cNvSpPr/>
              <p:nvPr/>
            </p:nvSpPr>
            <p:spPr>
              <a:xfrm>
                <a:off x="1092240" y="3064320"/>
                <a:ext cx="185760" cy="74160"/>
              </a:xfrm>
              <a:prstGeom prst="rect">
                <a:avLst/>
              </a:prstGeom>
              <a:solidFill>
                <a:srgbClr val="dede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092240" y="2900520"/>
                <a:ext cx="185760" cy="148320"/>
              </a:xfrm>
              <a:prstGeom prst="rect">
                <a:avLst/>
              </a:prstGeom>
              <a:solidFill>
                <a:srgbClr val="dede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106280" y="2912760"/>
                <a:ext cx="148320" cy="1155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115280" y="2923560"/>
                <a:ext cx="24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113840" y="2923560"/>
                <a:ext cx="0" cy="15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5" name=""/>
            <p:cNvSpPr/>
            <p:nvPr/>
          </p:nvSpPr>
          <p:spPr>
            <a:xfrm>
              <a:off x="1447920" y="4837320"/>
              <a:ext cx="74916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498680" y="4989600"/>
              <a:ext cx="6732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1447920" y="5116320"/>
              <a:ext cx="72396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1562040" y="5179680"/>
              <a:ext cx="63504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1600200" y="5205240"/>
              <a:ext cx="64764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434960" y="4697640"/>
              <a:ext cx="825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2158920" y="5033880"/>
              <a:ext cx="752400" cy="231840"/>
              <a:chOff x="2158920" y="5033880"/>
              <a:chExt cx="752400" cy="231840"/>
            </a:xfrm>
          </p:grpSpPr>
          <p:sp>
            <p:nvSpPr>
              <p:cNvPr id="442" name=""/>
              <p:cNvSpPr/>
              <p:nvPr/>
            </p:nvSpPr>
            <p:spPr>
              <a:xfrm>
                <a:off x="2158920" y="5033880"/>
                <a:ext cx="752400" cy="231840"/>
              </a:xfrm>
              <a:prstGeom prst="rect">
                <a:avLst/>
              </a:prstGeom>
              <a:solidFill>
                <a:srgbClr val="8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199240" y="5106960"/>
                <a:ext cx="665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202120" y="5063760"/>
                <a:ext cx="665280" cy="1926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199240" y="5146200"/>
                <a:ext cx="665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199240" y="5189760"/>
                <a:ext cx="665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7" name=""/>
              <p:cNvGrpSpPr/>
              <p:nvPr/>
            </p:nvGrpSpPr>
            <p:grpSpPr>
              <a:xfrm>
                <a:off x="2232000" y="5088960"/>
                <a:ext cx="56880" cy="77760"/>
                <a:chOff x="2232000" y="5088960"/>
                <a:chExt cx="56880" cy="7776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2232000" y="512784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2232000" y="516672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2232000" y="508896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2332440" y="5088960"/>
                <a:ext cx="57240" cy="77760"/>
                <a:chOff x="2332440" y="5088960"/>
                <a:chExt cx="57240" cy="7776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2332440" y="512784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2332440" y="516672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2332440" y="508896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2433240" y="5088960"/>
                <a:ext cx="56880" cy="77760"/>
                <a:chOff x="2433240" y="5088960"/>
                <a:chExt cx="56880" cy="7776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2433240" y="512784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2433240" y="516672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2433240" y="508896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2534760" y="5088960"/>
                <a:ext cx="57240" cy="77760"/>
                <a:chOff x="2534760" y="5088960"/>
                <a:chExt cx="57240" cy="7776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2534760" y="512784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2534760" y="516672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2534760" y="508896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2635560" y="5088960"/>
                <a:ext cx="56880" cy="77760"/>
                <a:chOff x="2635560" y="5088960"/>
                <a:chExt cx="56880" cy="7776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2635560" y="512784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2635560" y="516672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2635560" y="508896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2737080" y="5088960"/>
                <a:ext cx="57240" cy="77760"/>
                <a:chOff x="2737080" y="5088960"/>
                <a:chExt cx="57240" cy="7776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2737080" y="512784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2737080" y="516672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2737080" y="508896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1" name=""/>
            <p:cNvSpPr/>
            <p:nvPr/>
          </p:nvSpPr>
          <p:spPr>
            <a:xfrm>
              <a:off x="2187720" y="5362560"/>
              <a:ext cx="743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ff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1181160" y="4640400"/>
              <a:ext cx="185760" cy="237960"/>
              <a:chOff x="1181160" y="4640400"/>
              <a:chExt cx="185760" cy="237960"/>
            </a:xfrm>
          </p:grpSpPr>
          <p:sp>
            <p:nvSpPr>
              <p:cNvPr id="473" name=""/>
              <p:cNvSpPr/>
              <p:nvPr/>
            </p:nvSpPr>
            <p:spPr>
              <a:xfrm>
                <a:off x="1181160" y="4804200"/>
                <a:ext cx="185760" cy="74160"/>
              </a:xfrm>
              <a:prstGeom prst="rect">
                <a:avLst/>
              </a:prstGeom>
              <a:solidFill>
                <a:srgbClr val="dede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181160" y="4640400"/>
                <a:ext cx="185760" cy="148320"/>
              </a:xfrm>
              <a:prstGeom prst="rect">
                <a:avLst/>
              </a:prstGeom>
              <a:solidFill>
                <a:srgbClr val="dede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195200" y="4652640"/>
                <a:ext cx="148320" cy="1155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204200" y="4663440"/>
                <a:ext cx="24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202760" y="4663440"/>
                <a:ext cx="0" cy="15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1333440" y="4792680"/>
              <a:ext cx="185760" cy="238320"/>
              <a:chOff x="1333440" y="4792680"/>
              <a:chExt cx="185760" cy="238320"/>
            </a:xfrm>
          </p:grpSpPr>
          <p:sp>
            <p:nvSpPr>
              <p:cNvPr id="479" name=""/>
              <p:cNvSpPr/>
              <p:nvPr/>
            </p:nvSpPr>
            <p:spPr>
              <a:xfrm>
                <a:off x="1333440" y="4956840"/>
                <a:ext cx="185760" cy="74160"/>
              </a:xfrm>
              <a:prstGeom prst="rect">
                <a:avLst/>
              </a:prstGeom>
              <a:solidFill>
                <a:srgbClr val="dede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333440" y="4792680"/>
                <a:ext cx="185760" cy="148680"/>
              </a:xfrm>
              <a:prstGeom prst="rect">
                <a:avLst/>
              </a:prstGeom>
              <a:solidFill>
                <a:srgbClr val="dede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347480" y="4804920"/>
                <a:ext cx="148320" cy="115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356480" y="4815720"/>
                <a:ext cx="24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355040" y="4815720"/>
                <a:ext cx="0" cy="15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1079640" y="4881600"/>
              <a:ext cx="185760" cy="238320"/>
              <a:chOff x="1079640" y="4881600"/>
              <a:chExt cx="185760" cy="238320"/>
            </a:xfrm>
          </p:grpSpPr>
          <p:sp>
            <p:nvSpPr>
              <p:cNvPr id="485" name=""/>
              <p:cNvSpPr/>
              <p:nvPr/>
            </p:nvSpPr>
            <p:spPr>
              <a:xfrm>
                <a:off x="1079640" y="5045760"/>
                <a:ext cx="185760" cy="74160"/>
              </a:xfrm>
              <a:prstGeom prst="rect">
                <a:avLst/>
              </a:prstGeom>
              <a:solidFill>
                <a:srgbClr val="dede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079640" y="4881600"/>
                <a:ext cx="185760" cy="148680"/>
              </a:xfrm>
              <a:prstGeom prst="rect">
                <a:avLst/>
              </a:prstGeom>
              <a:solidFill>
                <a:srgbClr val="dede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093680" y="4893840"/>
                <a:ext cx="148320" cy="115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102680" y="4904640"/>
                <a:ext cx="24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101240" y="4904640"/>
                <a:ext cx="0" cy="15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1384200" y="4957920"/>
              <a:ext cx="185760" cy="237960"/>
              <a:chOff x="1384200" y="4957920"/>
              <a:chExt cx="185760" cy="237960"/>
            </a:xfrm>
          </p:grpSpPr>
          <p:sp>
            <p:nvSpPr>
              <p:cNvPr id="491" name=""/>
              <p:cNvSpPr/>
              <p:nvPr/>
            </p:nvSpPr>
            <p:spPr>
              <a:xfrm>
                <a:off x="1384200" y="5121720"/>
                <a:ext cx="185760" cy="74160"/>
              </a:xfrm>
              <a:prstGeom prst="rect">
                <a:avLst/>
              </a:prstGeom>
              <a:solidFill>
                <a:srgbClr val="dede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384200" y="4957920"/>
                <a:ext cx="185760" cy="148320"/>
              </a:xfrm>
              <a:prstGeom prst="rect">
                <a:avLst/>
              </a:prstGeom>
              <a:solidFill>
                <a:srgbClr val="dede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398240" y="4970160"/>
                <a:ext cx="148320" cy="1155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07240" y="4980960"/>
                <a:ext cx="24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405800" y="4980960"/>
                <a:ext cx="0" cy="15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6" name=""/>
            <p:cNvGrpSpPr/>
            <p:nvPr/>
          </p:nvGrpSpPr>
          <p:grpSpPr>
            <a:xfrm>
              <a:off x="1117440" y="5072040"/>
              <a:ext cx="185760" cy="238320"/>
              <a:chOff x="1117440" y="5072040"/>
              <a:chExt cx="185760" cy="238320"/>
            </a:xfrm>
          </p:grpSpPr>
          <p:sp>
            <p:nvSpPr>
              <p:cNvPr id="497" name=""/>
              <p:cNvSpPr/>
              <p:nvPr/>
            </p:nvSpPr>
            <p:spPr>
              <a:xfrm>
                <a:off x="1117440" y="5236200"/>
                <a:ext cx="185760" cy="74160"/>
              </a:xfrm>
              <a:prstGeom prst="rect">
                <a:avLst/>
              </a:prstGeom>
              <a:solidFill>
                <a:srgbClr val="dede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117440" y="5072040"/>
                <a:ext cx="185760" cy="148680"/>
              </a:xfrm>
              <a:prstGeom prst="rect">
                <a:avLst/>
              </a:prstGeom>
              <a:solidFill>
                <a:srgbClr val="dede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31480" y="5084280"/>
                <a:ext cx="148320" cy="115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140480" y="5095080"/>
                <a:ext cx="24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139040" y="5095080"/>
                <a:ext cx="0" cy="15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1371600" y="5237280"/>
              <a:ext cx="185760" cy="237960"/>
              <a:chOff x="1371600" y="5237280"/>
              <a:chExt cx="185760" cy="237960"/>
            </a:xfrm>
          </p:grpSpPr>
          <p:sp>
            <p:nvSpPr>
              <p:cNvPr id="503" name=""/>
              <p:cNvSpPr/>
              <p:nvPr/>
            </p:nvSpPr>
            <p:spPr>
              <a:xfrm>
                <a:off x="1371600" y="5401080"/>
                <a:ext cx="185760" cy="74160"/>
              </a:xfrm>
              <a:prstGeom prst="rect">
                <a:avLst/>
              </a:prstGeom>
              <a:solidFill>
                <a:srgbClr val="dede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371600" y="5237280"/>
                <a:ext cx="185760" cy="148320"/>
              </a:xfrm>
              <a:prstGeom prst="rect">
                <a:avLst/>
              </a:prstGeom>
              <a:solidFill>
                <a:srgbClr val="dede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385640" y="5249520"/>
                <a:ext cx="148320" cy="1155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394640" y="5260320"/>
                <a:ext cx="24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393200" y="5260320"/>
                <a:ext cx="0" cy="15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8" name=""/>
            <p:cNvGrpSpPr/>
            <p:nvPr/>
          </p:nvGrpSpPr>
          <p:grpSpPr>
            <a:xfrm>
              <a:off x="952560" y="5224680"/>
              <a:ext cx="185760" cy="237960"/>
              <a:chOff x="952560" y="5224680"/>
              <a:chExt cx="185760" cy="237960"/>
            </a:xfrm>
          </p:grpSpPr>
          <p:sp>
            <p:nvSpPr>
              <p:cNvPr id="509" name=""/>
              <p:cNvSpPr/>
              <p:nvPr/>
            </p:nvSpPr>
            <p:spPr>
              <a:xfrm>
                <a:off x="952560" y="5388480"/>
                <a:ext cx="185760" cy="74160"/>
              </a:xfrm>
              <a:prstGeom prst="rect">
                <a:avLst/>
              </a:prstGeom>
              <a:solidFill>
                <a:srgbClr val="dede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952560" y="5224680"/>
                <a:ext cx="185760" cy="148320"/>
              </a:xfrm>
              <a:prstGeom prst="rect">
                <a:avLst/>
              </a:prstGeom>
              <a:solidFill>
                <a:srgbClr val="dede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966600" y="5236920"/>
                <a:ext cx="148320" cy="1155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75600" y="5247720"/>
                <a:ext cx="24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974160" y="5247720"/>
                <a:ext cx="0" cy="15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1155600" y="5351400"/>
              <a:ext cx="185760" cy="238320"/>
              <a:chOff x="1155600" y="5351400"/>
              <a:chExt cx="185760" cy="238320"/>
            </a:xfrm>
          </p:grpSpPr>
          <p:sp>
            <p:nvSpPr>
              <p:cNvPr id="515" name=""/>
              <p:cNvSpPr/>
              <p:nvPr/>
            </p:nvSpPr>
            <p:spPr>
              <a:xfrm>
                <a:off x="1155600" y="5515560"/>
                <a:ext cx="185760" cy="74160"/>
              </a:xfrm>
              <a:prstGeom prst="rect">
                <a:avLst/>
              </a:prstGeom>
              <a:solidFill>
                <a:srgbClr val="dede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155600" y="5351400"/>
                <a:ext cx="185760" cy="148680"/>
              </a:xfrm>
              <a:prstGeom prst="rect">
                <a:avLst/>
              </a:prstGeom>
              <a:solidFill>
                <a:srgbClr val="dede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169640" y="5363640"/>
                <a:ext cx="148320" cy="115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178640" y="5374440"/>
                <a:ext cx="24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177200" y="5374440"/>
                <a:ext cx="0" cy="15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1422360" y="5415120"/>
              <a:ext cx="185760" cy="237960"/>
              <a:chOff x="1422360" y="5415120"/>
              <a:chExt cx="185760" cy="237960"/>
            </a:xfrm>
          </p:grpSpPr>
          <p:sp>
            <p:nvSpPr>
              <p:cNvPr id="521" name=""/>
              <p:cNvSpPr/>
              <p:nvPr/>
            </p:nvSpPr>
            <p:spPr>
              <a:xfrm>
                <a:off x="1422360" y="5578920"/>
                <a:ext cx="185760" cy="74160"/>
              </a:xfrm>
              <a:prstGeom prst="rect">
                <a:avLst/>
              </a:prstGeom>
              <a:solidFill>
                <a:srgbClr val="dede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422360" y="5415120"/>
                <a:ext cx="185760" cy="148320"/>
              </a:xfrm>
              <a:prstGeom prst="rect">
                <a:avLst/>
              </a:prstGeom>
              <a:solidFill>
                <a:srgbClr val="dede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436400" y="5427360"/>
                <a:ext cx="148320" cy="1155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445400" y="5438160"/>
                <a:ext cx="24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443960" y="5438160"/>
                <a:ext cx="0" cy="15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>
              <a:off x="4956120" y="6048360"/>
              <a:ext cx="743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ff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5715000" y="5129280"/>
              <a:ext cx="1104840" cy="59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5727600" y="5433840"/>
              <a:ext cx="1067040" cy="35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5740560" y="5573880"/>
              <a:ext cx="115560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740560" y="5802480"/>
              <a:ext cx="1003320" cy="2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689440" y="5815080"/>
              <a:ext cx="123192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5740560" y="5319720"/>
              <a:ext cx="104112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3" name=""/>
            <p:cNvGrpSpPr/>
            <p:nvPr/>
          </p:nvGrpSpPr>
          <p:grpSpPr>
            <a:xfrm>
              <a:off x="6553080" y="5122800"/>
              <a:ext cx="655560" cy="1012680"/>
              <a:chOff x="6553080" y="5122800"/>
              <a:chExt cx="655560" cy="1012680"/>
            </a:xfrm>
          </p:grpSpPr>
          <p:grpSp>
            <p:nvGrpSpPr>
              <p:cNvPr id="534" name=""/>
              <p:cNvGrpSpPr/>
              <p:nvPr/>
            </p:nvGrpSpPr>
            <p:grpSpPr>
              <a:xfrm>
                <a:off x="6781680" y="5122800"/>
                <a:ext cx="185760" cy="237960"/>
                <a:chOff x="6781680" y="5122800"/>
                <a:chExt cx="185760" cy="23796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6781680" y="5286600"/>
                  <a:ext cx="185760" cy="74160"/>
                </a:xfrm>
                <a:prstGeom prst="rect">
                  <a:avLst/>
                </a:prstGeom>
                <a:solidFill>
                  <a:srgbClr val="deded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6781680" y="5122800"/>
                  <a:ext cx="185760" cy="148320"/>
                </a:xfrm>
                <a:prstGeom prst="rect">
                  <a:avLst/>
                </a:prstGeom>
                <a:solidFill>
                  <a:srgbClr val="deded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6795720" y="5135040"/>
                  <a:ext cx="148320" cy="1155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6804720" y="5145840"/>
                  <a:ext cx="244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3280" y="5145840"/>
                  <a:ext cx="0" cy="154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0" name=""/>
              <p:cNvGrpSpPr/>
              <p:nvPr/>
            </p:nvGrpSpPr>
            <p:grpSpPr>
              <a:xfrm>
                <a:off x="6934320" y="5275080"/>
                <a:ext cx="185760" cy="238320"/>
                <a:chOff x="6934320" y="5275080"/>
                <a:chExt cx="185760" cy="23832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6934320" y="5439240"/>
                  <a:ext cx="185760" cy="74160"/>
                </a:xfrm>
                <a:prstGeom prst="rect">
                  <a:avLst/>
                </a:prstGeom>
                <a:solidFill>
                  <a:srgbClr val="deded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6934320" y="5275080"/>
                  <a:ext cx="185760" cy="148680"/>
                </a:xfrm>
                <a:prstGeom prst="rect">
                  <a:avLst/>
                </a:prstGeom>
                <a:solidFill>
                  <a:srgbClr val="deded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6948360" y="5287320"/>
                  <a:ext cx="148320" cy="115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6957360" y="5298120"/>
                  <a:ext cx="244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6955920" y="5298120"/>
                  <a:ext cx="0" cy="154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6" name=""/>
              <p:cNvGrpSpPr/>
              <p:nvPr/>
            </p:nvGrpSpPr>
            <p:grpSpPr>
              <a:xfrm>
                <a:off x="6680160" y="5364000"/>
                <a:ext cx="185760" cy="238320"/>
                <a:chOff x="6680160" y="5364000"/>
                <a:chExt cx="185760" cy="23832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6680160" y="5528160"/>
                  <a:ext cx="185760" cy="74160"/>
                </a:xfrm>
                <a:prstGeom prst="rect">
                  <a:avLst/>
                </a:prstGeom>
                <a:solidFill>
                  <a:srgbClr val="deded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680160" y="5364000"/>
                  <a:ext cx="185760" cy="148680"/>
                </a:xfrm>
                <a:prstGeom prst="rect">
                  <a:avLst/>
                </a:prstGeom>
                <a:solidFill>
                  <a:srgbClr val="deded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694200" y="5376240"/>
                  <a:ext cx="148320" cy="115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6703200" y="5387040"/>
                  <a:ext cx="244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6701760" y="5387040"/>
                  <a:ext cx="0" cy="154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2" name=""/>
              <p:cNvGrpSpPr/>
              <p:nvPr/>
            </p:nvGrpSpPr>
            <p:grpSpPr>
              <a:xfrm>
                <a:off x="6985080" y="5440320"/>
                <a:ext cx="185760" cy="237960"/>
                <a:chOff x="6985080" y="5440320"/>
                <a:chExt cx="185760" cy="237960"/>
              </a:xfrm>
            </p:grpSpPr>
            <p:sp>
              <p:nvSpPr>
                <p:cNvPr id="553" name=""/>
                <p:cNvSpPr/>
                <p:nvPr/>
              </p:nvSpPr>
              <p:spPr>
                <a:xfrm>
                  <a:off x="6985080" y="5604120"/>
                  <a:ext cx="185760" cy="74160"/>
                </a:xfrm>
                <a:prstGeom prst="rect">
                  <a:avLst/>
                </a:prstGeom>
                <a:solidFill>
                  <a:srgbClr val="deded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6985080" y="5440320"/>
                  <a:ext cx="185760" cy="148320"/>
                </a:xfrm>
                <a:prstGeom prst="rect">
                  <a:avLst/>
                </a:prstGeom>
                <a:solidFill>
                  <a:srgbClr val="deded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6999120" y="5452560"/>
                  <a:ext cx="148320" cy="1155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7008120" y="5463360"/>
                  <a:ext cx="244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7006680" y="5463360"/>
                  <a:ext cx="0" cy="154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8" name=""/>
              <p:cNvGrpSpPr/>
              <p:nvPr/>
            </p:nvGrpSpPr>
            <p:grpSpPr>
              <a:xfrm>
                <a:off x="6718320" y="5554440"/>
                <a:ext cx="185760" cy="238320"/>
                <a:chOff x="6718320" y="5554440"/>
                <a:chExt cx="185760" cy="238320"/>
              </a:xfrm>
            </p:grpSpPr>
            <p:sp>
              <p:nvSpPr>
                <p:cNvPr id="559" name=""/>
                <p:cNvSpPr/>
                <p:nvPr/>
              </p:nvSpPr>
              <p:spPr>
                <a:xfrm>
                  <a:off x="6718320" y="5718600"/>
                  <a:ext cx="185760" cy="74160"/>
                </a:xfrm>
                <a:prstGeom prst="rect">
                  <a:avLst/>
                </a:prstGeom>
                <a:solidFill>
                  <a:srgbClr val="deded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6718320" y="5554440"/>
                  <a:ext cx="185760" cy="148680"/>
                </a:xfrm>
                <a:prstGeom prst="rect">
                  <a:avLst/>
                </a:prstGeom>
                <a:solidFill>
                  <a:srgbClr val="deded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6732360" y="5566680"/>
                  <a:ext cx="148320" cy="115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6741360" y="5577480"/>
                  <a:ext cx="244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6739920" y="5577480"/>
                  <a:ext cx="0" cy="154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4" name=""/>
              <p:cNvGrpSpPr/>
              <p:nvPr/>
            </p:nvGrpSpPr>
            <p:grpSpPr>
              <a:xfrm>
                <a:off x="6972120" y="5719680"/>
                <a:ext cx="185760" cy="238320"/>
                <a:chOff x="6972120" y="5719680"/>
                <a:chExt cx="185760" cy="23832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6972120" y="5883840"/>
                  <a:ext cx="185760" cy="74160"/>
                </a:xfrm>
                <a:prstGeom prst="rect">
                  <a:avLst/>
                </a:prstGeom>
                <a:solidFill>
                  <a:srgbClr val="deded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6972120" y="5719680"/>
                  <a:ext cx="185760" cy="148680"/>
                </a:xfrm>
                <a:prstGeom prst="rect">
                  <a:avLst/>
                </a:prstGeom>
                <a:solidFill>
                  <a:srgbClr val="deded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6986160" y="5731920"/>
                  <a:ext cx="148320" cy="115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6995160" y="5742720"/>
                  <a:ext cx="244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6993720" y="5742720"/>
                  <a:ext cx="0" cy="154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0" name=""/>
              <p:cNvGrpSpPr/>
              <p:nvPr/>
            </p:nvGrpSpPr>
            <p:grpSpPr>
              <a:xfrm>
                <a:off x="6553080" y="5707080"/>
                <a:ext cx="185760" cy="237960"/>
                <a:chOff x="6553080" y="5707080"/>
                <a:chExt cx="185760" cy="23796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6553080" y="5870880"/>
                  <a:ext cx="185760" cy="74160"/>
                </a:xfrm>
                <a:prstGeom prst="rect">
                  <a:avLst/>
                </a:prstGeom>
                <a:solidFill>
                  <a:srgbClr val="deded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6553080" y="5707080"/>
                  <a:ext cx="185760" cy="148320"/>
                </a:xfrm>
                <a:prstGeom prst="rect">
                  <a:avLst/>
                </a:prstGeom>
                <a:solidFill>
                  <a:srgbClr val="deded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6567120" y="5719320"/>
                  <a:ext cx="148320" cy="1155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6576120" y="5730120"/>
                  <a:ext cx="244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6574680" y="5730120"/>
                  <a:ext cx="0" cy="154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6" name=""/>
              <p:cNvGrpSpPr/>
              <p:nvPr/>
            </p:nvGrpSpPr>
            <p:grpSpPr>
              <a:xfrm>
                <a:off x="6756480" y="5834160"/>
                <a:ext cx="185760" cy="237960"/>
                <a:chOff x="6756480" y="5834160"/>
                <a:chExt cx="185760" cy="23796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6756480" y="5997960"/>
                  <a:ext cx="185760" cy="74160"/>
                </a:xfrm>
                <a:prstGeom prst="rect">
                  <a:avLst/>
                </a:prstGeom>
                <a:solidFill>
                  <a:srgbClr val="deded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6756480" y="5834160"/>
                  <a:ext cx="185760" cy="148320"/>
                </a:xfrm>
                <a:prstGeom prst="rect">
                  <a:avLst/>
                </a:prstGeom>
                <a:solidFill>
                  <a:srgbClr val="deded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6770520" y="5846400"/>
                  <a:ext cx="148320" cy="1155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779520" y="5857200"/>
                  <a:ext cx="244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6778080" y="5857200"/>
                  <a:ext cx="0" cy="154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2" name=""/>
              <p:cNvGrpSpPr/>
              <p:nvPr/>
            </p:nvGrpSpPr>
            <p:grpSpPr>
              <a:xfrm>
                <a:off x="7023240" y="5897520"/>
                <a:ext cx="185400" cy="237960"/>
                <a:chOff x="7023240" y="5897520"/>
                <a:chExt cx="185400" cy="23796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7023240" y="6061320"/>
                  <a:ext cx="185400" cy="74160"/>
                </a:xfrm>
                <a:prstGeom prst="rect">
                  <a:avLst/>
                </a:prstGeom>
                <a:solidFill>
                  <a:srgbClr val="deded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7023240" y="5897520"/>
                  <a:ext cx="185400" cy="148320"/>
                </a:xfrm>
                <a:prstGeom prst="rect">
                  <a:avLst/>
                </a:prstGeom>
                <a:solidFill>
                  <a:srgbClr val="deded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7036920" y="5909760"/>
                  <a:ext cx="147960" cy="1155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7046280" y="5920560"/>
                  <a:ext cx="244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7044840" y="5920560"/>
                  <a:ext cx="0" cy="154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88" name=""/>
            <p:cNvGrpSpPr/>
            <p:nvPr/>
          </p:nvGrpSpPr>
          <p:grpSpPr>
            <a:xfrm>
              <a:off x="4940280" y="5745240"/>
              <a:ext cx="752400" cy="231840"/>
              <a:chOff x="4940280" y="5745240"/>
              <a:chExt cx="752400" cy="231840"/>
            </a:xfrm>
          </p:grpSpPr>
          <p:sp>
            <p:nvSpPr>
              <p:cNvPr id="589" name=""/>
              <p:cNvSpPr/>
              <p:nvPr/>
            </p:nvSpPr>
            <p:spPr>
              <a:xfrm>
                <a:off x="4940280" y="5745240"/>
                <a:ext cx="752400" cy="231840"/>
              </a:xfrm>
              <a:prstGeom prst="rect">
                <a:avLst/>
              </a:prstGeom>
              <a:solidFill>
                <a:srgbClr val="8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0600" y="5818320"/>
                <a:ext cx="665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983480" y="5775120"/>
                <a:ext cx="665280" cy="1926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980600" y="5857560"/>
                <a:ext cx="665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980600" y="5901120"/>
                <a:ext cx="665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4" name=""/>
              <p:cNvGrpSpPr/>
              <p:nvPr/>
            </p:nvGrpSpPr>
            <p:grpSpPr>
              <a:xfrm>
                <a:off x="5013360" y="5800320"/>
                <a:ext cx="56880" cy="77760"/>
                <a:chOff x="5013360" y="5800320"/>
                <a:chExt cx="56880" cy="77760"/>
              </a:xfrm>
            </p:grpSpPr>
            <p:sp>
              <p:nvSpPr>
                <p:cNvPr id="595" name=""/>
                <p:cNvSpPr/>
                <p:nvPr/>
              </p:nvSpPr>
              <p:spPr>
                <a:xfrm>
                  <a:off x="5013360" y="583920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5013360" y="587808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5013360" y="580032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8" name=""/>
              <p:cNvGrpSpPr/>
              <p:nvPr/>
            </p:nvGrpSpPr>
            <p:grpSpPr>
              <a:xfrm>
                <a:off x="5113800" y="5800320"/>
                <a:ext cx="57240" cy="77760"/>
                <a:chOff x="5113800" y="5800320"/>
                <a:chExt cx="57240" cy="77760"/>
              </a:xfrm>
            </p:grpSpPr>
            <p:sp>
              <p:nvSpPr>
                <p:cNvPr id="599" name=""/>
                <p:cNvSpPr/>
                <p:nvPr/>
              </p:nvSpPr>
              <p:spPr>
                <a:xfrm>
                  <a:off x="5113800" y="583920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5113800" y="587808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5113800" y="580032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5214600" y="5800320"/>
                <a:ext cx="56880" cy="77760"/>
                <a:chOff x="5214600" y="5800320"/>
                <a:chExt cx="56880" cy="7776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5214600" y="583920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5214600" y="587808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5214600" y="580032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6" name=""/>
              <p:cNvGrpSpPr/>
              <p:nvPr/>
            </p:nvGrpSpPr>
            <p:grpSpPr>
              <a:xfrm>
                <a:off x="5316120" y="5800320"/>
                <a:ext cx="57240" cy="77760"/>
                <a:chOff x="5316120" y="5800320"/>
                <a:chExt cx="57240" cy="7776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5316120" y="583920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5316120" y="587808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5316120" y="580032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0" name=""/>
              <p:cNvGrpSpPr/>
              <p:nvPr/>
            </p:nvGrpSpPr>
            <p:grpSpPr>
              <a:xfrm>
                <a:off x="5416920" y="5800320"/>
                <a:ext cx="56880" cy="77760"/>
                <a:chOff x="5416920" y="5800320"/>
                <a:chExt cx="56880" cy="7776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5416920" y="583920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5416920" y="587808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416920" y="5800320"/>
                  <a:ext cx="5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5518440" y="5800320"/>
                <a:ext cx="57240" cy="77760"/>
                <a:chOff x="5518440" y="5800320"/>
                <a:chExt cx="57240" cy="7776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5518440" y="583920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5518440" y="587808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5518440" y="5800320"/>
                  <a:ext cx="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18" name=""/>
            <p:cNvSpPr/>
            <p:nvPr/>
          </p:nvSpPr>
          <p:spPr>
            <a:xfrm>
              <a:off x="3225960" y="3452760"/>
              <a:ext cx="1346040" cy="622440"/>
            </a:xfrm>
            <a:prstGeom prst="rect">
              <a:avLst/>
            </a:prstGeom>
            <a:solidFill>
              <a:srgbClr val="e3e3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entral Off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4686480" y="1763640"/>
              <a:ext cx="2222280" cy="952200"/>
              <a:chOff x="4686480" y="1763640"/>
              <a:chExt cx="2222280" cy="952200"/>
            </a:xfrm>
          </p:grpSpPr>
          <p:sp>
            <p:nvSpPr>
              <p:cNvPr id="620" name=""/>
              <p:cNvSpPr/>
              <p:nvPr/>
            </p:nvSpPr>
            <p:spPr>
              <a:xfrm>
                <a:off x="4686480" y="1962000"/>
                <a:ext cx="991440" cy="515880"/>
              </a:xfrm>
              <a:prstGeom prst="ellipse">
                <a:avLst/>
              </a:prstGeom>
              <a:solidFill>
                <a:srgbClr val="ededed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891320" y="2199960"/>
                <a:ext cx="991440" cy="515880"/>
              </a:xfrm>
              <a:prstGeom prst="ellipse">
                <a:avLst/>
              </a:prstGeom>
              <a:solidFill>
                <a:srgbClr val="ededed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164920" y="1763640"/>
                <a:ext cx="991440" cy="515880"/>
              </a:xfrm>
              <a:prstGeom prst="ellipse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609520" y="1803240"/>
                <a:ext cx="991440" cy="515880"/>
              </a:xfrm>
              <a:prstGeom prst="ellipse">
                <a:avLst/>
              </a:prstGeom>
              <a:solidFill>
                <a:srgbClr val="ededed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438520" y="2080800"/>
                <a:ext cx="991440" cy="515880"/>
              </a:xfrm>
              <a:prstGeom prst="ellipse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575320" y="2160360"/>
                <a:ext cx="991440" cy="515880"/>
              </a:xfrm>
              <a:prstGeom prst="ellipse">
                <a:avLst/>
              </a:prstGeom>
              <a:solidFill>
                <a:srgbClr val="ededed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917320" y="2001600"/>
                <a:ext cx="991440" cy="515880"/>
              </a:xfrm>
              <a:prstGeom prst="ellipse">
                <a:avLst/>
              </a:prstGeom>
              <a:solidFill>
                <a:srgbClr val="ededed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883120" y="2160360"/>
                <a:ext cx="991440" cy="515880"/>
              </a:xfrm>
              <a:prstGeom prst="ellipse">
                <a:avLst/>
              </a:prstGeom>
              <a:solidFill>
                <a:srgbClr val="ededed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8" name=""/>
            <p:cNvSpPr/>
            <p:nvPr/>
          </p:nvSpPr>
          <p:spPr>
            <a:xfrm>
              <a:off x="5105880" y="2111400"/>
              <a:ext cx="14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Upstream I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84920" y="3103560"/>
              <a:ext cx="927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Access Clien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28000" y="5732640"/>
              <a:ext cx="927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Access Clien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09560" y="4297320"/>
              <a:ext cx="927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Access Clien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581160" y="6202440"/>
              <a:ext cx="927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Access Clien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eneric ISP Profile - Lar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2145960" y="1905120"/>
            <a:ext cx="5886000" cy="4476960"/>
            <a:chOff x="2145960" y="1905120"/>
            <a:chExt cx="5886000" cy="4476960"/>
          </a:xfrm>
        </p:grpSpPr>
        <p:sp>
          <p:nvSpPr>
            <p:cNvPr id="635" name=""/>
            <p:cNvSpPr/>
            <p:nvPr/>
          </p:nvSpPr>
          <p:spPr>
            <a:xfrm flipH="1" flipV="1">
              <a:off x="3151440" y="1905120"/>
              <a:ext cx="839520" cy="65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3924000" y="2016000"/>
              <a:ext cx="996120" cy="52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3935160" y="2035080"/>
              <a:ext cx="156600" cy="49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714760" y="4534920"/>
              <a:ext cx="0" cy="53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4897800" y="2369520"/>
              <a:ext cx="1679040" cy="501840"/>
            </a:xfrm>
            <a:prstGeom prst="line">
              <a:avLst/>
            </a:prstGeom>
            <a:ln w="2844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714760" y="3085200"/>
              <a:ext cx="0" cy="52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800880" y="2927160"/>
              <a:ext cx="0" cy="687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908960" y="2927160"/>
              <a:ext cx="0" cy="687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192560" y="5046120"/>
              <a:ext cx="0" cy="22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476160" y="5055480"/>
              <a:ext cx="0" cy="27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938680" y="3614760"/>
              <a:ext cx="0" cy="1207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6" name=""/>
            <p:cNvGrpSpPr/>
            <p:nvPr/>
          </p:nvGrpSpPr>
          <p:grpSpPr>
            <a:xfrm>
              <a:off x="2244600" y="2999160"/>
              <a:ext cx="663120" cy="169560"/>
              <a:chOff x="2244600" y="2999160"/>
              <a:chExt cx="663120" cy="169560"/>
            </a:xfrm>
          </p:grpSpPr>
          <p:sp>
            <p:nvSpPr>
              <p:cNvPr id="647" name=""/>
              <p:cNvSpPr/>
              <p:nvPr/>
            </p:nvSpPr>
            <p:spPr>
              <a:xfrm>
                <a:off x="2244600" y="2999160"/>
                <a:ext cx="663120" cy="169560"/>
              </a:xfrm>
              <a:prstGeom prst="rect">
                <a:avLst/>
              </a:prstGeom>
              <a:solidFill>
                <a:srgbClr val="8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280240" y="3052800"/>
                <a:ext cx="5864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282760" y="3020760"/>
                <a:ext cx="586440" cy="1411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280240" y="3081240"/>
                <a:ext cx="5864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280240" y="3113280"/>
                <a:ext cx="5864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2" name=""/>
              <p:cNvGrpSpPr/>
              <p:nvPr/>
            </p:nvGrpSpPr>
            <p:grpSpPr>
              <a:xfrm>
                <a:off x="2309040" y="3039480"/>
                <a:ext cx="50040" cy="56880"/>
                <a:chOff x="2309040" y="3039480"/>
                <a:chExt cx="50040" cy="5688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2309040" y="3067920"/>
                  <a:ext cx="50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2309040" y="3096360"/>
                  <a:ext cx="50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2309040" y="3039480"/>
                  <a:ext cx="50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2397600" y="3039480"/>
                <a:ext cx="50400" cy="56880"/>
                <a:chOff x="2397600" y="3039480"/>
                <a:chExt cx="50400" cy="5688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2397600" y="3067920"/>
                  <a:ext cx="50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397600" y="3096360"/>
                  <a:ext cx="50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2397600" y="3039480"/>
                  <a:ext cx="50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0" name=""/>
              <p:cNvGrpSpPr/>
              <p:nvPr/>
            </p:nvGrpSpPr>
            <p:grpSpPr>
              <a:xfrm>
                <a:off x="2486160" y="3039480"/>
                <a:ext cx="50040" cy="56880"/>
                <a:chOff x="2486160" y="3039480"/>
                <a:chExt cx="50040" cy="5688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2486160" y="3067920"/>
                  <a:ext cx="50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2486160" y="3096360"/>
                  <a:ext cx="50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2486160" y="3039480"/>
                  <a:ext cx="50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4" name=""/>
              <p:cNvGrpSpPr/>
              <p:nvPr/>
            </p:nvGrpSpPr>
            <p:grpSpPr>
              <a:xfrm>
                <a:off x="2575800" y="3039480"/>
                <a:ext cx="50400" cy="56880"/>
                <a:chOff x="2575800" y="3039480"/>
                <a:chExt cx="50400" cy="5688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2575800" y="3067920"/>
                  <a:ext cx="50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2575800" y="3096360"/>
                  <a:ext cx="50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2575800" y="3039480"/>
                  <a:ext cx="50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8" name=""/>
              <p:cNvGrpSpPr/>
              <p:nvPr/>
            </p:nvGrpSpPr>
            <p:grpSpPr>
              <a:xfrm>
                <a:off x="2664720" y="3039480"/>
                <a:ext cx="50040" cy="56880"/>
                <a:chOff x="2664720" y="3039480"/>
                <a:chExt cx="50040" cy="56880"/>
              </a:xfrm>
            </p:grpSpPr>
            <p:sp>
              <p:nvSpPr>
                <p:cNvPr id="669" name=""/>
                <p:cNvSpPr/>
                <p:nvPr/>
              </p:nvSpPr>
              <p:spPr>
                <a:xfrm>
                  <a:off x="2664720" y="3067920"/>
                  <a:ext cx="50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2664720" y="3096360"/>
                  <a:ext cx="50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2664720" y="3039480"/>
                  <a:ext cx="50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2" name=""/>
              <p:cNvGrpSpPr/>
              <p:nvPr/>
            </p:nvGrpSpPr>
            <p:grpSpPr>
              <a:xfrm>
                <a:off x="2754360" y="3039480"/>
                <a:ext cx="50400" cy="56880"/>
                <a:chOff x="2754360" y="3039480"/>
                <a:chExt cx="50400" cy="5688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2754360" y="3067920"/>
                  <a:ext cx="50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2754360" y="3096360"/>
                  <a:ext cx="50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2754360" y="3039480"/>
                  <a:ext cx="50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6" name=""/>
            <p:cNvGrpSpPr/>
            <p:nvPr/>
          </p:nvGrpSpPr>
          <p:grpSpPr>
            <a:xfrm>
              <a:off x="3609000" y="2536920"/>
              <a:ext cx="450360" cy="631800"/>
              <a:chOff x="3609000" y="2536920"/>
              <a:chExt cx="450360" cy="631800"/>
            </a:xfrm>
          </p:grpSpPr>
          <p:sp>
            <p:nvSpPr>
              <p:cNvPr id="677" name=""/>
              <p:cNvSpPr/>
              <p:nvPr/>
            </p:nvSpPr>
            <p:spPr>
              <a:xfrm>
                <a:off x="3610440" y="2536920"/>
                <a:ext cx="448560" cy="631800"/>
              </a:xfrm>
              <a:prstGeom prst="rect">
                <a:avLst/>
              </a:prstGeom>
              <a:solidFill>
                <a:srgbClr val="b3b0b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610440" y="3050640"/>
                <a:ext cx="447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609000" y="2646720"/>
                <a:ext cx="45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652200" y="2646720"/>
                <a:ext cx="0" cy="40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726360" y="2646720"/>
                <a:ext cx="0" cy="40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799080" y="2646720"/>
                <a:ext cx="0" cy="40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873240" y="2646720"/>
                <a:ext cx="0" cy="40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947400" y="2646720"/>
                <a:ext cx="0" cy="40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021560" y="2646720"/>
                <a:ext cx="0" cy="40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6" name=""/>
              <p:cNvGrpSpPr/>
              <p:nvPr/>
            </p:nvGrpSpPr>
            <p:grpSpPr>
              <a:xfrm>
                <a:off x="3666240" y="2671920"/>
                <a:ext cx="34560" cy="323280"/>
                <a:chOff x="3666240" y="2671920"/>
                <a:chExt cx="34560" cy="323280"/>
              </a:xfrm>
            </p:grpSpPr>
            <p:sp>
              <p:nvSpPr>
                <p:cNvPr id="687" name=""/>
                <p:cNvSpPr/>
                <p:nvPr/>
              </p:nvSpPr>
              <p:spPr>
                <a:xfrm>
                  <a:off x="3666240" y="2671920"/>
                  <a:ext cx="34560" cy="687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3666240" y="2754000"/>
                  <a:ext cx="34560" cy="687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3666240" y="2841120"/>
                  <a:ext cx="34560" cy="691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3666240" y="2926440"/>
                  <a:ext cx="34560" cy="687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3738960" y="2671920"/>
                <a:ext cx="36360" cy="323280"/>
                <a:chOff x="3738960" y="2671920"/>
                <a:chExt cx="36360" cy="32328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3738960" y="2671920"/>
                  <a:ext cx="36360" cy="687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3738960" y="2754000"/>
                  <a:ext cx="36360" cy="687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3738960" y="2841120"/>
                  <a:ext cx="36360" cy="691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3738960" y="2926440"/>
                  <a:ext cx="36360" cy="687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6" name=""/>
              <p:cNvGrpSpPr/>
              <p:nvPr/>
            </p:nvGrpSpPr>
            <p:grpSpPr>
              <a:xfrm>
                <a:off x="3824280" y="2671920"/>
                <a:ext cx="36360" cy="323280"/>
                <a:chOff x="3824280" y="2671920"/>
                <a:chExt cx="36360" cy="32328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3824280" y="2671920"/>
                  <a:ext cx="36360" cy="687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3824280" y="2754000"/>
                  <a:ext cx="36360" cy="687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3824280" y="2841120"/>
                  <a:ext cx="36360" cy="691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3824280" y="2926440"/>
                  <a:ext cx="36360" cy="687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1" name=""/>
              <p:cNvGrpSpPr/>
              <p:nvPr/>
            </p:nvGrpSpPr>
            <p:grpSpPr>
              <a:xfrm>
                <a:off x="3888720" y="2671920"/>
                <a:ext cx="36360" cy="323280"/>
                <a:chOff x="3888720" y="2671920"/>
                <a:chExt cx="36360" cy="323280"/>
              </a:xfrm>
            </p:grpSpPr>
            <p:sp>
              <p:nvSpPr>
                <p:cNvPr id="702" name=""/>
                <p:cNvSpPr/>
                <p:nvPr/>
              </p:nvSpPr>
              <p:spPr>
                <a:xfrm>
                  <a:off x="3888720" y="2671920"/>
                  <a:ext cx="36360" cy="687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3888720" y="2754000"/>
                  <a:ext cx="36360" cy="687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3888720" y="2841120"/>
                  <a:ext cx="36360" cy="691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3888720" y="2926440"/>
                  <a:ext cx="36360" cy="687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3963960" y="2671920"/>
                <a:ext cx="36360" cy="323280"/>
                <a:chOff x="3963960" y="2671920"/>
                <a:chExt cx="36360" cy="32328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3963960" y="2671920"/>
                  <a:ext cx="36360" cy="687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3963960" y="2754000"/>
                  <a:ext cx="36360" cy="687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3963960" y="2841120"/>
                  <a:ext cx="36360" cy="691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3963960" y="2926440"/>
                  <a:ext cx="36360" cy="687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11" name=""/>
            <p:cNvGrpSpPr/>
            <p:nvPr/>
          </p:nvGrpSpPr>
          <p:grpSpPr>
            <a:xfrm>
              <a:off x="4760640" y="2536920"/>
              <a:ext cx="234720" cy="631800"/>
              <a:chOff x="4760640" y="2536920"/>
              <a:chExt cx="234720" cy="631800"/>
            </a:xfrm>
          </p:grpSpPr>
          <p:sp>
            <p:nvSpPr>
              <p:cNvPr id="712" name=""/>
              <p:cNvSpPr/>
              <p:nvPr/>
            </p:nvSpPr>
            <p:spPr>
              <a:xfrm>
                <a:off x="4761720" y="2536920"/>
                <a:ext cx="233640" cy="631800"/>
              </a:xfrm>
              <a:prstGeom prst="rect">
                <a:avLst/>
              </a:prstGeom>
              <a:solidFill>
                <a:srgbClr val="b3b0b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4761720" y="3050280"/>
                <a:ext cx="21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760640" y="2646720"/>
                <a:ext cx="22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803840" y="2646720"/>
                <a:ext cx="0" cy="40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878000" y="2646720"/>
                <a:ext cx="0" cy="40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4950720" y="2646720"/>
                <a:ext cx="0" cy="40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8" name=""/>
              <p:cNvGrpSpPr/>
              <p:nvPr/>
            </p:nvGrpSpPr>
            <p:grpSpPr>
              <a:xfrm>
                <a:off x="4817880" y="2671560"/>
                <a:ext cx="34560" cy="323640"/>
                <a:chOff x="4817880" y="2671560"/>
                <a:chExt cx="34560" cy="32364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4817880" y="2671560"/>
                  <a:ext cx="34560" cy="687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4817880" y="2753640"/>
                  <a:ext cx="34560" cy="687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4817880" y="2840760"/>
                  <a:ext cx="34560" cy="691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4817880" y="2926440"/>
                  <a:ext cx="34560" cy="687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4890600" y="2671560"/>
                <a:ext cx="36360" cy="323640"/>
                <a:chOff x="4890600" y="2671560"/>
                <a:chExt cx="36360" cy="32364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4890600" y="2671560"/>
                  <a:ext cx="36360" cy="687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4890600" y="2753640"/>
                  <a:ext cx="36360" cy="687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4890600" y="2840760"/>
                  <a:ext cx="36360" cy="6912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4890600" y="2926440"/>
                  <a:ext cx="36360" cy="687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8" name=""/>
            <p:cNvGrpSpPr/>
            <p:nvPr/>
          </p:nvGrpSpPr>
          <p:grpSpPr>
            <a:xfrm>
              <a:off x="3139920" y="5352840"/>
              <a:ext cx="401400" cy="399240"/>
              <a:chOff x="3139920" y="5352840"/>
              <a:chExt cx="401400" cy="399240"/>
            </a:xfrm>
          </p:grpSpPr>
          <p:grpSp>
            <p:nvGrpSpPr>
              <p:cNvPr id="729" name=""/>
              <p:cNvGrpSpPr/>
              <p:nvPr/>
            </p:nvGrpSpPr>
            <p:grpSpPr>
              <a:xfrm>
                <a:off x="3139920" y="5352840"/>
                <a:ext cx="401400" cy="399240"/>
                <a:chOff x="3139920" y="5352840"/>
                <a:chExt cx="401400" cy="39924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3139920" y="5692320"/>
                  <a:ext cx="401400" cy="5976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3188160" y="5352840"/>
                  <a:ext cx="329040" cy="33300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2" name=""/>
              <p:cNvSpPr/>
              <p:nvPr/>
            </p:nvSpPr>
            <p:spPr>
              <a:xfrm>
                <a:off x="3224160" y="5387760"/>
                <a:ext cx="136080" cy="4500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3242160" y="5407560"/>
                <a:ext cx="96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3224160" y="5452560"/>
                <a:ext cx="136080" cy="16164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5" name=""/>
            <p:cNvGrpSpPr/>
            <p:nvPr/>
          </p:nvGrpSpPr>
          <p:grpSpPr>
            <a:xfrm>
              <a:off x="3868200" y="5352840"/>
              <a:ext cx="401400" cy="399240"/>
              <a:chOff x="3868200" y="5352840"/>
              <a:chExt cx="401400" cy="399240"/>
            </a:xfrm>
          </p:grpSpPr>
          <p:grpSp>
            <p:nvGrpSpPr>
              <p:cNvPr id="736" name=""/>
              <p:cNvGrpSpPr/>
              <p:nvPr/>
            </p:nvGrpSpPr>
            <p:grpSpPr>
              <a:xfrm>
                <a:off x="3868200" y="5352840"/>
                <a:ext cx="401400" cy="399240"/>
                <a:chOff x="3868200" y="5352840"/>
                <a:chExt cx="401400" cy="39924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3868200" y="5692320"/>
                  <a:ext cx="401400" cy="5976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3916440" y="5352840"/>
                  <a:ext cx="329040" cy="33300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9" name=""/>
              <p:cNvSpPr/>
              <p:nvPr/>
            </p:nvSpPr>
            <p:spPr>
              <a:xfrm>
                <a:off x="3952440" y="5387760"/>
                <a:ext cx="136080" cy="45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970440" y="5407560"/>
                <a:ext cx="96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952440" y="5452560"/>
                <a:ext cx="136080" cy="16164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" name=""/>
            <p:cNvSpPr/>
            <p:nvPr/>
          </p:nvSpPr>
          <p:spPr>
            <a:xfrm>
              <a:off x="2905200" y="4795200"/>
              <a:ext cx="5082480" cy="64800"/>
            </a:xfrm>
            <a:prstGeom prst="rect">
              <a:avLst/>
            </a:prstGeom>
            <a:gradFill rotWithShape="0">
              <a:gsLst>
                <a:gs pos="0">
                  <a:srgbClr val="474747"/>
                </a:gs>
                <a:gs pos="50000">
                  <a:srgbClr val="ededed"/>
                </a:gs>
                <a:gs pos="100000">
                  <a:srgbClr val="47474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222280" y="3587040"/>
              <a:ext cx="2742480" cy="54360"/>
            </a:xfrm>
            <a:prstGeom prst="rect">
              <a:avLst/>
            </a:prstGeom>
            <a:gradFill rotWithShape="0">
              <a:gsLst>
                <a:gs pos="0">
                  <a:srgbClr val="474747"/>
                </a:gs>
                <a:gs pos="50000">
                  <a:srgbClr val="ededed"/>
                </a:gs>
                <a:gs pos="100000">
                  <a:srgbClr val="47474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3688920" y="4348800"/>
              <a:ext cx="0" cy="45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>
              <a:off x="4444200" y="4348800"/>
              <a:ext cx="0" cy="45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5201640" y="4348800"/>
              <a:ext cx="0" cy="45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5958720" y="4348800"/>
              <a:ext cx="0" cy="45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>
              <a:off x="6715440" y="4348800"/>
              <a:ext cx="0" cy="45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7472880" y="4348800"/>
              <a:ext cx="0" cy="45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0" name=""/>
            <p:cNvGrpSpPr/>
            <p:nvPr/>
          </p:nvGrpSpPr>
          <p:grpSpPr>
            <a:xfrm>
              <a:off x="3443760" y="4237560"/>
              <a:ext cx="401400" cy="399240"/>
              <a:chOff x="3443760" y="4237560"/>
              <a:chExt cx="401400" cy="399240"/>
            </a:xfrm>
          </p:grpSpPr>
          <p:grpSp>
            <p:nvGrpSpPr>
              <p:cNvPr id="751" name=""/>
              <p:cNvGrpSpPr/>
              <p:nvPr/>
            </p:nvGrpSpPr>
            <p:grpSpPr>
              <a:xfrm>
                <a:off x="3443760" y="4237560"/>
                <a:ext cx="401400" cy="399240"/>
                <a:chOff x="3443760" y="4237560"/>
                <a:chExt cx="401400" cy="39924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3443760" y="4577040"/>
                  <a:ext cx="401400" cy="5976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3492000" y="4237560"/>
                  <a:ext cx="329040" cy="33300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4" name=""/>
              <p:cNvSpPr/>
              <p:nvPr/>
            </p:nvSpPr>
            <p:spPr>
              <a:xfrm>
                <a:off x="3528000" y="4272480"/>
                <a:ext cx="136080" cy="450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546000" y="4292280"/>
                <a:ext cx="96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528000" y="4337280"/>
                <a:ext cx="136080" cy="16164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7" name=""/>
            <p:cNvGrpSpPr/>
            <p:nvPr/>
          </p:nvGrpSpPr>
          <p:grpSpPr>
            <a:xfrm>
              <a:off x="4217760" y="4237560"/>
              <a:ext cx="401400" cy="399240"/>
              <a:chOff x="4217760" y="4237560"/>
              <a:chExt cx="401400" cy="399240"/>
            </a:xfrm>
          </p:grpSpPr>
          <p:grpSp>
            <p:nvGrpSpPr>
              <p:cNvPr id="758" name=""/>
              <p:cNvGrpSpPr/>
              <p:nvPr/>
            </p:nvGrpSpPr>
            <p:grpSpPr>
              <a:xfrm>
                <a:off x="4217760" y="4237560"/>
                <a:ext cx="401400" cy="399240"/>
                <a:chOff x="4217760" y="4237560"/>
                <a:chExt cx="401400" cy="399240"/>
              </a:xfrm>
            </p:grpSpPr>
            <p:sp>
              <p:nvSpPr>
                <p:cNvPr id="759" name=""/>
                <p:cNvSpPr/>
                <p:nvPr/>
              </p:nvSpPr>
              <p:spPr>
                <a:xfrm>
                  <a:off x="4217760" y="4577040"/>
                  <a:ext cx="401400" cy="5976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4266000" y="4237560"/>
                  <a:ext cx="329040" cy="33300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1" name=""/>
              <p:cNvSpPr/>
              <p:nvPr/>
            </p:nvSpPr>
            <p:spPr>
              <a:xfrm>
                <a:off x="4302000" y="4272480"/>
                <a:ext cx="136080" cy="450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4320000" y="4292280"/>
                <a:ext cx="96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302000" y="4337280"/>
                <a:ext cx="136080" cy="16164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4" name=""/>
            <p:cNvGrpSpPr/>
            <p:nvPr/>
          </p:nvGrpSpPr>
          <p:grpSpPr>
            <a:xfrm>
              <a:off x="4993200" y="4237560"/>
              <a:ext cx="401400" cy="399240"/>
              <a:chOff x="4993200" y="4237560"/>
              <a:chExt cx="401400" cy="399240"/>
            </a:xfrm>
          </p:grpSpPr>
          <p:grpSp>
            <p:nvGrpSpPr>
              <p:cNvPr id="765" name=""/>
              <p:cNvGrpSpPr/>
              <p:nvPr/>
            </p:nvGrpSpPr>
            <p:grpSpPr>
              <a:xfrm>
                <a:off x="4993200" y="4237560"/>
                <a:ext cx="401400" cy="399240"/>
                <a:chOff x="4993200" y="4237560"/>
                <a:chExt cx="401400" cy="399240"/>
              </a:xfrm>
            </p:grpSpPr>
            <p:sp>
              <p:nvSpPr>
                <p:cNvPr id="766" name=""/>
                <p:cNvSpPr/>
                <p:nvPr/>
              </p:nvSpPr>
              <p:spPr>
                <a:xfrm>
                  <a:off x="4993200" y="4577040"/>
                  <a:ext cx="401400" cy="5976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5041440" y="4237560"/>
                  <a:ext cx="329040" cy="33300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8" name=""/>
              <p:cNvSpPr/>
              <p:nvPr/>
            </p:nvSpPr>
            <p:spPr>
              <a:xfrm>
                <a:off x="5077440" y="4272480"/>
                <a:ext cx="136080" cy="4500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095440" y="4292280"/>
                <a:ext cx="96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077440" y="4337280"/>
                <a:ext cx="136080" cy="16164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"/>
            <p:cNvGrpSpPr/>
            <p:nvPr/>
          </p:nvGrpSpPr>
          <p:grpSpPr>
            <a:xfrm>
              <a:off x="5766840" y="4237560"/>
              <a:ext cx="401400" cy="399240"/>
              <a:chOff x="5766840" y="4237560"/>
              <a:chExt cx="401400" cy="399240"/>
            </a:xfrm>
          </p:grpSpPr>
          <p:grpSp>
            <p:nvGrpSpPr>
              <p:cNvPr id="772" name=""/>
              <p:cNvGrpSpPr/>
              <p:nvPr/>
            </p:nvGrpSpPr>
            <p:grpSpPr>
              <a:xfrm>
                <a:off x="5766840" y="4237560"/>
                <a:ext cx="401400" cy="399240"/>
                <a:chOff x="5766840" y="4237560"/>
                <a:chExt cx="401400" cy="39924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5766840" y="4577040"/>
                  <a:ext cx="401400" cy="5976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5815080" y="4237560"/>
                  <a:ext cx="329040" cy="33300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5" name=""/>
              <p:cNvSpPr/>
              <p:nvPr/>
            </p:nvSpPr>
            <p:spPr>
              <a:xfrm>
                <a:off x="5851080" y="4272480"/>
                <a:ext cx="136080" cy="4500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869080" y="4292280"/>
                <a:ext cx="96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851080" y="4337280"/>
                <a:ext cx="136080" cy="16164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8" name=""/>
            <p:cNvGrpSpPr/>
            <p:nvPr/>
          </p:nvGrpSpPr>
          <p:grpSpPr>
            <a:xfrm>
              <a:off x="6540840" y="4237560"/>
              <a:ext cx="401400" cy="399240"/>
              <a:chOff x="6540840" y="4237560"/>
              <a:chExt cx="401400" cy="399240"/>
            </a:xfrm>
          </p:grpSpPr>
          <p:grpSp>
            <p:nvGrpSpPr>
              <p:cNvPr id="779" name=""/>
              <p:cNvGrpSpPr/>
              <p:nvPr/>
            </p:nvGrpSpPr>
            <p:grpSpPr>
              <a:xfrm>
                <a:off x="6540840" y="4237560"/>
                <a:ext cx="401400" cy="399240"/>
                <a:chOff x="6540840" y="4237560"/>
                <a:chExt cx="401400" cy="399240"/>
              </a:xfrm>
            </p:grpSpPr>
            <p:sp>
              <p:nvSpPr>
                <p:cNvPr id="780" name=""/>
                <p:cNvSpPr/>
                <p:nvPr/>
              </p:nvSpPr>
              <p:spPr>
                <a:xfrm>
                  <a:off x="6540840" y="4577040"/>
                  <a:ext cx="401400" cy="5976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6589080" y="4237560"/>
                  <a:ext cx="329040" cy="33300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2" name=""/>
              <p:cNvSpPr/>
              <p:nvPr/>
            </p:nvSpPr>
            <p:spPr>
              <a:xfrm>
                <a:off x="6625080" y="4272480"/>
                <a:ext cx="136080" cy="4500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6643080" y="4292280"/>
                <a:ext cx="96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6625080" y="4337280"/>
                <a:ext cx="136080" cy="16164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7315920" y="4237560"/>
              <a:ext cx="401400" cy="399240"/>
              <a:chOff x="7315920" y="4237560"/>
              <a:chExt cx="401400" cy="399240"/>
            </a:xfrm>
          </p:grpSpPr>
          <p:grpSp>
            <p:nvGrpSpPr>
              <p:cNvPr id="786" name=""/>
              <p:cNvGrpSpPr/>
              <p:nvPr/>
            </p:nvGrpSpPr>
            <p:grpSpPr>
              <a:xfrm>
                <a:off x="7315920" y="4237560"/>
                <a:ext cx="401400" cy="399240"/>
                <a:chOff x="7315920" y="4237560"/>
                <a:chExt cx="401400" cy="399240"/>
              </a:xfrm>
            </p:grpSpPr>
            <p:sp>
              <p:nvSpPr>
                <p:cNvPr id="787" name=""/>
                <p:cNvSpPr/>
                <p:nvPr/>
              </p:nvSpPr>
              <p:spPr>
                <a:xfrm>
                  <a:off x="7315920" y="4577040"/>
                  <a:ext cx="401400" cy="5976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7364160" y="4237560"/>
                  <a:ext cx="329040" cy="333000"/>
                </a:xfrm>
                <a:prstGeom prst="rect">
                  <a:avLst/>
                </a:prstGeom>
                <a:solidFill>
                  <a:srgbClr val="e6e6e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9" name=""/>
              <p:cNvSpPr/>
              <p:nvPr/>
            </p:nvSpPr>
            <p:spPr>
              <a:xfrm>
                <a:off x="7400160" y="4272480"/>
                <a:ext cx="136080" cy="4500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418160" y="4292280"/>
                <a:ext cx="96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400160" y="4337280"/>
                <a:ext cx="136080" cy="161640"/>
              </a:xfrm>
              <a:prstGeom prst="rect">
                <a:avLst/>
              </a:prstGeom>
              <a:solidFill>
                <a:srgbClr val="a2a2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2" name=""/>
            <p:cNvGrpSpPr/>
            <p:nvPr/>
          </p:nvGrpSpPr>
          <p:grpSpPr>
            <a:xfrm>
              <a:off x="6375600" y="2016360"/>
              <a:ext cx="1612080" cy="538920"/>
              <a:chOff x="6375600" y="2016360"/>
              <a:chExt cx="1612080" cy="538920"/>
            </a:xfrm>
          </p:grpSpPr>
          <p:sp>
            <p:nvSpPr>
              <p:cNvPr id="793" name=""/>
              <p:cNvSpPr/>
              <p:nvPr/>
            </p:nvSpPr>
            <p:spPr>
              <a:xfrm>
                <a:off x="6375600" y="2128320"/>
                <a:ext cx="719280" cy="291960"/>
              </a:xfrm>
              <a:prstGeom prst="ellipse">
                <a:avLst/>
              </a:prstGeom>
              <a:solidFill>
                <a:srgbClr val="ededed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524280" y="2263320"/>
                <a:ext cx="719280" cy="291960"/>
              </a:xfrm>
              <a:prstGeom prst="ellipse">
                <a:avLst/>
              </a:prstGeom>
              <a:solidFill>
                <a:srgbClr val="ededed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722640" y="2016360"/>
                <a:ext cx="719280" cy="291960"/>
              </a:xfrm>
              <a:prstGeom prst="ellipse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045200" y="2038680"/>
                <a:ext cx="719280" cy="291960"/>
              </a:xfrm>
              <a:prstGeom prst="ellipse">
                <a:avLst/>
              </a:prstGeom>
              <a:solidFill>
                <a:srgbClr val="ededed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921360" y="2196000"/>
                <a:ext cx="719280" cy="291960"/>
              </a:xfrm>
              <a:prstGeom prst="ellipse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020360" y="2241000"/>
                <a:ext cx="719280" cy="291960"/>
              </a:xfrm>
              <a:prstGeom prst="ellipse">
                <a:avLst/>
              </a:prstGeom>
              <a:solidFill>
                <a:srgbClr val="ededed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268400" y="2151000"/>
                <a:ext cx="719280" cy="291960"/>
              </a:xfrm>
              <a:prstGeom prst="ellipse">
                <a:avLst/>
              </a:prstGeom>
              <a:solidFill>
                <a:srgbClr val="ededed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243560" y="2241000"/>
                <a:ext cx="719280" cy="291960"/>
              </a:xfrm>
              <a:prstGeom prst="ellipse">
                <a:avLst/>
              </a:prstGeom>
              <a:solidFill>
                <a:srgbClr val="ededed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1" name=""/>
            <p:cNvSpPr/>
            <p:nvPr/>
          </p:nvSpPr>
          <p:spPr>
            <a:xfrm>
              <a:off x="6551280" y="2187360"/>
              <a:ext cx="14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Upstream I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407480" y="3247920"/>
              <a:ext cx="1608840" cy="2462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Upstream Feed Rou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281040" y="3247920"/>
              <a:ext cx="1064520" cy="3985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Local Off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Access Rou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145960" y="3247920"/>
              <a:ext cx="1185120" cy="3985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Network Acce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592720" y="3908880"/>
              <a:ext cx="598320" cy="3985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Acce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Filte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6" name=""/>
            <p:cNvGrpSpPr/>
            <p:nvPr/>
          </p:nvGrpSpPr>
          <p:grpSpPr>
            <a:xfrm>
              <a:off x="2516040" y="4372560"/>
              <a:ext cx="761040" cy="194760"/>
              <a:chOff x="2516040" y="4372560"/>
              <a:chExt cx="761040" cy="194760"/>
            </a:xfrm>
          </p:grpSpPr>
          <p:sp>
            <p:nvSpPr>
              <p:cNvPr id="807" name=""/>
              <p:cNvSpPr/>
              <p:nvPr/>
            </p:nvSpPr>
            <p:spPr>
              <a:xfrm rot="16200000">
                <a:off x="2799360" y="4088880"/>
                <a:ext cx="194040" cy="761040"/>
              </a:xfrm>
              <a:prstGeom prst="rect">
                <a:avLst/>
              </a:prstGeom>
              <a:solidFill>
                <a:srgbClr val="b3b0b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3134520" y="4388040"/>
                <a:ext cx="0" cy="17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V="1">
                <a:off x="2648520" y="4381920"/>
                <a:ext cx="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648520" y="4531320"/>
                <a:ext cx="4842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648520" y="4470120"/>
                <a:ext cx="4842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648520" y="4409280"/>
                <a:ext cx="4842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3" name=""/>
              <p:cNvGrpSpPr/>
              <p:nvPr/>
            </p:nvGrpSpPr>
            <p:grpSpPr>
              <a:xfrm>
                <a:off x="2678040" y="4491000"/>
                <a:ext cx="389880" cy="28800"/>
                <a:chOff x="2678040" y="4491000"/>
                <a:chExt cx="389880" cy="28800"/>
              </a:xfrm>
            </p:grpSpPr>
            <p:sp>
              <p:nvSpPr>
                <p:cNvPr id="814" name=""/>
                <p:cNvSpPr/>
                <p:nvPr/>
              </p:nvSpPr>
              <p:spPr>
                <a:xfrm rot="16200000">
                  <a:off x="2705040" y="4464000"/>
                  <a:ext cx="28800" cy="8280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 rot="16200000">
                  <a:off x="2804040" y="4464000"/>
                  <a:ext cx="28800" cy="8280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 rot="16200000">
                  <a:off x="2908800" y="4463640"/>
                  <a:ext cx="28800" cy="831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 rot="16200000">
                  <a:off x="3012120" y="4464000"/>
                  <a:ext cx="28800" cy="8280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8" name=""/>
              <p:cNvGrpSpPr/>
              <p:nvPr/>
            </p:nvGrpSpPr>
            <p:grpSpPr>
              <a:xfrm>
                <a:off x="2678040" y="4429080"/>
                <a:ext cx="389880" cy="30240"/>
                <a:chOff x="2678040" y="4429080"/>
                <a:chExt cx="389880" cy="30240"/>
              </a:xfrm>
            </p:grpSpPr>
            <p:sp>
              <p:nvSpPr>
                <p:cNvPr id="819" name=""/>
                <p:cNvSpPr/>
                <p:nvPr/>
              </p:nvSpPr>
              <p:spPr>
                <a:xfrm rot="16200000">
                  <a:off x="2704320" y="4402800"/>
                  <a:ext cx="30240" cy="8280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 rot="16200000">
                  <a:off x="2803320" y="4402800"/>
                  <a:ext cx="30240" cy="8280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 rot="16200000">
                  <a:off x="2908080" y="4402440"/>
                  <a:ext cx="30240" cy="8316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 rot="16200000">
                  <a:off x="3011400" y="4402800"/>
                  <a:ext cx="30240" cy="82800"/>
                </a:xfrm>
                <a:prstGeom prst="rect">
                  <a:avLst/>
                </a:prstGeom>
                <a:solidFill>
                  <a:srgbClr val="e3e3e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23" name=""/>
            <p:cNvSpPr/>
            <p:nvPr/>
          </p:nvSpPr>
          <p:spPr>
            <a:xfrm>
              <a:off x="3370320" y="3759120"/>
              <a:ext cx="605880" cy="3985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Radi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153320" y="3759120"/>
              <a:ext cx="587520" cy="3985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Ma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934160" y="3759120"/>
              <a:ext cx="587520" cy="3985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D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730120" y="3759120"/>
              <a:ext cx="561600" cy="3985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WW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Cach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497280" y="3759120"/>
              <a:ext cx="587520" cy="3985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WW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259760" y="3759120"/>
              <a:ext cx="627120" cy="3985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Usen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800080" y="5830200"/>
              <a:ext cx="901440" cy="3985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Account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646800" y="5831280"/>
              <a:ext cx="1029600" cy="5508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Manag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266920" y="5027400"/>
              <a:ext cx="2742480" cy="54720"/>
            </a:xfrm>
            <a:prstGeom prst="rect">
              <a:avLst/>
            </a:prstGeom>
            <a:gradFill rotWithShape="0">
              <a:gsLst>
                <a:gs pos="0">
                  <a:srgbClr val="474747"/>
                </a:gs>
                <a:gs pos="50000">
                  <a:srgbClr val="ededed"/>
                </a:gs>
                <a:gs pos="100000">
                  <a:srgbClr val="47474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763520" y="1905120"/>
              <a:ext cx="235080" cy="195120"/>
            </a:xfrm>
            <a:prstGeom prst="rect">
              <a:avLst/>
            </a:prstGeom>
            <a:solidFill>
              <a:srgbClr val="eded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552200" y="2118600"/>
              <a:ext cx="773640" cy="2156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Local Offi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901320" y="1905120"/>
              <a:ext cx="235080" cy="195120"/>
            </a:xfrm>
            <a:prstGeom prst="rect">
              <a:avLst/>
            </a:prstGeom>
            <a:solidFill>
              <a:srgbClr val="eded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690000" y="2118600"/>
              <a:ext cx="773640" cy="2156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Local Offi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039480" y="1905120"/>
              <a:ext cx="235080" cy="195120"/>
            </a:xfrm>
            <a:prstGeom prst="rect">
              <a:avLst/>
            </a:prstGeom>
            <a:solidFill>
              <a:srgbClr val="eded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732760" y="2118600"/>
              <a:ext cx="773640" cy="2156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Local Offi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Telco Perspectiv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ice is good busines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d asset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servi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monopoly incumb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revenue potent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Telco Perspectiv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ice Protect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rriers to voice entry decrea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 core voice assets from compet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the data market at voice bypass prevention pr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 resale access to high capacity high quality data carriage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Telco and Dat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view is that the Telco serviced the data market to prevent private-wired corporate voice systems gaining market impet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likely that the Telco did not forsee a competitive data service industry due t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eting data 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value data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Telco Perspectiv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ata market was serviced using the margins of oversupply of vo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provisioning uses long-term investment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service architecture relies on over-provision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sed Line data transmission services required no additional infrastructure invest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Proble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over Voice is Exhau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ss (Modem)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, Inefficient, Complicated, 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haracteristic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vs modem access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centrations move out to the surbur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per loop quality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Proble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over Vo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sed Line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ing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load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circuit 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ISPs view of the Tel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ompetence or malic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ISPs view of the Tel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itical path suppli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c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primary rate ac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stream Wholesale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lco Evolu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le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lephone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Carrier ro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service, one policy, one oper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ulatory barriers to competitive ent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 tax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ISPs view of the Tel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eti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capi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ta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stome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lling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r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lco Services to ISP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ircuit prov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ll termination prov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pstream wholesale IS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 service interfac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ISP view of the Tel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satisf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spic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ced relationsh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rilla competi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ideal ISP’s Telc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od, fast, accurate, che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st service provisi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de portfolio of data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w pr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gh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gh service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-competitive retai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Telco vie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Telco view of the IS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-capital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or service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or business found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mited ro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mited fu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acting competi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Telco vie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Ps are a potential revenue str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ven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revn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reven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olesale IP reven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competitive carrier world this market cannot be ign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rvicing the ISP Sect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sector’s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realistic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eate appropriate service delivery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ISP pl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Market Ent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Rapid Grow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Market Ex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SP Plan - 1. Market Ent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t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siness p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ology p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i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ting p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delivery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undless optim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SP Evolu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..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corporate networ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sed line servic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ndor-based scope limi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frame access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..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vate wire services, ope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 distribution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..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sed line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LAN / WAN data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SP Plan - 2. Growt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pid application of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meet dem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SP Plan - 3. Market Exi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le of business asse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rt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wth potent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blic Floa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vestor market primed on e*hys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blem Poi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6840" y="18298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STN battle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scale ISDN demand in the CAN without associated call reven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TN modem access models are stressing ISDN investment and revenu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ctation of 56K V.90 copper pair causing service c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PSTN line demand in the surburbs stressing copper pl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olesale dial access yet to be acce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blem Poi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eased Line battle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pper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PV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PV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DD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rk fib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blem Poi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IP Battle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wholesale tariff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ndled IP vs unbundled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tlements (or the lack thereo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etitive interest in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etitive distraction of limited expert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co’s own ISP absorbs all available clu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e density is a continuing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blem Poi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Voice Battle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P is viable in competition to existing voice pr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revenue leakage to the ISP sector is emer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utur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etition for the wire will change both the Telco AND the ISP indust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gregation in the ISP sec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mming done in the Telco sec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SP Evolu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ce Internet Provi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-Corporate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Email servic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al Access Provi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ail dial access model - email, web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SP Evolu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Service IS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 Access, Web Publishing, Email, VPNs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servic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primary rate access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sed Line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vate 4 wire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dio Spectru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Y did ISPs appear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ic Market Opportunity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egulated communications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icense fe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igh capital requir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frastructure build required - over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cumbent monopoly oper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arket resistance (quite the opposit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SP Opportuniti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-3199320" y="-1295640"/>
            <a:ext cx="10644840" cy="8009640"/>
            <a:chOff x="-3199320" y="-1295640"/>
            <a:chExt cx="10644840" cy="8009640"/>
          </a:xfrm>
        </p:grpSpPr>
        <p:sp>
          <p:nvSpPr>
            <p:cNvPr id="97" name=""/>
            <p:cNvSpPr/>
            <p:nvPr/>
          </p:nvSpPr>
          <p:spPr>
            <a:xfrm>
              <a:off x="1523880" y="2590560"/>
              <a:ext cx="5105520" cy="365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523880" y="6248160"/>
              <a:ext cx="5105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-3198960" y="-1296000"/>
              <a:ext cx="9587520" cy="716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41" y="1"/>
                  </a:moveTo>
                  <a:arcTo wR="10800" hR="10800" stAng="-5450606" swAng="488833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41" y="1"/>
                  </a:moveTo>
                  <a:arcTo wR="10800" hR="10800" stAng="-5450606" swAng="4888336"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20884200">
              <a:off x="3780000" y="5196960"/>
              <a:ext cx="2438280" cy="837720"/>
            </a:xfrm>
            <a:prstGeom prst="rightArrow">
              <a:avLst>
                <a:gd name="adj1" fmla="val 50000"/>
                <a:gd name="adj2" fmla="val 72765"/>
              </a:avLst>
            </a:pr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arge Scale IS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8228600">
              <a:off x="5867640" y="3580920"/>
              <a:ext cx="685440" cy="380880"/>
            </a:xfrm>
            <a:prstGeom prst="rightArrow">
              <a:avLst>
                <a:gd name="adj1" fmla="val 50000"/>
                <a:gd name="adj2" fmla="val 44991"/>
              </a:avLst>
            </a:prstGeom>
            <a:solidFill>
              <a:srgbClr val="5e57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23880" y="3047760"/>
              <a:ext cx="0" cy="320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34360" y="3836880"/>
              <a:ext cx="122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Market 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110400" y="6406920"/>
              <a:ext cx="61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09880" y="655308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13680" y="3124080"/>
              <a:ext cx="1131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ntry IS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447920" y="2438280"/>
              <a:ext cx="228600" cy="60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39720" y="3047760"/>
              <a:ext cx="457200" cy="219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a rapidly expanding market, the initial market entrant is the small player with high flexibility - larger players take more time to react to new market opportunit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 flipV="1">
            <a:off x="3530520" y="2938320"/>
            <a:ext cx="1625760" cy="673200"/>
          </a:xfrm>
          <a:prstGeom prst="line">
            <a:avLst/>
          </a:prstGeom>
          <a:ln w="5724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46360" y="3841920"/>
            <a:ext cx="1800" cy="771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86200" y="4896000"/>
            <a:ext cx="0" cy="338040"/>
          </a:xfrm>
          <a:prstGeom prst="line">
            <a:avLst/>
          </a:prstGeom>
          <a:ln w="1260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38480" y="4896000"/>
            <a:ext cx="0" cy="338040"/>
          </a:xfrm>
          <a:prstGeom prst="line">
            <a:avLst/>
          </a:prstGeom>
          <a:ln w="1260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90760" y="4896000"/>
            <a:ext cx="0" cy="338040"/>
          </a:xfrm>
          <a:prstGeom prst="line">
            <a:avLst/>
          </a:prstGeom>
          <a:ln w="1260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43400" y="4896000"/>
            <a:ext cx="0" cy="338040"/>
          </a:xfrm>
          <a:prstGeom prst="line">
            <a:avLst/>
          </a:prstGeom>
          <a:ln w="1260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95680" y="4896000"/>
            <a:ext cx="0" cy="338040"/>
          </a:xfrm>
          <a:prstGeom prst="line">
            <a:avLst/>
          </a:prstGeom>
          <a:ln w="1260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47960" y="4896000"/>
            <a:ext cx="0" cy="338040"/>
          </a:xfrm>
          <a:prstGeom prst="line">
            <a:avLst/>
          </a:prstGeom>
          <a:ln w="1260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00600" y="4896000"/>
            <a:ext cx="0" cy="338040"/>
          </a:xfrm>
          <a:prstGeom prst="line">
            <a:avLst/>
          </a:prstGeom>
          <a:ln w="1260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52880" y="4896000"/>
            <a:ext cx="0" cy="338040"/>
          </a:xfrm>
          <a:prstGeom prst="line">
            <a:avLst/>
          </a:prstGeom>
          <a:ln w="1260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205160" y="4896000"/>
            <a:ext cx="0" cy="338040"/>
          </a:xfrm>
          <a:prstGeom prst="line">
            <a:avLst/>
          </a:prstGeom>
          <a:ln w="1260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eneric ISP profile - Smal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"/>
          <p:cNvSpPr/>
          <p:nvPr/>
        </p:nvSpPr>
        <p:spPr>
          <a:xfrm>
            <a:off x="1658880" y="3398760"/>
            <a:ext cx="2200320" cy="65736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ux or NT H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93880" y="4400640"/>
            <a:ext cx="1954440" cy="541080"/>
          </a:xfrm>
          <a:prstGeom prst="rect">
            <a:avLst/>
          </a:prstGeom>
          <a:solidFill>
            <a:srgbClr val="2b23c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 Concent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00360" y="5361120"/>
            <a:ext cx="1576440" cy="60804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62360" y="5481720"/>
            <a:ext cx="0" cy="35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09960" y="5481720"/>
            <a:ext cx="0" cy="35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62240" y="5481720"/>
            <a:ext cx="0" cy="35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14880" y="5481720"/>
            <a:ext cx="0" cy="35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67160" y="5481720"/>
            <a:ext cx="0" cy="35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19440" y="5481720"/>
            <a:ext cx="0" cy="35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72080" y="5481720"/>
            <a:ext cx="0" cy="35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24360" y="5481720"/>
            <a:ext cx="0" cy="35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76640" y="5481720"/>
            <a:ext cx="0" cy="35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47880" y="5472000"/>
            <a:ext cx="1486080" cy="37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0" y="591552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m 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368960" y="1987560"/>
            <a:ext cx="3006720" cy="1282680"/>
            <a:chOff x="4368960" y="1987560"/>
            <a:chExt cx="3006720" cy="1282680"/>
          </a:xfrm>
        </p:grpSpPr>
        <p:sp>
          <p:nvSpPr>
            <p:cNvPr id="137" name=""/>
            <p:cNvSpPr/>
            <p:nvPr/>
          </p:nvSpPr>
          <p:spPr>
            <a:xfrm>
              <a:off x="4368960" y="2314440"/>
              <a:ext cx="1033200" cy="444600"/>
            </a:xfrm>
            <a:prstGeom prst="ellipse">
              <a:avLst/>
            </a:prstGeom>
            <a:solidFill>
              <a:srgbClr val="aba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21240" y="2467080"/>
              <a:ext cx="1033560" cy="444240"/>
            </a:xfrm>
            <a:prstGeom prst="ellipse">
              <a:avLst/>
            </a:prstGeom>
            <a:solidFill>
              <a:srgbClr val="aba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22840" y="2109960"/>
              <a:ext cx="1033560" cy="444240"/>
            </a:xfrm>
            <a:prstGeom prst="ellipse">
              <a:avLst/>
            </a:prstGeom>
            <a:solidFill>
              <a:srgbClr val="aba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673520" y="2619360"/>
              <a:ext cx="1033560" cy="444600"/>
            </a:xfrm>
            <a:prstGeom prst="ellipse">
              <a:avLst/>
            </a:prstGeom>
            <a:solidFill>
              <a:srgbClr val="aba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06800" y="2525760"/>
              <a:ext cx="1033560" cy="444600"/>
            </a:xfrm>
            <a:prstGeom prst="ellipse">
              <a:avLst/>
            </a:prstGeom>
            <a:solidFill>
              <a:srgbClr val="aba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26160" y="2771640"/>
              <a:ext cx="1033200" cy="444600"/>
            </a:xfrm>
            <a:prstGeom prst="ellipse">
              <a:avLst/>
            </a:prstGeom>
            <a:solidFill>
              <a:srgbClr val="aba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21240" y="2151000"/>
              <a:ext cx="1033560" cy="444600"/>
            </a:xfrm>
            <a:prstGeom prst="ellipse">
              <a:avLst/>
            </a:prstGeom>
            <a:solidFill>
              <a:srgbClr val="aba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56080" y="2284560"/>
              <a:ext cx="1033560" cy="444240"/>
            </a:xfrm>
            <a:prstGeom prst="ellipse">
              <a:avLst/>
            </a:prstGeom>
            <a:solidFill>
              <a:srgbClr val="aba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37080" y="2546280"/>
              <a:ext cx="1033560" cy="444600"/>
            </a:xfrm>
            <a:prstGeom prst="ellipse">
              <a:avLst/>
            </a:prstGeom>
            <a:solidFill>
              <a:srgbClr val="aba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40240" y="2825640"/>
              <a:ext cx="1033560" cy="444600"/>
            </a:xfrm>
            <a:prstGeom prst="ellipse">
              <a:avLst/>
            </a:prstGeom>
            <a:solidFill>
              <a:srgbClr val="aba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15160" y="2662200"/>
              <a:ext cx="1033200" cy="444600"/>
            </a:xfrm>
            <a:prstGeom prst="ellipse">
              <a:avLst/>
            </a:prstGeom>
            <a:solidFill>
              <a:srgbClr val="aba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16520" y="2300400"/>
              <a:ext cx="1033560" cy="444240"/>
            </a:xfrm>
            <a:prstGeom prst="ellipse">
              <a:avLst/>
            </a:prstGeom>
            <a:solidFill>
              <a:srgbClr val="aba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342120" y="2479680"/>
              <a:ext cx="1033560" cy="444600"/>
            </a:xfrm>
            <a:prstGeom prst="ellipse">
              <a:avLst/>
            </a:prstGeom>
            <a:solidFill>
              <a:srgbClr val="aba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46920" y="2168640"/>
              <a:ext cx="1033200" cy="444240"/>
            </a:xfrm>
            <a:prstGeom prst="ellipse">
              <a:avLst/>
            </a:prstGeom>
            <a:solidFill>
              <a:srgbClr val="aba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23040" y="1987560"/>
              <a:ext cx="1033200" cy="444600"/>
            </a:xfrm>
            <a:prstGeom prst="ellipse">
              <a:avLst/>
            </a:prstGeom>
            <a:solidFill>
              <a:srgbClr val="aba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4795560" y="2381760"/>
            <a:ext cx="20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stream 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5527800" y="4889520"/>
            <a:ext cx="3006720" cy="1282680"/>
            <a:chOff x="5527800" y="4889520"/>
            <a:chExt cx="3006720" cy="1282680"/>
          </a:xfrm>
        </p:grpSpPr>
        <p:sp>
          <p:nvSpPr>
            <p:cNvPr id="154" name=""/>
            <p:cNvSpPr/>
            <p:nvPr/>
          </p:nvSpPr>
          <p:spPr>
            <a:xfrm>
              <a:off x="5527800" y="5216400"/>
              <a:ext cx="1033200" cy="444600"/>
            </a:xfrm>
            <a:prstGeom prst="ellipse">
              <a:avLst/>
            </a:prstGeom>
            <a:solidFill>
              <a:srgbClr val="aba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680080" y="5369040"/>
              <a:ext cx="1033560" cy="444240"/>
            </a:xfrm>
            <a:prstGeom prst="ellipse">
              <a:avLst/>
            </a:prstGeom>
            <a:solidFill>
              <a:srgbClr val="aba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81680" y="5011920"/>
              <a:ext cx="1033560" cy="444240"/>
            </a:xfrm>
            <a:prstGeom prst="ellipse">
              <a:avLst/>
            </a:prstGeom>
            <a:solidFill>
              <a:srgbClr val="aba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32360" y="5521320"/>
              <a:ext cx="1033560" cy="444600"/>
            </a:xfrm>
            <a:prstGeom prst="ellipse">
              <a:avLst/>
            </a:prstGeom>
            <a:solidFill>
              <a:srgbClr val="aba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65640" y="5427720"/>
              <a:ext cx="1033560" cy="444600"/>
            </a:xfrm>
            <a:prstGeom prst="ellipse">
              <a:avLst/>
            </a:prstGeom>
            <a:solidFill>
              <a:srgbClr val="aba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85000" y="5673600"/>
              <a:ext cx="1033200" cy="444600"/>
            </a:xfrm>
            <a:prstGeom prst="ellipse">
              <a:avLst/>
            </a:prstGeom>
            <a:solidFill>
              <a:srgbClr val="aba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580080" y="5052960"/>
              <a:ext cx="1033560" cy="444600"/>
            </a:xfrm>
            <a:prstGeom prst="ellipse">
              <a:avLst/>
            </a:prstGeom>
            <a:solidFill>
              <a:srgbClr val="aba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14920" y="5186520"/>
              <a:ext cx="1033560" cy="444240"/>
            </a:xfrm>
            <a:prstGeom prst="ellipse">
              <a:avLst/>
            </a:prstGeom>
            <a:solidFill>
              <a:srgbClr val="aba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595920" y="5448240"/>
              <a:ext cx="1033560" cy="444600"/>
            </a:xfrm>
            <a:prstGeom prst="ellipse">
              <a:avLst/>
            </a:prstGeom>
            <a:solidFill>
              <a:srgbClr val="aba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99080" y="5727600"/>
              <a:ext cx="1033560" cy="444600"/>
            </a:xfrm>
            <a:prstGeom prst="ellipse">
              <a:avLst/>
            </a:prstGeom>
            <a:solidFill>
              <a:srgbClr val="aba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74000" y="5564160"/>
              <a:ext cx="1033200" cy="444600"/>
            </a:xfrm>
            <a:prstGeom prst="ellipse">
              <a:avLst/>
            </a:prstGeom>
            <a:solidFill>
              <a:srgbClr val="aba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75360" y="5202360"/>
              <a:ext cx="1033560" cy="444240"/>
            </a:xfrm>
            <a:prstGeom prst="ellipse">
              <a:avLst/>
            </a:prstGeom>
            <a:solidFill>
              <a:srgbClr val="aba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500960" y="5381640"/>
              <a:ext cx="1033560" cy="444600"/>
            </a:xfrm>
            <a:prstGeom prst="ellipse">
              <a:avLst/>
            </a:prstGeom>
            <a:solidFill>
              <a:srgbClr val="aba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205760" y="5070600"/>
              <a:ext cx="1033200" cy="444240"/>
            </a:xfrm>
            <a:prstGeom prst="ellipse">
              <a:avLst/>
            </a:prstGeom>
            <a:solidFill>
              <a:srgbClr val="aba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581880" y="4889520"/>
              <a:ext cx="1033200" cy="444600"/>
            </a:xfrm>
            <a:prstGeom prst="ellipse">
              <a:avLst/>
            </a:prstGeom>
            <a:solidFill>
              <a:srgbClr val="aba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6460560" y="533304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19720" y="5288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5418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5548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19720" y="57452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19720" y="5678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5353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5613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9720" y="54831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152880" y="3365640"/>
            <a:ext cx="3382920" cy="126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19400" y="3251160"/>
            <a:ext cx="463068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41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eneric ISP Profile - Mediu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070080" y="2511360"/>
            <a:ext cx="2381400" cy="803520"/>
          </a:xfrm>
          <a:prstGeom prst="line">
            <a:avLst/>
          </a:prstGeom>
          <a:ln w="5724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368960" y="1987560"/>
            <a:ext cx="3006720" cy="1282680"/>
            <a:chOff x="4368960" y="1987560"/>
            <a:chExt cx="3006720" cy="1282680"/>
          </a:xfrm>
        </p:grpSpPr>
        <p:sp>
          <p:nvSpPr>
            <p:cNvPr id="183" name=""/>
            <p:cNvSpPr/>
            <p:nvPr/>
          </p:nvSpPr>
          <p:spPr>
            <a:xfrm>
              <a:off x="4368960" y="2314440"/>
              <a:ext cx="1033200" cy="444600"/>
            </a:xfrm>
            <a:prstGeom prst="ellipse">
              <a:avLst/>
            </a:prstGeom>
            <a:solidFill>
              <a:srgbClr val="aba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21240" y="2467080"/>
              <a:ext cx="1033560" cy="444240"/>
            </a:xfrm>
            <a:prstGeom prst="ellipse">
              <a:avLst/>
            </a:prstGeom>
            <a:solidFill>
              <a:srgbClr val="aba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722840" y="2109960"/>
              <a:ext cx="1033560" cy="444240"/>
            </a:xfrm>
            <a:prstGeom prst="ellipse">
              <a:avLst/>
            </a:prstGeom>
            <a:solidFill>
              <a:srgbClr val="aba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673520" y="2619360"/>
              <a:ext cx="1033560" cy="444600"/>
            </a:xfrm>
            <a:prstGeom prst="ellipse">
              <a:avLst/>
            </a:prstGeom>
            <a:solidFill>
              <a:srgbClr val="aba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06800" y="2525760"/>
              <a:ext cx="1033560" cy="444600"/>
            </a:xfrm>
            <a:prstGeom prst="ellipse">
              <a:avLst/>
            </a:prstGeom>
            <a:solidFill>
              <a:srgbClr val="aba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26160" y="2771640"/>
              <a:ext cx="1033200" cy="444600"/>
            </a:xfrm>
            <a:prstGeom prst="ellipse">
              <a:avLst/>
            </a:prstGeom>
            <a:solidFill>
              <a:srgbClr val="aba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21240" y="2151000"/>
              <a:ext cx="1033560" cy="444600"/>
            </a:xfrm>
            <a:prstGeom prst="ellipse">
              <a:avLst/>
            </a:prstGeom>
            <a:solidFill>
              <a:srgbClr val="aba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56080" y="2284560"/>
              <a:ext cx="1033560" cy="444240"/>
            </a:xfrm>
            <a:prstGeom prst="ellipse">
              <a:avLst/>
            </a:prstGeom>
            <a:solidFill>
              <a:srgbClr val="aba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437080" y="2546280"/>
              <a:ext cx="1033560" cy="444600"/>
            </a:xfrm>
            <a:prstGeom prst="ellipse">
              <a:avLst/>
            </a:prstGeom>
            <a:solidFill>
              <a:srgbClr val="aba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40240" y="2825640"/>
              <a:ext cx="1033560" cy="444600"/>
            </a:xfrm>
            <a:prstGeom prst="ellipse">
              <a:avLst/>
            </a:prstGeom>
            <a:solidFill>
              <a:srgbClr val="aba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15160" y="2662200"/>
              <a:ext cx="1033200" cy="444600"/>
            </a:xfrm>
            <a:prstGeom prst="ellipse">
              <a:avLst/>
            </a:prstGeom>
            <a:solidFill>
              <a:srgbClr val="aba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16520" y="2300400"/>
              <a:ext cx="1033560" cy="444240"/>
            </a:xfrm>
            <a:prstGeom prst="ellipse">
              <a:avLst/>
            </a:prstGeom>
            <a:solidFill>
              <a:srgbClr val="aba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42120" y="2479680"/>
              <a:ext cx="1033560" cy="444600"/>
            </a:xfrm>
            <a:prstGeom prst="ellipse">
              <a:avLst/>
            </a:prstGeom>
            <a:solidFill>
              <a:srgbClr val="aba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46920" y="2168640"/>
              <a:ext cx="1033200" cy="444240"/>
            </a:xfrm>
            <a:prstGeom prst="ellipse">
              <a:avLst/>
            </a:prstGeom>
            <a:solidFill>
              <a:srgbClr val="aba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23040" y="1987560"/>
              <a:ext cx="1033200" cy="444600"/>
            </a:xfrm>
            <a:prstGeom prst="ellipse">
              <a:avLst/>
            </a:prstGeom>
            <a:solidFill>
              <a:srgbClr val="aba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4795560" y="2381760"/>
            <a:ext cx="20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stream 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11120" y="3052800"/>
            <a:ext cx="4997520" cy="3322440"/>
            <a:chOff x="411120" y="3052800"/>
            <a:chExt cx="4997520" cy="3322440"/>
          </a:xfrm>
        </p:grpSpPr>
        <p:sp>
          <p:nvSpPr>
            <p:cNvPr id="200" name=""/>
            <p:cNvSpPr/>
            <p:nvPr/>
          </p:nvSpPr>
          <p:spPr>
            <a:xfrm>
              <a:off x="3021120" y="3530520"/>
              <a:ext cx="0" cy="1379520"/>
            </a:xfrm>
            <a:prstGeom prst="line">
              <a:avLst/>
            </a:prstGeom>
            <a:ln w="12600">
              <a:solidFill>
                <a:srgbClr val="a7a7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19360" y="4556160"/>
              <a:ext cx="0" cy="338040"/>
            </a:xfrm>
            <a:prstGeom prst="line">
              <a:avLst/>
            </a:prstGeom>
            <a:ln w="38160">
              <a:solidFill>
                <a:srgbClr val="a7a7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138480" y="4896000"/>
              <a:ext cx="0" cy="338040"/>
            </a:xfrm>
            <a:prstGeom prst="line">
              <a:avLst/>
            </a:prstGeom>
            <a:ln w="38160">
              <a:solidFill>
                <a:srgbClr val="a7a7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11120" y="3946680"/>
              <a:ext cx="2200320" cy="657000"/>
            </a:xfrm>
            <a:prstGeom prst="rect">
              <a:avLst/>
            </a:prstGeom>
            <a:solidFill>
              <a:srgbClr val="76d31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il 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700360" y="5361120"/>
              <a:ext cx="1576440" cy="6080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862360" y="5481720"/>
              <a:ext cx="0" cy="35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09960" y="5481720"/>
              <a:ext cx="0" cy="35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162240" y="5481720"/>
              <a:ext cx="0" cy="35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314880" y="5481720"/>
              <a:ext cx="0" cy="35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67160" y="5481720"/>
              <a:ext cx="0" cy="35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19440" y="5481720"/>
              <a:ext cx="0" cy="35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772080" y="5481720"/>
              <a:ext cx="0" cy="35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924360" y="5481720"/>
              <a:ext cx="0" cy="35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076640" y="5481720"/>
              <a:ext cx="0" cy="35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47880" y="5472000"/>
              <a:ext cx="1486080" cy="376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509200" y="591552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dem Ba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58880" y="4896000"/>
              <a:ext cx="3005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516560" y="4560840"/>
              <a:ext cx="0" cy="338040"/>
            </a:xfrm>
            <a:prstGeom prst="line">
              <a:avLst/>
            </a:prstGeom>
            <a:ln w="38160">
              <a:solidFill>
                <a:srgbClr val="a7a7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208320" y="3951360"/>
              <a:ext cx="2200320" cy="657000"/>
            </a:xfrm>
            <a:prstGeom prst="rect">
              <a:avLst/>
            </a:prstGeom>
            <a:solidFill>
              <a:srgbClr val="2b23c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eb Prox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2787480" y="3052800"/>
              <a:ext cx="614520" cy="537840"/>
              <a:chOff x="2787480" y="3052800"/>
              <a:chExt cx="614520" cy="537840"/>
            </a:xfrm>
          </p:grpSpPr>
          <p:sp>
            <p:nvSpPr>
              <p:cNvPr id="220" name=""/>
              <p:cNvSpPr/>
              <p:nvPr/>
            </p:nvSpPr>
            <p:spPr>
              <a:xfrm>
                <a:off x="2796480" y="3208680"/>
                <a:ext cx="603720" cy="381960"/>
              </a:xfrm>
              <a:prstGeom prst="ellipse">
                <a:avLst/>
              </a:prstGeom>
              <a:gradFill rotWithShape="0">
                <a:gsLst>
                  <a:gs pos="0">
                    <a:srgbClr val="008d00"/>
                  </a:gs>
                  <a:gs pos="50000">
                    <a:srgbClr val="00cc00"/>
                  </a:gs>
                  <a:gs pos="100000">
                    <a:srgbClr val="008d0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787480" y="3255480"/>
                <a:ext cx="614520" cy="147240"/>
              </a:xfrm>
              <a:prstGeom prst="rect">
                <a:avLst/>
              </a:prstGeom>
              <a:gradFill rotWithShape="0">
                <a:gsLst>
                  <a:gs pos="0">
                    <a:srgbClr val="008d00"/>
                  </a:gs>
                  <a:gs pos="50000">
                    <a:srgbClr val="00cc00"/>
                  </a:gs>
                  <a:gs pos="100000">
                    <a:srgbClr val="008d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796480" y="3052800"/>
                <a:ext cx="603720" cy="3834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801520" y="3138120"/>
                <a:ext cx="258120" cy="187920"/>
              </a:xfrm>
              <a:custGeom>
                <a:avLst/>
                <a:gdLst/>
                <a:ahLst/>
                <a:rect l="l" t="t" r="r" b="b"/>
                <a:pathLst>
                  <a:path w="328" h="176">
                    <a:moveTo>
                      <a:pt x="8" y="48"/>
                    </a:moveTo>
                    <a:lnTo>
                      <a:pt x="208" y="48"/>
                    </a:lnTo>
                    <a:lnTo>
                      <a:pt x="216" y="0"/>
                    </a:lnTo>
                    <a:lnTo>
                      <a:pt x="327" y="88"/>
                    </a:lnTo>
                    <a:lnTo>
                      <a:pt x="192" y="175"/>
                    </a:lnTo>
                    <a:lnTo>
                      <a:pt x="192" y="135"/>
                    </a:lnTo>
                    <a:lnTo>
                      <a:pt x="0" y="135"/>
                    </a:lnTo>
                    <a:lnTo>
                      <a:pt x="0" y="88"/>
                    </a:lnTo>
                    <a:lnTo>
                      <a:pt x="8" y="4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130200" y="3144600"/>
                <a:ext cx="258120" cy="187920"/>
              </a:xfrm>
              <a:custGeom>
                <a:avLst/>
                <a:gdLst/>
                <a:ahLst/>
                <a:rect l="l" t="t" r="r" b="b"/>
                <a:pathLst>
                  <a:path w="328" h="176">
                    <a:moveTo>
                      <a:pt x="312" y="48"/>
                    </a:moveTo>
                    <a:lnTo>
                      <a:pt x="120" y="48"/>
                    </a:lnTo>
                    <a:lnTo>
                      <a:pt x="112" y="0"/>
                    </a:lnTo>
                    <a:lnTo>
                      <a:pt x="0" y="88"/>
                    </a:lnTo>
                    <a:lnTo>
                      <a:pt x="136" y="175"/>
                    </a:lnTo>
                    <a:lnTo>
                      <a:pt x="128" y="127"/>
                    </a:lnTo>
                    <a:lnTo>
                      <a:pt x="327" y="127"/>
                    </a:lnTo>
                    <a:lnTo>
                      <a:pt x="312" y="40"/>
                    </a:lnTo>
                    <a:lnTo>
                      <a:pt x="312" y="4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010320" y="3266280"/>
                <a:ext cx="183600" cy="154800"/>
              </a:xfrm>
              <a:custGeom>
                <a:avLst/>
                <a:gdLst/>
                <a:ahLst/>
                <a:rect l="l" t="t" r="r" b="b"/>
                <a:pathLst>
                  <a:path w="233" h="145">
                    <a:moveTo>
                      <a:pt x="80" y="0"/>
                    </a:moveTo>
                    <a:lnTo>
                      <a:pt x="80" y="72"/>
                    </a:lnTo>
                    <a:lnTo>
                      <a:pt x="0" y="72"/>
                    </a:lnTo>
                    <a:lnTo>
                      <a:pt x="112" y="144"/>
                    </a:lnTo>
                    <a:lnTo>
                      <a:pt x="232" y="72"/>
                    </a:lnTo>
                    <a:lnTo>
                      <a:pt x="152" y="72"/>
                    </a:lnTo>
                    <a:lnTo>
                      <a:pt x="152" y="0"/>
                    </a:lnTo>
                    <a:lnTo>
                      <a:pt x="120" y="0"/>
                    </a:lnTo>
                    <a:lnTo>
                      <a:pt x="8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010320" y="3057840"/>
                <a:ext cx="183600" cy="163440"/>
              </a:xfrm>
              <a:custGeom>
                <a:avLst/>
                <a:gdLst/>
                <a:ahLst/>
                <a:rect l="l" t="t" r="r" b="b"/>
                <a:pathLst>
                  <a:path w="233" h="153">
                    <a:moveTo>
                      <a:pt x="152" y="152"/>
                    </a:moveTo>
                    <a:lnTo>
                      <a:pt x="152" y="72"/>
                    </a:lnTo>
                    <a:lnTo>
                      <a:pt x="232" y="72"/>
                    </a:lnTo>
                    <a:lnTo>
                      <a:pt x="112" y="0"/>
                    </a:lnTo>
                    <a:lnTo>
                      <a:pt x="0" y="72"/>
                    </a:lnTo>
                    <a:lnTo>
                      <a:pt x="72" y="72"/>
                    </a:lnTo>
                    <a:lnTo>
                      <a:pt x="72" y="152"/>
                    </a:lnTo>
                    <a:lnTo>
                      <a:pt x="112" y="152"/>
                    </a:lnTo>
                    <a:lnTo>
                      <a:pt x="152" y="15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7" name=""/>
          <p:cNvSpPr/>
          <p:nvPr/>
        </p:nvSpPr>
        <p:spPr>
          <a:xfrm>
            <a:off x="7775640" y="3471840"/>
            <a:ext cx="0" cy="630360"/>
          </a:xfrm>
          <a:prstGeom prst="line">
            <a:avLst/>
          </a:prstGeom>
          <a:ln w="1260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827840" y="4095720"/>
            <a:ext cx="0" cy="155520"/>
          </a:xfrm>
          <a:prstGeom prst="line">
            <a:avLst/>
          </a:prstGeom>
          <a:ln w="3816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34160" y="4308480"/>
            <a:ext cx="695520" cy="27792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705800" y="4363920"/>
            <a:ext cx="0" cy="16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770960" y="4363920"/>
            <a:ext cx="0" cy="16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837560" y="4363920"/>
            <a:ext cx="0" cy="16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905600" y="4363920"/>
            <a:ext cx="0" cy="16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972560" y="4363920"/>
            <a:ext cx="0" cy="16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039160" y="4363920"/>
            <a:ext cx="0" cy="16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107200" y="4363920"/>
            <a:ext cx="0" cy="16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174160" y="4363920"/>
            <a:ext cx="0" cy="16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242200" y="4363920"/>
            <a:ext cx="0" cy="16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55040" y="4359240"/>
            <a:ext cx="655560" cy="17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446240" y="452844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m B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50000" y="4095720"/>
            <a:ext cx="851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435880" y="3943440"/>
            <a:ext cx="0" cy="153720"/>
          </a:xfrm>
          <a:prstGeom prst="line">
            <a:avLst/>
          </a:prstGeom>
          <a:ln w="3816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8080" y="3665520"/>
            <a:ext cx="971640" cy="299880"/>
          </a:xfrm>
          <a:prstGeom prst="rect">
            <a:avLst/>
          </a:prstGeom>
          <a:solidFill>
            <a:srgbClr val="2b23c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7672320" y="3254400"/>
            <a:ext cx="271440" cy="245880"/>
            <a:chOff x="7672320" y="3254400"/>
            <a:chExt cx="271440" cy="245880"/>
          </a:xfrm>
        </p:grpSpPr>
        <p:sp>
          <p:nvSpPr>
            <p:cNvPr id="245" name=""/>
            <p:cNvSpPr/>
            <p:nvPr/>
          </p:nvSpPr>
          <p:spPr>
            <a:xfrm>
              <a:off x="7676280" y="3325680"/>
              <a:ext cx="266760" cy="174600"/>
            </a:xfrm>
            <a:prstGeom prst="ellipse">
              <a:avLst/>
            </a:prstGeom>
            <a:gradFill rotWithShape="0">
              <a:gsLst>
                <a:gs pos="0">
                  <a:srgbClr val="008d00"/>
                </a:gs>
                <a:gs pos="50000">
                  <a:srgbClr val="00cc00"/>
                </a:gs>
                <a:gs pos="100000">
                  <a:srgbClr val="008d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72320" y="3346920"/>
              <a:ext cx="271440" cy="67320"/>
            </a:xfrm>
            <a:prstGeom prst="rect">
              <a:avLst/>
            </a:prstGeom>
            <a:gradFill rotWithShape="0">
              <a:gsLst>
                <a:gs pos="0">
                  <a:srgbClr val="008d00"/>
                </a:gs>
                <a:gs pos="50000">
                  <a:srgbClr val="00cc00"/>
                </a:gs>
                <a:gs pos="100000">
                  <a:srgbClr val="008d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76280" y="3254400"/>
              <a:ext cx="266760" cy="175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78440" y="3293280"/>
              <a:ext cx="114120" cy="8568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8" y="48"/>
                  </a:moveTo>
                  <a:lnTo>
                    <a:pt x="208" y="48"/>
                  </a:lnTo>
                  <a:lnTo>
                    <a:pt x="216" y="0"/>
                  </a:lnTo>
                  <a:lnTo>
                    <a:pt x="327" y="88"/>
                  </a:lnTo>
                  <a:lnTo>
                    <a:pt x="192" y="175"/>
                  </a:lnTo>
                  <a:lnTo>
                    <a:pt x="192" y="135"/>
                  </a:lnTo>
                  <a:lnTo>
                    <a:pt x="0" y="135"/>
                  </a:lnTo>
                  <a:lnTo>
                    <a:pt x="0" y="88"/>
                  </a:lnTo>
                  <a:lnTo>
                    <a:pt x="8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823520" y="3296160"/>
              <a:ext cx="114120" cy="8568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312" y="48"/>
                  </a:moveTo>
                  <a:lnTo>
                    <a:pt x="120" y="48"/>
                  </a:lnTo>
                  <a:lnTo>
                    <a:pt x="112" y="0"/>
                  </a:lnTo>
                  <a:lnTo>
                    <a:pt x="0" y="88"/>
                  </a:lnTo>
                  <a:lnTo>
                    <a:pt x="136" y="175"/>
                  </a:lnTo>
                  <a:lnTo>
                    <a:pt x="128" y="127"/>
                  </a:lnTo>
                  <a:lnTo>
                    <a:pt x="327" y="127"/>
                  </a:lnTo>
                  <a:lnTo>
                    <a:pt x="312" y="40"/>
                  </a:lnTo>
                  <a:lnTo>
                    <a:pt x="312" y="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770600" y="3351960"/>
              <a:ext cx="81000" cy="70560"/>
            </a:xfrm>
            <a:custGeom>
              <a:avLst/>
              <a:gdLst/>
              <a:ahLst/>
              <a:rect l="l" t="t" r="r" b="b"/>
              <a:pathLst>
                <a:path w="233" h="145">
                  <a:moveTo>
                    <a:pt x="80" y="0"/>
                  </a:moveTo>
                  <a:lnTo>
                    <a:pt x="80" y="72"/>
                  </a:lnTo>
                  <a:lnTo>
                    <a:pt x="0" y="72"/>
                  </a:lnTo>
                  <a:lnTo>
                    <a:pt x="112" y="144"/>
                  </a:lnTo>
                  <a:lnTo>
                    <a:pt x="232" y="72"/>
                  </a:lnTo>
                  <a:lnTo>
                    <a:pt x="152" y="72"/>
                  </a:lnTo>
                  <a:lnTo>
                    <a:pt x="152" y="0"/>
                  </a:lnTo>
                  <a:lnTo>
                    <a:pt x="120" y="0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770600" y="3256560"/>
              <a:ext cx="81000" cy="74520"/>
            </a:xfrm>
            <a:custGeom>
              <a:avLst/>
              <a:gdLst/>
              <a:ahLst/>
              <a:rect l="l" t="t" r="r" b="b"/>
              <a:pathLst>
                <a:path w="233" h="153">
                  <a:moveTo>
                    <a:pt x="152" y="152"/>
                  </a:moveTo>
                  <a:lnTo>
                    <a:pt x="152" y="72"/>
                  </a:lnTo>
                  <a:lnTo>
                    <a:pt x="232" y="72"/>
                  </a:lnTo>
                  <a:lnTo>
                    <a:pt x="112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152"/>
                  </a:lnTo>
                  <a:lnTo>
                    <a:pt x="112" y="152"/>
                  </a:lnTo>
                  <a:lnTo>
                    <a:pt x="152" y="15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6516720" y="4773600"/>
            <a:ext cx="0" cy="630360"/>
          </a:xfrm>
          <a:prstGeom prst="line">
            <a:avLst/>
          </a:prstGeom>
          <a:ln w="1260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568920" y="5397480"/>
            <a:ext cx="0" cy="155520"/>
          </a:xfrm>
          <a:prstGeom prst="line">
            <a:avLst/>
          </a:prstGeom>
          <a:ln w="3816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375240" y="5610240"/>
            <a:ext cx="695520" cy="27792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46880" y="5665680"/>
            <a:ext cx="0" cy="16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12040" y="5665680"/>
            <a:ext cx="0" cy="16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78640" y="5665680"/>
            <a:ext cx="0" cy="16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47040" y="5665680"/>
            <a:ext cx="0" cy="16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713640" y="5665680"/>
            <a:ext cx="0" cy="16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780240" y="5665680"/>
            <a:ext cx="0" cy="16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48640" y="5665680"/>
            <a:ext cx="0" cy="16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915240" y="5665680"/>
            <a:ext cx="0" cy="16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983280" y="5665680"/>
            <a:ext cx="0" cy="16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396120" y="5661000"/>
            <a:ext cx="655560" cy="17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391440" y="5397480"/>
            <a:ext cx="850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176960" y="5245200"/>
            <a:ext cx="0" cy="153720"/>
          </a:xfrm>
          <a:prstGeom prst="line">
            <a:avLst/>
          </a:prstGeom>
          <a:ln w="3816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599160" y="4967280"/>
            <a:ext cx="971640" cy="299880"/>
          </a:xfrm>
          <a:prstGeom prst="rect">
            <a:avLst/>
          </a:prstGeom>
          <a:solidFill>
            <a:srgbClr val="2b23c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413400" y="4556160"/>
            <a:ext cx="271440" cy="245880"/>
            <a:chOff x="6413400" y="4556160"/>
            <a:chExt cx="271440" cy="245880"/>
          </a:xfrm>
        </p:grpSpPr>
        <p:sp>
          <p:nvSpPr>
            <p:cNvPr id="269" name=""/>
            <p:cNvSpPr/>
            <p:nvPr/>
          </p:nvSpPr>
          <p:spPr>
            <a:xfrm>
              <a:off x="6417360" y="4627440"/>
              <a:ext cx="266760" cy="174600"/>
            </a:xfrm>
            <a:prstGeom prst="ellipse">
              <a:avLst/>
            </a:prstGeom>
            <a:gradFill rotWithShape="0">
              <a:gsLst>
                <a:gs pos="0">
                  <a:srgbClr val="008d00"/>
                </a:gs>
                <a:gs pos="50000">
                  <a:srgbClr val="00cc00"/>
                </a:gs>
                <a:gs pos="100000">
                  <a:srgbClr val="008d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413400" y="4648680"/>
              <a:ext cx="271440" cy="67320"/>
            </a:xfrm>
            <a:prstGeom prst="rect">
              <a:avLst/>
            </a:prstGeom>
            <a:gradFill rotWithShape="0">
              <a:gsLst>
                <a:gs pos="0">
                  <a:srgbClr val="008d00"/>
                </a:gs>
                <a:gs pos="50000">
                  <a:srgbClr val="00cc00"/>
                </a:gs>
                <a:gs pos="100000">
                  <a:srgbClr val="008d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17360" y="4556160"/>
              <a:ext cx="266760" cy="175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419520" y="4595040"/>
              <a:ext cx="114120" cy="8568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8" y="48"/>
                  </a:moveTo>
                  <a:lnTo>
                    <a:pt x="208" y="48"/>
                  </a:lnTo>
                  <a:lnTo>
                    <a:pt x="216" y="0"/>
                  </a:lnTo>
                  <a:lnTo>
                    <a:pt x="327" y="88"/>
                  </a:lnTo>
                  <a:lnTo>
                    <a:pt x="192" y="175"/>
                  </a:lnTo>
                  <a:lnTo>
                    <a:pt x="192" y="135"/>
                  </a:lnTo>
                  <a:lnTo>
                    <a:pt x="0" y="135"/>
                  </a:lnTo>
                  <a:lnTo>
                    <a:pt x="0" y="88"/>
                  </a:lnTo>
                  <a:lnTo>
                    <a:pt x="8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564600" y="4597920"/>
              <a:ext cx="114120" cy="8568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312" y="48"/>
                  </a:moveTo>
                  <a:lnTo>
                    <a:pt x="120" y="48"/>
                  </a:lnTo>
                  <a:lnTo>
                    <a:pt x="112" y="0"/>
                  </a:lnTo>
                  <a:lnTo>
                    <a:pt x="0" y="88"/>
                  </a:lnTo>
                  <a:lnTo>
                    <a:pt x="136" y="175"/>
                  </a:lnTo>
                  <a:lnTo>
                    <a:pt x="128" y="127"/>
                  </a:lnTo>
                  <a:lnTo>
                    <a:pt x="327" y="127"/>
                  </a:lnTo>
                  <a:lnTo>
                    <a:pt x="312" y="40"/>
                  </a:lnTo>
                  <a:lnTo>
                    <a:pt x="312" y="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11680" y="4653720"/>
              <a:ext cx="81000" cy="70560"/>
            </a:xfrm>
            <a:custGeom>
              <a:avLst/>
              <a:gdLst/>
              <a:ahLst/>
              <a:rect l="l" t="t" r="r" b="b"/>
              <a:pathLst>
                <a:path w="233" h="145">
                  <a:moveTo>
                    <a:pt x="80" y="0"/>
                  </a:moveTo>
                  <a:lnTo>
                    <a:pt x="80" y="72"/>
                  </a:lnTo>
                  <a:lnTo>
                    <a:pt x="0" y="72"/>
                  </a:lnTo>
                  <a:lnTo>
                    <a:pt x="112" y="144"/>
                  </a:lnTo>
                  <a:lnTo>
                    <a:pt x="232" y="72"/>
                  </a:lnTo>
                  <a:lnTo>
                    <a:pt x="152" y="72"/>
                  </a:lnTo>
                  <a:lnTo>
                    <a:pt x="152" y="0"/>
                  </a:lnTo>
                  <a:lnTo>
                    <a:pt x="120" y="0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511680" y="4558320"/>
              <a:ext cx="81000" cy="74520"/>
            </a:xfrm>
            <a:custGeom>
              <a:avLst/>
              <a:gdLst/>
              <a:ahLst/>
              <a:rect l="l" t="t" r="r" b="b"/>
              <a:pathLst>
                <a:path w="233" h="153">
                  <a:moveTo>
                    <a:pt x="152" y="152"/>
                  </a:moveTo>
                  <a:lnTo>
                    <a:pt x="152" y="72"/>
                  </a:lnTo>
                  <a:lnTo>
                    <a:pt x="232" y="72"/>
                  </a:lnTo>
                  <a:lnTo>
                    <a:pt x="112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152"/>
                  </a:lnTo>
                  <a:lnTo>
                    <a:pt x="112" y="152"/>
                  </a:lnTo>
                  <a:lnTo>
                    <a:pt x="152" y="15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4T20:29:01Z</dcterms:created>
  <dc:creator>gih</dc:creator>
  <dc:description/>
  <dc:language>en-US</dc:language>
  <cp:lastModifiedBy>g</cp:lastModifiedBy>
  <dcterms:modified xsi:type="dcterms:W3CDTF">2002-12-03T18:39:24Z</dcterms:modified>
  <cp:revision>20</cp:revision>
  <dc:subject/>
  <dc:title>The ISP Industry and the Telc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www.telstra.net/gih</vt:lpwstr>
  </property>
  <property fmtid="{D5CDD505-2E9C-101B-9397-08002B2CF9AE}" pid="9" name="LinkColor">
    <vt:r8>16711782</vt:r8>
  </property>
  <property fmtid="{D5CDD505-2E9C-101B-9397-08002B2CF9AE}" pid="10" name="MailAddress">
    <vt:lpwstr>gih@telstra.net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D:\my documents\isocwk99\t4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