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902825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812-FE86-480F-8F69-BADA2F03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C33-D31B-4736-82E1-4401420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B69-F0D6-4D03-AE59-8BD8EC32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7C6-8B27-4CF6-886C-6E8AF41B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97D-D4A7-4DF2-91EA-E89C524A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6DD7-737A-4016-995D-2FEC120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8235-B37F-4352-86BB-7EA48A5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300-FDB9-4AEC-AD25-F247CD69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7142-2B4E-413B-A896-910FC75F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911-CDEA-43D9-88DB-4831D19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85A9-A96E-4793-B752-9A0D5CD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7F8-0095-4012-A0D5-08737DA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3087-A8F8-4AE5-B183-2B7801D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60A7-3A3E-449E-8C7F-BC7626E7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01A0-500F-450E-A0CB-C73CA0E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F428-9834-442D-94AE-29AF6EE1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1E5-B883-47B8-9274-DA6ADCDF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81E-C893-4350-AB6D-909FF79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4F9-BAFE-4F88-9B56-BCFF182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DC7-27FE-48BD-A64D-1F51269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3D4-A843-40FD-B3DD-CE254858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EE7-A377-4BB8-A130-98E8051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A3C-ADA5-4D4F-8AB0-1D1946C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B36-9E15-45DD-B1E0-7637E51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2520" y="1098720"/>
            <a:ext cx="474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6880" y="1098720"/>
            <a:ext cx="355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5720" y="1521000"/>
            <a:ext cx="45720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7480" y="1521000"/>
            <a:ext cx="3985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8240" y="1447920"/>
            <a:ext cx="60624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5480" y="990720"/>
            <a:ext cx="334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9520" y="1781280"/>
            <a:ext cx="89089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0600" y="63244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544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67C-11C7-4215-8BE8-6DC49A809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756360" cy="1052640"/>
            <a:chOff x="0" y="2438280"/>
            <a:chExt cx="975636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14280" y="2546280"/>
              <a:ext cx="770040" cy="474840"/>
              <a:chOff x="314280" y="2546280"/>
              <a:chExt cx="7700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14280" y="254628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29000" y="254628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560" y="2968560"/>
              <a:ext cx="798840" cy="474840"/>
              <a:chOff x="448560" y="2968560"/>
              <a:chExt cx="7988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48560" y="296856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7800" y="296856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7600" y="243828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000" y="3260520"/>
              <a:ext cx="941436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3160" y="18284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731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71304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42788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EF89-6507-404F-877C-470CB8CEC3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mailto:hostmaster@apnic.net" TargetMode="Externa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isoc.org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-8407800" y="1460880"/>
            <a:ext cx="18310680" cy="10793880"/>
            <a:chOff x="-8407800" y="1460880"/>
            <a:chExt cx="18310680" cy="10793880"/>
          </a:xfrm>
        </p:grpSpPr>
        <p:sp>
          <p:nvSpPr>
            <p:cNvPr id="100" name=""/>
            <p:cNvSpPr/>
            <p:nvPr/>
          </p:nvSpPr>
          <p:spPr>
            <a:xfrm>
              <a:off x="3543480" y="2709720"/>
              <a:ext cx="6359400" cy="4148280"/>
            </a:xfrm>
            <a:custGeom>
              <a:avLst/>
              <a:gdLst/>
              <a:ahLst/>
              <a:rect l="l" t="t" r="r" b="b"/>
              <a:pathLst>
                <a:path w="4006" h="2613">
                  <a:moveTo>
                    <a:pt x="1650" y="2611"/>
                  </a:moveTo>
                  <a:lnTo>
                    <a:pt x="4005" y="2612"/>
                  </a:lnTo>
                  <a:lnTo>
                    <a:pt x="4005" y="2228"/>
                  </a:lnTo>
                  <a:lnTo>
                    <a:pt x="0" y="0"/>
                  </a:lnTo>
                  <a:lnTo>
                    <a:pt x="174" y="118"/>
                  </a:lnTo>
                  <a:lnTo>
                    <a:pt x="317" y="219"/>
                  </a:lnTo>
                  <a:lnTo>
                    <a:pt x="478" y="347"/>
                  </a:lnTo>
                  <a:lnTo>
                    <a:pt x="634" y="482"/>
                  </a:lnTo>
                  <a:lnTo>
                    <a:pt x="862" y="711"/>
                  </a:lnTo>
                  <a:lnTo>
                    <a:pt x="1065" y="955"/>
                  </a:lnTo>
                  <a:lnTo>
                    <a:pt x="1212" y="1168"/>
                  </a:lnTo>
                  <a:lnTo>
                    <a:pt x="1341" y="1388"/>
                  </a:lnTo>
                  <a:lnTo>
                    <a:pt x="1442" y="1608"/>
                  </a:lnTo>
                  <a:lnTo>
                    <a:pt x="1516" y="1809"/>
                  </a:lnTo>
                  <a:lnTo>
                    <a:pt x="1567" y="1979"/>
                  </a:lnTo>
                  <a:lnTo>
                    <a:pt x="1613" y="2190"/>
                  </a:lnTo>
                  <a:lnTo>
                    <a:pt x="1637" y="2374"/>
                  </a:lnTo>
                  <a:lnTo>
                    <a:pt x="1650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-8407800" y="1460880"/>
              <a:ext cx="14570280" cy="107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87" y="133"/>
                  </a:moveTo>
                  <a:arcTo wR="10800" hR="10800" stAng="-4860728" swAng="4860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87" y="133"/>
                  </a:moveTo>
                  <a:arcTo wR="10800" hR="10800" stAng="-4860728" swAng="4860728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28240" y="48006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Conr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c@isc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Software Consort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685800"/>
            <a:ext cx="8153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ructure of the Internet</a:t>
            </a:r>
            <a:endParaRPr b="0" lang="en-US" sz="4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hange Points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88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exchange points become Internet focal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 exchanges exist 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:  MAE-East, MAE-West, the NAP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urope: The D-GIX points, LINX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 and Pacific Rim: HKIX, NZIX, JPIX,  NSPIXP-2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, exchanges spontaneously generate where there is a high concentration of I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 way to keep local traffic 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ISPs may not want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ISPs may not want to 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Xes encourage smaller ISPs to want to “peer” with large I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8123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Structure of the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95280" y="1793880"/>
            <a:ext cx="7912080" cy="4912920"/>
            <a:chOff x="1295280" y="1793880"/>
            <a:chExt cx="7912080" cy="4912920"/>
          </a:xfrm>
        </p:grpSpPr>
        <p:sp>
          <p:nvSpPr>
            <p:cNvPr id="128" name=""/>
            <p:cNvSpPr/>
            <p:nvPr/>
          </p:nvSpPr>
          <p:spPr>
            <a:xfrm flipV="1">
              <a:off x="4548240" y="4383000"/>
              <a:ext cx="3720240" cy="71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15160" y="2934000"/>
              <a:ext cx="824760" cy="20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3800" y="5842800"/>
              <a:ext cx="1812240" cy="280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74240" y="4537080"/>
              <a:ext cx="572760" cy="120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6200" y="5465520"/>
              <a:ext cx="648360" cy="66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3920" y="5346000"/>
              <a:ext cx="708480" cy="3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89840" y="5429520"/>
              <a:ext cx="36720" cy="65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32360" y="2491920"/>
              <a:ext cx="36720" cy="65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88240" y="2114640"/>
              <a:ext cx="73440" cy="78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257280" y="2588760"/>
              <a:ext cx="55116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47880" y="2220480"/>
              <a:ext cx="1080" cy="71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9360" y="2372760"/>
              <a:ext cx="440280" cy="49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881360" y="5972760"/>
              <a:ext cx="304920" cy="49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648440" y="3123360"/>
              <a:ext cx="46080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9720" y="3374280"/>
              <a:ext cx="1080" cy="239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09880" y="5161680"/>
              <a:ext cx="1169640" cy="60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4880" y="5011560"/>
              <a:ext cx="201708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2200" y="3010320"/>
              <a:ext cx="46800" cy="226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49400" y="2319120"/>
              <a:ext cx="894240" cy="60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083320" y="3878280"/>
              <a:ext cx="870480" cy="40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1200" y="3805560"/>
              <a:ext cx="4546800" cy="45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62320" y="2792160"/>
              <a:ext cx="1697040" cy="129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118480" y="3172680"/>
              <a:ext cx="1905120" cy="297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9440" y="3081600"/>
              <a:ext cx="963360" cy="1205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68560" y="4486320"/>
              <a:ext cx="1651320" cy="495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0080" y="5218920"/>
              <a:ext cx="412200" cy="904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98280" y="3969720"/>
              <a:ext cx="572760" cy="10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587400" y="2885760"/>
              <a:ext cx="1352520" cy="79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615480" y="4856040"/>
              <a:ext cx="1185840" cy="463680"/>
              <a:chOff x="3615480" y="4856040"/>
              <a:chExt cx="1185840" cy="463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615480" y="4856040"/>
                <a:ext cx="109116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59040" y="4861440"/>
                <a:ext cx="1142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Big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736000" y="3165120"/>
              <a:ext cx="45828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51920" y="3166920"/>
              <a:ext cx="595080" cy="1098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030040" y="2857680"/>
              <a:ext cx="1364760" cy="525600"/>
              <a:chOff x="2030040" y="2857680"/>
              <a:chExt cx="1364760" cy="525600"/>
            </a:xfrm>
          </p:grpSpPr>
          <p:sp>
            <p:nvSpPr>
              <p:cNvPr id="162" name=""/>
              <p:cNvSpPr/>
              <p:nvPr/>
            </p:nvSpPr>
            <p:spPr>
              <a:xfrm>
                <a:off x="2057040" y="2857680"/>
                <a:ext cx="1274760" cy="50508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30040" y="2925000"/>
                <a:ext cx="1364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ittle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842600" y="1980360"/>
              <a:ext cx="1364760" cy="528480"/>
              <a:chOff x="7842600" y="1980360"/>
              <a:chExt cx="1364760" cy="528480"/>
            </a:xfrm>
          </p:grpSpPr>
          <p:sp>
            <p:nvSpPr>
              <p:cNvPr id="165" name=""/>
              <p:cNvSpPr/>
              <p:nvPr/>
            </p:nvSpPr>
            <p:spPr>
              <a:xfrm>
                <a:off x="7869600" y="1980360"/>
                <a:ext cx="1273680" cy="50472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42600" y="2050560"/>
                <a:ext cx="1364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ittle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535800" y="5011560"/>
              <a:ext cx="1364760" cy="528480"/>
              <a:chOff x="6535800" y="5011560"/>
              <a:chExt cx="1364760" cy="52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6562800" y="5011560"/>
                <a:ext cx="1273320" cy="50508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35800" y="5081760"/>
                <a:ext cx="1364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ittle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295280" y="1942920"/>
              <a:ext cx="804240" cy="463680"/>
              <a:chOff x="1295280" y="1942920"/>
              <a:chExt cx="804240" cy="46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1295280" y="1942920"/>
                <a:ext cx="74448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38480" y="194832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332080" y="1901160"/>
              <a:ext cx="804240" cy="466920"/>
              <a:chOff x="2332080" y="1901160"/>
              <a:chExt cx="804240" cy="466920"/>
            </a:xfrm>
          </p:grpSpPr>
          <p:sp>
            <p:nvSpPr>
              <p:cNvPr id="174" name=""/>
              <p:cNvSpPr/>
              <p:nvPr/>
            </p:nvSpPr>
            <p:spPr>
              <a:xfrm>
                <a:off x="2332080" y="190116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75280" y="19098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295280" y="3447360"/>
              <a:ext cx="804240" cy="466920"/>
              <a:chOff x="1295280" y="3447360"/>
              <a:chExt cx="804240" cy="466920"/>
            </a:xfrm>
          </p:grpSpPr>
          <p:sp>
            <p:nvSpPr>
              <p:cNvPr id="177" name=""/>
              <p:cNvSpPr/>
              <p:nvPr/>
            </p:nvSpPr>
            <p:spPr>
              <a:xfrm>
                <a:off x="1295280" y="3447360"/>
                <a:ext cx="74628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38480" y="34560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571560" y="2344320"/>
              <a:ext cx="804240" cy="464040"/>
              <a:chOff x="3571560" y="2344320"/>
              <a:chExt cx="804240" cy="464040"/>
            </a:xfrm>
          </p:grpSpPr>
          <p:sp>
            <p:nvSpPr>
              <p:cNvPr id="180" name=""/>
              <p:cNvSpPr/>
              <p:nvPr/>
            </p:nvSpPr>
            <p:spPr>
              <a:xfrm>
                <a:off x="3571560" y="234432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14760" y="235008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453360" y="1793880"/>
              <a:ext cx="804240" cy="463680"/>
              <a:chOff x="6453360" y="1793880"/>
              <a:chExt cx="804240" cy="46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6453360" y="179388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6560" y="179928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8162640" y="3056040"/>
              <a:ext cx="804240" cy="464040"/>
              <a:chOff x="8162640" y="3056040"/>
              <a:chExt cx="804240" cy="464040"/>
            </a:xfrm>
          </p:grpSpPr>
          <p:sp>
            <p:nvSpPr>
              <p:cNvPr id="186" name=""/>
              <p:cNvSpPr/>
              <p:nvPr/>
            </p:nvSpPr>
            <p:spPr>
              <a:xfrm>
                <a:off x="8162640" y="3056040"/>
                <a:ext cx="74448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05840" y="30618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8268840" y="5102640"/>
              <a:ext cx="805680" cy="464040"/>
              <a:chOff x="8268840" y="5102640"/>
              <a:chExt cx="805680" cy="464040"/>
            </a:xfrm>
          </p:grpSpPr>
          <p:sp>
            <p:nvSpPr>
              <p:cNvPr id="189" name=""/>
              <p:cNvSpPr/>
              <p:nvPr/>
            </p:nvSpPr>
            <p:spPr>
              <a:xfrm>
                <a:off x="8268840" y="510264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13480" y="51084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770160" y="6006960"/>
              <a:ext cx="804240" cy="464040"/>
              <a:chOff x="6770160" y="6006960"/>
              <a:chExt cx="804240" cy="464040"/>
            </a:xfrm>
          </p:grpSpPr>
          <p:sp>
            <p:nvSpPr>
              <p:cNvPr id="192" name=""/>
              <p:cNvSpPr/>
              <p:nvPr/>
            </p:nvSpPr>
            <p:spPr>
              <a:xfrm>
                <a:off x="6770160" y="600696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13360" y="601272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8024040" y="6015960"/>
              <a:ext cx="805680" cy="466560"/>
              <a:chOff x="8024040" y="6015960"/>
              <a:chExt cx="805680" cy="466560"/>
            </a:xfrm>
          </p:grpSpPr>
          <p:sp>
            <p:nvSpPr>
              <p:cNvPr id="195" name=""/>
              <p:cNvSpPr/>
              <p:nvPr/>
            </p:nvSpPr>
            <p:spPr>
              <a:xfrm>
                <a:off x="8024040" y="6015960"/>
                <a:ext cx="744840" cy="39744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68680" y="602424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295280" y="6241680"/>
              <a:ext cx="804240" cy="465120"/>
              <a:chOff x="1295280" y="6241680"/>
              <a:chExt cx="804240" cy="465120"/>
            </a:xfrm>
          </p:grpSpPr>
          <p:sp>
            <p:nvSpPr>
              <p:cNvPr id="198" name=""/>
              <p:cNvSpPr/>
              <p:nvPr/>
            </p:nvSpPr>
            <p:spPr>
              <a:xfrm>
                <a:off x="1295280" y="624168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8480" y="624852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737000" y="4069800"/>
              <a:ext cx="537480" cy="569880"/>
              <a:chOff x="1737000" y="4069800"/>
              <a:chExt cx="537480" cy="569880"/>
            </a:xfrm>
          </p:grpSpPr>
          <p:sp>
            <p:nvSpPr>
              <p:cNvPr id="201" name=""/>
              <p:cNvSpPr/>
              <p:nvPr/>
            </p:nvSpPr>
            <p:spPr>
              <a:xfrm>
                <a:off x="1737000" y="4069800"/>
                <a:ext cx="516240" cy="569880"/>
              </a:xfrm>
              <a:custGeom>
                <a:avLst/>
                <a:gdLst>
                  <a:gd name="textAreaLeft" fmla="*/ 117720 w 516240"/>
                  <a:gd name="textAreaRight" fmla="*/ 398520 w 516240"/>
                  <a:gd name="textAreaTop" fmla="*/ 129960 h 569880"/>
                  <a:gd name="textAreaBottom" fmla="*/ 439920 h 56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767960" y="4151160"/>
                <a:ext cx="506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725360" y="2529360"/>
              <a:ext cx="538560" cy="569880"/>
              <a:chOff x="4725360" y="2529360"/>
              <a:chExt cx="538560" cy="569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725360" y="2529360"/>
                <a:ext cx="514800" cy="569880"/>
              </a:xfrm>
              <a:custGeom>
                <a:avLst/>
                <a:gdLst>
                  <a:gd name="textAreaLeft" fmla="*/ 117360 w 514800"/>
                  <a:gd name="textAreaRight" fmla="*/ 397440 w 514800"/>
                  <a:gd name="textAreaTop" fmla="*/ 129960 h 569880"/>
                  <a:gd name="textAreaBottom" fmla="*/ 439920 h 56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57400" y="2608200"/>
                <a:ext cx="506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070120" y="3974040"/>
              <a:ext cx="536040" cy="570240"/>
              <a:chOff x="8070120" y="3974040"/>
              <a:chExt cx="536040" cy="570240"/>
            </a:xfrm>
          </p:grpSpPr>
          <p:sp>
            <p:nvSpPr>
              <p:cNvPr id="207" name=""/>
              <p:cNvSpPr/>
              <p:nvPr/>
            </p:nvSpPr>
            <p:spPr>
              <a:xfrm>
                <a:off x="8070120" y="3974040"/>
                <a:ext cx="514800" cy="570240"/>
              </a:xfrm>
              <a:custGeom>
                <a:avLst/>
                <a:gdLst>
                  <a:gd name="textAreaLeft" fmla="*/ 117360 w 514800"/>
                  <a:gd name="textAreaRight" fmla="*/ 397440 w 514800"/>
                  <a:gd name="textAreaTop" fmla="*/ 129960 h 570240"/>
                  <a:gd name="textAreaBottom" fmla="*/ 440280 h 57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99640" y="4054320"/>
                <a:ext cx="506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749840" y="5837040"/>
              <a:ext cx="536040" cy="569880"/>
              <a:chOff x="4749840" y="5837040"/>
              <a:chExt cx="536040" cy="569880"/>
            </a:xfrm>
          </p:grpSpPr>
          <p:sp>
            <p:nvSpPr>
              <p:cNvPr id="210" name=""/>
              <p:cNvSpPr/>
              <p:nvPr/>
            </p:nvSpPr>
            <p:spPr>
              <a:xfrm>
                <a:off x="4749840" y="5837040"/>
                <a:ext cx="516240" cy="569880"/>
              </a:xfrm>
              <a:custGeom>
                <a:avLst/>
                <a:gdLst>
                  <a:gd name="textAreaLeft" fmla="*/ 117720 w 516240"/>
                  <a:gd name="textAreaRight" fmla="*/ 398520 w 516240"/>
                  <a:gd name="textAreaTop" fmla="*/ 129960 h 569880"/>
                  <a:gd name="textAreaBottom" fmla="*/ 439920 h 56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79360" y="5915880"/>
                <a:ext cx="506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3960360" y="3524760"/>
              <a:ext cx="144360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032160" y="3086280"/>
              <a:ext cx="648000" cy="25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5080" y="4006800"/>
              <a:ext cx="904680" cy="31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4280" y="6038280"/>
              <a:ext cx="587520" cy="33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1648440" y="5310000"/>
              <a:ext cx="384480" cy="5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887920" y="3638520"/>
              <a:ext cx="1185480" cy="464040"/>
              <a:chOff x="2887920" y="3638520"/>
              <a:chExt cx="1185480" cy="464040"/>
            </a:xfrm>
          </p:grpSpPr>
          <p:sp>
            <p:nvSpPr>
              <p:cNvPr id="218" name=""/>
              <p:cNvSpPr/>
              <p:nvPr/>
            </p:nvSpPr>
            <p:spPr>
              <a:xfrm>
                <a:off x="2887920" y="3638520"/>
                <a:ext cx="10904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31120" y="3644280"/>
                <a:ext cx="1142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Big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295280" y="4951800"/>
              <a:ext cx="804240" cy="463680"/>
              <a:chOff x="1295280" y="4951800"/>
              <a:chExt cx="804240" cy="463680"/>
            </a:xfrm>
          </p:grpSpPr>
          <p:sp>
            <p:nvSpPr>
              <p:cNvPr id="221" name=""/>
              <p:cNvSpPr/>
              <p:nvPr/>
            </p:nvSpPr>
            <p:spPr>
              <a:xfrm>
                <a:off x="1295280" y="495180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8480" y="49572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991520" y="5620320"/>
              <a:ext cx="1364760" cy="525960"/>
              <a:chOff x="1991520" y="5620320"/>
              <a:chExt cx="1364760" cy="525960"/>
            </a:xfrm>
          </p:grpSpPr>
          <p:sp>
            <p:nvSpPr>
              <p:cNvPr id="224" name=""/>
              <p:cNvSpPr/>
              <p:nvPr/>
            </p:nvSpPr>
            <p:spPr>
              <a:xfrm>
                <a:off x="2018520" y="5620320"/>
                <a:ext cx="1274760" cy="50508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91520" y="5688000"/>
                <a:ext cx="13647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ittle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654000" y="6203880"/>
              <a:ext cx="804240" cy="464040"/>
              <a:chOff x="3654000" y="6203880"/>
              <a:chExt cx="804240" cy="464040"/>
            </a:xfrm>
          </p:grpSpPr>
          <p:sp>
            <p:nvSpPr>
              <p:cNvPr id="227" name=""/>
              <p:cNvSpPr/>
              <p:nvPr/>
            </p:nvSpPr>
            <p:spPr>
              <a:xfrm>
                <a:off x="3654000" y="6203880"/>
                <a:ext cx="74484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97200" y="620964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759200" y="4193640"/>
              <a:ext cx="804240" cy="466560"/>
              <a:chOff x="4759200" y="4193640"/>
              <a:chExt cx="804240" cy="466560"/>
            </a:xfrm>
          </p:grpSpPr>
          <p:sp>
            <p:nvSpPr>
              <p:cNvPr id="230" name=""/>
              <p:cNvSpPr/>
              <p:nvPr/>
            </p:nvSpPr>
            <p:spPr>
              <a:xfrm>
                <a:off x="4759200" y="4193640"/>
                <a:ext cx="744840" cy="39744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02400" y="420192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319000" y="3284640"/>
              <a:ext cx="805680" cy="464040"/>
              <a:chOff x="5319000" y="3284640"/>
              <a:chExt cx="805680" cy="464040"/>
            </a:xfrm>
          </p:grpSpPr>
          <p:sp>
            <p:nvSpPr>
              <p:cNvPr id="233" name=""/>
              <p:cNvSpPr/>
              <p:nvPr/>
            </p:nvSpPr>
            <p:spPr>
              <a:xfrm>
                <a:off x="5319000" y="3284640"/>
                <a:ext cx="745200" cy="39780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63640" y="3290400"/>
                <a:ext cx="761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568200" y="2738520"/>
              <a:ext cx="1185840" cy="464040"/>
              <a:chOff x="6568200" y="2738520"/>
              <a:chExt cx="1185840" cy="464040"/>
            </a:xfrm>
          </p:grpSpPr>
          <p:sp>
            <p:nvSpPr>
              <p:cNvPr id="236" name=""/>
              <p:cNvSpPr/>
              <p:nvPr/>
            </p:nvSpPr>
            <p:spPr>
              <a:xfrm>
                <a:off x="6568200" y="2738520"/>
                <a:ext cx="1091160" cy="398160"/>
              </a:xfrm>
              <a:prstGeom prst="rect">
                <a:avLst/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11760" y="2744280"/>
                <a:ext cx="1142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Big I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the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84280" y="1424160"/>
            <a:ext cx="8418600" cy="5434200"/>
            <a:chOff x="1484280" y="1424160"/>
            <a:chExt cx="8418600" cy="5434200"/>
          </a:xfrm>
        </p:grpSpPr>
        <p:grpSp>
          <p:nvGrpSpPr>
            <p:cNvPr id="240" name=""/>
            <p:cNvGrpSpPr/>
            <p:nvPr/>
          </p:nvGrpSpPr>
          <p:grpSpPr>
            <a:xfrm>
              <a:off x="1484280" y="1424160"/>
              <a:ext cx="8418600" cy="4707720"/>
              <a:chOff x="1484280" y="1424160"/>
              <a:chExt cx="8418600" cy="470772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1520" y="1482480"/>
                <a:ext cx="7878960" cy="4649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242" name=""/>
              <p:cNvSpPr/>
              <p:nvPr/>
            </p:nvSpPr>
            <p:spPr>
              <a:xfrm flipV="1">
                <a:off x="7686720" y="2080800"/>
                <a:ext cx="754200" cy="459720"/>
              </a:xfrm>
              <a:prstGeom prst="line">
                <a:avLst/>
              </a:prstGeom>
              <a:ln w="50760">
                <a:solidFill>
                  <a:srgbClr val="9234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55960" y="1792080"/>
                <a:ext cx="2978280" cy="3784320"/>
              </a:xfrm>
              <a:prstGeom prst="rect">
                <a:avLst/>
              </a:prstGeom>
              <a:noFill/>
              <a:ln w="25560">
                <a:solidFill>
                  <a:srgbClr val="767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53320" y="1792080"/>
                <a:ext cx="1407960" cy="3798720"/>
              </a:xfrm>
              <a:prstGeom prst="rect">
                <a:avLst/>
              </a:prstGeom>
              <a:noFill/>
              <a:ln w="25560">
                <a:solidFill>
                  <a:srgbClr val="ff500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74240" y="1803240"/>
                <a:ext cx="1587240" cy="3781080"/>
              </a:xfrm>
              <a:prstGeom prst="rect">
                <a:avLst/>
              </a:prstGeom>
              <a:noFill/>
              <a:ln w="25560">
                <a:solidFill>
                  <a:srgbClr val="9234d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11520" y="1469880"/>
                <a:ext cx="1335600" cy="9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93192"/>
                    </a:solidFill>
                    <a:latin typeface="Book Antiqua"/>
                  </a:rPr>
                  <a:t>Stag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93192"/>
                    </a:solidFill>
                    <a:latin typeface="Book Antiqua"/>
                  </a:rPr>
                  <a:t>DARP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93192"/>
                    </a:solidFill>
                    <a:latin typeface="Book Antiqua"/>
                  </a:rPr>
                  <a:t>Experiment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93192"/>
                    </a:solidFill>
                    <a:latin typeface="Book Antiqua"/>
                  </a:rPr>
                  <a:t>ope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23080" y="1457280"/>
                <a:ext cx="1452600" cy="9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5008"/>
                    </a:solidFill>
                    <a:latin typeface="Book Antiqua"/>
                  </a:rPr>
                  <a:t>Stage 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5008"/>
                    </a:solidFill>
                    <a:latin typeface="Book Antiqua"/>
                  </a:rPr>
                  <a:t>Enterprise Internets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5008"/>
                    </a:solidFill>
                    <a:latin typeface="Book Antiqua"/>
                  </a:rPr>
                  <a:t>R&amp;A scal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59920" y="1471320"/>
                <a:ext cx="130356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234db"/>
                    </a:solidFill>
                    <a:latin typeface="Book Antiqua"/>
                  </a:rPr>
                  <a:t>Stage 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234db"/>
                    </a:solidFill>
                    <a:latin typeface="Book Antiqua"/>
                  </a:rPr>
                  <a:t>Universal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84280" y="1424160"/>
                <a:ext cx="1779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c1c1c"/>
                    </a:solidFill>
                    <a:latin typeface="Book Antiqua"/>
                  </a:rPr>
                  <a:t>Internet Hos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37520" y="2850840"/>
                <a:ext cx="2006640" cy="222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Book Antiqua"/>
                  </a:rPr>
                  <a:t>1992-Internet Society creat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388200" y="3886200"/>
                <a:ext cx="1863720" cy="2170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86-NSFNet cre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73840" y="4189320"/>
                <a:ext cx="2691000" cy="19476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84-DNS created, DARPA divests 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15000" y="4416120"/>
                <a:ext cx="3508560" cy="4950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Book Antiqua"/>
                  </a:rPr>
                  <a:t>Jan 1983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-ARPANet adopts TCP/IP, CSNet created, </a:t>
                </a:r>
                <a:r>
                  <a:rPr b="0" lang="en-US" sz="1400" spc="-1" strike="noStrike">
                    <a:solidFill>
                      <a:srgbClr val="1c1c1c"/>
                    </a:solidFill>
                    <a:latin typeface="Book Antiqua"/>
                  </a:rPr>
                  <a:t>first real Internet begi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82040" y="3435120"/>
                <a:ext cx="2211120" cy="3427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89-first public commercial Internets cre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48320" y="4967280"/>
                <a:ext cx="1793880" cy="21204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81-Bitnet cre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569120" y="4500000"/>
                <a:ext cx="717480" cy="124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3811680" y="3433680"/>
                <a:ext cx="247680" cy="2155320"/>
              </a:xfrm>
              <a:prstGeom prst="line">
                <a:avLst/>
              </a:prstGeom>
              <a:ln w="12600">
                <a:solidFill>
                  <a:srgbClr val="1c1c1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50000" y="3441600"/>
                <a:ext cx="156960" cy="2139480"/>
              </a:xfrm>
              <a:prstGeom prst="line">
                <a:avLst/>
              </a:prstGeom>
              <a:ln w="12600">
                <a:solidFill>
                  <a:srgbClr val="1c1c1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61560" y="2320920"/>
                <a:ext cx="1741320" cy="3708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95-NSFNet ceases, non-USA nets &gt;50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08320" y="2805120"/>
                <a:ext cx="3149640" cy="1005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53966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171360" indent="-171360">
                  <a:lnSpc>
                    <a:spcPct val="100000"/>
                  </a:lnSpc>
                  <a:buClr>
                    <a:srgbClr val="1c1c1c"/>
                  </a:buClr>
                  <a:buSzPct val="9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Kahn poses internet challenge 2Q 7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1360" indent="-171360">
                  <a:lnSpc>
                    <a:spcPct val="100000"/>
                  </a:lnSpc>
                  <a:buClr>
                    <a:srgbClr val="1c1c1c"/>
                  </a:buClr>
                  <a:buSzPct val="9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Cerf-Kahn sketch gateway and TCP in 2Q 197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1360" indent="-171360">
                  <a:lnSpc>
                    <a:spcPct val="100000"/>
                  </a:lnSpc>
                  <a:buClr>
                    <a:srgbClr val="1c1c1c"/>
                  </a:buClr>
                  <a:buSzPct val="9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Cerf-Kahn paper published May 197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1360" indent="-171360">
                  <a:lnSpc>
                    <a:spcPct val="100000"/>
                  </a:lnSpc>
                  <a:buClr>
                    <a:srgbClr val="1c1c1c"/>
                  </a:buClr>
                  <a:buSzPct val="90000"/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Cerf team full spec - Dec 197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071880" y="4951080"/>
                <a:ext cx="403200" cy="358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3513240" y="4752720"/>
                <a:ext cx="552600" cy="196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4081680" y="4628520"/>
                <a:ext cx="501480" cy="115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5520" y="4827240"/>
                <a:ext cx="1251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Book Antiqua"/>
                  </a:rPr>
                  <a:t>ARPA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18000" y="4589280"/>
                <a:ext cx="93960" cy="68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6520" y="4700520"/>
                <a:ext cx="90360" cy="6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29040" y="5265720"/>
                <a:ext cx="92160" cy="6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38720" y="4917960"/>
                <a:ext cx="92160" cy="67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939000" y="3146400"/>
                <a:ext cx="2273400" cy="2059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1c1c1c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c1c1c"/>
                    </a:solidFill>
                    <a:latin typeface="Book Antiqua"/>
                  </a:rPr>
                  <a:t>1990-ARPANet cea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898240" y="6583320"/>
              <a:ext cx="369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yright ©  1995 A.M.Rutkowski &amp; Internet Soci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96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the Commerc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89 -- First commercial ISPs (UUNet and PSI) start taking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Net disallowed commerci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Net operator soon forms commercial side-business (ANS CO+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NSFNet regionals start commercia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ropean Internet hampered by TCP/IP vs. OSI w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ommercial ISP (EUNet) around 199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Region Internet also OS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AP region commercial ISP (IIJ) in Japan 19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ercial Internet Ex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Net provided only AUP compliant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 CO+RE provided commercial 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nted to charge other commercials per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mmercial ISPs were unhap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d the C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licitly disallowed usage based charg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 became CIX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X filtered transit between ANS and its resel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filters only applied to A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gal wrangling occur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X forced to apply filters to all non-CIX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ne noticed despite much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nternet 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f organizing collection of autonomous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think the Internet can be controlled, see Chaos and Complexity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you can control pa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traffic far outweighs non-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commerce will accelerate this tr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commercial networks heading off on their 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nential growth in nearly all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of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CP/IP Executive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151080" y="1219320"/>
          <a:ext cx="4343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219320"/>
                    <a:ext cx="4343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69680" y="-36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hysical and Link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runs on almost any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, FDDI, Cable TV, telephone wires, radio waves, barbed wire, carrier pige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runs better on some things than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st not to shred the data (read: 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st not to do error checking under IP (read: X.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est not to asynchronously switch (read: Frame Rel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all a question of overh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prices can make even “icky” things appeal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when you don’t have a choic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nternet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8560" y="1066680"/>
            <a:ext cx="388116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is an abstraction of the underlying hard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net, serial, barbed wire all look the same from ab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roblem of dealing with multiple hardware types hid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133720" y="3581280"/>
          <a:ext cx="6858000" cy="28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6858000" cy="28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562720" y="1066680"/>
            <a:ext cx="434016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is unrel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it to the hardware and ho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handles fragmentation and re-assemb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you don’t want to frag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? See RFC 7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46320" y="2282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User Datagram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413244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P provides an unreliable datagram facility to th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etransmission, duplicate detection or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 corruption de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s IP to allow multiplex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? See RFC 76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860800" y="1371600"/>
            <a:ext cx="4041720" cy="296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as minimal as you can 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application protocol developer complete free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developer usually has to re-implement TCP 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used for DNS and network file system protocols (e.g., Sun’s NF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1080" y="5105520"/>
          <a:ext cx="738216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105520"/>
                    <a:ext cx="738216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013120" y="6292800"/>
            <a:ext cx="7315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69680" y="-36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” does not exis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’t buy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ne owns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’t connect t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’t reg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gulate pa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you can become a par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hat exactly is “it”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it struct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6240" y="-47880"/>
            <a:ext cx="875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Transmission Control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99840" y="1066320"/>
            <a:ext cx="413244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provides a reliable connection oriented stream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raming or concept of blocks of data -- just a stream of by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pt of “urgent”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nt more? See RFC 79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562720" y="1066320"/>
            <a:ext cx="434016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hand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ion establishment, termination and r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ction of data corruption and dupl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ransmissions and flow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“sliding window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133720" y="3581280"/>
          <a:ext cx="73152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73152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CP vs. UD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905120" y="3892680"/>
            <a:ext cx="7619760" cy="2659680"/>
            <a:chOff x="1905120" y="3892680"/>
            <a:chExt cx="7619760" cy="2659680"/>
          </a:xfrm>
        </p:grpSpPr>
        <p:sp>
          <p:nvSpPr>
            <p:cNvPr id="300" name=""/>
            <p:cNvSpPr/>
            <p:nvPr/>
          </p:nvSpPr>
          <p:spPr>
            <a:xfrm>
              <a:off x="1981080" y="4087080"/>
              <a:ext cx="1295640" cy="973080"/>
            </a:xfrm>
            <a:custGeom>
              <a:avLst/>
              <a:gdLst>
                <a:gd name="textAreaLeft" fmla="*/ 173520 w 1295640"/>
                <a:gd name="textAreaRight" fmla="*/ 1122120 w 1295640"/>
                <a:gd name="textAreaTop" fmla="*/ 191880 h 973080"/>
                <a:gd name="textAreaBottom" fmla="*/ 70164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30" stAng="-5400000" swAng="-5400000"/>
                  <a:lnTo>
                    <a:pt x="0" y="11312"/>
                  </a:lnTo>
                  <a:arcTo wR="21600" hR="8530" stAng="10800000" swAng="-3752780"/>
                  <a:lnTo>
                    <a:pt x="17259" y="21426"/>
                  </a:lnTo>
                  <a:lnTo>
                    <a:pt x="21600" y="18450"/>
                  </a:lnTo>
                  <a:lnTo>
                    <a:pt x="17259" y="15126"/>
                  </a:lnTo>
                  <a:lnTo>
                    <a:pt x="17259" y="16885"/>
                  </a:lnTo>
                  <a:arcTo wR="21600" hR="8530" stAng="7047220" swAng="3528709"/>
                  <a:lnTo>
                    <a:pt x="289" y="9920"/>
                  </a:lnTo>
                  <a:arcTo wR="21600" hR="8530" stAng="-10575929" swAng="5175929"/>
                  <a:close/>
                </a:path>
                <a:path fill="darkenLess" w="21600" h="21600">
                  <a:moveTo>
                    <a:pt x="21600" y="0"/>
                  </a:moveTo>
                  <a:arcTo wR="21600" hR="8530" stAng="-5400000" swAng="-5400000"/>
                  <a:lnTo>
                    <a:pt x="0" y="8530"/>
                  </a:lnTo>
                  <a:arcTo wR="21600" hR="8530" stAng="10800000" swAng="-224071"/>
                  <a:lnTo>
                    <a:pt x="289" y="9920"/>
                  </a:lnTo>
                  <a:arcTo wR="21600" hR="8530" stAng="-10575929" swAng="5175929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5514840"/>
              <a:ext cx="1295280" cy="973080"/>
            </a:xfrm>
            <a:custGeom>
              <a:avLst/>
              <a:gdLst>
                <a:gd name="textAreaLeft" fmla="*/ 173520 w 1295280"/>
                <a:gd name="textAreaRight" fmla="*/ 1121760 w 1295280"/>
                <a:gd name="textAreaTop" fmla="*/ 191880 h 973080"/>
                <a:gd name="textAreaBottom" fmla="*/ 70164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30" stAng="-5400000" swAng="-5400000"/>
                  <a:lnTo>
                    <a:pt x="0" y="11312"/>
                  </a:lnTo>
                  <a:arcTo wR="21600" hR="8530" stAng="10800000" swAng="-3752780"/>
                  <a:lnTo>
                    <a:pt x="17259" y="21426"/>
                  </a:lnTo>
                  <a:lnTo>
                    <a:pt x="21600" y="18450"/>
                  </a:lnTo>
                  <a:lnTo>
                    <a:pt x="17259" y="15126"/>
                  </a:lnTo>
                  <a:lnTo>
                    <a:pt x="17259" y="16885"/>
                  </a:lnTo>
                  <a:arcTo wR="21600" hR="8530" stAng="7047220" swAng="3528709"/>
                  <a:lnTo>
                    <a:pt x="289" y="9920"/>
                  </a:lnTo>
                  <a:arcTo wR="21600" hR="8530" stAng="-10575929" swAng="5175929"/>
                  <a:close/>
                </a:path>
                <a:path fill="darkenLess" w="21600" h="21600">
                  <a:moveTo>
                    <a:pt x="21600" y="0"/>
                  </a:moveTo>
                  <a:arcTo wR="21600" hR="8530" stAng="-5400000" swAng="-5400000"/>
                  <a:lnTo>
                    <a:pt x="0" y="8530"/>
                  </a:lnTo>
                  <a:arcTo wR="21600" hR="8530" stAng="10800000" swAng="-224071"/>
                  <a:lnTo>
                    <a:pt x="289" y="9920"/>
                  </a:lnTo>
                  <a:arcTo wR="21600" hR="8530" stAng="-10575929" swAng="5175929"/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05320" y="389268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352680" y="4671360"/>
              <a:ext cx="2743200" cy="454320"/>
              <a:chOff x="3352680" y="4671360"/>
              <a:chExt cx="2743200" cy="454320"/>
            </a:xfrm>
          </p:grpSpPr>
          <p:sp>
            <p:nvSpPr>
              <p:cNvPr id="304" name=""/>
              <p:cNvSpPr/>
              <p:nvPr/>
            </p:nvSpPr>
            <p:spPr>
              <a:xfrm flipH="1" rot="5400000">
                <a:off x="4497120" y="3526920"/>
                <a:ext cx="454320" cy="2743200"/>
              </a:xfrm>
              <a:prstGeom prst="can">
                <a:avLst>
                  <a:gd name="adj" fmla="val 8768"/>
                </a:avLst>
              </a:prstGeom>
              <a:solidFill>
                <a:srgbClr val="00e4a8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4373280" y="4735800"/>
                <a:ext cx="510120" cy="32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Times New Roman"/>
                  </a:rPr>
                  <a:t>TCP</a:t>
                </a:r>
                <a:endPara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352680" y="6098400"/>
              <a:ext cx="2743200" cy="453960"/>
              <a:chOff x="3352680" y="6098400"/>
              <a:chExt cx="2743200" cy="453960"/>
            </a:xfrm>
          </p:grpSpPr>
          <p:sp>
            <p:nvSpPr>
              <p:cNvPr id="307" name=""/>
              <p:cNvSpPr/>
              <p:nvPr/>
            </p:nvSpPr>
            <p:spPr>
              <a:xfrm flipH="1" rot="5400000">
                <a:off x="4497120" y="4953600"/>
                <a:ext cx="453960" cy="2743200"/>
              </a:xfrm>
              <a:prstGeom prst="can">
                <a:avLst>
                  <a:gd name="adj" fmla="val 8282"/>
                </a:avLst>
              </a:prstGeom>
              <a:solidFill>
                <a:srgbClr val="00e4a8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4309560" y="6163200"/>
                <a:ext cx="510480" cy="32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3399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Times New Roman"/>
                  </a:rPr>
                  <a:t>UDP</a:t>
                </a:r>
                <a:endParaRPr b="0" lang="en-US" sz="18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309" name=""/>
            <p:cNvSpPr txBox="1"/>
            <p:nvPr/>
          </p:nvSpPr>
          <p:spPr>
            <a:xfrm>
              <a:off x="3657600" y="408708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1120" y="389268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343400" y="408708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76920" y="389268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029200" y="408708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62720" y="389268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715000" y="408708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52680" y="5320080"/>
              <a:ext cx="533520" cy="45396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505320" y="5514840"/>
              <a:ext cx="856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8480" y="5320080"/>
              <a:ext cx="533520" cy="45396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191120" y="5514840"/>
              <a:ext cx="856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24280" y="5320080"/>
              <a:ext cx="533520" cy="45396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4876920" y="5514840"/>
              <a:ext cx="856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0080" y="5320080"/>
              <a:ext cx="533520" cy="45396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5562720" y="5514840"/>
              <a:ext cx="856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34320" y="467136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7086600" y="486576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8520" y="4736160"/>
              <a:ext cx="533160" cy="324000"/>
            </a:xfrm>
            <a:custGeom>
              <a:avLst/>
              <a:gdLst>
                <a:gd name="textAreaLeft" fmla="*/ 83160 w 533160"/>
                <a:gd name="textAreaRight" fmla="*/ 424080 w 533160"/>
                <a:gd name="textAreaTop" fmla="*/ 93240 h 324000"/>
                <a:gd name="textAreaBottom" fmla="*/ 23076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210"/>
                  </a:moveTo>
                  <a:lnTo>
                    <a:pt x="11186" y="6210"/>
                  </a:lnTo>
                  <a:lnTo>
                    <a:pt x="11186" y="0"/>
                  </a:lnTo>
                  <a:lnTo>
                    <a:pt x="21600" y="10800"/>
                  </a:lnTo>
                  <a:lnTo>
                    <a:pt x="11186" y="21600"/>
                  </a:lnTo>
                  <a:lnTo>
                    <a:pt x="11186" y="15390"/>
                  </a:lnTo>
                  <a:lnTo>
                    <a:pt x="3375" y="15390"/>
                  </a:lnTo>
                  <a:close/>
                </a:path>
                <a:path w="21600" h="21600">
                  <a:moveTo>
                    <a:pt x="0" y="6210"/>
                  </a:moveTo>
                  <a:lnTo>
                    <a:pt x="675" y="6210"/>
                  </a:lnTo>
                  <a:lnTo>
                    <a:pt x="675" y="15390"/>
                  </a:lnTo>
                  <a:lnTo>
                    <a:pt x="0" y="15390"/>
                  </a:lnTo>
                  <a:close/>
                </a:path>
                <a:path w="21600" h="21600">
                  <a:moveTo>
                    <a:pt x="1350" y="6210"/>
                  </a:moveTo>
                  <a:lnTo>
                    <a:pt x="2700" y="6210"/>
                  </a:lnTo>
                  <a:lnTo>
                    <a:pt x="2700" y="15390"/>
                  </a:lnTo>
                  <a:lnTo>
                    <a:pt x="1350" y="15390"/>
                  </a:lnTo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20120" y="467136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7772400" y="486576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05920" y="467136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8458200" y="486576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991720" y="4671360"/>
              <a:ext cx="53316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9144000" y="486576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48520" y="6163560"/>
              <a:ext cx="533160" cy="324360"/>
            </a:xfrm>
            <a:custGeom>
              <a:avLst/>
              <a:gdLst>
                <a:gd name="textAreaLeft" fmla="*/ 83160 w 533160"/>
                <a:gd name="textAreaRight" fmla="*/ 424080 w 533160"/>
                <a:gd name="textAreaTop" fmla="*/ 93240 h 324360"/>
                <a:gd name="textAreaBottom" fmla="*/ 231120 h 32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210"/>
                  </a:moveTo>
                  <a:lnTo>
                    <a:pt x="11186" y="6210"/>
                  </a:lnTo>
                  <a:lnTo>
                    <a:pt x="11186" y="0"/>
                  </a:lnTo>
                  <a:lnTo>
                    <a:pt x="21600" y="10800"/>
                  </a:lnTo>
                  <a:lnTo>
                    <a:pt x="11186" y="21600"/>
                  </a:lnTo>
                  <a:lnTo>
                    <a:pt x="11186" y="15390"/>
                  </a:lnTo>
                  <a:lnTo>
                    <a:pt x="3375" y="15390"/>
                  </a:lnTo>
                  <a:close/>
                </a:path>
                <a:path w="21600" h="21600">
                  <a:moveTo>
                    <a:pt x="0" y="6210"/>
                  </a:moveTo>
                  <a:lnTo>
                    <a:pt x="675" y="6210"/>
                  </a:lnTo>
                  <a:lnTo>
                    <a:pt x="675" y="15390"/>
                  </a:lnTo>
                  <a:lnTo>
                    <a:pt x="0" y="15390"/>
                  </a:lnTo>
                  <a:close/>
                </a:path>
                <a:path w="21600" h="21600">
                  <a:moveTo>
                    <a:pt x="1350" y="6210"/>
                  </a:moveTo>
                  <a:lnTo>
                    <a:pt x="2700" y="6210"/>
                  </a:lnTo>
                  <a:lnTo>
                    <a:pt x="2700" y="15390"/>
                  </a:lnTo>
                  <a:lnTo>
                    <a:pt x="1350" y="15390"/>
                  </a:lnTo>
                  <a:close/>
                </a:path>
              </a:pathLst>
            </a:cu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58000" y="6033960"/>
              <a:ext cx="53352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7010280" y="622872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43800" y="6033960"/>
              <a:ext cx="53352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696080" y="622872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29600" y="6033960"/>
              <a:ext cx="53352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8381880" y="622872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915400" y="6033960"/>
              <a:ext cx="533520" cy="454320"/>
            </a:xfrm>
            <a:prstGeom prst="cube">
              <a:avLst>
                <a:gd name="adj" fmla="val 25000"/>
              </a:avLst>
            </a:prstGeom>
            <a:solidFill>
              <a:srgbClr val="00e4a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9067680" y="6228720"/>
              <a:ext cx="8568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3333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3064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you exactly what you started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s efficient use of the network, but has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567400" y="2017800"/>
            <a:ext cx="413064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(or might not) give you what you started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al possible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pplication Samp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41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 (WW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(Ema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TP (Electronic New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net (remote log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 (remote file acc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login/Rsh/Rdump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385960" y="2017800"/>
            <a:ext cx="431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DP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Nam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US (remote authent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im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vial File Transf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ministrative Support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Regis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Regis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s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vel DNS Administ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 3166 TLD Administ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ic TLD Administr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support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Hierarch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Historical Vie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19160" y="1459080"/>
          <a:ext cx="758988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459080"/>
                    <a:ext cx="75898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Hierarch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Politically Correct Histo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438280" y="1614600"/>
          <a:ext cx="627876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14600"/>
                    <a:ext cx="627876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Hierarch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Bottom Up Vie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185920" y="2948040"/>
          <a:ext cx="6632640" cy="29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5920" y="2948040"/>
                    <a:ext cx="663264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Internet Assigned Numbers Autho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51080" y="1768320"/>
            <a:ext cx="812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ANA was the parent of all regional registries and top level domain name administ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ome context at least, the IANA could be said to “own” all administrative resources o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ed out all globally unique numbers (IP addresses, protocol numbers, port numbers, object Id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ANA consisted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(part-time)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ed at USC ISI in Marina Del Rey, CA, U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a yearly budget of roughly US $250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gated as much responsibility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CANN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Government wants to ‘devolve’ the Internet’s administrative function to self-regulatory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unch of DNS crazies step into the ro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ANN attempts to ‘work out’ the DNS m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infrastructure management actually left to the R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Government increasingly nervous about the whole d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this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ional Registry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NIC at Stanford Research Institute (SRI-N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ed in California (near Stanford Univers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ded by DOD DAR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I replaced by GSI in Washington DC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bid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pleasant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D DCA provided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F issued InterNIC 5 year Cooperative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ve agreement issued in 19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, General Atomics, and Network Solutions, Inc. each awarded part of Inter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69680" y="-36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52680" y="182880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he Internet is put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ve TCP/IP 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tive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, development, user, and operation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IC Hist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81240" y="193824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IC consisted of 3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ration Services operated by N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and Directory Services operated by AT&amp;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services operated by General Atom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1995, NSF held a mid-term 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I commended, but told to stop relying on US Government for f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&amp;T told to do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 f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1997, InterNIC spins off Address allocator (ARI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I focuses on (now hugely profitable)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ress Registry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295360" y="1819440"/>
          <a:ext cx="6107400" cy="47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1819440"/>
                    <a:ext cx="6107400" cy="47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ional Address Regis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ries allocate 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lus in-addr.arpa domai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nomous System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three regional registries ex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NIC, InterNIC, RIPE-N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but InterNIC are self-fu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ANA may create others as needs a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riNIC and ALyCNIC have been discussed rec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ional Registries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79640" y="1882440"/>
            <a:ext cx="8586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Registries a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gulatory bo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“license” I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a national governmental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not the authority for who can or cannot connect to the Inter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one can who is permitted by law in their coun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cannot control any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complaining to them is pretty point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registries also don’t make the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community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onal Registries simply implement policy, they don’t invent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gional Registry Fun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 community specified the creation of regional regis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didn’t indicate how they would be fun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NIC, ARIN and RIPE-NCC derive funding from their ‘membership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N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47920" y="1815840"/>
            <a:ext cx="8232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ed as an APCCIRN/APEPG Pilot Project in Sept., 1993, received address space from IANA in April, 1994, Incorporated in April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a tiered membership fee with self-determined t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 $10,000/$5,000/$2,500 for Large/Medium/Sm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about 40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has a non-member fee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Brisbane, Austra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: see http://www.apnic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85920" y="1856880"/>
            <a:ext cx="83786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out of InterNIC in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recovered via membership and allocation f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hip fee: US $1000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 fees depend on the amount of space allocated the previous year ($20,000, $10,000, $5,000, or $2,500 depending on last year’s alloc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staff of about 2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in Reston, Virginia 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: see http://www.arin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PE-NC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8232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in 1990 as the IP networking special interest group of RARE, a EU funded group working to deploy OSI networks in Eur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bership based organization using a self-determined tiered f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hip fees originally (about) US $10,000/ $5,000/$2,500, but changed to US $5000/$3500/$3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about 60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a staff of about 3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in Amsterdam, The Netherl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: see http://www.ripe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Internet Regis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onal Registries delegate authority to “Local Internet Registries” to allocat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Internet Servic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 confederations of service providers (e.g., national N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Internet Registries sub-delegate to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end users or other I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ocal Internet Registry may have its own rules, but all must follow the rules of their parent 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Level Domai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5320" y="4349880"/>
          <a:ext cx="77616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4349880"/>
                    <a:ext cx="77616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454040" y="17431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delegates all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es for delegation described in RFC 15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IC currently administers (and charges for) gTLDs and .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3166 TLDs delegated to organizations within the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543080" y="4038480"/>
            <a:ext cx="1066680" cy="381240"/>
          </a:xfrm>
          <a:prstGeom prst="wedgeRoundRectCallout">
            <a:avLst>
              <a:gd name="adj1" fmla="val 152972"/>
              <a:gd name="adj2" fmla="val 59995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the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8988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day, the Internet is composed of over 61,000 autonomously run interconnected net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nly guarantee is that all networks use the TCP/IP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chine on each network can offer usefu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not -- entirely dependent on the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user of the network can use tho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-dire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ctronic communications medium that suppor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o one (unicast, e.g. email) One to many (multi-cast, e.g., electronic new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point: Internet component networks are operat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NOM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don’t connect to the Internet, you become part of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LD Administrat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78040" y="20178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Level Domain Administrators are assigned by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1591 for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LD has its own rules and restrictions on what names can be dele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development and standard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dabbles in operational and user suppor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evolved from a meeting of 15 people back in the late ‘70s to over 1000 people meeting three times a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tings held outside the US every third meeting (theoretic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meeting: Pittsburgh, US, Aug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: http://www.ietf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TF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447920" y="2700360"/>
          <a:ext cx="823248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00360"/>
                    <a:ext cx="82324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nternet Socie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ound 1991, it was realized the IETF had no legal protection and as a standards making body, the IAB, IESG, and working group chairs could be sued by anyone unhappy with developing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ddition, there was no organized group which could promote the Internet, act as a clearinghouse for informatio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1992, the Internet Society was 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s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th American Network Operations Group (NANO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ved out of an NSFNet technical working group composed of technical staff of NSFNet regional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, open membership but targeted at the North American network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ally funded by US NSF, coordinated by Merit (the organization that is running the US Routing Arbiter proj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r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nanog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s Groups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pean Operators Forum (EOF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out of the RIPE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mbership, but focusing on the European Internet operators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unfunded, operating as a working group of RI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inform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ct ncc@ripe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rations Groups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ia Pacific Operators Forum (AP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ed at an Asia Pacific Rim Internet Conference on Operational Technologies (APRIC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ed by AP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exists as an email list right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subscribe: apops-request@apnic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membership, targeted at the AP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fo: send mail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ostmaster@apnic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NOG – underway for Af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rnet is a collection of privately operated networks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CP/IP as a comm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to cooperate to exchange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lightened self-interest” allows the Internet to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ous bodies around the world help coordinate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ne are essential for its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to get mor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Inter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FCs (available from an archive near yo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working with TCP/IP, vols. 1, 2, 3” by Douglas E. Comer, published by Prentice Hall, ISBN 0-13-468505-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the Inter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isoc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to get more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OG, EOF, APRICOT, AFNOG meetings (the Internet structure changes so rapidly, any documented form will be out of date almost immediate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E-NCC (www.ripe.net), APNIC (www.apnic.net), ARIN (www.arin.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 (www.isoc.or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535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the Internet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0960" y="1828800"/>
            <a:ext cx="95979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Begi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net was a research network with lots of computer geeks jabbering at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even getting interesting work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homogeneous community with essentially the same culture/language/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, the Internet has commerci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ople are trying to use the Internet for real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for the most part, succee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of those people may be nice or not so 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88400" indent="-157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CE, crackers, con-artists, pornographer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788400" indent="-157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amaritans, hackers, philanthrop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104120" indent="-1576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rnet reflects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the Internet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million miles up, the Internet looks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g ISPs (backbones) provide services to smaller I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r ISPs provide services to yet smaller I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body eventually provides services to end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4038480"/>
          <a:ext cx="7370640" cy="22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38480"/>
                    <a:ext cx="737064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the Internet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as you get closer in, this nice hierarchy breaks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vate deals, performance fi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body provides services to the en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providers connect to multiple servic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users connect to multiple servic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4259160"/>
          <a:ext cx="82296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259160"/>
                    <a:ext cx="82296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252000"/>
            <a:ext cx="763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nec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9674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exchange traffic, an organization must connect with another organization and agree to pass traffic back and fo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ossible conditions and cla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ypes of relationships between the 2 organ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/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given geographical region, organizations tend to want to meet at the same 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make deals with a bunch of people at the same place, than deals at multiple pl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saves on infrastructur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: the creation of a connection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ternet Exchan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7160" indent="-171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Ps, MAE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hange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837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connects to exchange poi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always Internet Servic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question is: who is a customer and who is a pe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ers pay, peers don’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ISPs can probably place equipment at an exchange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SPs want customers who pay, not peers, so the ISPs probably won’t accept the customer’s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runs exchange poin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a neutral body, unbiased to any organization connecting t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ding towards commercial organ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6T23:44:56Z</dcterms:created>
  <dc:creator>David Conrad</dc:creator>
  <dc:description/>
  <dc:language>en-US</dc:language>
  <cp:lastModifiedBy>gih</cp:lastModifiedBy>
  <cp:lastPrinted>1996-06-15T05:36:14Z</cp:lastPrinted>
  <dcterms:modified xsi:type="dcterms:W3CDTF">2000-07-12T10:07:10Z</dcterms:modified>
  <cp:revision>40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9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