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 Brief Introduction to Internet Network Management and SNM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ff Hus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W Track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ventory Contro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nowledge Based Manage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"expert"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iguration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692280"/>
            <a:ext cx="8217000" cy="5244840"/>
          </a:xfrm>
          <a:prstGeom prst="rect">
            <a:avLst/>
          </a:prstGeom>
          <a:solidFill>
            <a:srgbClr val="474747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faf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ngle system will solve all your problems or meet all your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Network Management package can only complement effective and efficient operational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identify what is important to you and your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NM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Network Managemen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n't SNMP solve all these problem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't be sill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NM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id it come from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Engineering Task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 Management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MP V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B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MPV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is it 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just a protocol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defines an architecture for extracting information from the network regarding the current operational state of the network, using a vendor-independent family of mechanis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ucture of Management Information (SMI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s and defines structure of managemen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115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nly defined data i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tax of the data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mantics of the data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nta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ASN.1 (Abstract Syntax Not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nary enc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2 01 0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a 1 byte integer, value 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itiv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GER, OCTECT  STRING, OBJECT IDENTIFIER, NU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uctor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QUENCE &lt;primitive-type&gt; ..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e. a rec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QUENCE OF &lt;primitive-type&gt; ..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e. an arr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nta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d 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Addre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you exp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negative integer that wra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u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negative integer that latch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Tic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in hundredths of seco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NMP  NAM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124000" y="1555920"/>
          <a:ext cx="518328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5920"/>
                    <a:ext cx="518328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are we talking abou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Management Ta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ult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iguration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anc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ity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ntory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ing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NM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 Information Base (MI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database"of network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, Interfaces, Address Translation, IP, ICMP, TCP, UDP, EG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Access" and "Status" 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ual variables are "instances" of O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3.6.1.2.1.1.1.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Desc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3.6.1.2.1.2.1.1.10.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InOctets for interface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3.6.1.2.1.4.21.1.7.130.56.0.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RouteNextHop for network 130.56.0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NM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NMP protocol it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inspection and alteration of MIB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DP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cknowledged trans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, GET, GET-NEXT ope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NM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MP Tr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solicited notification of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include variable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Start, WarmSt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Up, Link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hentication 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P Neighbour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prise Speci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etwork  Management Softwar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MP Ag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d by all router vend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expanded (enterprise) MI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dges, wiring concentrators, toa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etwork Management Softwar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Dom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Programming Interfaces available from CMU and M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variety of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etwork Management Softwar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erci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offerings, UNIX and PC 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P Open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nNet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bletron Spect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MANY*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oosing a Management Platfor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i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Support your system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Run on your platform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Meet your requirement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) Match your resourc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oosing a Management Platfor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be you can get away with something quick and dirty using existing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be a commercial management product will meet your operational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ult Manage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ption alarm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stigation and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stics for steady state behaviour characteri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figuration Manage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allation of new hardware/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king changes in control config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, what and wh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ert/undo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guration aud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it do what was intend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P Route Manage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ting integ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ency with customer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ency with external pe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with imposed policy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ecurity Manage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ption alarm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form access controls to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rformance Manage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ility and Reliability me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ity me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-time measur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ical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ccounting Manage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ing consumers and suppli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network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ping network resources to customer id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  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tric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time of 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oblem Track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ing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ult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calation and refer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ical data for component reliability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9T17:23:49Z</dcterms:created>
  <dc:creator>geoff</dc:creator>
  <dc:description/>
  <dc:language>en-US</dc:language>
  <cp:lastModifiedBy>gih</cp:lastModifiedBy>
  <dcterms:modified xsi:type="dcterms:W3CDTF">2000-07-12T11:19:08Z</dcterms:modified>
  <cp:revision>12</cp:revision>
  <dc:subject/>
  <dc:title>Network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isocwk98\t4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