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0C0-B4C5-4721-800C-8550C2E2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4E7A-98C6-4354-AB99-F70BFAB9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467D-DCD5-4745-BBE9-506BF969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12A-3849-4CDE-8260-0B674B46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B675-36C5-4118-ADF0-39E2EE62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578B-BD6B-41E1-8CAF-41B15D95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B178-E142-4542-AE78-BE8AFA97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1AB8-3009-4E56-809B-63A248AA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FCF7-E67B-465F-B8F8-38A7E366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32F6-5AEF-4345-B55B-5E02FEFC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236C-8630-4EE6-BB33-3CAB6DCD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23F9-4904-47A7-BF5D-F60C440E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F150-0CE1-4882-A91C-1AA777C8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2DDF-CBD0-42B9-83CB-40B2FF24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4966-3309-49F0-A6EC-FB7898E8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4340-71C9-4FDE-9D2D-4629C854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07C6-2244-49AC-A765-AD36F3CC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A7B-462E-4031-B881-A4C6D434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F64D-F834-495D-B6B6-B106C0E7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465-230F-4177-981B-1DFDDF47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4A01-B7D4-4F3A-9683-E94B825D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165-38FF-4E35-9BFD-37789C92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6FE1-C08A-4480-AA56-4C79763A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A500-2D42-4738-858C-0F0995BD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698C-A868-4E20-ABE4-D1457C923D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3FF2-1EA3-4F7E-9415-AF71F252C9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Servi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off HUST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P Cache Archite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71680" y="1981080"/>
            <a:ext cx="6579720" cy="4280040"/>
            <a:chOff x="571680" y="1981080"/>
            <a:chExt cx="6579720" cy="4280040"/>
          </a:xfrm>
        </p:grpSpPr>
        <p:sp>
          <p:nvSpPr>
            <p:cNvPr id="386" name=""/>
            <p:cNvSpPr/>
            <p:nvPr/>
          </p:nvSpPr>
          <p:spPr>
            <a:xfrm flipV="1">
              <a:off x="3927240" y="3401640"/>
              <a:ext cx="4680" cy="1174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4001760" y="4122360"/>
              <a:ext cx="938520" cy="44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19400" y="3475080"/>
              <a:ext cx="809640" cy="536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41840" y="5056200"/>
              <a:ext cx="1508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327040" y="2749680"/>
              <a:ext cx="652680" cy="712800"/>
            </a:xfrm>
            <a:prstGeom prst="rect">
              <a:avLst/>
            </a:prstGeom>
            <a:solidFill>
              <a:srgbClr val="8888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46080" y="2800440"/>
              <a:ext cx="4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46080" y="2911320"/>
              <a:ext cx="4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46080" y="3022560"/>
              <a:ext cx="4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46080" y="3133800"/>
              <a:ext cx="4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46080" y="3244680"/>
              <a:ext cx="4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46080" y="3355920"/>
              <a:ext cx="4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27040" y="3692520"/>
              <a:ext cx="652680" cy="712800"/>
            </a:xfrm>
            <a:prstGeom prst="rect">
              <a:avLst/>
            </a:prstGeom>
            <a:solidFill>
              <a:srgbClr val="8888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46080" y="3743280"/>
              <a:ext cx="4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46080" y="3854520"/>
              <a:ext cx="4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846080" y="3965400"/>
              <a:ext cx="4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46080" y="4076640"/>
              <a:ext cx="4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46080" y="4187880"/>
              <a:ext cx="4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46080" y="4298760"/>
              <a:ext cx="4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27040" y="4637160"/>
              <a:ext cx="652680" cy="712800"/>
            </a:xfrm>
            <a:prstGeom prst="rect">
              <a:avLst/>
            </a:prstGeom>
            <a:solidFill>
              <a:srgbClr val="88888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46080" y="4687920"/>
              <a:ext cx="4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46080" y="4799160"/>
              <a:ext cx="4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46080" y="4910040"/>
              <a:ext cx="4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46080" y="5021280"/>
              <a:ext cx="4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46080" y="5132520"/>
              <a:ext cx="4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46080" y="5243400"/>
              <a:ext cx="4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001680" y="3097080"/>
              <a:ext cx="685800" cy="295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3001680" y="3512880"/>
              <a:ext cx="71280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003480" y="4668480"/>
              <a:ext cx="684000" cy="36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714560" y="3573360"/>
              <a:ext cx="831960" cy="812880"/>
            </a:xfrm>
            <a:prstGeom prst="rect">
              <a:avLst/>
            </a:prstGeom>
            <a:solidFill>
              <a:srgbClr val="d8d8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713120" y="2374560"/>
              <a:ext cx="1767960" cy="140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76320">
              <a:solidFill>
                <a:srgbClr val="5e574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0800000">
              <a:off x="4723200" y="4037400"/>
              <a:ext cx="1767960" cy="162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76320">
              <a:solidFill>
                <a:srgbClr val="5e574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16680" y="3627360"/>
              <a:ext cx="9968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1680" y="3567240"/>
              <a:ext cx="10836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79640" y="5468760"/>
              <a:ext cx="1577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cess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16040" y="3898800"/>
              <a:ext cx="1508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AN Switch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85600" y="5529240"/>
              <a:ext cx="89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01760" y="4641840"/>
              <a:ext cx="648000" cy="41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5200560" y="4983120"/>
              <a:ext cx="461880" cy="555120"/>
              <a:chOff x="5200560" y="4983120"/>
              <a:chExt cx="461880" cy="55512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5200560" y="4983120"/>
                <a:ext cx="461880" cy="555120"/>
                <a:chOff x="5200560" y="4983120"/>
                <a:chExt cx="461880" cy="5551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5200560" y="5455080"/>
                  <a:ext cx="461880" cy="8316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256000" y="4983120"/>
                  <a:ext cx="378360" cy="46260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5297400" y="5031360"/>
                <a:ext cx="156600" cy="626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318280" y="5059440"/>
                <a:ext cx="11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297400" y="5121720"/>
                <a:ext cx="156600" cy="22464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5805360" y="4983120"/>
              <a:ext cx="463320" cy="555120"/>
              <a:chOff x="5805360" y="4983120"/>
              <a:chExt cx="463320" cy="55512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5805360" y="4983120"/>
                <a:ext cx="463320" cy="555120"/>
                <a:chOff x="5805360" y="4983120"/>
                <a:chExt cx="463320" cy="5551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805360" y="5455080"/>
                  <a:ext cx="463320" cy="8316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860800" y="4983120"/>
                  <a:ext cx="379800" cy="46260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5902560" y="5031360"/>
                <a:ext cx="157320" cy="626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923440" y="5059440"/>
                <a:ext cx="11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902560" y="5121720"/>
                <a:ext cx="157320" cy="22464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3644640" y="3351240"/>
              <a:ext cx="473040" cy="230040"/>
            </a:xfrm>
            <a:prstGeom prst="rect">
              <a:avLst/>
            </a:prstGeom>
            <a:solidFill>
              <a:srgbClr val="dad8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08360" y="4395600"/>
              <a:ext cx="1327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re Ro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44640" y="4489560"/>
              <a:ext cx="473040" cy="230040"/>
            </a:xfrm>
            <a:prstGeom prst="rect">
              <a:avLst/>
            </a:prstGeom>
            <a:solidFill>
              <a:srgbClr val="dad8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68600" y="2451240"/>
              <a:ext cx="3682800" cy="3809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4543200" y="4983120"/>
              <a:ext cx="461880" cy="555120"/>
              <a:chOff x="4543200" y="4983120"/>
              <a:chExt cx="461880" cy="55512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4543200" y="4983120"/>
                <a:ext cx="461880" cy="555120"/>
                <a:chOff x="4543200" y="4983120"/>
                <a:chExt cx="461880" cy="5551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543200" y="5455080"/>
                  <a:ext cx="461880" cy="8316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598640" y="4983120"/>
                  <a:ext cx="378360" cy="46260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"/>
              <p:cNvSpPr/>
              <p:nvPr/>
            </p:nvSpPr>
            <p:spPr>
              <a:xfrm>
                <a:off x="4640040" y="5031360"/>
                <a:ext cx="156600" cy="626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660920" y="5059440"/>
                <a:ext cx="11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640040" y="5121720"/>
                <a:ext cx="156600" cy="22464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4652640" y="5375160"/>
              <a:ext cx="282600" cy="393840"/>
              <a:chOff x="4652640" y="5375160"/>
              <a:chExt cx="282600" cy="393840"/>
            </a:xfrm>
          </p:grpSpPr>
          <p:sp>
            <p:nvSpPr>
              <p:cNvPr id="449" name=""/>
              <p:cNvSpPr/>
              <p:nvPr/>
            </p:nvSpPr>
            <p:spPr>
              <a:xfrm>
                <a:off x="4655160" y="5658120"/>
                <a:ext cx="280080" cy="11088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652640" y="5433840"/>
                <a:ext cx="282600" cy="28512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653720" y="5375160"/>
                <a:ext cx="280080" cy="110880"/>
              </a:xfrm>
              <a:prstGeom prst="ellipse">
                <a:avLst/>
              </a:prstGeom>
              <a:solidFill>
                <a:srgbClr val="cfcf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4653720" y="5430960"/>
                <a:ext cx="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4935240" y="5435640"/>
                <a:ext cx="0" cy="28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4394160" y="5884920"/>
              <a:ext cx="760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a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09880" y="5143320"/>
              <a:ext cx="171432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73240" y="4267080"/>
              <a:ext cx="1638360" cy="110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22480" y="3378240"/>
              <a:ext cx="1650960" cy="195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818440" y="1981080"/>
              <a:ext cx="2305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edirect TCP port 80 reque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o local cache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2998080" y="2438280"/>
              <a:ext cx="4446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011400" y="2476440"/>
              <a:ext cx="419040" cy="14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2973240" y="2425680"/>
              <a:ext cx="495360" cy="246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eb Ho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tual web h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651600" y="2558880"/>
            <a:ext cx="7997760" cy="3689280"/>
            <a:chOff x="651600" y="2558880"/>
            <a:chExt cx="7997760" cy="3689280"/>
          </a:xfrm>
        </p:grpSpPr>
        <p:grpSp>
          <p:nvGrpSpPr>
            <p:cNvPr id="465" name=""/>
            <p:cNvGrpSpPr/>
            <p:nvPr/>
          </p:nvGrpSpPr>
          <p:grpSpPr>
            <a:xfrm>
              <a:off x="5310360" y="4601880"/>
              <a:ext cx="1107720" cy="802800"/>
              <a:chOff x="5310360" y="4601880"/>
              <a:chExt cx="1107720" cy="802800"/>
            </a:xfrm>
          </p:grpSpPr>
          <p:sp>
            <p:nvSpPr>
              <p:cNvPr id="466" name=""/>
              <p:cNvSpPr/>
              <p:nvPr/>
            </p:nvSpPr>
            <p:spPr>
              <a:xfrm>
                <a:off x="5864400" y="4722480"/>
                <a:ext cx="0" cy="5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84240" y="477576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674320" y="477576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59440" y="477576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339240" y="477576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484240" y="4775760"/>
                <a:ext cx="19008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674320" y="4775760"/>
                <a:ext cx="18972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64400" y="4775760"/>
                <a:ext cx="9504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959440" y="4775760"/>
                <a:ext cx="37980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484240" y="495000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389560" y="500328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579280" y="500328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389560" y="5003280"/>
                <a:ext cx="9468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84240" y="5003280"/>
                <a:ext cx="9504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31036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330520" y="5077800"/>
                <a:ext cx="1166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1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31036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579280" y="5177520"/>
                <a:ext cx="0" cy="10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500080" y="52840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509440" y="5305320"/>
                <a:ext cx="13788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12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500080" y="52840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50008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520960" y="5077800"/>
                <a:ext cx="1166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1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50008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540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37440" y="4849560"/>
                <a:ext cx="950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0540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59512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626440" y="4849560"/>
                <a:ext cx="950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59512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59440" y="495000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769360" y="500328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59440" y="500328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149520" y="500328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769360" y="5003280"/>
                <a:ext cx="19008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959440" y="5003280"/>
                <a:ext cx="18972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69016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709960" y="5077800"/>
                <a:ext cx="1166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69016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959440" y="517752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864400" y="5231160"/>
                <a:ext cx="0" cy="5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054120" y="5231160"/>
                <a:ext cx="0" cy="5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864400" y="5231160"/>
                <a:ext cx="9504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959440" y="5231160"/>
                <a:ext cx="9468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785200" y="52840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795640" y="5305320"/>
                <a:ext cx="13788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2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785200" y="52840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975280" y="52840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984640" y="5305320"/>
                <a:ext cx="13788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2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975280" y="52840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88024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900400" y="5077800"/>
                <a:ext cx="1166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88024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7032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090840" y="5077800"/>
                <a:ext cx="1166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3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7032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88024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911920" y="4849560"/>
                <a:ext cx="950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8024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339240" y="4950000"/>
                <a:ext cx="0" cy="10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26004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91720" y="5077800"/>
                <a:ext cx="950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4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26004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26004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291720" y="4849560"/>
                <a:ext cx="950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4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26004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68280" y="4601880"/>
                <a:ext cx="192240" cy="12060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777640" y="4622400"/>
                <a:ext cx="17136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user pag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768280" y="4601880"/>
                <a:ext cx="192240" cy="12060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7491240" y="4601880"/>
              <a:ext cx="1107720" cy="802800"/>
              <a:chOff x="7491240" y="4601880"/>
              <a:chExt cx="1107720" cy="802800"/>
            </a:xfrm>
          </p:grpSpPr>
          <p:sp>
            <p:nvSpPr>
              <p:cNvPr id="536" name=""/>
              <p:cNvSpPr/>
              <p:nvPr/>
            </p:nvSpPr>
            <p:spPr>
              <a:xfrm>
                <a:off x="8045280" y="4722480"/>
                <a:ext cx="0" cy="5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665120" y="477576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855200" y="477576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140320" y="477576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520120" y="477576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665120" y="4775760"/>
                <a:ext cx="19008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855200" y="4775760"/>
                <a:ext cx="18972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045280" y="4775760"/>
                <a:ext cx="9504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140320" y="4775760"/>
                <a:ext cx="37980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665120" y="495000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570440" y="500328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760160" y="500328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570440" y="5003280"/>
                <a:ext cx="9468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65120" y="5003280"/>
                <a:ext cx="9504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49124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511400" y="5077800"/>
                <a:ext cx="1166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1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49124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760160" y="5177520"/>
                <a:ext cx="0" cy="10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680960" y="52840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690320" y="5305320"/>
                <a:ext cx="13788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12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680960" y="52840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68096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701840" y="5077800"/>
                <a:ext cx="1166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1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68096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58628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618320" y="4849560"/>
                <a:ext cx="950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58628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77600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807320" y="4849560"/>
                <a:ext cx="950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77600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140320" y="495000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950240" y="500328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140320" y="500328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330400" y="500328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950240" y="5003280"/>
                <a:ext cx="19008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140320" y="5003280"/>
                <a:ext cx="18972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87104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890840" y="5077800"/>
                <a:ext cx="1166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87104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140320" y="517752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045280" y="5231160"/>
                <a:ext cx="0" cy="5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235000" y="5231160"/>
                <a:ext cx="0" cy="5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045280" y="5231160"/>
                <a:ext cx="9504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140320" y="5231160"/>
                <a:ext cx="9468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966080" y="52840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976520" y="5305320"/>
                <a:ext cx="13788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2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966080" y="52840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156160" y="52840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165520" y="5305320"/>
                <a:ext cx="13788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2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156160" y="52840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06112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081280" y="5077800"/>
                <a:ext cx="1166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06112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25120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271720" y="5077800"/>
                <a:ext cx="1166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3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25120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06112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092800" y="4849560"/>
                <a:ext cx="950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06112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520120" y="4950000"/>
                <a:ext cx="0" cy="10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44092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472600" y="5077800"/>
                <a:ext cx="950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4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44092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44092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472600" y="4849560"/>
                <a:ext cx="950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4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44092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949160" y="4601880"/>
                <a:ext cx="192240" cy="12060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958520" y="4622400"/>
                <a:ext cx="17136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user pag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949160" y="4601880"/>
                <a:ext cx="192240" cy="12060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3130560" y="4614480"/>
              <a:ext cx="1107720" cy="802800"/>
              <a:chOff x="3130560" y="4614480"/>
              <a:chExt cx="1107720" cy="802800"/>
            </a:xfrm>
          </p:grpSpPr>
          <p:sp>
            <p:nvSpPr>
              <p:cNvPr id="606" name=""/>
              <p:cNvSpPr/>
              <p:nvPr/>
            </p:nvSpPr>
            <p:spPr>
              <a:xfrm>
                <a:off x="3684600" y="4735080"/>
                <a:ext cx="0" cy="5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304440" y="478836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494520" y="478836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779640" y="478836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159440" y="478836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304440" y="4788360"/>
                <a:ext cx="19008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494520" y="4788360"/>
                <a:ext cx="18972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684600" y="4788360"/>
                <a:ext cx="9504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779640" y="4788360"/>
                <a:ext cx="37980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304440" y="496260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209760" y="501588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399480" y="501588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209760" y="5015880"/>
                <a:ext cx="9468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304440" y="5015880"/>
                <a:ext cx="9504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130560" y="50695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150720" y="5090400"/>
                <a:ext cx="1166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1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130560" y="50695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399480" y="5190120"/>
                <a:ext cx="0" cy="10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320280" y="52966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329640" y="5317920"/>
                <a:ext cx="13788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12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320280" y="52966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320280" y="50695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341160" y="5090400"/>
                <a:ext cx="1166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1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320280" y="50695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225600" y="48420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257640" y="4862160"/>
                <a:ext cx="950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225600" y="48420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415320" y="48420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446640" y="4862160"/>
                <a:ext cx="950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415320" y="48420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779640" y="496260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589560" y="501588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779640" y="501588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969720" y="501588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589560" y="5015880"/>
                <a:ext cx="19008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779640" y="5015880"/>
                <a:ext cx="18972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510360" y="50695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530160" y="5090400"/>
                <a:ext cx="1166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510360" y="50695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779640" y="519012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684600" y="5243760"/>
                <a:ext cx="0" cy="5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874320" y="5243760"/>
                <a:ext cx="0" cy="5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684600" y="5243760"/>
                <a:ext cx="9504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779640" y="5243760"/>
                <a:ext cx="9468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605400" y="52966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615840" y="5317920"/>
                <a:ext cx="13788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2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605400" y="52966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795480" y="52966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804840" y="5317920"/>
                <a:ext cx="13788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2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795480" y="52966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700440" y="50695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720600" y="5090400"/>
                <a:ext cx="1166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700440" y="50695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890520" y="50695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911040" y="5090400"/>
                <a:ext cx="1166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3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890520" y="50695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700440" y="48420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732120" y="4862160"/>
                <a:ext cx="950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700440" y="48420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159440" y="4962600"/>
                <a:ext cx="0" cy="10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080240" y="50695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111920" y="5090400"/>
                <a:ext cx="950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4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080240" y="50695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080240" y="48420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111920" y="4862160"/>
                <a:ext cx="950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4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080240" y="48420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88480" y="4614480"/>
                <a:ext cx="192240" cy="12060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97840" y="4635000"/>
                <a:ext cx="17136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user pag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88480" y="4614480"/>
                <a:ext cx="192240" cy="12060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950760" y="4601880"/>
              <a:ext cx="1107720" cy="802800"/>
              <a:chOff x="950760" y="4601880"/>
              <a:chExt cx="1107720" cy="802800"/>
            </a:xfrm>
          </p:grpSpPr>
          <p:sp>
            <p:nvSpPr>
              <p:cNvPr id="676" name=""/>
              <p:cNvSpPr/>
              <p:nvPr/>
            </p:nvSpPr>
            <p:spPr>
              <a:xfrm>
                <a:off x="1504800" y="4722480"/>
                <a:ext cx="0" cy="5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124640" y="477576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14720" y="477576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599840" y="477576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979640" y="477576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124640" y="4775760"/>
                <a:ext cx="19008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14720" y="4775760"/>
                <a:ext cx="18972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504800" y="4775760"/>
                <a:ext cx="9504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599840" y="4775760"/>
                <a:ext cx="37980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124640" y="495000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029960" y="500328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219680" y="500328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029960" y="5003280"/>
                <a:ext cx="9468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124640" y="5003280"/>
                <a:ext cx="9504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95076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70920" y="5077800"/>
                <a:ext cx="1166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1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95076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219680" y="5177520"/>
                <a:ext cx="0" cy="10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140480" y="52840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149840" y="5305320"/>
                <a:ext cx="13788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12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140480" y="52840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14048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161360" y="5077800"/>
                <a:ext cx="1166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1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14048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04580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077840" y="4849560"/>
                <a:ext cx="950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04580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23552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266840" y="4849560"/>
                <a:ext cx="950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23552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599840" y="495000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409760" y="500328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599840" y="500328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789920" y="500328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409760" y="5003280"/>
                <a:ext cx="19008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99840" y="5003280"/>
                <a:ext cx="18972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3056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50360" y="5077800"/>
                <a:ext cx="1166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3056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599840" y="5177520"/>
                <a:ext cx="0" cy="5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504800" y="5231160"/>
                <a:ext cx="0" cy="5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694520" y="5231160"/>
                <a:ext cx="0" cy="5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504800" y="5231160"/>
                <a:ext cx="9504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599840" y="5231160"/>
                <a:ext cx="9468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425600" y="52840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436040" y="5305320"/>
                <a:ext cx="13788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2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425600" y="52840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615680" y="52840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625040" y="5305320"/>
                <a:ext cx="13788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2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615680" y="5284080"/>
                <a:ext cx="158040" cy="12060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52064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540800" y="5077800"/>
                <a:ext cx="1166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52064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71072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731240" y="5077800"/>
                <a:ext cx="1166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3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71072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52064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552320" y="4849560"/>
                <a:ext cx="950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3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52064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979640" y="4950000"/>
                <a:ext cx="0" cy="10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90044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932120" y="5077800"/>
                <a:ext cx="950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4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900440" y="505692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90044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932120" y="4849560"/>
                <a:ext cx="9504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ub 4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900440" y="4829400"/>
                <a:ext cx="158040" cy="12024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408680" y="4601880"/>
                <a:ext cx="192240" cy="12060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418040" y="4622400"/>
                <a:ext cx="171360" cy="46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user pag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408680" y="4601880"/>
                <a:ext cx="192240" cy="120600"/>
              </a:xfrm>
              <a:prstGeom prst="rect">
                <a:avLst/>
              </a:prstGeom>
              <a:solidFill>
                <a:srgbClr val="ededed"/>
              </a:solidFill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1869840" y="267300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http://www.net.is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51600" y="4273200"/>
              <a:ext cx="1584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http://www.client1.d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72.16.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85320" y="4273200"/>
              <a:ext cx="1584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http://www.client2.d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72.16.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83920" y="4273200"/>
              <a:ext cx="1584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http://www.client3.d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72.16.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065000" y="4273200"/>
              <a:ext cx="1584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http://www.client4.d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72.16.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1574640" y="3238200"/>
              <a:ext cx="190512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479760" y="3250800"/>
              <a:ext cx="139680" cy="9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479760" y="3263760"/>
              <a:ext cx="23623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67160" y="3263760"/>
              <a:ext cx="4432320" cy="10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70800" y="285084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72.16.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3848040" y="2603160"/>
              <a:ext cx="266760" cy="330120"/>
              <a:chOff x="3848040" y="2603160"/>
              <a:chExt cx="266760" cy="330120"/>
            </a:xfrm>
          </p:grpSpPr>
          <p:sp>
            <p:nvSpPr>
              <p:cNvPr id="756" name=""/>
              <p:cNvSpPr/>
              <p:nvPr/>
            </p:nvSpPr>
            <p:spPr>
              <a:xfrm>
                <a:off x="3861720" y="2627280"/>
                <a:ext cx="253080" cy="297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848040" y="2603160"/>
                <a:ext cx="14364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3911040" y="292716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3902400" y="262728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3809880" y="2679480"/>
              <a:ext cx="266760" cy="330120"/>
              <a:chOff x="3809880" y="2679480"/>
              <a:chExt cx="266760" cy="330120"/>
            </a:xfrm>
          </p:grpSpPr>
          <p:sp>
            <p:nvSpPr>
              <p:cNvPr id="761" name=""/>
              <p:cNvSpPr/>
              <p:nvPr/>
            </p:nvSpPr>
            <p:spPr>
              <a:xfrm>
                <a:off x="3823560" y="2703600"/>
                <a:ext cx="253080" cy="297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09880" y="2679480"/>
                <a:ext cx="14364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3872880" y="300348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3864240" y="270360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3784680" y="2768400"/>
              <a:ext cx="266760" cy="330120"/>
              <a:chOff x="3784680" y="2768400"/>
              <a:chExt cx="266760" cy="330120"/>
            </a:xfrm>
          </p:grpSpPr>
          <p:sp>
            <p:nvSpPr>
              <p:cNvPr id="766" name=""/>
              <p:cNvSpPr/>
              <p:nvPr/>
            </p:nvSpPr>
            <p:spPr>
              <a:xfrm>
                <a:off x="3798360" y="2792520"/>
                <a:ext cx="253080" cy="297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784680" y="2768400"/>
                <a:ext cx="14364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3847680" y="309240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3839040" y="279252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3733920" y="2857320"/>
              <a:ext cx="266760" cy="330120"/>
              <a:chOff x="3733920" y="2857320"/>
              <a:chExt cx="266760" cy="330120"/>
            </a:xfrm>
          </p:grpSpPr>
          <p:sp>
            <p:nvSpPr>
              <p:cNvPr id="771" name=""/>
              <p:cNvSpPr/>
              <p:nvPr/>
            </p:nvSpPr>
            <p:spPr>
              <a:xfrm>
                <a:off x="3747600" y="2881440"/>
                <a:ext cx="253080" cy="297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733920" y="2857320"/>
                <a:ext cx="14364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3796920" y="3181320"/>
                <a:ext cx="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3788280" y="2881440"/>
                <a:ext cx="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3195720" y="2747520"/>
              <a:ext cx="461880" cy="555480"/>
              <a:chOff x="3195720" y="2747520"/>
              <a:chExt cx="461880" cy="555480"/>
            </a:xfrm>
          </p:grpSpPr>
          <p:grpSp>
            <p:nvGrpSpPr>
              <p:cNvPr id="776" name=""/>
              <p:cNvGrpSpPr/>
              <p:nvPr/>
            </p:nvGrpSpPr>
            <p:grpSpPr>
              <a:xfrm>
                <a:off x="3195720" y="2747520"/>
                <a:ext cx="461880" cy="555480"/>
                <a:chOff x="3195720" y="2747520"/>
                <a:chExt cx="461880" cy="55548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3195720" y="3219840"/>
                  <a:ext cx="461880" cy="8316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3251160" y="2747520"/>
                  <a:ext cx="378360" cy="46296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9" name=""/>
              <p:cNvSpPr/>
              <p:nvPr/>
            </p:nvSpPr>
            <p:spPr>
              <a:xfrm>
                <a:off x="3292560" y="2795760"/>
                <a:ext cx="156600" cy="626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13440" y="2823840"/>
                <a:ext cx="11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292560" y="2886120"/>
                <a:ext cx="156600" cy="22464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2" name=""/>
            <p:cNvSpPr/>
            <p:nvPr/>
          </p:nvSpPr>
          <p:spPr>
            <a:xfrm>
              <a:off x="3961080" y="2558880"/>
              <a:ext cx="9169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72.16.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72.16.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72.16.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72.16.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1257480" y="5460840"/>
              <a:ext cx="647640" cy="787320"/>
              <a:chOff x="1257480" y="5460840"/>
              <a:chExt cx="647640" cy="787320"/>
            </a:xfrm>
          </p:grpSpPr>
          <p:grpSp>
            <p:nvGrpSpPr>
              <p:cNvPr id="784" name=""/>
              <p:cNvGrpSpPr/>
              <p:nvPr/>
            </p:nvGrpSpPr>
            <p:grpSpPr>
              <a:xfrm>
                <a:off x="1303560" y="5656320"/>
                <a:ext cx="461880" cy="555120"/>
                <a:chOff x="1303560" y="5656320"/>
                <a:chExt cx="461880" cy="555120"/>
              </a:xfrm>
            </p:grpSpPr>
            <p:grpSp>
              <p:nvGrpSpPr>
                <p:cNvPr id="785" name=""/>
                <p:cNvGrpSpPr/>
                <p:nvPr/>
              </p:nvGrpSpPr>
              <p:grpSpPr>
                <a:xfrm>
                  <a:off x="1303560" y="5656320"/>
                  <a:ext cx="461880" cy="555120"/>
                  <a:chOff x="1303560" y="5656320"/>
                  <a:chExt cx="461880" cy="555120"/>
                </a:xfrm>
              </p:grpSpPr>
              <p:sp>
                <p:nvSpPr>
                  <p:cNvPr id="786" name=""/>
                  <p:cNvSpPr/>
                  <p:nvPr/>
                </p:nvSpPr>
                <p:spPr>
                  <a:xfrm>
                    <a:off x="1303560" y="6128280"/>
                    <a:ext cx="461880" cy="8316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1359000" y="5656320"/>
                    <a:ext cx="378360" cy="46260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8" name=""/>
                <p:cNvSpPr/>
                <p:nvPr/>
              </p:nvSpPr>
              <p:spPr>
                <a:xfrm>
                  <a:off x="1400400" y="5704560"/>
                  <a:ext cx="156600" cy="6264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421280" y="5732640"/>
                  <a:ext cx="110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400400" y="5794920"/>
                  <a:ext cx="156600" cy="224640"/>
                </a:xfrm>
                <a:prstGeom prst="rect">
                  <a:avLst/>
                </a:prstGeom>
                <a:solidFill>
                  <a:srgbClr val="a2a2a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>
                <a:off x="1257480" y="5460840"/>
                <a:ext cx="647640" cy="787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3340080" y="5460840"/>
              <a:ext cx="647640" cy="787320"/>
              <a:chOff x="3340080" y="5460840"/>
              <a:chExt cx="647640" cy="787320"/>
            </a:xfrm>
          </p:grpSpPr>
          <p:grpSp>
            <p:nvGrpSpPr>
              <p:cNvPr id="793" name=""/>
              <p:cNvGrpSpPr/>
              <p:nvPr/>
            </p:nvGrpSpPr>
            <p:grpSpPr>
              <a:xfrm>
                <a:off x="3386160" y="5656320"/>
                <a:ext cx="461880" cy="555120"/>
                <a:chOff x="3386160" y="5656320"/>
                <a:chExt cx="461880" cy="555120"/>
              </a:xfrm>
            </p:grpSpPr>
            <p:grpSp>
              <p:nvGrpSpPr>
                <p:cNvPr id="794" name=""/>
                <p:cNvGrpSpPr/>
                <p:nvPr/>
              </p:nvGrpSpPr>
              <p:grpSpPr>
                <a:xfrm>
                  <a:off x="3386160" y="5656320"/>
                  <a:ext cx="461880" cy="555120"/>
                  <a:chOff x="3386160" y="5656320"/>
                  <a:chExt cx="461880" cy="555120"/>
                </a:xfrm>
              </p:grpSpPr>
              <p:sp>
                <p:nvSpPr>
                  <p:cNvPr id="795" name=""/>
                  <p:cNvSpPr/>
                  <p:nvPr/>
                </p:nvSpPr>
                <p:spPr>
                  <a:xfrm>
                    <a:off x="3386160" y="6128280"/>
                    <a:ext cx="461880" cy="8316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3441600" y="5656320"/>
                    <a:ext cx="378360" cy="46260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7" name=""/>
                <p:cNvSpPr/>
                <p:nvPr/>
              </p:nvSpPr>
              <p:spPr>
                <a:xfrm>
                  <a:off x="3483000" y="5704560"/>
                  <a:ext cx="156600" cy="6264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503880" y="5732640"/>
                  <a:ext cx="110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3483000" y="5794920"/>
                  <a:ext cx="156600" cy="224640"/>
                </a:xfrm>
                <a:prstGeom prst="rect">
                  <a:avLst/>
                </a:prstGeom>
                <a:solidFill>
                  <a:srgbClr val="a2a2a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0" name=""/>
              <p:cNvSpPr/>
              <p:nvPr/>
            </p:nvSpPr>
            <p:spPr>
              <a:xfrm>
                <a:off x="3340080" y="5460840"/>
                <a:ext cx="647640" cy="787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5575320" y="5447880"/>
              <a:ext cx="647640" cy="787320"/>
              <a:chOff x="5575320" y="5447880"/>
              <a:chExt cx="647640" cy="78732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5621400" y="5643360"/>
                <a:ext cx="461880" cy="555120"/>
                <a:chOff x="5621400" y="5643360"/>
                <a:chExt cx="461880" cy="555120"/>
              </a:xfrm>
            </p:grpSpPr>
            <p:grpSp>
              <p:nvGrpSpPr>
                <p:cNvPr id="803" name=""/>
                <p:cNvGrpSpPr/>
                <p:nvPr/>
              </p:nvGrpSpPr>
              <p:grpSpPr>
                <a:xfrm>
                  <a:off x="5621400" y="5643360"/>
                  <a:ext cx="461880" cy="555120"/>
                  <a:chOff x="5621400" y="5643360"/>
                  <a:chExt cx="461880" cy="55512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>
                    <a:off x="5621400" y="6115320"/>
                    <a:ext cx="461880" cy="8316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5676840" y="5643360"/>
                    <a:ext cx="378360" cy="46260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6" name=""/>
                <p:cNvSpPr/>
                <p:nvPr/>
              </p:nvSpPr>
              <p:spPr>
                <a:xfrm>
                  <a:off x="5718240" y="5691600"/>
                  <a:ext cx="156600" cy="6264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739120" y="5719680"/>
                  <a:ext cx="110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718240" y="5781960"/>
                  <a:ext cx="156600" cy="224640"/>
                </a:xfrm>
                <a:prstGeom prst="rect">
                  <a:avLst/>
                </a:prstGeom>
                <a:solidFill>
                  <a:srgbClr val="a2a2a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9" name=""/>
              <p:cNvSpPr/>
              <p:nvPr/>
            </p:nvSpPr>
            <p:spPr>
              <a:xfrm>
                <a:off x="5575320" y="5447880"/>
                <a:ext cx="647640" cy="787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7797960" y="5460840"/>
              <a:ext cx="647640" cy="787320"/>
              <a:chOff x="7797960" y="5460840"/>
              <a:chExt cx="647640" cy="787320"/>
            </a:xfrm>
          </p:grpSpPr>
          <p:grpSp>
            <p:nvGrpSpPr>
              <p:cNvPr id="811" name=""/>
              <p:cNvGrpSpPr/>
              <p:nvPr/>
            </p:nvGrpSpPr>
            <p:grpSpPr>
              <a:xfrm>
                <a:off x="7844040" y="5656320"/>
                <a:ext cx="461880" cy="555120"/>
                <a:chOff x="7844040" y="5656320"/>
                <a:chExt cx="461880" cy="555120"/>
              </a:xfrm>
            </p:grpSpPr>
            <p:grpSp>
              <p:nvGrpSpPr>
                <p:cNvPr id="812" name=""/>
                <p:cNvGrpSpPr/>
                <p:nvPr/>
              </p:nvGrpSpPr>
              <p:grpSpPr>
                <a:xfrm>
                  <a:off x="7844040" y="5656320"/>
                  <a:ext cx="461880" cy="555120"/>
                  <a:chOff x="7844040" y="5656320"/>
                  <a:chExt cx="461880" cy="55512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>
                    <a:off x="7844040" y="6128280"/>
                    <a:ext cx="461880" cy="8316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7899480" y="5656320"/>
                    <a:ext cx="378360" cy="46260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5" name=""/>
                <p:cNvSpPr/>
                <p:nvPr/>
              </p:nvSpPr>
              <p:spPr>
                <a:xfrm>
                  <a:off x="7940880" y="5704560"/>
                  <a:ext cx="156600" cy="6264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61760" y="5732640"/>
                  <a:ext cx="110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7940880" y="5794920"/>
                  <a:ext cx="156600" cy="224640"/>
                </a:xfrm>
                <a:prstGeom prst="rect">
                  <a:avLst/>
                </a:prstGeom>
                <a:solidFill>
                  <a:srgbClr val="a2a2a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8" name=""/>
              <p:cNvSpPr/>
              <p:nvPr/>
            </p:nvSpPr>
            <p:spPr>
              <a:xfrm>
                <a:off x="7797960" y="5460840"/>
                <a:ext cx="647640" cy="787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NET serv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a valuable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expensiv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much traffic getting-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much hard disk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cost a lo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mes and Entertain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nternet is not intended to be serious and there’s a perfectly good market for games and entertai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me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ing audio/video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"/>
          <p:cNvGrpSpPr/>
          <p:nvPr/>
        </p:nvGrpSpPr>
        <p:grpSpPr>
          <a:xfrm>
            <a:off x="1453680" y="609120"/>
            <a:ext cx="6546960" cy="5916960"/>
            <a:chOff x="1453680" y="609120"/>
            <a:chExt cx="6546960" cy="5916960"/>
          </a:xfrm>
        </p:grpSpPr>
        <p:sp>
          <p:nvSpPr>
            <p:cNvPr id="824" name=""/>
            <p:cNvSpPr/>
            <p:nvPr/>
          </p:nvSpPr>
          <p:spPr>
            <a:xfrm flipH="1" flipV="1">
              <a:off x="2514240" y="609120"/>
              <a:ext cx="95220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3390840" y="761760"/>
              <a:ext cx="1130040" cy="7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3403440" y="787320"/>
              <a:ext cx="177480" cy="67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19240" y="4203720"/>
              <a:ext cx="0" cy="73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4495680" y="1244160"/>
              <a:ext cx="1904760" cy="685800"/>
            </a:xfrm>
            <a:prstGeom prst="line">
              <a:avLst/>
            </a:prstGeom>
            <a:ln w="2844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19240" y="2222280"/>
              <a:ext cx="0" cy="72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51160" y="2006640"/>
              <a:ext cx="0" cy="93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508280" y="2006640"/>
              <a:ext cx="0" cy="93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695760" y="49021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82880" y="4914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273040" y="2946240"/>
              <a:ext cx="0" cy="165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1485720" y="2104920"/>
              <a:ext cx="752040" cy="231840"/>
              <a:chOff x="1485720" y="2104920"/>
              <a:chExt cx="752040" cy="231840"/>
            </a:xfrm>
          </p:grpSpPr>
          <p:sp>
            <p:nvSpPr>
              <p:cNvPr id="836" name=""/>
              <p:cNvSpPr/>
              <p:nvPr/>
            </p:nvSpPr>
            <p:spPr>
              <a:xfrm>
                <a:off x="1485720" y="2104920"/>
                <a:ext cx="752040" cy="23184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526040" y="2178000"/>
                <a:ext cx="664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528920" y="2134800"/>
                <a:ext cx="664920" cy="1926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6040" y="2217240"/>
                <a:ext cx="664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526040" y="2260800"/>
                <a:ext cx="664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1" name=""/>
              <p:cNvGrpSpPr/>
              <p:nvPr/>
            </p:nvGrpSpPr>
            <p:grpSpPr>
              <a:xfrm>
                <a:off x="1558800" y="2160000"/>
                <a:ext cx="56880" cy="77760"/>
                <a:chOff x="1558800" y="2160000"/>
                <a:chExt cx="56880" cy="7776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1558800" y="219888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1558800" y="223776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558800" y="216000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1659240" y="2160000"/>
                <a:ext cx="57240" cy="77760"/>
                <a:chOff x="1659240" y="2160000"/>
                <a:chExt cx="57240" cy="7776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1659240" y="219888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659240" y="223776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659240" y="216000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1759680" y="2160000"/>
                <a:ext cx="56880" cy="77760"/>
                <a:chOff x="1759680" y="2160000"/>
                <a:chExt cx="56880" cy="7776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1759680" y="219888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1759680" y="223776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1759680" y="216000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1861560" y="2160000"/>
                <a:ext cx="57240" cy="77760"/>
                <a:chOff x="1861560" y="2160000"/>
                <a:chExt cx="57240" cy="7776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1861560" y="219888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1861560" y="223776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861560" y="216000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7" name=""/>
              <p:cNvGrpSpPr/>
              <p:nvPr/>
            </p:nvGrpSpPr>
            <p:grpSpPr>
              <a:xfrm>
                <a:off x="1962000" y="2160000"/>
                <a:ext cx="56880" cy="77760"/>
                <a:chOff x="1962000" y="2160000"/>
                <a:chExt cx="56880" cy="7776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1962000" y="219888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962000" y="223776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962000" y="216000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2063520" y="2160000"/>
                <a:ext cx="57240" cy="77760"/>
                <a:chOff x="2063520" y="2160000"/>
                <a:chExt cx="57240" cy="7776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2063520" y="219888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063520" y="223776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63520" y="216000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5" name=""/>
            <p:cNvGrpSpPr/>
            <p:nvPr/>
          </p:nvGrpSpPr>
          <p:grpSpPr>
            <a:xfrm>
              <a:off x="3033720" y="1473120"/>
              <a:ext cx="510840" cy="863640"/>
              <a:chOff x="3033720" y="1473120"/>
              <a:chExt cx="510840" cy="863640"/>
            </a:xfrm>
          </p:grpSpPr>
          <p:sp>
            <p:nvSpPr>
              <p:cNvPr id="866" name=""/>
              <p:cNvSpPr/>
              <p:nvPr/>
            </p:nvSpPr>
            <p:spPr>
              <a:xfrm>
                <a:off x="3035160" y="1473120"/>
                <a:ext cx="509040" cy="86364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35160" y="217548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033720" y="1623240"/>
                <a:ext cx="510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082680" y="162324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166920" y="162324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249360" y="162324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333600" y="162324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417840" y="162324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501720" y="162324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5" name=""/>
              <p:cNvGrpSpPr/>
              <p:nvPr/>
            </p:nvGrpSpPr>
            <p:grpSpPr>
              <a:xfrm>
                <a:off x="3098520" y="1657800"/>
                <a:ext cx="39240" cy="442080"/>
                <a:chOff x="3098520" y="1657800"/>
                <a:chExt cx="39240" cy="442080"/>
              </a:xfrm>
            </p:grpSpPr>
            <p:sp>
              <p:nvSpPr>
                <p:cNvPr id="876" name=""/>
                <p:cNvSpPr/>
                <p:nvPr/>
              </p:nvSpPr>
              <p:spPr>
                <a:xfrm>
                  <a:off x="3098520" y="1657800"/>
                  <a:ext cx="3924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3098520" y="1770120"/>
                  <a:ext cx="3924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3098520" y="1888920"/>
                  <a:ext cx="392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3098520" y="2005920"/>
                  <a:ext cx="3924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3180960" y="1657800"/>
                <a:ext cx="41040" cy="442080"/>
                <a:chOff x="3180960" y="1657800"/>
                <a:chExt cx="41040" cy="44208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3180960" y="1657800"/>
                  <a:ext cx="4104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3180960" y="1770120"/>
                  <a:ext cx="4104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3180960" y="188892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3180960" y="2005920"/>
                  <a:ext cx="4104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" name=""/>
              <p:cNvGrpSpPr/>
              <p:nvPr/>
            </p:nvGrpSpPr>
            <p:grpSpPr>
              <a:xfrm>
                <a:off x="3277800" y="1657800"/>
                <a:ext cx="41040" cy="442080"/>
                <a:chOff x="3277800" y="1657800"/>
                <a:chExt cx="41040" cy="44208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3277800" y="1657800"/>
                  <a:ext cx="4104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3277800" y="1770120"/>
                  <a:ext cx="4104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3277800" y="188892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3277800" y="2005920"/>
                  <a:ext cx="4104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0" name=""/>
              <p:cNvGrpSpPr/>
              <p:nvPr/>
            </p:nvGrpSpPr>
            <p:grpSpPr>
              <a:xfrm>
                <a:off x="3350880" y="1657800"/>
                <a:ext cx="41040" cy="442080"/>
                <a:chOff x="3350880" y="1657800"/>
                <a:chExt cx="41040" cy="44208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3350880" y="1657800"/>
                  <a:ext cx="4104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350880" y="1770120"/>
                  <a:ext cx="4104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350880" y="188892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350880" y="2005920"/>
                  <a:ext cx="4104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3436560" y="1657800"/>
                <a:ext cx="41040" cy="442080"/>
                <a:chOff x="3436560" y="1657800"/>
                <a:chExt cx="41040" cy="44208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3436560" y="1657800"/>
                  <a:ext cx="4104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436560" y="1770120"/>
                  <a:ext cx="4104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436560" y="188892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436560" y="2005920"/>
                  <a:ext cx="4104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0" name=""/>
            <p:cNvGrpSpPr/>
            <p:nvPr/>
          </p:nvGrpSpPr>
          <p:grpSpPr>
            <a:xfrm>
              <a:off x="4340160" y="1473120"/>
              <a:ext cx="266040" cy="863280"/>
              <a:chOff x="4340160" y="1473120"/>
              <a:chExt cx="266040" cy="863280"/>
            </a:xfrm>
          </p:grpSpPr>
          <p:sp>
            <p:nvSpPr>
              <p:cNvPr id="901" name=""/>
              <p:cNvSpPr/>
              <p:nvPr/>
            </p:nvSpPr>
            <p:spPr>
              <a:xfrm>
                <a:off x="4341240" y="1473120"/>
                <a:ext cx="264960" cy="86328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341240" y="2174760"/>
                <a:ext cx="24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340160" y="1623600"/>
                <a:ext cx="25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389120" y="162360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473000" y="162360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555800" y="162360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7" name=""/>
              <p:cNvGrpSpPr/>
              <p:nvPr/>
            </p:nvGrpSpPr>
            <p:grpSpPr>
              <a:xfrm>
                <a:off x="4404960" y="1657080"/>
                <a:ext cx="39240" cy="442800"/>
                <a:chOff x="4404960" y="1657080"/>
                <a:chExt cx="39240" cy="44280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4404960" y="1657080"/>
                  <a:ext cx="392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404960" y="1769400"/>
                  <a:ext cx="392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4404960" y="1888560"/>
                  <a:ext cx="392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4404960" y="2005560"/>
                  <a:ext cx="392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4487400" y="1657080"/>
                <a:ext cx="41040" cy="442800"/>
                <a:chOff x="4487400" y="1657080"/>
                <a:chExt cx="41040" cy="44280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4487400" y="165708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4487400" y="176940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4487400" y="188856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4487400" y="200556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7" name=""/>
            <p:cNvGrpSpPr/>
            <p:nvPr/>
          </p:nvGrpSpPr>
          <p:grpSpPr>
            <a:xfrm>
              <a:off x="2501640" y="5321160"/>
              <a:ext cx="455400" cy="545760"/>
              <a:chOff x="2501640" y="5321160"/>
              <a:chExt cx="455400" cy="545760"/>
            </a:xfrm>
          </p:grpSpPr>
          <p:grpSp>
            <p:nvGrpSpPr>
              <p:cNvPr id="918" name=""/>
              <p:cNvGrpSpPr/>
              <p:nvPr/>
            </p:nvGrpSpPr>
            <p:grpSpPr>
              <a:xfrm>
                <a:off x="2501640" y="5321160"/>
                <a:ext cx="455400" cy="545760"/>
                <a:chOff x="2501640" y="5321160"/>
                <a:chExt cx="455400" cy="54576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2501640" y="5785200"/>
                  <a:ext cx="45540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2556360" y="5321160"/>
                  <a:ext cx="373320" cy="4550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1" name=""/>
              <p:cNvSpPr/>
              <p:nvPr/>
            </p:nvSpPr>
            <p:spPr>
              <a:xfrm>
                <a:off x="2597400" y="5368680"/>
                <a:ext cx="154440" cy="615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617560" y="539604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597400" y="545760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3327480" y="5321160"/>
              <a:ext cx="455040" cy="545760"/>
              <a:chOff x="3327480" y="5321160"/>
              <a:chExt cx="455040" cy="545760"/>
            </a:xfrm>
          </p:grpSpPr>
          <p:grpSp>
            <p:nvGrpSpPr>
              <p:cNvPr id="925" name=""/>
              <p:cNvGrpSpPr/>
              <p:nvPr/>
            </p:nvGrpSpPr>
            <p:grpSpPr>
              <a:xfrm>
                <a:off x="3327480" y="5321160"/>
                <a:ext cx="455040" cy="545760"/>
                <a:chOff x="3327480" y="5321160"/>
                <a:chExt cx="455040" cy="54576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3327480" y="5785200"/>
                  <a:ext cx="45504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3381840" y="5321160"/>
                  <a:ext cx="372960" cy="4550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8" name=""/>
              <p:cNvSpPr/>
              <p:nvPr/>
            </p:nvSpPr>
            <p:spPr>
              <a:xfrm>
                <a:off x="3422880" y="5368680"/>
                <a:ext cx="154440" cy="61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443400" y="539604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422880" y="545760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1" name=""/>
            <p:cNvSpPr/>
            <p:nvPr/>
          </p:nvSpPr>
          <p:spPr>
            <a:xfrm>
              <a:off x="2235240" y="4559040"/>
              <a:ext cx="5765400" cy="88920"/>
            </a:xfrm>
            <a:prstGeom prst="rect">
              <a:avLst/>
            </a:prstGeom>
            <a:gradFill rotWithShape="0">
              <a:gsLst>
                <a:gs pos="0">
                  <a:srgbClr val="474747"/>
                </a:gs>
                <a:gs pos="50000">
                  <a:srgbClr val="ededed"/>
                </a:gs>
                <a:gs pos="100000">
                  <a:srgbClr val="4747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460520" y="2908080"/>
              <a:ext cx="3111120" cy="74520"/>
            </a:xfrm>
            <a:prstGeom prst="rect">
              <a:avLst/>
            </a:prstGeom>
            <a:gradFill rotWithShape="0">
              <a:gsLst>
                <a:gs pos="0">
                  <a:srgbClr val="474747"/>
                </a:gs>
                <a:gs pos="50000">
                  <a:srgbClr val="ededed"/>
                </a:gs>
                <a:gs pos="100000">
                  <a:srgbClr val="4747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3124080" y="3949200"/>
              <a:ext cx="0" cy="62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3981240" y="3949200"/>
              <a:ext cx="0" cy="62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4840200" y="3949200"/>
              <a:ext cx="0" cy="62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5699160" y="3949200"/>
              <a:ext cx="0" cy="62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6557760" y="3949200"/>
              <a:ext cx="0" cy="62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7416720" y="3949200"/>
              <a:ext cx="0" cy="62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2846160" y="3797280"/>
              <a:ext cx="455400" cy="545760"/>
              <a:chOff x="2846160" y="3797280"/>
              <a:chExt cx="455400" cy="545760"/>
            </a:xfrm>
          </p:grpSpPr>
          <p:grpSp>
            <p:nvGrpSpPr>
              <p:cNvPr id="940" name=""/>
              <p:cNvGrpSpPr/>
              <p:nvPr/>
            </p:nvGrpSpPr>
            <p:grpSpPr>
              <a:xfrm>
                <a:off x="2846160" y="3797280"/>
                <a:ext cx="455400" cy="545760"/>
                <a:chOff x="2846160" y="3797280"/>
                <a:chExt cx="455400" cy="545760"/>
              </a:xfrm>
            </p:grpSpPr>
            <p:sp>
              <p:nvSpPr>
                <p:cNvPr id="941" name=""/>
                <p:cNvSpPr/>
                <p:nvPr/>
              </p:nvSpPr>
              <p:spPr>
                <a:xfrm>
                  <a:off x="2846160" y="4261320"/>
                  <a:ext cx="45540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2900880" y="3797280"/>
                  <a:ext cx="373320" cy="4550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3" name=""/>
              <p:cNvSpPr/>
              <p:nvPr/>
            </p:nvSpPr>
            <p:spPr>
              <a:xfrm>
                <a:off x="2941920" y="3844800"/>
                <a:ext cx="154440" cy="61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962080" y="387216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941920" y="393372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3724200" y="3797280"/>
              <a:ext cx="455400" cy="545760"/>
              <a:chOff x="3724200" y="3797280"/>
              <a:chExt cx="455400" cy="545760"/>
            </a:xfrm>
          </p:grpSpPr>
          <p:grpSp>
            <p:nvGrpSpPr>
              <p:cNvPr id="947" name=""/>
              <p:cNvGrpSpPr/>
              <p:nvPr/>
            </p:nvGrpSpPr>
            <p:grpSpPr>
              <a:xfrm>
                <a:off x="3724200" y="3797280"/>
                <a:ext cx="455400" cy="545760"/>
                <a:chOff x="3724200" y="3797280"/>
                <a:chExt cx="455400" cy="54576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3724200" y="4261320"/>
                  <a:ext cx="45540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3778920" y="3797280"/>
                  <a:ext cx="373320" cy="4550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0" name=""/>
              <p:cNvSpPr/>
              <p:nvPr/>
            </p:nvSpPr>
            <p:spPr>
              <a:xfrm>
                <a:off x="3819960" y="3844800"/>
                <a:ext cx="154440" cy="61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840120" y="387216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819960" y="393372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4603680" y="3797280"/>
              <a:ext cx="455400" cy="545760"/>
              <a:chOff x="4603680" y="3797280"/>
              <a:chExt cx="455400" cy="545760"/>
            </a:xfrm>
          </p:grpSpPr>
          <p:grpSp>
            <p:nvGrpSpPr>
              <p:cNvPr id="954" name=""/>
              <p:cNvGrpSpPr/>
              <p:nvPr/>
            </p:nvGrpSpPr>
            <p:grpSpPr>
              <a:xfrm>
                <a:off x="4603680" y="3797280"/>
                <a:ext cx="455400" cy="545760"/>
                <a:chOff x="4603680" y="3797280"/>
                <a:chExt cx="455400" cy="54576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4603680" y="4261320"/>
                  <a:ext cx="45540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658400" y="3797280"/>
                  <a:ext cx="373320" cy="4550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7" name=""/>
              <p:cNvSpPr/>
              <p:nvPr/>
            </p:nvSpPr>
            <p:spPr>
              <a:xfrm>
                <a:off x="4699440" y="3844800"/>
                <a:ext cx="154440" cy="615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19600" y="387216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699440" y="393372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5481360" y="3797280"/>
              <a:ext cx="455400" cy="545760"/>
              <a:chOff x="5481360" y="3797280"/>
              <a:chExt cx="455400" cy="545760"/>
            </a:xfrm>
          </p:grpSpPr>
          <p:grpSp>
            <p:nvGrpSpPr>
              <p:cNvPr id="961" name=""/>
              <p:cNvGrpSpPr/>
              <p:nvPr/>
            </p:nvGrpSpPr>
            <p:grpSpPr>
              <a:xfrm>
                <a:off x="5481360" y="3797280"/>
                <a:ext cx="455400" cy="545760"/>
                <a:chOff x="5481360" y="3797280"/>
                <a:chExt cx="455400" cy="545760"/>
              </a:xfrm>
            </p:grpSpPr>
            <p:sp>
              <p:nvSpPr>
                <p:cNvPr id="962" name=""/>
                <p:cNvSpPr/>
                <p:nvPr/>
              </p:nvSpPr>
              <p:spPr>
                <a:xfrm>
                  <a:off x="5481360" y="4261320"/>
                  <a:ext cx="45540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536080" y="3797280"/>
                  <a:ext cx="373320" cy="4550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4" name=""/>
              <p:cNvSpPr/>
              <p:nvPr/>
            </p:nvSpPr>
            <p:spPr>
              <a:xfrm>
                <a:off x="5577120" y="3844800"/>
                <a:ext cx="154440" cy="615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597280" y="387216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577120" y="393372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6359400" y="3797280"/>
              <a:ext cx="455400" cy="545760"/>
              <a:chOff x="6359400" y="3797280"/>
              <a:chExt cx="455400" cy="545760"/>
            </a:xfrm>
          </p:grpSpPr>
          <p:grpSp>
            <p:nvGrpSpPr>
              <p:cNvPr id="968" name=""/>
              <p:cNvGrpSpPr/>
              <p:nvPr/>
            </p:nvGrpSpPr>
            <p:grpSpPr>
              <a:xfrm>
                <a:off x="6359400" y="3797280"/>
                <a:ext cx="455400" cy="545760"/>
                <a:chOff x="6359400" y="3797280"/>
                <a:chExt cx="455400" cy="54576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6359400" y="4261320"/>
                  <a:ext cx="45540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6414120" y="3797280"/>
                  <a:ext cx="373320" cy="4550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1" name=""/>
              <p:cNvSpPr/>
              <p:nvPr/>
            </p:nvSpPr>
            <p:spPr>
              <a:xfrm>
                <a:off x="6455160" y="3844800"/>
                <a:ext cx="154440" cy="615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475320" y="387216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455160" y="393372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7238880" y="3797280"/>
              <a:ext cx="455400" cy="545760"/>
              <a:chOff x="7238880" y="3797280"/>
              <a:chExt cx="455400" cy="545760"/>
            </a:xfrm>
          </p:grpSpPr>
          <p:grpSp>
            <p:nvGrpSpPr>
              <p:cNvPr id="975" name=""/>
              <p:cNvGrpSpPr/>
              <p:nvPr/>
            </p:nvGrpSpPr>
            <p:grpSpPr>
              <a:xfrm>
                <a:off x="7238880" y="3797280"/>
                <a:ext cx="455400" cy="545760"/>
                <a:chOff x="7238880" y="3797280"/>
                <a:chExt cx="455400" cy="54576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7238880" y="4261320"/>
                  <a:ext cx="45540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7293600" y="3797280"/>
                  <a:ext cx="373320" cy="4550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8" name=""/>
              <p:cNvSpPr/>
              <p:nvPr/>
            </p:nvSpPr>
            <p:spPr>
              <a:xfrm>
                <a:off x="7334640" y="3844800"/>
                <a:ext cx="154440" cy="615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354800" y="387216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334640" y="393372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6172200" y="761760"/>
              <a:ext cx="1828440" cy="736200"/>
              <a:chOff x="6172200" y="761760"/>
              <a:chExt cx="1828440" cy="736200"/>
            </a:xfrm>
          </p:grpSpPr>
          <p:sp>
            <p:nvSpPr>
              <p:cNvPr id="982" name=""/>
              <p:cNvSpPr/>
              <p:nvPr/>
            </p:nvSpPr>
            <p:spPr>
              <a:xfrm>
                <a:off x="6172200" y="915120"/>
                <a:ext cx="815760" cy="39888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340680" y="1099080"/>
                <a:ext cx="815760" cy="39888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565680" y="761760"/>
                <a:ext cx="815760" cy="39888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931800" y="792360"/>
                <a:ext cx="815760" cy="39888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791040" y="1007280"/>
                <a:ext cx="815760" cy="39888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903360" y="1068480"/>
                <a:ext cx="815760" cy="39888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184880" y="945720"/>
                <a:ext cx="815760" cy="39888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156800" y="1068480"/>
                <a:ext cx="815760" cy="39888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0" name=""/>
            <p:cNvSpPr/>
            <p:nvPr/>
          </p:nvSpPr>
          <p:spPr>
            <a:xfrm>
              <a:off x="6375240" y="995400"/>
              <a:ext cx="14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pstream I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936960" y="2444760"/>
              <a:ext cx="1608840" cy="246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Upstream Feed 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731320" y="2444760"/>
              <a:ext cx="106452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Local Off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Access 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453680" y="2444760"/>
              <a:ext cx="118512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Network Ac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920600" y="3346200"/>
              <a:ext cx="59832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Ac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Filt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5" name=""/>
            <p:cNvGrpSpPr/>
            <p:nvPr/>
          </p:nvGrpSpPr>
          <p:grpSpPr>
            <a:xfrm>
              <a:off x="1793880" y="3980880"/>
              <a:ext cx="863280" cy="266760"/>
              <a:chOff x="1793880" y="3980880"/>
              <a:chExt cx="863280" cy="266760"/>
            </a:xfrm>
          </p:grpSpPr>
          <p:sp>
            <p:nvSpPr>
              <p:cNvPr id="996" name=""/>
              <p:cNvSpPr/>
              <p:nvPr/>
            </p:nvSpPr>
            <p:spPr>
              <a:xfrm rot="16200000">
                <a:off x="2092680" y="3681720"/>
                <a:ext cx="265320" cy="86328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V="1">
                <a:off x="2495520" y="400176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V="1">
                <a:off x="1944360" y="399384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944360" y="4198320"/>
                <a:ext cx="549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944360" y="4114440"/>
                <a:ext cx="549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944360" y="4031640"/>
                <a:ext cx="549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2" name=""/>
              <p:cNvGrpSpPr/>
              <p:nvPr/>
            </p:nvGrpSpPr>
            <p:grpSpPr>
              <a:xfrm>
                <a:off x="1977840" y="4142880"/>
                <a:ext cx="442800" cy="39600"/>
                <a:chOff x="1977840" y="4142880"/>
                <a:chExt cx="442800" cy="39600"/>
              </a:xfrm>
            </p:grpSpPr>
            <p:sp>
              <p:nvSpPr>
                <p:cNvPr id="1003" name=""/>
                <p:cNvSpPr/>
                <p:nvPr/>
              </p:nvSpPr>
              <p:spPr>
                <a:xfrm rot="16200000">
                  <a:off x="2005200" y="411552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rot="16200000">
                  <a:off x="2117520" y="411552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rot="16200000">
                  <a:off x="2236680" y="411552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16200000">
                  <a:off x="2353680" y="411552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1977840" y="4058640"/>
                <a:ext cx="442800" cy="41400"/>
                <a:chOff x="1977840" y="4058640"/>
                <a:chExt cx="442800" cy="41400"/>
              </a:xfrm>
            </p:grpSpPr>
            <p:sp>
              <p:nvSpPr>
                <p:cNvPr id="1008" name=""/>
                <p:cNvSpPr/>
                <p:nvPr/>
              </p:nvSpPr>
              <p:spPr>
                <a:xfrm rot="16200000">
                  <a:off x="2004120" y="403200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rot="16200000">
                  <a:off x="2116440" y="403200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rot="16200000">
                  <a:off x="2235600" y="403200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rot="16200000">
                  <a:off x="2352600" y="403200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2" name=""/>
            <p:cNvSpPr/>
            <p:nvPr/>
          </p:nvSpPr>
          <p:spPr>
            <a:xfrm>
              <a:off x="2803320" y="3143160"/>
              <a:ext cx="60588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Radi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689640" y="3143160"/>
              <a:ext cx="58752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Ma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575600" y="3143160"/>
              <a:ext cx="58752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76680" y="3143160"/>
              <a:ext cx="56160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WW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348960" y="3143160"/>
              <a:ext cx="58752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WW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217280" y="3143160"/>
              <a:ext cx="62712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Use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243160" y="5975280"/>
              <a:ext cx="90144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Accoun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067920" y="5975280"/>
              <a:ext cx="1029600" cy="550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511280" y="4876560"/>
              <a:ext cx="3111120" cy="74880"/>
            </a:xfrm>
            <a:prstGeom prst="rect">
              <a:avLst/>
            </a:prstGeom>
            <a:gradFill rotWithShape="0">
              <a:gsLst>
                <a:gs pos="0">
                  <a:srgbClr val="474747"/>
                </a:gs>
                <a:gs pos="50000">
                  <a:srgbClr val="ededed"/>
                </a:gs>
                <a:gs pos="100000">
                  <a:srgbClr val="4747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4101480" y="609480"/>
              <a:ext cx="773640" cy="474120"/>
              <a:chOff x="4101480" y="609480"/>
              <a:chExt cx="773640" cy="474120"/>
            </a:xfrm>
          </p:grpSpPr>
          <p:sp>
            <p:nvSpPr>
              <p:cNvPr id="1022" name=""/>
              <p:cNvSpPr/>
              <p:nvPr/>
            </p:nvSpPr>
            <p:spPr>
              <a:xfrm>
                <a:off x="4343040" y="609480"/>
                <a:ext cx="266400" cy="266400"/>
              </a:xfrm>
              <a:prstGeom prst="rect">
                <a:avLst/>
              </a:prstGeom>
              <a:solidFill>
                <a:srgbClr val="edede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101480" y="867960"/>
                <a:ext cx="77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Local Offi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3123360" y="609480"/>
              <a:ext cx="773640" cy="474120"/>
              <a:chOff x="3123360" y="609480"/>
              <a:chExt cx="773640" cy="474120"/>
            </a:xfrm>
          </p:grpSpPr>
          <p:sp>
            <p:nvSpPr>
              <p:cNvPr id="1025" name=""/>
              <p:cNvSpPr/>
              <p:nvPr/>
            </p:nvSpPr>
            <p:spPr>
              <a:xfrm>
                <a:off x="3364920" y="609480"/>
                <a:ext cx="266400" cy="266400"/>
              </a:xfrm>
              <a:prstGeom prst="rect">
                <a:avLst/>
              </a:prstGeom>
              <a:solidFill>
                <a:srgbClr val="edede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123360" y="867960"/>
                <a:ext cx="77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Local Offi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2145600" y="609480"/>
              <a:ext cx="773640" cy="474120"/>
              <a:chOff x="2145600" y="609480"/>
              <a:chExt cx="773640" cy="474120"/>
            </a:xfrm>
          </p:grpSpPr>
          <p:sp>
            <p:nvSpPr>
              <p:cNvPr id="1028" name=""/>
              <p:cNvSpPr/>
              <p:nvPr/>
            </p:nvSpPr>
            <p:spPr>
              <a:xfrm>
                <a:off x="2387160" y="609480"/>
                <a:ext cx="266400" cy="266400"/>
              </a:xfrm>
              <a:prstGeom prst="rect">
                <a:avLst/>
              </a:prstGeom>
              <a:solidFill>
                <a:srgbClr val="edede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145600" y="867960"/>
                <a:ext cx="77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Local Offi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"/>
          <p:cNvGrpSpPr/>
          <p:nvPr/>
        </p:nvGrpSpPr>
        <p:grpSpPr>
          <a:xfrm>
            <a:off x="504360" y="939600"/>
            <a:ext cx="7527960" cy="5140800"/>
            <a:chOff x="504360" y="939600"/>
            <a:chExt cx="7527960" cy="5140800"/>
          </a:xfrm>
        </p:grpSpPr>
        <p:sp>
          <p:nvSpPr>
            <p:cNvPr id="1031" name=""/>
            <p:cNvSpPr/>
            <p:nvPr/>
          </p:nvSpPr>
          <p:spPr>
            <a:xfrm>
              <a:off x="5038560" y="3794040"/>
              <a:ext cx="0" cy="10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5473800" y="939600"/>
              <a:ext cx="1904760" cy="685800"/>
            </a:xfrm>
            <a:prstGeom prst="line">
              <a:avLst/>
            </a:prstGeom>
            <a:ln w="2844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770880" y="1224000"/>
              <a:ext cx="106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45Mbps Backbo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 flipV="1">
              <a:off x="1625400" y="1015920"/>
              <a:ext cx="1879560" cy="736560"/>
            </a:xfrm>
            <a:prstGeom prst="line">
              <a:avLst/>
            </a:prstGeom>
            <a:ln w="2844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71880" y="1300320"/>
              <a:ext cx="106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45Mbps Backbo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692440" y="2527200"/>
              <a:ext cx="3632040" cy="927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68760" y="2565360"/>
              <a:ext cx="3479760" cy="83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94600" y="4884840"/>
              <a:ext cx="0" cy="32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348160" y="4875120"/>
              <a:ext cx="0" cy="37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0" name=""/>
            <p:cNvGrpSpPr/>
            <p:nvPr/>
          </p:nvGrpSpPr>
          <p:grpSpPr>
            <a:xfrm>
              <a:off x="6140520" y="5276880"/>
              <a:ext cx="236520" cy="284040"/>
              <a:chOff x="6140520" y="5276880"/>
              <a:chExt cx="236520" cy="284040"/>
            </a:xfrm>
          </p:grpSpPr>
          <p:grpSp>
            <p:nvGrpSpPr>
              <p:cNvPr id="1041" name=""/>
              <p:cNvGrpSpPr/>
              <p:nvPr/>
            </p:nvGrpSpPr>
            <p:grpSpPr>
              <a:xfrm>
                <a:off x="6140520" y="5276880"/>
                <a:ext cx="236520" cy="284040"/>
                <a:chOff x="6140520" y="5276880"/>
                <a:chExt cx="236520" cy="28404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6140520" y="5518440"/>
                  <a:ext cx="236520" cy="424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6168960" y="5276880"/>
                  <a:ext cx="194040" cy="2365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4" name=""/>
              <p:cNvSpPr/>
              <p:nvPr/>
            </p:nvSpPr>
            <p:spPr>
              <a:xfrm>
                <a:off x="6189480" y="5302080"/>
                <a:ext cx="81000" cy="31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200640" y="5316480"/>
                <a:ext cx="5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189480" y="5348160"/>
                <a:ext cx="81000" cy="1144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 flipV="1">
              <a:off x="5473800" y="4552560"/>
              <a:ext cx="0" cy="32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5918040" y="4552560"/>
              <a:ext cx="0" cy="32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6364440" y="4552560"/>
              <a:ext cx="0" cy="32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6808680" y="4552560"/>
              <a:ext cx="0" cy="32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7254720" y="4552560"/>
              <a:ext cx="0" cy="32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7701120" y="4552560"/>
              <a:ext cx="0" cy="32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204520" y="41576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Rad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665680" y="415764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Mai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124320" y="415764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595200" y="415764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WW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Cach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045200" y="415764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WW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490520" y="415764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Use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872240" y="5627520"/>
              <a:ext cx="756720" cy="3373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Accoun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963400" y="5621400"/>
              <a:ext cx="627120" cy="459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Mgm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10160" y="4869000"/>
              <a:ext cx="3394080" cy="39600"/>
            </a:xfrm>
            <a:prstGeom prst="rect">
              <a:avLst/>
            </a:prstGeom>
            <a:gradFill rotWithShape="0">
              <a:gsLst>
                <a:gs pos="0">
                  <a:srgbClr val="474747"/>
                </a:gs>
                <a:gs pos="50000">
                  <a:srgbClr val="ededed"/>
                </a:gs>
                <a:gs pos="100000">
                  <a:srgbClr val="4747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2" name=""/>
            <p:cNvGrpSpPr/>
            <p:nvPr/>
          </p:nvGrpSpPr>
          <p:grpSpPr>
            <a:xfrm>
              <a:off x="5156280" y="5267160"/>
              <a:ext cx="236520" cy="284040"/>
              <a:chOff x="5156280" y="5267160"/>
              <a:chExt cx="236520" cy="284040"/>
            </a:xfrm>
          </p:grpSpPr>
          <p:grpSp>
            <p:nvGrpSpPr>
              <p:cNvPr id="1063" name=""/>
              <p:cNvGrpSpPr/>
              <p:nvPr/>
            </p:nvGrpSpPr>
            <p:grpSpPr>
              <a:xfrm>
                <a:off x="5156280" y="5267160"/>
                <a:ext cx="236520" cy="284040"/>
                <a:chOff x="5156280" y="5267160"/>
                <a:chExt cx="236520" cy="28404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5156280" y="5508720"/>
                  <a:ext cx="236520" cy="424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5184720" y="5267160"/>
                  <a:ext cx="194040" cy="2365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" name=""/>
              <p:cNvSpPr/>
              <p:nvPr/>
            </p:nvSpPr>
            <p:spPr>
              <a:xfrm>
                <a:off x="5205240" y="5292360"/>
                <a:ext cx="81000" cy="31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216400" y="5306760"/>
                <a:ext cx="5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205240" y="5338440"/>
                <a:ext cx="81000" cy="1144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5318280" y="4552920"/>
              <a:ext cx="236520" cy="284040"/>
              <a:chOff x="5318280" y="4552920"/>
              <a:chExt cx="236520" cy="284040"/>
            </a:xfrm>
          </p:grpSpPr>
          <p:grpSp>
            <p:nvGrpSpPr>
              <p:cNvPr id="1070" name=""/>
              <p:cNvGrpSpPr/>
              <p:nvPr/>
            </p:nvGrpSpPr>
            <p:grpSpPr>
              <a:xfrm>
                <a:off x="5318280" y="4552920"/>
                <a:ext cx="236520" cy="284040"/>
                <a:chOff x="5318280" y="4552920"/>
                <a:chExt cx="236520" cy="28404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5318280" y="4794480"/>
                  <a:ext cx="236520" cy="424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5346720" y="4552920"/>
                  <a:ext cx="194040" cy="2365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3" name=""/>
              <p:cNvSpPr/>
              <p:nvPr/>
            </p:nvSpPr>
            <p:spPr>
              <a:xfrm>
                <a:off x="5367240" y="4578120"/>
                <a:ext cx="81000" cy="316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378400" y="4592520"/>
                <a:ext cx="5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367240" y="4624200"/>
                <a:ext cx="81000" cy="1144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5813280" y="4552920"/>
              <a:ext cx="236520" cy="284040"/>
              <a:chOff x="5813280" y="4552920"/>
              <a:chExt cx="236520" cy="284040"/>
            </a:xfrm>
          </p:grpSpPr>
          <p:grpSp>
            <p:nvGrpSpPr>
              <p:cNvPr id="1077" name=""/>
              <p:cNvGrpSpPr/>
              <p:nvPr/>
            </p:nvGrpSpPr>
            <p:grpSpPr>
              <a:xfrm>
                <a:off x="5813280" y="4552920"/>
                <a:ext cx="236520" cy="284040"/>
                <a:chOff x="5813280" y="4552920"/>
                <a:chExt cx="236520" cy="28404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5813280" y="4794480"/>
                  <a:ext cx="236520" cy="424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5841720" y="4552920"/>
                  <a:ext cx="194040" cy="2365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0" name=""/>
              <p:cNvSpPr/>
              <p:nvPr/>
            </p:nvSpPr>
            <p:spPr>
              <a:xfrm>
                <a:off x="5862240" y="4578120"/>
                <a:ext cx="81000" cy="316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873400" y="4592520"/>
                <a:ext cx="5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862240" y="4624200"/>
                <a:ext cx="81000" cy="1144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6222960" y="4552920"/>
              <a:ext cx="236520" cy="284040"/>
              <a:chOff x="6222960" y="4552920"/>
              <a:chExt cx="236520" cy="284040"/>
            </a:xfrm>
          </p:grpSpPr>
          <p:grpSp>
            <p:nvGrpSpPr>
              <p:cNvPr id="1084" name=""/>
              <p:cNvGrpSpPr/>
              <p:nvPr/>
            </p:nvGrpSpPr>
            <p:grpSpPr>
              <a:xfrm>
                <a:off x="6222960" y="4552920"/>
                <a:ext cx="236520" cy="284040"/>
                <a:chOff x="6222960" y="4552920"/>
                <a:chExt cx="236520" cy="28404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6222960" y="4794480"/>
                  <a:ext cx="236520" cy="424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6251400" y="4552920"/>
                  <a:ext cx="194040" cy="2365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7" name=""/>
              <p:cNvSpPr/>
              <p:nvPr/>
            </p:nvSpPr>
            <p:spPr>
              <a:xfrm>
                <a:off x="6271920" y="4578120"/>
                <a:ext cx="81000" cy="316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283080" y="4592520"/>
                <a:ext cx="5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271920" y="4624200"/>
                <a:ext cx="81000" cy="1144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6642000" y="4552920"/>
              <a:ext cx="236520" cy="284040"/>
              <a:chOff x="6642000" y="4552920"/>
              <a:chExt cx="236520" cy="284040"/>
            </a:xfrm>
          </p:grpSpPr>
          <p:grpSp>
            <p:nvGrpSpPr>
              <p:cNvPr id="1091" name=""/>
              <p:cNvGrpSpPr/>
              <p:nvPr/>
            </p:nvGrpSpPr>
            <p:grpSpPr>
              <a:xfrm>
                <a:off x="6642000" y="4552920"/>
                <a:ext cx="236520" cy="284040"/>
                <a:chOff x="6642000" y="4552920"/>
                <a:chExt cx="236520" cy="28404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6642000" y="4794480"/>
                  <a:ext cx="236520" cy="424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6670440" y="4552920"/>
                  <a:ext cx="194040" cy="2365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4" name=""/>
              <p:cNvSpPr/>
              <p:nvPr/>
            </p:nvSpPr>
            <p:spPr>
              <a:xfrm>
                <a:off x="6690960" y="4578120"/>
                <a:ext cx="81000" cy="316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702120" y="4592520"/>
                <a:ext cx="5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690960" y="4624200"/>
                <a:ext cx="81000" cy="1144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7093080" y="4552920"/>
              <a:ext cx="236520" cy="284040"/>
              <a:chOff x="7093080" y="4552920"/>
              <a:chExt cx="236520" cy="284040"/>
            </a:xfrm>
          </p:grpSpPr>
          <p:grpSp>
            <p:nvGrpSpPr>
              <p:cNvPr id="1098" name=""/>
              <p:cNvGrpSpPr/>
              <p:nvPr/>
            </p:nvGrpSpPr>
            <p:grpSpPr>
              <a:xfrm>
                <a:off x="7093080" y="4552920"/>
                <a:ext cx="236520" cy="284040"/>
                <a:chOff x="7093080" y="4552920"/>
                <a:chExt cx="236520" cy="28404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7093080" y="4794480"/>
                  <a:ext cx="236520" cy="424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7121520" y="4552920"/>
                  <a:ext cx="194040" cy="2365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1" name=""/>
              <p:cNvSpPr/>
              <p:nvPr/>
            </p:nvSpPr>
            <p:spPr>
              <a:xfrm>
                <a:off x="7142040" y="4578120"/>
                <a:ext cx="81000" cy="316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153200" y="4592520"/>
                <a:ext cx="5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142040" y="4624200"/>
                <a:ext cx="81000" cy="1144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"/>
            <p:cNvGrpSpPr/>
            <p:nvPr/>
          </p:nvGrpSpPr>
          <p:grpSpPr>
            <a:xfrm>
              <a:off x="7540560" y="4552920"/>
              <a:ext cx="236520" cy="284040"/>
              <a:chOff x="7540560" y="4552920"/>
              <a:chExt cx="236520" cy="284040"/>
            </a:xfrm>
          </p:grpSpPr>
          <p:grpSp>
            <p:nvGrpSpPr>
              <p:cNvPr id="1105" name=""/>
              <p:cNvGrpSpPr/>
              <p:nvPr/>
            </p:nvGrpSpPr>
            <p:grpSpPr>
              <a:xfrm>
                <a:off x="7540560" y="4552920"/>
                <a:ext cx="236520" cy="284040"/>
                <a:chOff x="7540560" y="4552920"/>
                <a:chExt cx="236520" cy="28404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7540560" y="4794480"/>
                  <a:ext cx="236520" cy="424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7569000" y="4552920"/>
                  <a:ext cx="194040" cy="2365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8" name=""/>
              <p:cNvSpPr/>
              <p:nvPr/>
            </p:nvSpPr>
            <p:spPr>
              <a:xfrm>
                <a:off x="7589520" y="4578120"/>
                <a:ext cx="81000" cy="316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600680" y="4592520"/>
                <a:ext cx="5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589520" y="4624200"/>
                <a:ext cx="81000" cy="1144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1" name=""/>
            <p:cNvSpPr/>
            <p:nvPr/>
          </p:nvSpPr>
          <p:spPr>
            <a:xfrm flipV="1">
              <a:off x="3086280" y="3301560"/>
              <a:ext cx="279360" cy="48276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3098880" y="3339720"/>
              <a:ext cx="279360" cy="48276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3" name=""/>
            <p:cNvGrpSpPr/>
            <p:nvPr/>
          </p:nvGrpSpPr>
          <p:grpSpPr>
            <a:xfrm>
              <a:off x="2779560" y="3809880"/>
              <a:ext cx="511200" cy="863640"/>
              <a:chOff x="2779560" y="3809880"/>
              <a:chExt cx="511200" cy="863640"/>
            </a:xfrm>
          </p:grpSpPr>
          <p:sp>
            <p:nvSpPr>
              <p:cNvPr id="1114" name=""/>
              <p:cNvSpPr/>
              <p:nvPr/>
            </p:nvSpPr>
            <p:spPr>
              <a:xfrm>
                <a:off x="2781360" y="3809880"/>
                <a:ext cx="509400" cy="86364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781360" y="451224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779560" y="3960000"/>
                <a:ext cx="51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828880" y="396000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913120" y="396000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995560" y="396000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079800" y="396000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164040" y="396000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247920" y="396000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3" name=""/>
              <p:cNvGrpSpPr/>
              <p:nvPr/>
            </p:nvGrpSpPr>
            <p:grpSpPr>
              <a:xfrm>
                <a:off x="2844720" y="3994560"/>
                <a:ext cx="39600" cy="442080"/>
                <a:chOff x="2844720" y="3994560"/>
                <a:chExt cx="39600" cy="442080"/>
              </a:xfrm>
            </p:grpSpPr>
            <p:sp>
              <p:nvSpPr>
                <p:cNvPr id="1124" name=""/>
                <p:cNvSpPr/>
                <p:nvPr/>
              </p:nvSpPr>
              <p:spPr>
                <a:xfrm>
                  <a:off x="2844720" y="3994560"/>
                  <a:ext cx="396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2844720" y="4106880"/>
                  <a:ext cx="396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2844720" y="422568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2844720" y="4342680"/>
                  <a:ext cx="396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2927160" y="3994560"/>
                <a:ext cx="41400" cy="442080"/>
                <a:chOff x="2927160" y="3994560"/>
                <a:chExt cx="41400" cy="44208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2927160" y="39945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2927160" y="41068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2927160" y="422568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2927160" y="43426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3024000" y="3994560"/>
                <a:ext cx="41400" cy="442080"/>
                <a:chOff x="3024000" y="3994560"/>
                <a:chExt cx="41400" cy="44208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3024000" y="39945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3024000" y="41068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3024000" y="422568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3024000" y="43426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8" name=""/>
              <p:cNvGrpSpPr/>
              <p:nvPr/>
            </p:nvGrpSpPr>
            <p:grpSpPr>
              <a:xfrm>
                <a:off x="3097080" y="3994560"/>
                <a:ext cx="41400" cy="442080"/>
                <a:chOff x="3097080" y="3994560"/>
                <a:chExt cx="41400" cy="442080"/>
              </a:xfrm>
            </p:grpSpPr>
            <p:sp>
              <p:nvSpPr>
                <p:cNvPr id="1139" name=""/>
                <p:cNvSpPr/>
                <p:nvPr/>
              </p:nvSpPr>
              <p:spPr>
                <a:xfrm>
                  <a:off x="3097080" y="39945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3097080" y="41068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3097080" y="422568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3097080" y="43426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3182760" y="3994560"/>
                <a:ext cx="41400" cy="442080"/>
                <a:chOff x="3182760" y="3994560"/>
                <a:chExt cx="41400" cy="44208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3182760" y="39945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3182760" y="41068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3182760" y="422568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3182760" y="43426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8" name=""/>
            <p:cNvSpPr/>
            <p:nvPr/>
          </p:nvSpPr>
          <p:spPr>
            <a:xfrm flipV="1">
              <a:off x="2384280" y="3083040"/>
              <a:ext cx="444600" cy="17784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2346480" y="3137040"/>
              <a:ext cx="444240" cy="17784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0" name=""/>
            <p:cNvGrpSpPr/>
            <p:nvPr/>
          </p:nvGrpSpPr>
          <p:grpSpPr>
            <a:xfrm>
              <a:off x="2017800" y="3340080"/>
              <a:ext cx="511200" cy="863640"/>
              <a:chOff x="2017800" y="3340080"/>
              <a:chExt cx="511200" cy="863640"/>
            </a:xfrm>
          </p:grpSpPr>
          <p:sp>
            <p:nvSpPr>
              <p:cNvPr id="1151" name=""/>
              <p:cNvSpPr/>
              <p:nvPr/>
            </p:nvSpPr>
            <p:spPr>
              <a:xfrm>
                <a:off x="2019600" y="3340080"/>
                <a:ext cx="509400" cy="86364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019600" y="404244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017800" y="3490200"/>
                <a:ext cx="51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067120" y="349020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151360" y="349020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233800" y="349020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2318040" y="349020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402280" y="349020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486160" y="349020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0" name=""/>
              <p:cNvGrpSpPr/>
              <p:nvPr/>
            </p:nvGrpSpPr>
            <p:grpSpPr>
              <a:xfrm>
                <a:off x="2082960" y="3524760"/>
                <a:ext cx="39600" cy="442080"/>
                <a:chOff x="2082960" y="3524760"/>
                <a:chExt cx="39600" cy="44208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2082960" y="3524760"/>
                  <a:ext cx="396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2082960" y="3637080"/>
                  <a:ext cx="396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2082960" y="375588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082960" y="3872880"/>
                  <a:ext cx="396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5" name=""/>
              <p:cNvGrpSpPr/>
              <p:nvPr/>
            </p:nvGrpSpPr>
            <p:grpSpPr>
              <a:xfrm>
                <a:off x="2165400" y="3524760"/>
                <a:ext cx="41400" cy="442080"/>
                <a:chOff x="2165400" y="3524760"/>
                <a:chExt cx="41400" cy="442080"/>
              </a:xfrm>
            </p:grpSpPr>
            <p:sp>
              <p:nvSpPr>
                <p:cNvPr id="1166" name=""/>
                <p:cNvSpPr/>
                <p:nvPr/>
              </p:nvSpPr>
              <p:spPr>
                <a:xfrm>
                  <a:off x="2165400" y="35247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165400" y="36370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165400" y="375588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165400" y="38728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0" name=""/>
              <p:cNvGrpSpPr/>
              <p:nvPr/>
            </p:nvGrpSpPr>
            <p:grpSpPr>
              <a:xfrm>
                <a:off x="2262240" y="3524760"/>
                <a:ext cx="41400" cy="442080"/>
                <a:chOff x="2262240" y="3524760"/>
                <a:chExt cx="41400" cy="442080"/>
              </a:xfrm>
            </p:grpSpPr>
            <p:sp>
              <p:nvSpPr>
                <p:cNvPr id="1171" name=""/>
                <p:cNvSpPr/>
                <p:nvPr/>
              </p:nvSpPr>
              <p:spPr>
                <a:xfrm>
                  <a:off x="2262240" y="35247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62240" y="36370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2262240" y="375588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262240" y="38728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2335320" y="3524760"/>
                <a:ext cx="41400" cy="442080"/>
                <a:chOff x="2335320" y="3524760"/>
                <a:chExt cx="41400" cy="44208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2335320" y="35247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2335320" y="36370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2335320" y="375588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2335320" y="38728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0" name=""/>
              <p:cNvGrpSpPr/>
              <p:nvPr/>
            </p:nvGrpSpPr>
            <p:grpSpPr>
              <a:xfrm>
                <a:off x="2421000" y="3524760"/>
                <a:ext cx="41400" cy="442080"/>
                <a:chOff x="2421000" y="3524760"/>
                <a:chExt cx="41400" cy="442080"/>
              </a:xfrm>
            </p:grpSpPr>
            <p:sp>
              <p:nvSpPr>
                <p:cNvPr id="1181" name=""/>
                <p:cNvSpPr/>
                <p:nvPr/>
              </p:nvSpPr>
              <p:spPr>
                <a:xfrm>
                  <a:off x="2421000" y="35247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421000" y="36370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421000" y="375588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2421000" y="38728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5" name=""/>
            <p:cNvSpPr/>
            <p:nvPr/>
          </p:nvSpPr>
          <p:spPr>
            <a:xfrm>
              <a:off x="2492280" y="2616120"/>
              <a:ext cx="460440" cy="17784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409840" y="2612880"/>
              <a:ext cx="460440" cy="17784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7" name=""/>
            <p:cNvGrpSpPr/>
            <p:nvPr/>
          </p:nvGrpSpPr>
          <p:grpSpPr>
            <a:xfrm>
              <a:off x="1739880" y="2575080"/>
              <a:ext cx="752400" cy="231480"/>
              <a:chOff x="1739880" y="2575080"/>
              <a:chExt cx="752400" cy="231480"/>
            </a:xfrm>
          </p:grpSpPr>
          <p:sp>
            <p:nvSpPr>
              <p:cNvPr id="1188" name=""/>
              <p:cNvSpPr/>
              <p:nvPr/>
            </p:nvSpPr>
            <p:spPr>
              <a:xfrm>
                <a:off x="1739880" y="2575080"/>
                <a:ext cx="752400" cy="23148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780200" y="264816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783080" y="2604960"/>
                <a:ext cx="665280" cy="1922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780200" y="268704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780200" y="273096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1812960" y="2630160"/>
                <a:ext cx="56880" cy="77760"/>
                <a:chOff x="1812960" y="2630160"/>
                <a:chExt cx="56880" cy="7776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1812960" y="26690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812960" y="27079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812960" y="263016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1913400" y="2630160"/>
                <a:ext cx="57240" cy="77760"/>
                <a:chOff x="1913400" y="2630160"/>
                <a:chExt cx="57240" cy="7776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913400" y="26690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13400" y="27079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913400" y="263016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2014200" y="2630160"/>
                <a:ext cx="56880" cy="77760"/>
                <a:chOff x="2014200" y="2630160"/>
                <a:chExt cx="56880" cy="7776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2014200" y="26690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014200" y="27079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014200" y="263016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2115720" y="2630160"/>
                <a:ext cx="57240" cy="77760"/>
                <a:chOff x="2115720" y="2630160"/>
                <a:chExt cx="57240" cy="7776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2115720" y="26690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115720" y="27079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2115720" y="263016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9" name=""/>
              <p:cNvGrpSpPr/>
              <p:nvPr/>
            </p:nvGrpSpPr>
            <p:grpSpPr>
              <a:xfrm>
                <a:off x="2216520" y="2630160"/>
                <a:ext cx="56880" cy="77760"/>
                <a:chOff x="2216520" y="2630160"/>
                <a:chExt cx="56880" cy="77760"/>
              </a:xfrm>
            </p:grpSpPr>
            <p:sp>
              <p:nvSpPr>
                <p:cNvPr id="1210" name=""/>
                <p:cNvSpPr/>
                <p:nvPr/>
              </p:nvSpPr>
              <p:spPr>
                <a:xfrm>
                  <a:off x="2216520" y="26690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2216520" y="27079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2216520" y="263016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" name=""/>
              <p:cNvGrpSpPr/>
              <p:nvPr/>
            </p:nvGrpSpPr>
            <p:grpSpPr>
              <a:xfrm>
                <a:off x="2318040" y="2630160"/>
                <a:ext cx="57240" cy="77760"/>
                <a:chOff x="2318040" y="2630160"/>
                <a:chExt cx="57240" cy="7776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2318040" y="26690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2318040" y="27079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2318040" y="263016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7" name=""/>
            <p:cNvSpPr/>
            <p:nvPr/>
          </p:nvSpPr>
          <p:spPr>
            <a:xfrm>
              <a:off x="3540240" y="2035080"/>
              <a:ext cx="222120" cy="53676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62480" y="2006640"/>
              <a:ext cx="255600" cy="61596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9" name=""/>
            <p:cNvGrpSpPr/>
            <p:nvPr/>
          </p:nvGrpSpPr>
          <p:grpSpPr>
            <a:xfrm>
              <a:off x="3324240" y="1219320"/>
              <a:ext cx="266760" cy="863280"/>
              <a:chOff x="3324240" y="1219320"/>
              <a:chExt cx="266760" cy="863280"/>
            </a:xfrm>
          </p:grpSpPr>
          <p:sp>
            <p:nvSpPr>
              <p:cNvPr id="1220" name=""/>
              <p:cNvSpPr/>
              <p:nvPr/>
            </p:nvSpPr>
            <p:spPr>
              <a:xfrm>
                <a:off x="3325680" y="1219320"/>
                <a:ext cx="265320" cy="86328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325680" y="1920960"/>
                <a:ext cx="24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3324240" y="1369800"/>
                <a:ext cx="25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373560" y="136980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457440" y="136980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540240" y="136980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6" name=""/>
              <p:cNvGrpSpPr/>
              <p:nvPr/>
            </p:nvGrpSpPr>
            <p:grpSpPr>
              <a:xfrm>
                <a:off x="3389400" y="1403280"/>
                <a:ext cx="39600" cy="442800"/>
                <a:chOff x="3389400" y="1403280"/>
                <a:chExt cx="39600" cy="44280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3389400" y="140328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3389400" y="151560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3389400" y="163476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3389400" y="175176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3471840" y="1403280"/>
                <a:ext cx="41400" cy="442800"/>
                <a:chOff x="3471840" y="1403280"/>
                <a:chExt cx="41400" cy="44280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3471840" y="140328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3471840" y="151560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3471840" y="163476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3471840" y="175176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6" name=""/>
            <p:cNvSpPr/>
            <p:nvPr/>
          </p:nvSpPr>
          <p:spPr>
            <a:xfrm flipH="1">
              <a:off x="5159520" y="2028960"/>
              <a:ext cx="257040" cy="57132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>
              <a:off x="5140080" y="2041560"/>
              <a:ext cx="222120" cy="51444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8" name=""/>
            <p:cNvGrpSpPr/>
            <p:nvPr/>
          </p:nvGrpSpPr>
          <p:grpSpPr>
            <a:xfrm>
              <a:off x="5178600" y="1219320"/>
              <a:ext cx="266040" cy="863280"/>
              <a:chOff x="5178600" y="1219320"/>
              <a:chExt cx="266040" cy="863280"/>
            </a:xfrm>
          </p:grpSpPr>
          <p:sp>
            <p:nvSpPr>
              <p:cNvPr id="1239" name=""/>
              <p:cNvSpPr/>
              <p:nvPr/>
            </p:nvSpPr>
            <p:spPr>
              <a:xfrm>
                <a:off x="5179680" y="1219320"/>
                <a:ext cx="264960" cy="86328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179680" y="1920960"/>
                <a:ext cx="24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178600" y="1369800"/>
                <a:ext cx="25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227560" y="136980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311440" y="136980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394240" y="136980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5" name=""/>
              <p:cNvGrpSpPr/>
              <p:nvPr/>
            </p:nvGrpSpPr>
            <p:grpSpPr>
              <a:xfrm>
                <a:off x="5243400" y="1403280"/>
                <a:ext cx="39240" cy="442800"/>
                <a:chOff x="5243400" y="1403280"/>
                <a:chExt cx="39240" cy="44280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5243400" y="1403280"/>
                  <a:ext cx="392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5243400" y="1515600"/>
                  <a:ext cx="392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5243400" y="1634760"/>
                  <a:ext cx="392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5243400" y="1751760"/>
                  <a:ext cx="392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5325840" y="1403280"/>
                <a:ext cx="41040" cy="442800"/>
                <a:chOff x="5325840" y="1403280"/>
                <a:chExt cx="41040" cy="44280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5325840" y="140328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5325840" y="151560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5325840" y="163476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5325840" y="175176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5" name=""/>
            <p:cNvSpPr/>
            <p:nvPr/>
          </p:nvSpPr>
          <p:spPr>
            <a:xfrm>
              <a:off x="5200560" y="3416400"/>
              <a:ext cx="219240" cy="16812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213520" y="3362400"/>
              <a:ext cx="218880" cy="18396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7" name=""/>
            <p:cNvGrpSpPr/>
            <p:nvPr/>
          </p:nvGrpSpPr>
          <p:grpSpPr>
            <a:xfrm>
              <a:off x="4740120" y="3666600"/>
              <a:ext cx="863280" cy="266760"/>
              <a:chOff x="4740120" y="3666600"/>
              <a:chExt cx="863280" cy="266760"/>
            </a:xfrm>
          </p:grpSpPr>
          <p:sp>
            <p:nvSpPr>
              <p:cNvPr id="1258" name=""/>
              <p:cNvSpPr/>
              <p:nvPr/>
            </p:nvSpPr>
            <p:spPr>
              <a:xfrm rot="16200000">
                <a:off x="5038920" y="3367440"/>
                <a:ext cx="265320" cy="86328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5441760" y="368748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4890600" y="367956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890600" y="3884040"/>
                <a:ext cx="549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890600" y="3800160"/>
                <a:ext cx="549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4890600" y="3717360"/>
                <a:ext cx="549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4" name=""/>
              <p:cNvGrpSpPr/>
              <p:nvPr/>
            </p:nvGrpSpPr>
            <p:grpSpPr>
              <a:xfrm>
                <a:off x="4924080" y="3828600"/>
                <a:ext cx="442800" cy="39600"/>
                <a:chOff x="4924080" y="3828600"/>
                <a:chExt cx="442800" cy="39600"/>
              </a:xfrm>
            </p:grpSpPr>
            <p:sp>
              <p:nvSpPr>
                <p:cNvPr id="1265" name=""/>
                <p:cNvSpPr/>
                <p:nvPr/>
              </p:nvSpPr>
              <p:spPr>
                <a:xfrm rot="16200000">
                  <a:off x="4951440" y="380124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 rot="16200000">
                  <a:off x="5063760" y="380124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 rot="16200000">
                  <a:off x="5182920" y="380124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 rot="16200000">
                  <a:off x="5299920" y="380124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4924080" y="3744360"/>
                <a:ext cx="442800" cy="41400"/>
                <a:chOff x="4924080" y="3744360"/>
                <a:chExt cx="442800" cy="41400"/>
              </a:xfrm>
            </p:grpSpPr>
            <p:sp>
              <p:nvSpPr>
                <p:cNvPr id="1270" name=""/>
                <p:cNvSpPr/>
                <p:nvPr/>
              </p:nvSpPr>
              <p:spPr>
                <a:xfrm rot="16200000">
                  <a:off x="4950360" y="371772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 rot="16200000">
                  <a:off x="5062680" y="371772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 rot="16200000">
                  <a:off x="5181840" y="371772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 rot="16200000">
                  <a:off x="5298840" y="371772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4" name=""/>
            <p:cNvSpPr/>
            <p:nvPr/>
          </p:nvSpPr>
          <p:spPr>
            <a:xfrm>
              <a:off x="504360" y="2444760"/>
              <a:ext cx="123084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ial-Up 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Access 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91280" y="3511440"/>
              <a:ext cx="113796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Network Cli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Access 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591560" y="4273560"/>
              <a:ext cx="113796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Network Cli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Access 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487480" y="2000160"/>
              <a:ext cx="1269000" cy="246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Backbone 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155680" y="2063880"/>
              <a:ext cx="130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Backbone 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9" name=""/>
          <p:cNvGrpSpPr/>
          <p:nvPr/>
        </p:nvGrpSpPr>
        <p:grpSpPr>
          <a:xfrm>
            <a:off x="754200" y="38160"/>
            <a:ext cx="7653240" cy="6143400"/>
            <a:chOff x="754200" y="38160"/>
            <a:chExt cx="7653240" cy="6143400"/>
          </a:xfrm>
        </p:grpSpPr>
        <p:sp>
          <p:nvSpPr>
            <p:cNvPr id="1280" name=""/>
            <p:cNvSpPr/>
            <p:nvPr/>
          </p:nvSpPr>
          <p:spPr>
            <a:xfrm>
              <a:off x="3505320" y="2057040"/>
              <a:ext cx="1511280" cy="180324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5283360" y="1942920"/>
              <a:ext cx="63360" cy="175212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2689200" y="2104560"/>
              <a:ext cx="2603520" cy="63468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2664000" y="2091600"/>
              <a:ext cx="749160" cy="64764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08200" y="2412720"/>
              <a:ext cx="212760" cy="17100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1727280" y="2675880"/>
              <a:ext cx="250920" cy="4428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V="1">
              <a:off x="1771560" y="2749320"/>
              <a:ext cx="193680" cy="16488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664080" y="1793520"/>
              <a:ext cx="1546200" cy="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711880" y="664920"/>
              <a:ext cx="1447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622MbpsSONET Backbon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2502000" y="2108160"/>
              <a:ext cx="2958840" cy="335232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2540160" y="2070000"/>
              <a:ext cx="990360" cy="325080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1" name=""/>
            <p:cNvGrpSpPr/>
            <p:nvPr/>
          </p:nvGrpSpPr>
          <p:grpSpPr>
            <a:xfrm>
              <a:off x="1928880" y="5105160"/>
              <a:ext cx="511200" cy="863280"/>
              <a:chOff x="1928880" y="5105160"/>
              <a:chExt cx="511200" cy="863280"/>
            </a:xfrm>
          </p:grpSpPr>
          <p:sp>
            <p:nvSpPr>
              <p:cNvPr id="1292" name=""/>
              <p:cNvSpPr/>
              <p:nvPr/>
            </p:nvSpPr>
            <p:spPr>
              <a:xfrm>
                <a:off x="1930680" y="5105160"/>
                <a:ext cx="509400" cy="86328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930680" y="580716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928880" y="5255280"/>
                <a:ext cx="51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978200" y="525528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062440" y="525528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144880" y="525528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229120" y="525528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313360" y="525528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397240" y="525528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1" name=""/>
              <p:cNvGrpSpPr/>
              <p:nvPr/>
            </p:nvGrpSpPr>
            <p:grpSpPr>
              <a:xfrm>
                <a:off x="1994040" y="5289480"/>
                <a:ext cx="39600" cy="441720"/>
                <a:chOff x="1994040" y="5289480"/>
                <a:chExt cx="39600" cy="44172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1994040" y="5289480"/>
                  <a:ext cx="396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1994040" y="5401440"/>
                  <a:ext cx="396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1994040" y="552060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1994040" y="5637240"/>
                  <a:ext cx="396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6" name=""/>
              <p:cNvGrpSpPr/>
              <p:nvPr/>
            </p:nvGrpSpPr>
            <p:grpSpPr>
              <a:xfrm>
                <a:off x="2076480" y="5289480"/>
                <a:ext cx="41400" cy="441720"/>
                <a:chOff x="2076480" y="5289480"/>
                <a:chExt cx="41400" cy="441720"/>
              </a:xfrm>
            </p:grpSpPr>
            <p:sp>
              <p:nvSpPr>
                <p:cNvPr id="1307" name=""/>
                <p:cNvSpPr/>
                <p:nvPr/>
              </p:nvSpPr>
              <p:spPr>
                <a:xfrm>
                  <a:off x="2076480" y="52894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2076480" y="540144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076480" y="552060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076480" y="563724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2173320" y="5289480"/>
                <a:ext cx="41400" cy="441720"/>
                <a:chOff x="2173320" y="5289480"/>
                <a:chExt cx="41400" cy="44172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2173320" y="52894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173320" y="540144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173320" y="552060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173320" y="563724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6" name=""/>
              <p:cNvGrpSpPr/>
              <p:nvPr/>
            </p:nvGrpSpPr>
            <p:grpSpPr>
              <a:xfrm>
                <a:off x="2246400" y="5289480"/>
                <a:ext cx="41400" cy="441720"/>
                <a:chOff x="2246400" y="5289480"/>
                <a:chExt cx="41400" cy="44172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2246400" y="52894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246400" y="540144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246400" y="552060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246400" y="563724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1" name=""/>
              <p:cNvGrpSpPr/>
              <p:nvPr/>
            </p:nvGrpSpPr>
            <p:grpSpPr>
              <a:xfrm>
                <a:off x="2332080" y="5289480"/>
                <a:ext cx="41400" cy="441720"/>
                <a:chOff x="2332080" y="5289480"/>
                <a:chExt cx="41400" cy="441720"/>
              </a:xfrm>
            </p:grpSpPr>
            <p:sp>
              <p:nvSpPr>
                <p:cNvPr id="1322" name=""/>
                <p:cNvSpPr/>
                <p:nvPr/>
              </p:nvSpPr>
              <p:spPr>
                <a:xfrm>
                  <a:off x="2332080" y="52894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332080" y="540144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332080" y="552060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332080" y="563724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26" name=""/>
            <p:cNvSpPr/>
            <p:nvPr/>
          </p:nvSpPr>
          <p:spPr>
            <a:xfrm flipV="1">
              <a:off x="2409840" y="2041200"/>
              <a:ext cx="1066680" cy="177768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2397240" y="2171160"/>
              <a:ext cx="2921040" cy="161244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8" name=""/>
            <p:cNvGrpSpPr/>
            <p:nvPr/>
          </p:nvGrpSpPr>
          <p:grpSpPr>
            <a:xfrm>
              <a:off x="1928880" y="4159080"/>
              <a:ext cx="511200" cy="863280"/>
              <a:chOff x="1928880" y="4159080"/>
              <a:chExt cx="511200" cy="863280"/>
            </a:xfrm>
          </p:grpSpPr>
          <p:sp>
            <p:nvSpPr>
              <p:cNvPr id="1329" name=""/>
              <p:cNvSpPr/>
              <p:nvPr/>
            </p:nvSpPr>
            <p:spPr>
              <a:xfrm>
                <a:off x="1930680" y="4159080"/>
                <a:ext cx="509400" cy="86328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930680" y="486108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928880" y="4309200"/>
                <a:ext cx="51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978200" y="430920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062440" y="430920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144880" y="430920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229120" y="430920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2313360" y="430920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397240" y="430920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8" name=""/>
              <p:cNvGrpSpPr/>
              <p:nvPr/>
            </p:nvGrpSpPr>
            <p:grpSpPr>
              <a:xfrm>
                <a:off x="1994040" y="4343400"/>
                <a:ext cx="39600" cy="441720"/>
                <a:chOff x="1994040" y="4343400"/>
                <a:chExt cx="39600" cy="44172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1994040" y="4343400"/>
                  <a:ext cx="396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1994040" y="4455360"/>
                  <a:ext cx="396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1994040" y="457452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1994040" y="4691160"/>
                  <a:ext cx="396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2076480" y="4343400"/>
                <a:ext cx="41400" cy="441720"/>
                <a:chOff x="2076480" y="4343400"/>
                <a:chExt cx="41400" cy="44172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2076480" y="434340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076480" y="44553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076480" y="457452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076480" y="46911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8" name=""/>
              <p:cNvGrpSpPr/>
              <p:nvPr/>
            </p:nvGrpSpPr>
            <p:grpSpPr>
              <a:xfrm>
                <a:off x="2173320" y="4343400"/>
                <a:ext cx="41400" cy="441720"/>
                <a:chOff x="2173320" y="4343400"/>
                <a:chExt cx="41400" cy="441720"/>
              </a:xfrm>
            </p:grpSpPr>
            <p:sp>
              <p:nvSpPr>
                <p:cNvPr id="1349" name=""/>
                <p:cNvSpPr/>
                <p:nvPr/>
              </p:nvSpPr>
              <p:spPr>
                <a:xfrm>
                  <a:off x="2173320" y="434340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2173320" y="44553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173320" y="457452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173320" y="46911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2246400" y="4343400"/>
                <a:ext cx="41400" cy="441720"/>
                <a:chOff x="2246400" y="4343400"/>
                <a:chExt cx="41400" cy="44172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2246400" y="434340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246400" y="44553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2246400" y="457452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2246400" y="46911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8" name=""/>
              <p:cNvGrpSpPr/>
              <p:nvPr/>
            </p:nvGrpSpPr>
            <p:grpSpPr>
              <a:xfrm>
                <a:off x="2332080" y="4343400"/>
                <a:ext cx="41400" cy="441720"/>
                <a:chOff x="2332080" y="4343400"/>
                <a:chExt cx="41400" cy="44172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2332080" y="434340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2332080" y="44553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2332080" y="457452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2332080" y="46911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3" name=""/>
            <p:cNvGrpSpPr/>
            <p:nvPr/>
          </p:nvGrpSpPr>
          <p:grpSpPr>
            <a:xfrm>
              <a:off x="914400" y="2943000"/>
              <a:ext cx="752400" cy="231480"/>
              <a:chOff x="914400" y="2943000"/>
              <a:chExt cx="752400" cy="231480"/>
            </a:xfrm>
          </p:grpSpPr>
          <p:sp>
            <p:nvSpPr>
              <p:cNvPr id="1364" name=""/>
              <p:cNvSpPr/>
              <p:nvPr/>
            </p:nvSpPr>
            <p:spPr>
              <a:xfrm>
                <a:off x="914400" y="2943000"/>
                <a:ext cx="752400" cy="23148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954720" y="301608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957600" y="2972880"/>
                <a:ext cx="665280" cy="1922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954720" y="305496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954720" y="309888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9" name=""/>
              <p:cNvGrpSpPr/>
              <p:nvPr/>
            </p:nvGrpSpPr>
            <p:grpSpPr>
              <a:xfrm>
                <a:off x="987480" y="2998080"/>
                <a:ext cx="56880" cy="77760"/>
                <a:chOff x="987480" y="2998080"/>
                <a:chExt cx="56880" cy="7776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987480" y="303696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987480" y="30758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987480" y="299808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1087920" y="2998080"/>
                <a:ext cx="57240" cy="77760"/>
                <a:chOff x="1087920" y="2998080"/>
                <a:chExt cx="57240" cy="7776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1087920" y="303696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1087920" y="30758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1087920" y="299808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" name=""/>
              <p:cNvGrpSpPr/>
              <p:nvPr/>
            </p:nvGrpSpPr>
            <p:grpSpPr>
              <a:xfrm>
                <a:off x="1188720" y="2998080"/>
                <a:ext cx="56880" cy="77760"/>
                <a:chOff x="1188720" y="2998080"/>
                <a:chExt cx="56880" cy="7776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1188720" y="303696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1188720" y="30758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1188720" y="299808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1" name=""/>
              <p:cNvGrpSpPr/>
              <p:nvPr/>
            </p:nvGrpSpPr>
            <p:grpSpPr>
              <a:xfrm>
                <a:off x="1290240" y="2998080"/>
                <a:ext cx="57240" cy="77760"/>
                <a:chOff x="1290240" y="2998080"/>
                <a:chExt cx="57240" cy="7776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1290240" y="303696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1290240" y="30758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1290240" y="299808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1391040" y="2998080"/>
                <a:ext cx="56880" cy="77760"/>
                <a:chOff x="1391040" y="2998080"/>
                <a:chExt cx="56880" cy="7776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1391040" y="303696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1391040" y="30758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1391040" y="299808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9" name=""/>
              <p:cNvGrpSpPr/>
              <p:nvPr/>
            </p:nvGrpSpPr>
            <p:grpSpPr>
              <a:xfrm>
                <a:off x="1492560" y="2998080"/>
                <a:ext cx="57240" cy="77760"/>
                <a:chOff x="1492560" y="2998080"/>
                <a:chExt cx="57240" cy="77760"/>
              </a:xfrm>
            </p:grpSpPr>
            <p:sp>
              <p:nvSpPr>
                <p:cNvPr id="1390" name=""/>
                <p:cNvSpPr/>
                <p:nvPr/>
              </p:nvSpPr>
              <p:spPr>
                <a:xfrm>
                  <a:off x="1492560" y="303696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1492560" y="30758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1492560" y="299808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93" name=""/>
            <p:cNvSpPr/>
            <p:nvPr/>
          </p:nvSpPr>
          <p:spPr>
            <a:xfrm flipH="1">
              <a:off x="2486160" y="2108160"/>
              <a:ext cx="976320" cy="230436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2511360" y="2143080"/>
              <a:ext cx="2851200" cy="221580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20440" y="1758600"/>
              <a:ext cx="123084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ial-Up 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Access Serv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54200" y="4286160"/>
              <a:ext cx="113796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Network Cli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Access Rout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487480" y="2101680"/>
              <a:ext cx="1269000" cy="246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Backbone 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155680" y="2165040"/>
              <a:ext cx="130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Backbone 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1460520" y="139680"/>
              <a:ext cx="6171840" cy="926640"/>
              <a:chOff x="1460520" y="139680"/>
              <a:chExt cx="6171840" cy="926640"/>
            </a:xfrm>
          </p:grpSpPr>
          <p:sp>
            <p:nvSpPr>
              <p:cNvPr id="1400" name=""/>
              <p:cNvSpPr/>
              <p:nvPr/>
            </p:nvSpPr>
            <p:spPr>
              <a:xfrm>
                <a:off x="1460520" y="139680"/>
                <a:ext cx="6171840" cy="926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590120" y="177120"/>
                <a:ext cx="5912280" cy="83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2" name=""/>
            <p:cNvSpPr/>
            <p:nvPr/>
          </p:nvSpPr>
          <p:spPr>
            <a:xfrm>
              <a:off x="1079640" y="38160"/>
              <a:ext cx="7327800" cy="66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123080" y="1287360"/>
              <a:ext cx="87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Add Drop Mu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3689280" y="1142280"/>
              <a:ext cx="53352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V="1">
              <a:off x="3718080" y="1206000"/>
              <a:ext cx="53316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6" name=""/>
            <p:cNvGrpSpPr/>
            <p:nvPr/>
          </p:nvGrpSpPr>
          <p:grpSpPr>
            <a:xfrm>
              <a:off x="3324240" y="1320480"/>
              <a:ext cx="266760" cy="863280"/>
              <a:chOff x="3324240" y="1320480"/>
              <a:chExt cx="266760" cy="863280"/>
            </a:xfrm>
          </p:grpSpPr>
          <p:sp>
            <p:nvSpPr>
              <p:cNvPr id="1407" name=""/>
              <p:cNvSpPr/>
              <p:nvPr/>
            </p:nvSpPr>
            <p:spPr>
              <a:xfrm>
                <a:off x="3325680" y="1320480"/>
                <a:ext cx="265320" cy="86328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325680" y="2022120"/>
                <a:ext cx="24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324240" y="1470960"/>
                <a:ext cx="25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373560" y="147096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457440" y="147096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40240" y="147096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3" name=""/>
              <p:cNvGrpSpPr/>
              <p:nvPr/>
            </p:nvGrpSpPr>
            <p:grpSpPr>
              <a:xfrm>
                <a:off x="3389400" y="1504440"/>
                <a:ext cx="39600" cy="442800"/>
                <a:chOff x="3389400" y="1504440"/>
                <a:chExt cx="39600" cy="442800"/>
              </a:xfrm>
            </p:grpSpPr>
            <p:sp>
              <p:nvSpPr>
                <p:cNvPr id="1414" name=""/>
                <p:cNvSpPr/>
                <p:nvPr/>
              </p:nvSpPr>
              <p:spPr>
                <a:xfrm>
                  <a:off x="3389400" y="150444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3389400" y="161676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3389400" y="173592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3389400" y="185292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8" name=""/>
              <p:cNvGrpSpPr/>
              <p:nvPr/>
            </p:nvGrpSpPr>
            <p:grpSpPr>
              <a:xfrm>
                <a:off x="3471840" y="1504440"/>
                <a:ext cx="41400" cy="442800"/>
                <a:chOff x="3471840" y="1504440"/>
                <a:chExt cx="41400" cy="442800"/>
              </a:xfrm>
            </p:grpSpPr>
            <p:sp>
              <p:nvSpPr>
                <p:cNvPr id="1419" name=""/>
                <p:cNvSpPr/>
                <p:nvPr/>
              </p:nvSpPr>
              <p:spPr>
                <a:xfrm>
                  <a:off x="3471840" y="150444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3471840" y="161676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3471840" y="173592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471840" y="185292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23" name=""/>
            <p:cNvSpPr/>
            <p:nvPr/>
          </p:nvSpPr>
          <p:spPr>
            <a:xfrm>
              <a:off x="4746600" y="1149120"/>
              <a:ext cx="53028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718160" y="1206360"/>
              <a:ext cx="53028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5" name=""/>
            <p:cNvGrpSpPr/>
            <p:nvPr/>
          </p:nvGrpSpPr>
          <p:grpSpPr>
            <a:xfrm>
              <a:off x="5178600" y="1320480"/>
              <a:ext cx="266040" cy="863280"/>
              <a:chOff x="5178600" y="1320480"/>
              <a:chExt cx="266040" cy="863280"/>
            </a:xfrm>
          </p:grpSpPr>
          <p:sp>
            <p:nvSpPr>
              <p:cNvPr id="1426" name=""/>
              <p:cNvSpPr/>
              <p:nvPr/>
            </p:nvSpPr>
            <p:spPr>
              <a:xfrm>
                <a:off x="5179680" y="1320480"/>
                <a:ext cx="264960" cy="86328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179680" y="2022120"/>
                <a:ext cx="24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178600" y="1470960"/>
                <a:ext cx="25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227560" y="147096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311440" y="147096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394240" y="147096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2" name=""/>
              <p:cNvGrpSpPr/>
              <p:nvPr/>
            </p:nvGrpSpPr>
            <p:grpSpPr>
              <a:xfrm>
                <a:off x="5243400" y="1504440"/>
                <a:ext cx="39240" cy="442800"/>
                <a:chOff x="5243400" y="1504440"/>
                <a:chExt cx="39240" cy="44280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5243400" y="1504440"/>
                  <a:ext cx="392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5243400" y="1616760"/>
                  <a:ext cx="392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5243400" y="1735920"/>
                  <a:ext cx="392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5243400" y="1852920"/>
                  <a:ext cx="392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7" name=""/>
              <p:cNvGrpSpPr/>
              <p:nvPr/>
            </p:nvGrpSpPr>
            <p:grpSpPr>
              <a:xfrm>
                <a:off x="5325840" y="1504440"/>
                <a:ext cx="41040" cy="442800"/>
                <a:chOff x="5325840" y="1504440"/>
                <a:chExt cx="41040" cy="442800"/>
              </a:xfrm>
            </p:grpSpPr>
            <p:sp>
              <p:nvSpPr>
                <p:cNvPr id="1438" name=""/>
                <p:cNvSpPr/>
                <p:nvPr/>
              </p:nvSpPr>
              <p:spPr>
                <a:xfrm>
                  <a:off x="5325840" y="150444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5325840" y="161676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5325840" y="173592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5325840" y="185292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2" name=""/>
            <p:cNvSpPr/>
            <p:nvPr/>
          </p:nvSpPr>
          <p:spPr>
            <a:xfrm>
              <a:off x="4191120" y="1079280"/>
              <a:ext cx="635040" cy="2030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3" name=""/>
            <p:cNvGrpSpPr/>
            <p:nvPr/>
          </p:nvGrpSpPr>
          <p:grpSpPr>
            <a:xfrm>
              <a:off x="1928880" y="3213000"/>
              <a:ext cx="511200" cy="863280"/>
              <a:chOff x="1928880" y="3213000"/>
              <a:chExt cx="511200" cy="863280"/>
            </a:xfrm>
          </p:grpSpPr>
          <p:sp>
            <p:nvSpPr>
              <p:cNvPr id="1444" name=""/>
              <p:cNvSpPr/>
              <p:nvPr/>
            </p:nvSpPr>
            <p:spPr>
              <a:xfrm>
                <a:off x="1930680" y="3213000"/>
                <a:ext cx="509400" cy="86328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930680" y="391500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928880" y="3363120"/>
                <a:ext cx="51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978200" y="336312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062440" y="336312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144880" y="336312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229120" y="336312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313360" y="336312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397240" y="336312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3" name=""/>
              <p:cNvGrpSpPr/>
              <p:nvPr/>
            </p:nvGrpSpPr>
            <p:grpSpPr>
              <a:xfrm>
                <a:off x="1994040" y="3397320"/>
                <a:ext cx="39600" cy="441720"/>
                <a:chOff x="1994040" y="3397320"/>
                <a:chExt cx="39600" cy="44172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1994040" y="3397320"/>
                  <a:ext cx="396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1994040" y="3509280"/>
                  <a:ext cx="396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1994040" y="362844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1994040" y="3745080"/>
                  <a:ext cx="396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8" name=""/>
              <p:cNvGrpSpPr/>
              <p:nvPr/>
            </p:nvGrpSpPr>
            <p:grpSpPr>
              <a:xfrm>
                <a:off x="2076480" y="3397320"/>
                <a:ext cx="41400" cy="441720"/>
                <a:chOff x="2076480" y="3397320"/>
                <a:chExt cx="41400" cy="441720"/>
              </a:xfrm>
            </p:grpSpPr>
            <p:sp>
              <p:nvSpPr>
                <p:cNvPr id="1459" name=""/>
                <p:cNvSpPr/>
                <p:nvPr/>
              </p:nvSpPr>
              <p:spPr>
                <a:xfrm>
                  <a:off x="2076480" y="339732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2076480" y="35092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2076480" y="362844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2076480" y="37450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3" name=""/>
              <p:cNvGrpSpPr/>
              <p:nvPr/>
            </p:nvGrpSpPr>
            <p:grpSpPr>
              <a:xfrm>
                <a:off x="2173320" y="3397320"/>
                <a:ext cx="41400" cy="441720"/>
                <a:chOff x="2173320" y="3397320"/>
                <a:chExt cx="41400" cy="441720"/>
              </a:xfrm>
            </p:grpSpPr>
            <p:sp>
              <p:nvSpPr>
                <p:cNvPr id="1464" name=""/>
                <p:cNvSpPr/>
                <p:nvPr/>
              </p:nvSpPr>
              <p:spPr>
                <a:xfrm>
                  <a:off x="2173320" y="339732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2173320" y="35092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2173320" y="362844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2173320" y="37450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8" name=""/>
              <p:cNvGrpSpPr/>
              <p:nvPr/>
            </p:nvGrpSpPr>
            <p:grpSpPr>
              <a:xfrm>
                <a:off x="2246400" y="3397320"/>
                <a:ext cx="41400" cy="441720"/>
                <a:chOff x="2246400" y="3397320"/>
                <a:chExt cx="41400" cy="44172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2246400" y="339732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2246400" y="35092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2246400" y="362844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2246400" y="37450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3" name=""/>
              <p:cNvGrpSpPr/>
              <p:nvPr/>
            </p:nvGrpSpPr>
            <p:grpSpPr>
              <a:xfrm>
                <a:off x="2332080" y="3397320"/>
                <a:ext cx="41400" cy="441720"/>
                <a:chOff x="2332080" y="3397320"/>
                <a:chExt cx="41400" cy="44172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2332080" y="339732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2332080" y="35092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2332080" y="362844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2332080" y="374508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78" name=""/>
            <p:cNvSpPr/>
            <p:nvPr/>
          </p:nvSpPr>
          <p:spPr>
            <a:xfrm>
              <a:off x="4713120" y="3420720"/>
              <a:ext cx="115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ast Ethernet Swit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741320" y="2836800"/>
              <a:ext cx="115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Fast Ethernet Swit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0" name=""/>
            <p:cNvGrpSpPr/>
            <p:nvPr/>
          </p:nvGrpSpPr>
          <p:grpSpPr>
            <a:xfrm>
              <a:off x="1844640" y="2613240"/>
              <a:ext cx="863280" cy="266040"/>
              <a:chOff x="1844640" y="2613240"/>
              <a:chExt cx="863280" cy="266040"/>
            </a:xfrm>
          </p:grpSpPr>
          <p:sp>
            <p:nvSpPr>
              <p:cNvPr id="1481" name=""/>
              <p:cNvSpPr/>
              <p:nvPr/>
            </p:nvSpPr>
            <p:spPr>
              <a:xfrm rot="16200000">
                <a:off x="2143800" y="2314080"/>
                <a:ext cx="264960" cy="86328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V="1">
                <a:off x="2546280" y="2634120"/>
                <a:ext cx="0" cy="24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V="1">
                <a:off x="1995120" y="2625840"/>
                <a:ext cx="0" cy="2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995120" y="2830320"/>
                <a:ext cx="549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995120" y="2746440"/>
                <a:ext cx="549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995120" y="2663640"/>
                <a:ext cx="549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7" name=""/>
              <p:cNvGrpSpPr/>
              <p:nvPr/>
            </p:nvGrpSpPr>
            <p:grpSpPr>
              <a:xfrm>
                <a:off x="2028600" y="2775240"/>
                <a:ext cx="442800" cy="39240"/>
                <a:chOff x="2028600" y="2775240"/>
                <a:chExt cx="442800" cy="39240"/>
              </a:xfrm>
            </p:grpSpPr>
            <p:sp>
              <p:nvSpPr>
                <p:cNvPr id="1488" name=""/>
                <p:cNvSpPr/>
                <p:nvPr/>
              </p:nvSpPr>
              <p:spPr>
                <a:xfrm rot="16200000">
                  <a:off x="2055960" y="2747520"/>
                  <a:ext cx="392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 rot="16200000">
                  <a:off x="2168280" y="2747520"/>
                  <a:ext cx="392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rot="16200000">
                  <a:off x="2287440" y="2747520"/>
                  <a:ext cx="392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rot="16200000">
                  <a:off x="2404440" y="2747520"/>
                  <a:ext cx="392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2" name=""/>
              <p:cNvGrpSpPr/>
              <p:nvPr/>
            </p:nvGrpSpPr>
            <p:grpSpPr>
              <a:xfrm>
                <a:off x="2028600" y="2691000"/>
                <a:ext cx="442800" cy="41040"/>
                <a:chOff x="2028600" y="2691000"/>
                <a:chExt cx="442800" cy="41040"/>
              </a:xfrm>
            </p:grpSpPr>
            <p:sp>
              <p:nvSpPr>
                <p:cNvPr id="1493" name=""/>
                <p:cNvSpPr/>
                <p:nvPr/>
              </p:nvSpPr>
              <p:spPr>
                <a:xfrm rot="16200000">
                  <a:off x="2055240" y="266436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rot="16200000">
                  <a:off x="2167560" y="266436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rot="16200000">
                  <a:off x="2286720" y="266436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 rot="16200000">
                  <a:off x="2403720" y="266436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97" name=""/>
            <p:cNvGrpSpPr/>
            <p:nvPr/>
          </p:nvGrpSpPr>
          <p:grpSpPr>
            <a:xfrm>
              <a:off x="914400" y="2631960"/>
              <a:ext cx="752400" cy="231480"/>
              <a:chOff x="914400" y="2631960"/>
              <a:chExt cx="752400" cy="231480"/>
            </a:xfrm>
          </p:grpSpPr>
          <p:sp>
            <p:nvSpPr>
              <p:cNvPr id="1498" name=""/>
              <p:cNvSpPr/>
              <p:nvPr/>
            </p:nvSpPr>
            <p:spPr>
              <a:xfrm>
                <a:off x="914400" y="2631960"/>
                <a:ext cx="752400" cy="23148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954720" y="270504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957600" y="2661840"/>
                <a:ext cx="665280" cy="1922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954720" y="274392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954720" y="278784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3" name=""/>
              <p:cNvGrpSpPr/>
              <p:nvPr/>
            </p:nvGrpSpPr>
            <p:grpSpPr>
              <a:xfrm>
                <a:off x="987480" y="2687040"/>
                <a:ext cx="56880" cy="77760"/>
                <a:chOff x="987480" y="2687040"/>
                <a:chExt cx="56880" cy="77760"/>
              </a:xfrm>
            </p:grpSpPr>
            <p:sp>
              <p:nvSpPr>
                <p:cNvPr id="1504" name=""/>
                <p:cNvSpPr/>
                <p:nvPr/>
              </p:nvSpPr>
              <p:spPr>
                <a:xfrm>
                  <a:off x="987480" y="27259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987480" y="276480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987480" y="26870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7" name=""/>
              <p:cNvGrpSpPr/>
              <p:nvPr/>
            </p:nvGrpSpPr>
            <p:grpSpPr>
              <a:xfrm>
                <a:off x="1087920" y="2687040"/>
                <a:ext cx="57240" cy="77760"/>
                <a:chOff x="1087920" y="2687040"/>
                <a:chExt cx="57240" cy="77760"/>
              </a:xfrm>
            </p:grpSpPr>
            <p:sp>
              <p:nvSpPr>
                <p:cNvPr id="1508" name=""/>
                <p:cNvSpPr/>
                <p:nvPr/>
              </p:nvSpPr>
              <p:spPr>
                <a:xfrm>
                  <a:off x="1087920" y="27259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1087920" y="276480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1087920" y="26870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1" name=""/>
              <p:cNvGrpSpPr/>
              <p:nvPr/>
            </p:nvGrpSpPr>
            <p:grpSpPr>
              <a:xfrm>
                <a:off x="1188720" y="2687040"/>
                <a:ext cx="56880" cy="77760"/>
                <a:chOff x="1188720" y="2687040"/>
                <a:chExt cx="56880" cy="77760"/>
              </a:xfrm>
            </p:grpSpPr>
            <p:sp>
              <p:nvSpPr>
                <p:cNvPr id="1512" name=""/>
                <p:cNvSpPr/>
                <p:nvPr/>
              </p:nvSpPr>
              <p:spPr>
                <a:xfrm>
                  <a:off x="1188720" y="27259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1188720" y="276480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1188720" y="26870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5" name=""/>
              <p:cNvGrpSpPr/>
              <p:nvPr/>
            </p:nvGrpSpPr>
            <p:grpSpPr>
              <a:xfrm>
                <a:off x="1290240" y="2687040"/>
                <a:ext cx="57240" cy="77760"/>
                <a:chOff x="1290240" y="2687040"/>
                <a:chExt cx="57240" cy="7776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1290240" y="27259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1290240" y="276480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1290240" y="26870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9" name=""/>
              <p:cNvGrpSpPr/>
              <p:nvPr/>
            </p:nvGrpSpPr>
            <p:grpSpPr>
              <a:xfrm>
                <a:off x="1391040" y="2687040"/>
                <a:ext cx="56880" cy="77760"/>
                <a:chOff x="1391040" y="2687040"/>
                <a:chExt cx="56880" cy="77760"/>
              </a:xfrm>
            </p:grpSpPr>
            <p:sp>
              <p:nvSpPr>
                <p:cNvPr id="1520" name=""/>
                <p:cNvSpPr/>
                <p:nvPr/>
              </p:nvSpPr>
              <p:spPr>
                <a:xfrm>
                  <a:off x="1391040" y="27259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1391040" y="276480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1391040" y="26870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3" name=""/>
              <p:cNvGrpSpPr/>
              <p:nvPr/>
            </p:nvGrpSpPr>
            <p:grpSpPr>
              <a:xfrm>
                <a:off x="1492560" y="2687040"/>
                <a:ext cx="57240" cy="77760"/>
                <a:chOff x="1492560" y="2687040"/>
                <a:chExt cx="57240" cy="7776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1492560" y="27259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1492560" y="276480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1492560" y="26870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7" name=""/>
            <p:cNvGrpSpPr/>
            <p:nvPr/>
          </p:nvGrpSpPr>
          <p:grpSpPr>
            <a:xfrm>
              <a:off x="914400" y="2320560"/>
              <a:ext cx="752400" cy="231480"/>
              <a:chOff x="914400" y="2320560"/>
              <a:chExt cx="752400" cy="231480"/>
            </a:xfrm>
          </p:grpSpPr>
          <p:sp>
            <p:nvSpPr>
              <p:cNvPr id="1528" name=""/>
              <p:cNvSpPr/>
              <p:nvPr/>
            </p:nvSpPr>
            <p:spPr>
              <a:xfrm>
                <a:off x="914400" y="2320560"/>
                <a:ext cx="752400" cy="23148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954720" y="239364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957600" y="2350440"/>
                <a:ext cx="665280" cy="1922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954720" y="243252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954720" y="247644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3" name=""/>
              <p:cNvGrpSpPr/>
              <p:nvPr/>
            </p:nvGrpSpPr>
            <p:grpSpPr>
              <a:xfrm>
                <a:off x="987480" y="2375640"/>
                <a:ext cx="56880" cy="77760"/>
                <a:chOff x="987480" y="2375640"/>
                <a:chExt cx="56880" cy="77760"/>
              </a:xfrm>
            </p:grpSpPr>
            <p:sp>
              <p:nvSpPr>
                <p:cNvPr id="1534" name=""/>
                <p:cNvSpPr/>
                <p:nvPr/>
              </p:nvSpPr>
              <p:spPr>
                <a:xfrm>
                  <a:off x="987480" y="24145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987480" y="245340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987480" y="23756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7" name=""/>
              <p:cNvGrpSpPr/>
              <p:nvPr/>
            </p:nvGrpSpPr>
            <p:grpSpPr>
              <a:xfrm>
                <a:off x="1087920" y="2375640"/>
                <a:ext cx="57240" cy="77760"/>
                <a:chOff x="1087920" y="2375640"/>
                <a:chExt cx="57240" cy="77760"/>
              </a:xfrm>
            </p:grpSpPr>
            <p:sp>
              <p:nvSpPr>
                <p:cNvPr id="1538" name=""/>
                <p:cNvSpPr/>
                <p:nvPr/>
              </p:nvSpPr>
              <p:spPr>
                <a:xfrm>
                  <a:off x="1087920" y="24145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1087920" y="245340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1087920" y="23756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1" name=""/>
              <p:cNvGrpSpPr/>
              <p:nvPr/>
            </p:nvGrpSpPr>
            <p:grpSpPr>
              <a:xfrm>
                <a:off x="1188720" y="2375640"/>
                <a:ext cx="56880" cy="77760"/>
                <a:chOff x="1188720" y="2375640"/>
                <a:chExt cx="56880" cy="7776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1188720" y="24145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1188720" y="245340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1188720" y="23756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5" name=""/>
              <p:cNvGrpSpPr/>
              <p:nvPr/>
            </p:nvGrpSpPr>
            <p:grpSpPr>
              <a:xfrm>
                <a:off x="1290240" y="2375640"/>
                <a:ext cx="57240" cy="77760"/>
                <a:chOff x="1290240" y="2375640"/>
                <a:chExt cx="57240" cy="77760"/>
              </a:xfrm>
            </p:grpSpPr>
            <p:sp>
              <p:nvSpPr>
                <p:cNvPr id="1546" name=""/>
                <p:cNvSpPr/>
                <p:nvPr/>
              </p:nvSpPr>
              <p:spPr>
                <a:xfrm>
                  <a:off x="1290240" y="24145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1290240" y="245340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1290240" y="23756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9" name=""/>
              <p:cNvGrpSpPr/>
              <p:nvPr/>
            </p:nvGrpSpPr>
            <p:grpSpPr>
              <a:xfrm>
                <a:off x="1391040" y="2375640"/>
                <a:ext cx="56880" cy="77760"/>
                <a:chOff x="1391040" y="2375640"/>
                <a:chExt cx="56880" cy="77760"/>
              </a:xfrm>
            </p:grpSpPr>
            <p:sp>
              <p:nvSpPr>
                <p:cNvPr id="1550" name=""/>
                <p:cNvSpPr/>
                <p:nvPr/>
              </p:nvSpPr>
              <p:spPr>
                <a:xfrm>
                  <a:off x="1391040" y="24145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1391040" y="245340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1391040" y="23756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"/>
              <p:cNvGrpSpPr/>
              <p:nvPr/>
            </p:nvGrpSpPr>
            <p:grpSpPr>
              <a:xfrm>
                <a:off x="1492560" y="2375640"/>
                <a:ext cx="57240" cy="77760"/>
                <a:chOff x="1492560" y="2375640"/>
                <a:chExt cx="57240" cy="77760"/>
              </a:xfrm>
            </p:grpSpPr>
            <p:sp>
              <p:nvSpPr>
                <p:cNvPr id="1554" name=""/>
                <p:cNvSpPr/>
                <p:nvPr/>
              </p:nvSpPr>
              <p:spPr>
                <a:xfrm>
                  <a:off x="1492560" y="24145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1492560" y="245340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1492560" y="23756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57" name=""/>
            <p:cNvSpPr/>
            <p:nvPr/>
          </p:nvSpPr>
          <p:spPr>
            <a:xfrm>
              <a:off x="5118120" y="3885840"/>
              <a:ext cx="304920" cy="83808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194440" y="3924000"/>
              <a:ext cx="685800" cy="79992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245200" y="3949560"/>
              <a:ext cx="1092240" cy="79956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334120" y="3885840"/>
              <a:ext cx="1485720" cy="91404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308560" y="3835080"/>
              <a:ext cx="1968480" cy="91404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410080" y="3784320"/>
              <a:ext cx="2222640" cy="93960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 flipV="1">
              <a:off x="5130720" y="3924000"/>
              <a:ext cx="139680" cy="156168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 flipV="1">
              <a:off x="5130360" y="3898800"/>
              <a:ext cx="1117800" cy="1586880"/>
            </a:xfrm>
            <a:prstGeom prst="line">
              <a:avLst/>
            </a:prstGeom>
            <a:ln w="936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5" name=""/>
            <p:cNvGrpSpPr/>
            <p:nvPr/>
          </p:nvGrpSpPr>
          <p:grpSpPr>
            <a:xfrm>
              <a:off x="4740120" y="3768840"/>
              <a:ext cx="863280" cy="266040"/>
              <a:chOff x="4740120" y="3768840"/>
              <a:chExt cx="863280" cy="266040"/>
            </a:xfrm>
          </p:grpSpPr>
          <p:sp>
            <p:nvSpPr>
              <p:cNvPr id="1566" name=""/>
              <p:cNvSpPr/>
              <p:nvPr/>
            </p:nvSpPr>
            <p:spPr>
              <a:xfrm rot="16200000">
                <a:off x="5039280" y="3469680"/>
                <a:ext cx="264960" cy="86328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V="1">
                <a:off x="5441760" y="3789720"/>
                <a:ext cx="0" cy="24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V="1">
                <a:off x="4890600" y="3781440"/>
                <a:ext cx="0" cy="2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890600" y="3985920"/>
                <a:ext cx="549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4890600" y="3902040"/>
                <a:ext cx="549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890600" y="3819240"/>
                <a:ext cx="549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2" name=""/>
              <p:cNvGrpSpPr/>
              <p:nvPr/>
            </p:nvGrpSpPr>
            <p:grpSpPr>
              <a:xfrm>
                <a:off x="4924080" y="3930840"/>
                <a:ext cx="442800" cy="39240"/>
                <a:chOff x="4924080" y="3930840"/>
                <a:chExt cx="442800" cy="39240"/>
              </a:xfrm>
            </p:grpSpPr>
            <p:sp>
              <p:nvSpPr>
                <p:cNvPr id="1573" name=""/>
                <p:cNvSpPr/>
                <p:nvPr/>
              </p:nvSpPr>
              <p:spPr>
                <a:xfrm rot="16200000">
                  <a:off x="4951440" y="3903120"/>
                  <a:ext cx="392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 rot="16200000">
                  <a:off x="5063760" y="3903120"/>
                  <a:ext cx="392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rot="16200000">
                  <a:off x="5182920" y="3903120"/>
                  <a:ext cx="392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rot="16200000">
                  <a:off x="5299920" y="3903120"/>
                  <a:ext cx="392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7" name=""/>
              <p:cNvGrpSpPr/>
              <p:nvPr/>
            </p:nvGrpSpPr>
            <p:grpSpPr>
              <a:xfrm>
                <a:off x="4924080" y="3846600"/>
                <a:ext cx="442800" cy="41040"/>
                <a:chOff x="4924080" y="3846600"/>
                <a:chExt cx="442800" cy="41040"/>
              </a:xfrm>
            </p:grpSpPr>
            <p:sp>
              <p:nvSpPr>
                <p:cNvPr id="1578" name=""/>
                <p:cNvSpPr/>
                <p:nvPr/>
              </p:nvSpPr>
              <p:spPr>
                <a:xfrm rot="16200000">
                  <a:off x="4950720" y="381996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rot="16200000">
                  <a:off x="5063040" y="381996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rot="16200000">
                  <a:off x="5182200" y="381996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rot="16200000">
                  <a:off x="5299200" y="3819960"/>
                  <a:ext cx="4104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82" name=""/>
            <p:cNvGrpSpPr/>
            <p:nvPr/>
          </p:nvGrpSpPr>
          <p:grpSpPr>
            <a:xfrm>
              <a:off x="4872240" y="4654440"/>
              <a:ext cx="3109320" cy="1527120"/>
              <a:chOff x="4872240" y="4654440"/>
              <a:chExt cx="3109320" cy="1527120"/>
            </a:xfrm>
          </p:grpSpPr>
          <p:grpSp>
            <p:nvGrpSpPr>
              <p:cNvPr id="1583" name=""/>
              <p:cNvGrpSpPr/>
              <p:nvPr/>
            </p:nvGrpSpPr>
            <p:grpSpPr>
              <a:xfrm>
                <a:off x="6140520" y="5378040"/>
                <a:ext cx="236520" cy="283680"/>
                <a:chOff x="6140520" y="5378040"/>
                <a:chExt cx="236520" cy="283680"/>
              </a:xfrm>
            </p:grpSpPr>
            <p:grpSp>
              <p:nvGrpSpPr>
                <p:cNvPr id="1584" name=""/>
                <p:cNvGrpSpPr/>
                <p:nvPr/>
              </p:nvGrpSpPr>
              <p:grpSpPr>
                <a:xfrm>
                  <a:off x="6140520" y="5378040"/>
                  <a:ext cx="236520" cy="283680"/>
                  <a:chOff x="6140520" y="5378040"/>
                  <a:chExt cx="236520" cy="283680"/>
                </a:xfrm>
              </p:grpSpPr>
              <p:sp>
                <p:nvSpPr>
                  <p:cNvPr id="1585" name=""/>
                  <p:cNvSpPr/>
                  <p:nvPr/>
                </p:nvSpPr>
                <p:spPr>
                  <a:xfrm>
                    <a:off x="6140520" y="5619240"/>
                    <a:ext cx="236520" cy="4248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6168960" y="5378040"/>
                    <a:ext cx="194040" cy="23652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7" name=""/>
                <p:cNvSpPr/>
                <p:nvPr/>
              </p:nvSpPr>
              <p:spPr>
                <a:xfrm>
                  <a:off x="6189480" y="5402880"/>
                  <a:ext cx="81000" cy="313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6200640" y="541728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6189480" y="5448960"/>
                  <a:ext cx="81000" cy="114120"/>
                </a:xfrm>
                <a:prstGeom prst="rect">
                  <a:avLst/>
                </a:prstGeom>
                <a:solidFill>
                  <a:srgbClr val="a2a2a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0" name=""/>
              <p:cNvSpPr/>
              <p:nvPr/>
            </p:nvSpPr>
            <p:spPr>
              <a:xfrm>
                <a:off x="5153760" y="4881240"/>
                <a:ext cx="52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Radiu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Serv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5614920" y="48812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Mai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Serv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073560" y="48812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DN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Serv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544440" y="488124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WW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Cach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994440" y="48812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WW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Serv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439760" y="4881240"/>
                <a:ext cx="54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Usen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Serv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872240" y="5728680"/>
                <a:ext cx="756720" cy="337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Account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Dat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963400" y="5722560"/>
                <a:ext cx="627120" cy="4590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Mgm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Serv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8" name=""/>
              <p:cNvGrpSpPr/>
              <p:nvPr/>
            </p:nvGrpSpPr>
            <p:grpSpPr>
              <a:xfrm>
                <a:off x="5156280" y="5368320"/>
                <a:ext cx="236520" cy="284040"/>
                <a:chOff x="5156280" y="5368320"/>
                <a:chExt cx="236520" cy="284040"/>
              </a:xfrm>
            </p:grpSpPr>
            <p:grpSp>
              <p:nvGrpSpPr>
                <p:cNvPr id="1599" name=""/>
                <p:cNvGrpSpPr/>
                <p:nvPr/>
              </p:nvGrpSpPr>
              <p:grpSpPr>
                <a:xfrm>
                  <a:off x="5156280" y="5368320"/>
                  <a:ext cx="236520" cy="284040"/>
                  <a:chOff x="5156280" y="5368320"/>
                  <a:chExt cx="236520" cy="284040"/>
                </a:xfrm>
              </p:grpSpPr>
              <p:sp>
                <p:nvSpPr>
                  <p:cNvPr id="1600" name=""/>
                  <p:cNvSpPr/>
                  <p:nvPr/>
                </p:nvSpPr>
                <p:spPr>
                  <a:xfrm>
                    <a:off x="5156280" y="5609880"/>
                    <a:ext cx="236520" cy="4248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5184720" y="5368320"/>
                    <a:ext cx="194040" cy="23652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2" name=""/>
                <p:cNvSpPr/>
                <p:nvPr/>
              </p:nvSpPr>
              <p:spPr>
                <a:xfrm>
                  <a:off x="5205240" y="5393520"/>
                  <a:ext cx="81000" cy="316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5216400" y="54079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5205240" y="5439600"/>
                  <a:ext cx="81000" cy="114480"/>
                </a:xfrm>
                <a:prstGeom prst="rect">
                  <a:avLst/>
                </a:prstGeom>
                <a:solidFill>
                  <a:srgbClr val="a2a2a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5" name=""/>
              <p:cNvGrpSpPr/>
              <p:nvPr/>
            </p:nvGrpSpPr>
            <p:grpSpPr>
              <a:xfrm>
                <a:off x="5318280" y="4654440"/>
                <a:ext cx="236520" cy="283680"/>
                <a:chOff x="5318280" y="4654440"/>
                <a:chExt cx="236520" cy="283680"/>
              </a:xfrm>
            </p:grpSpPr>
            <p:grpSp>
              <p:nvGrpSpPr>
                <p:cNvPr id="1606" name=""/>
                <p:cNvGrpSpPr/>
                <p:nvPr/>
              </p:nvGrpSpPr>
              <p:grpSpPr>
                <a:xfrm>
                  <a:off x="5318280" y="4654440"/>
                  <a:ext cx="236520" cy="283680"/>
                  <a:chOff x="5318280" y="4654440"/>
                  <a:chExt cx="236520" cy="283680"/>
                </a:xfrm>
              </p:grpSpPr>
              <p:sp>
                <p:nvSpPr>
                  <p:cNvPr id="1607" name=""/>
                  <p:cNvSpPr/>
                  <p:nvPr/>
                </p:nvSpPr>
                <p:spPr>
                  <a:xfrm>
                    <a:off x="5318280" y="4895640"/>
                    <a:ext cx="236520" cy="4248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5346720" y="4654440"/>
                    <a:ext cx="194040" cy="23652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9" name=""/>
                <p:cNvSpPr/>
                <p:nvPr/>
              </p:nvSpPr>
              <p:spPr>
                <a:xfrm>
                  <a:off x="5367240" y="4679280"/>
                  <a:ext cx="81000" cy="3132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5378400" y="469368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5367240" y="4725360"/>
                  <a:ext cx="81000" cy="114120"/>
                </a:xfrm>
                <a:prstGeom prst="rect">
                  <a:avLst/>
                </a:prstGeom>
                <a:solidFill>
                  <a:srgbClr val="a2a2a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2" name=""/>
              <p:cNvGrpSpPr/>
              <p:nvPr/>
            </p:nvGrpSpPr>
            <p:grpSpPr>
              <a:xfrm>
                <a:off x="5813280" y="4654440"/>
                <a:ext cx="236520" cy="283680"/>
                <a:chOff x="5813280" y="4654440"/>
                <a:chExt cx="236520" cy="283680"/>
              </a:xfrm>
            </p:grpSpPr>
            <p:grpSp>
              <p:nvGrpSpPr>
                <p:cNvPr id="1613" name=""/>
                <p:cNvGrpSpPr/>
                <p:nvPr/>
              </p:nvGrpSpPr>
              <p:grpSpPr>
                <a:xfrm>
                  <a:off x="5813280" y="4654440"/>
                  <a:ext cx="236520" cy="283680"/>
                  <a:chOff x="5813280" y="4654440"/>
                  <a:chExt cx="236520" cy="283680"/>
                </a:xfrm>
              </p:grpSpPr>
              <p:sp>
                <p:nvSpPr>
                  <p:cNvPr id="1614" name=""/>
                  <p:cNvSpPr/>
                  <p:nvPr/>
                </p:nvSpPr>
                <p:spPr>
                  <a:xfrm>
                    <a:off x="5813280" y="4895640"/>
                    <a:ext cx="236520" cy="4248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>
                    <a:off x="5841720" y="4654440"/>
                    <a:ext cx="194040" cy="23652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6" name=""/>
                <p:cNvSpPr/>
                <p:nvPr/>
              </p:nvSpPr>
              <p:spPr>
                <a:xfrm>
                  <a:off x="5862240" y="4679280"/>
                  <a:ext cx="81000" cy="3132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5873400" y="469368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5862240" y="4725360"/>
                  <a:ext cx="81000" cy="114120"/>
                </a:xfrm>
                <a:prstGeom prst="rect">
                  <a:avLst/>
                </a:prstGeom>
                <a:solidFill>
                  <a:srgbClr val="a2a2a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9" name=""/>
              <p:cNvGrpSpPr/>
              <p:nvPr/>
            </p:nvGrpSpPr>
            <p:grpSpPr>
              <a:xfrm>
                <a:off x="6222960" y="4654440"/>
                <a:ext cx="236520" cy="283680"/>
                <a:chOff x="6222960" y="4654440"/>
                <a:chExt cx="236520" cy="283680"/>
              </a:xfrm>
            </p:grpSpPr>
            <p:grpSp>
              <p:nvGrpSpPr>
                <p:cNvPr id="1620" name=""/>
                <p:cNvGrpSpPr/>
                <p:nvPr/>
              </p:nvGrpSpPr>
              <p:grpSpPr>
                <a:xfrm>
                  <a:off x="6222960" y="4654440"/>
                  <a:ext cx="236520" cy="283680"/>
                  <a:chOff x="6222960" y="4654440"/>
                  <a:chExt cx="236520" cy="283680"/>
                </a:xfrm>
              </p:grpSpPr>
              <p:sp>
                <p:nvSpPr>
                  <p:cNvPr id="1621" name=""/>
                  <p:cNvSpPr/>
                  <p:nvPr/>
                </p:nvSpPr>
                <p:spPr>
                  <a:xfrm>
                    <a:off x="6222960" y="4895640"/>
                    <a:ext cx="236520" cy="4248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>
                    <a:off x="6251400" y="4654440"/>
                    <a:ext cx="194040" cy="23652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23" name=""/>
                <p:cNvSpPr/>
                <p:nvPr/>
              </p:nvSpPr>
              <p:spPr>
                <a:xfrm>
                  <a:off x="6271920" y="4679280"/>
                  <a:ext cx="81000" cy="3132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6283080" y="469368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6271920" y="4725360"/>
                  <a:ext cx="81000" cy="114120"/>
                </a:xfrm>
                <a:prstGeom prst="rect">
                  <a:avLst/>
                </a:prstGeom>
                <a:solidFill>
                  <a:srgbClr val="a2a2a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6" name=""/>
              <p:cNvGrpSpPr/>
              <p:nvPr/>
            </p:nvGrpSpPr>
            <p:grpSpPr>
              <a:xfrm>
                <a:off x="6642000" y="4654440"/>
                <a:ext cx="236520" cy="283680"/>
                <a:chOff x="6642000" y="4654440"/>
                <a:chExt cx="236520" cy="283680"/>
              </a:xfrm>
            </p:grpSpPr>
            <p:grpSp>
              <p:nvGrpSpPr>
                <p:cNvPr id="1627" name=""/>
                <p:cNvGrpSpPr/>
                <p:nvPr/>
              </p:nvGrpSpPr>
              <p:grpSpPr>
                <a:xfrm>
                  <a:off x="6642000" y="4654440"/>
                  <a:ext cx="236520" cy="283680"/>
                  <a:chOff x="6642000" y="4654440"/>
                  <a:chExt cx="236520" cy="283680"/>
                </a:xfrm>
              </p:grpSpPr>
              <p:sp>
                <p:nvSpPr>
                  <p:cNvPr id="1628" name=""/>
                  <p:cNvSpPr/>
                  <p:nvPr/>
                </p:nvSpPr>
                <p:spPr>
                  <a:xfrm>
                    <a:off x="6642000" y="4895640"/>
                    <a:ext cx="236520" cy="4248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6670440" y="4654440"/>
                    <a:ext cx="194040" cy="23652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30" name=""/>
                <p:cNvSpPr/>
                <p:nvPr/>
              </p:nvSpPr>
              <p:spPr>
                <a:xfrm>
                  <a:off x="6690960" y="4679280"/>
                  <a:ext cx="81000" cy="3132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6702120" y="469368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6690960" y="4725360"/>
                  <a:ext cx="81000" cy="114120"/>
                </a:xfrm>
                <a:prstGeom prst="rect">
                  <a:avLst/>
                </a:prstGeom>
                <a:solidFill>
                  <a:srgbClr val="a2a2a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3" name=""/>
              <p:cNvGrpSpPr/>
              <p:nvPr/>
            </p:nvGrpSpPr>
            <p:grpSpPr>
              <a:xfrm>
                <a:off x="7093080" y="4654440"/>
                <a:ext cx="236520" cy="283680"/>
                <a:chOff x="7093080" y="4654440"/>
                <a:chExt cx="236520" cy="283680"/>
              </a:xfrm>
            </p:grpSpPr>
            <p:grpSp>
              <p:nvGrpSpPr>
                <p:cNvPr id="1634" name=""/>
                <p:cNvGrpSpPr/>
                <p:nvPr/>
              </p:nvGrpSpPr>
              <p:grpSpPr>
                <a:xfrm>
                  <a:off x="7093080" y="4654440"/>
                  <a:ext cx="236520" cy="283680"/>
                  <a:chOff x="7093080" y="4654440"/>
                  <a:chExt cx="236520" cy="283680"/>
                </a:xfrm>
              </p:grpSpPr>
              <p:sp>
                <p:nvSpPr>
                  <p:cNvPr id="1635" name=""/>
                  <p:cNvSpPr/>
                  <p:nvPr/>
                </p:nvSpPr>
                <p:spPr>
                  <a:xfrm>
                    <a:off x="7093080" y="4895640"/>
                    <a:ext cx="236520" cy="4248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6" name=""/>
                  <p:cNvSpPr/>
                  <p:nvPr/>
                </p:nvSpPr>
                <p:spPr>
                  <a:xfrm>
                    <a:off x="7121520" y="4654440"/>
                    <a:ext cx="194040" cy="23652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37" name=""/>
                <p:cNvSpPr/>
                <p:nvPr/>
              </p:nvSpPr>
              <p:spPr>
                <a:xfrm>
                  <a:off x="7142040" y="4679280"/>
                  <a:ext cx="81000" cy="3132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7153200" y="469368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7142040" y="4725360"/>
                  <a:ext cx="81000" cy="114120"/>
                </a:xfrm>
                <a:prstGeom prst="rect">
                  <a:avLst/>
                </a:prstGeom>
                <a:solidFill>
                  <a:srgbClr val="a2a2a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0" name=""/>
              <p:cNvGrpSpPr/>
              <p:nvPr/>
            </p:nvGrpSpPr>
            <p:grpSpPr>
              <a:xfrm>
                <a:off x="7540560" y="4654440"/>
                <a:ext cx="236520" cy="283680"/>
                <a:chOff x="7540560" y="4654440"/>
                <a:chExt cx="236520" cy="283680"/>
              </a:xfrm>
            </p:grpSpPr>
            <p:grpSp>
              <p:nvGrpSpPr>
                <p:cNvPr id="1641" name=""/>
                <p:cNvGrpSpPr/>
                <p:nvPr/>
              </p:nvGrpSpPr>
              <p:grpSpPr>
                <a:xfrm>
                  <a:off x="7540560" y="4654440"/>
                  <a:ext cx="236520" cy="283680"/>
                  <a:chOff x="7540560" y="4654440"/>
                  <a:chExt cx="236520" cy="283680"/>
                </a:xfrm>
              </p:grpSpPr>
              <p:sp>
                <p:nvSpPr>
                  <p:cNvPr id="1642" name=""/>
                  <p:cNvSpPr/>
                  <p:nvPr/>
                </p:nvSpPr>
                <p:spPr>
                  <a:xfrm>
                    <a:off x="7540560" y="4895640"/>
                    <a:ext cx="236520" cy="4248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>
                    <a:off x="7569000" y="4654440"/>
                    <a:ext cx="194040" cy="23652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4" name=""/>
                <p:cNvSpPr/>
                <p:nvPr/>
              </p:nvSpPr>
              <p:spPr>
                <a:xfrm>
                  <a:off x="7589520" y="4679280"/>
                  <a:ext cx="81000" cy="3132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7600680" y="469368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7589520" y="4725360"/>
                  <a:ext cx="81000" cy="114120"/>
                </a:xfrm>
                <a:prstGeom prst="rect">
                  <a:avLst/>
                </a:prstGeom>
                <a:solidFill>
                  <a:srgbClr val="a2a2a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47" name=""/>
            <p:cNvSpPr/>
            <p:nvPr/>
          </p:nvSpPr>
          <p:spPr>
            <a:xfrm>
              <a:off x="2772000" y="3852720"/>
              <a:ext cx="1463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155Mbps Fiber Connecto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ng Security to the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649" name=""/>
          <p:cNvGrpSpPr/>
          <p:nvPr/>
        </p:nvGrpSpPr>
        <p:grpSpPr>
          <a:xfrm>
            <a:off x="318600" y="1666800"/>
            <a:ext cx="8245080" cy="3742560"/>
            <a:chOff x="318600" y="1666800"/>
            <a:chExt cx="8245080" cy="3742560"/>
          </a:xfrm>
        </p:grpSpPr>
        <p:sp>
          <p:nvSpPr>
            <p:cNvPr id="1650" name=""/>
            <p:cNvSpPr/>
            <p:nvPr/>
          </p:nvSpPr>
          <p:spPr>
            <a:xfrm>
              <a:off x="1233360" y="4392360"/>
              <a:ext cx="0" cy="33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1255680" y="1990440"/>
              <a:ext cx="2797200" cy="2614320"/>
            </a:xfrm>
            <a:prstGeom prst="line">
              <a:avLst/>
            </a:prstGeom>
            <a:ln w="28440">
              <a:solidFill>
                <a:srgbClr val="8d8d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1180800" y="2063520"/>
              <a:ext cx="252360" cy="2534760"/>
            </a:xfrm>
            <a:prstGeom prst="line">
              <a:avLst/>
            </a:prstGeom>
            <a:ln w="28440">
              <a:solidFill>
                <a:srgbClr val="8d8d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527120" y="1768320"/>
              <a:ext cx="0" cy="255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328760" y="1763280"/>
              <a:ext cx="0" cy="258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719360" y="1766520"/>
              <a:ext cx="0" cy="255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674720" y="2023920"/>
              <a:ext cx="0" cy="161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55920" y="2026800"/>
              <a:ext cx="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8" name=""/>
            <p:cNvGrpSpPr/>
            <p:nvPr/>
          </p:nvGrpSpPr>
          <p:grpSpPr>
            <a:xfrm>
              <a:off x="1220760" y="1877760"/>
              <a:ext cx="146160" cy="45720"/>
              <a:chOff x="1220760" y="1877760"/>
              <a:chExt cx="146160" cy="45720"/>
            </a:xfrm>
          </p:grpSpPr>
          <p:sp>
            <p:nvSpPr>
              <p:cNvPr id="1659" name=""/>
              <p:cNvSpPr/>
              <p:nvPr/>
            </p:nvSpPr>
            <p:spPr>
              <a:xfrm>
                <a:off x="1220760" y="1877760"/>
                <a:ext cx="146160" cy="4572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1228320" y="1892160"/>
                <a:ext cx="129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229040" y="1883520"/>
                <a:ext cx="129240" cy="38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228320" y="1899720"/>
                <a:ext cx="129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228320" y="1908720"/>
                <a:ext cx="129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4" name=""/>
              <p:cNvGrpSpPr/>
              <p:nvPr/>
            </p:nvGrpSpPr>
            <p:grpSpPr>
              <a:xfrm>
                <a:off x="1234800" y="1888560"/>
                <a:ext cx="10800" cy="15480"/>
                <a:chOff x="1234800" y="1888560"/>
                <a:chExt cx="10800" cy="15480"/>
              </a:xfrm>
            </p:grpSpPr>
            <p:sp>
              <p:nvSpPr>
                <p:cNvPr id="1665" name=""/>
                <p:cNvSpPr/>
                <p:nvPr/>
              </p:nvSpPr>
              <p:spPr>
                <a:xfrm>
                  <a:off x="1234800" y="189612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1234800" y="190404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1234800" y="188856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8" name=""/>
              <p:cNvGrpSpPr/>
              <p:nvPr/>
            </p:nvGrpSpPr>
            <p:grpSpPr>
              <a:xfrm>
                <a:off x="1254240" y="1888560"/>
                <a:ext cx="10800" cy="15480"/>
                <a:chOff x="1254240" y="1888560"/>
                <a:chExt cx="10800" cy="1548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1254240" y="189612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1254240" y="190404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1254240" y="188856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2" name=""/>
              <p:cNvGrpSpPr/>
              <p:nvPr/>
            </p:nvGrpSpPr>
            <p:grpSpPr>
              <a:xfrm>
                <a:off x="1274040" y="1888560"/>
                <a:ext cx="10800" cy="15480"/>
                <a:chOff x="1274040" y="1888560"/>
                <a:chExt cx="10800" cy="15480"/>
              </a:xfrm>
            </p:grpSpPr>
            <p:sp>
              <p:nvSpPr>
                <p:cNvPr id="1673" name=""/>
                <p:cNvSpPr/>
                <p:nvPr/>
              </p:nvSpPr>
              <p:spPr>
                <a:xfrm>
                  <a:off x="1274040" y="189612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1274040" y="190404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1274040" y="188856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6" name=""/>
              <p:cNvGrpSpPr/>
              <p:nvPr/>
            </p:nvGrpSpPr>
            <p:grpSpPr>
              <a:xfrm>
                <a:off x="1293840" y="1888560"/>
                <a:ext cx="10800" cy="15480"/>
                <a:chOff x="1293840" y="1888560"/>
                <a:chExt cx="10800" cy="15480"/>
              </a:xfrm>
            </p:grpSpPr>
            <p:sp>
              <p:nvSpPr>
                <p:cNvPr id="1677" name=""/>
                <p:cNvSpPr/>
                <p:nvPr/>
              </p:nvSpPr>
              <p:spPr>
                <a:xfrm>
                  <a:off x="1293840" y="189612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1293840" y="190404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1293840" y="188856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0" name=""/>
              <p:cNvGrpSpPr/>
              <p:nvPr/>
            </p:nvGrpSpPr>
            <p:grpSpPr>
              <a:xfrm>
                <a:off x="1313280" y="1888560"/>
                <a:ext cx="10800" cy="15480"/>
                <a:chOff x="1313280" y="1888560"/>
                <a:chExt cx="10800" cy="15480"/>
              </a:xfrm>
            </p:grpSpPr>
            <p:sp>
              <p:nvSpPr>
                <p:cNvPr id="1681" name=""/>
                <p:cNvSpPr/>
                <p:nvPr/>
              </p:nvSpPr>
              <p:spPr>
                <a:xfrm>
                  <a:off x="1313280" y="189612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1313280" y="190404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1313280" y="188856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4" name=""/>
              <p:cNvGrpSpPr/>
              <p:nvPr/>
            </p:nvGrpSpPr>
            <p:grpSpPr>
              <a:xfrm>
                <a:off x="1333080" y="1888560"/>
                <a:ext cx="10800" cy="15480"/>
                <a:chOff x="1333080" y="1888560"/>
                <a:chExt cx="10800" cy="15480"/>
              </a:xfrm>
            </p:grpSpPr>
            <p:sp>
              <p:nvSpPr>
                <p:cNvPr id="1685" name=""/>
                <p:cNvSpPr/>
                <p:nvPr/>
              </p:nvSpPr>
              <p:spPr>
                <a:xfrm>
                  <a:off x="1333080" y="189612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1333080" y="190404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1333080" y="188856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88" name=""/>
            <p:cNvGrpSpPr/>
            <p:nvPr/>
          </p:nvGrpSpPr>
          <p:grpSpPr>
            <a:xfrm>
              <a:off x="1450800" y="1833120"/>
              <a:ext cx="100080" cy="169560"/>
              <a:chOff x="1450800" y="1833120"/>
              <a:chExt cx="100080" cy="169560"/>
            </a:xfrm>
          </p:grpSpPr>
          <p:sp>
            <p:nvSpPr>
              <p:cNvPr id="1689" name=""/>
              <p:cNvSpPr/>
              <p:nvPr/>
            </p:nvSpPr>
            <p:spPr>
              <a:xfrm>
                <a:off x="1450800" y="1833120"/>
                <a:ext cx="99720" cy="16956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450800" y="1971000"/>
                <a:ext cx="9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450800" y="1862640"/>
                <a:ext cx="10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460160" y="1862640"/>
                <a:ext cx="0" cy="10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476720" y="1862640"/>
                <a:ext cx="0" cy="10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492920" y="1862640"/>
                <a:ext cx="0" cy="10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509480" y="1862640"/>
                <a:ext cx="0" cy="10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526040" y="1862640"/>
                <a:ext cx="0" cy="10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1542600" y="1862640"/>
                <a:ext cx="0" cy="10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8" name=""/>
              <p:cNvGrpSpPr/>
              <p:nvPr/>
            </p:nvGrpSpPr>
            <p:grpSpPr>
              <a:xfrm>
                <a:off x="1463400" y="1869120"/>
                <a:ext cx="7560" cy="86760"/>
                <a:chOff x="1463400" y="1869120"/>
                <a:chExt cx="7560" cy="86760"/>
              </a:xfrm>
            </p:grpSpPr>
            <p:sp>
              <p:nvSpPr>
                <p:cNvPr id="1699" name=""/>
                <p:cNvSpPr/>
                <p:nvPr/>
              </p:nvSpPr>
              <p:spPr>
                <a:xfrm>
                  <a:off x="1463400" y="1869120"/>
                  <a:ext cx="756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1463400" y="1891080"/>
                  <a:ext cx="756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1463400" y="1914480"/>
                  <a:ext cx="756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1463400" y="1937520"/>
                  <a:ext cx="756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1479600" y="1869120"/>
                <a:ext cx="7920" cy="86760"/>
                <a:chOff x="1479600" y="1869120"/>
                <a:chExt cx="7920" cy="8676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1479600" y="186912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1479600" y="189108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1479600" y="191448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1479600" y="193752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8" name=""/>
              <p:cNvGrpSpPr/>
              <p:nvPr/>
            </p:nvGrpSpPr>
            <p:grpSpPr>
              <a:xfrm>
                <a:off x="1498680" y="1869120"/>
                <a:ext cx="7920" cy="86760"/>
                <a:chOff x="1498680" y="1869120"/>
                <a:chExt cx="7920" cy="86760"/>
              </a:xfrm>
            </p:grpSpPr>
            <p:sp>
              <p:nvSpPr>
                <p:cNvPr id="1709" name=""/>
                <p:cNvSpPr/>
                <p:nvPr/>
              </p:nvSpPr>
              <p:spPr>
                <a:xfrm>
                  <a:off x="1498680" y="186912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1498680" y="189108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1498680" y="191448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1498680" y="193752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3" name=""/>
              <p:cNvGrpSpPr/>
              <p:nvPr/>
            </p:nvGrpSpPr>
            <p:grpSpPr>
              <a:xfrm>
                <a:off x="1513080" y="1869120"/>
                <a:ext cx="7920" cy="86760"/>
                <a:chOff x="1513080" y="1869120"/>
                <a:chExt cx="7920" cy="86760"/>
              </a:xfrm>
            </p:grpSpPr>
            <p:sp>
              <p:nvSpPr>
                <p:cNvPr id="1714" name=""/>
                <p:cNvSpPr/>
                <p:nvPr/>
              </p:nvSpPr>
              <p:spPr>
                <a:xfrm>
                  <a:off x="1513080" y="186912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1513080" y="189108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1513080" y="191448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1513080" y="193752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8" name=""/>
              <p:cNvGrpSpPr/>
              <p:nvPr/>
            </p:nvGrpSpPr>
            <p:grpSpPr>
              <a:xfrm>
                <a:off x="1529640" y="1869120"/>
                <a:ext cx="7920" cy="86760"/>
                <a:chOff x="1529640" y="1869120"/>
                <a:chExt cx="7920" cy="86760"/>
              </a:xfrm>
            </p:grpSpPr>
            <p:sp>
              <p:nvSpPr>
                <p:cNvPr id="1719" name=""/>
                <p:cNvSpPr/>
                <p:nvPr/>
              </p:nvSpPr>
              <p:spPr>
                <a:xfrm>
                  <a:off x="1529640" y="186912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1529640" y="189108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1529640" y="191448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1529640" y="193752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3" name=""/>
            <p:cNvGrpSpPr/>
            <p:nvPr/>
          </p:nvGrpSpPr>
          <p:grpSpPr>
            <a:xfrm>
              <a:off x="1676520" y="1833120"/>
              <a:ext cx="52200" cy="169560"/>
              <a:chOff x="1676520" y="1833120"/>
              <a:chExt cx="52200" cy="169560"/>
            </a:xfrm>
          </p:grpSpPr>
          <p:sp>
            <p:nvSpPr>
              <p:cNvPr id="1724" name=""/>
              <p:cNvSpPr/>
              <p:nvPr/>
            </p:nvSpPr>
            <p:spPr>
              <a:xfrm>
                <a:off x="1676520" y="1833120"/>
                <a:ext cx="52200" cy="16956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676520" y="1971000"/>
                <a:ext cx="4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676520" y="1862640"/>
                <a:ext cx="4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685880" y="1862640"/>
                <a:ext cx="0" cy="10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702440" y="1862640"/>
                <a:ext cx="0" cy="10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1719000" y="1862640"/>
                <a:ext cx="0" cy="10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0" name=""/>
              <p:cNvGrpSpPr/>
              <p:nvPr/>
            </p:nvGrpSpPr>
            <p:grpSpPr>
              <a:xfrm>
                <a:off x="1689120" y="1869120"/>
                <a:ext cx="7560" cy="87120"/>
                <a:chOff x="1689120" y="1869120"/>
                <a:chExt cx="7560" cy="87120"/>
              </a:xfrm>
            </p:grpSpPr>
            <p:sp>
              <p:nvSpPr>
                <p:cNvPr id="1731" name=""/>
                <p:cNvSpPr/>
                <p:nvPr/>
              </p:nvSpPr>
              <p:spPr>
                <a:xfrm>
                  <a:off x="1689120" y="1869120"/>
                  <a:ext cx="756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1689120" y="1891080"/>
                  <a:ext cx="756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1689120" y="1914480"/>
                  <a:ext cx="756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1689120" y="1937880"/>
                  <a:ext cx="756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5" name=""/>
              <p:cNvGrpSpPr/>
              <p:nvPr/>
            </p:nvGrpSpPr>
            <p:grpSpPr>
              <a:xfrm>
                <a:off x="1705320" y="1869120"/>
                <a:ext cx="7920" cy="87120"/>
                <a:chOff x="1705320" y="1869120"/>
                <a:chExt cx="7920" cy="87120"/>
              </a:xfrm>
            </p:grpSpPr>
            <p:sp>
              <p:nvSpPr>
                <p:cNvPr id="1736" name=""/>
                <p:cNvSpPr/>
                <p:nvPr/>
              </p:nvSpPr>
              <p:spPr>
                <a:xfrm>
                  <a:off x="1705320" y="186912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1705320" y="189108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1705320" y="191448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1705320" y="193788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0" name=""/>
            <p:cNvGrpSpPr/>
            <p:nvPr/>
          </p:nvGrpSpPr>
          <p:grpSpPr>
            <a:xfrm>
              <a:off x="1622520" y="2114280"/>
              <a:ext cx="90360" cy="105840"/>
              <a:chOff x="1622520" y="2114280"/>
              <a:chExt cx="90360" cy="105840"/>
            </a:xfrm>
          </p:grpSpPr>
          <p:grpSp>
            <p:nvGrpSpPr>
              <p:cNvPr id="1741" name=""/>
              <p:cNvGrpSpPr/>
              <p:nvPr/>
            </p:nvGrpSpPr>
            <p:grpSpPr>
              <a:xfrm>
                <a:off x="1622520" y="2114280"/>
                <a:ext cx="90360" cy="105840"/>
                <a:chOff x="1622520" y="2114280"/>
                <a:chExt cx="90360" cy="10584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1622520" y="2204280"/>
                  <a:ext cx="90360" cy="158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1633320" y="2114280"/>
                  <a:ext cx="74160" cy="8820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4" name=""/>
              <p:cNvSpPr/>
              <p:nvPr/>
            </p:nvSpPr>
            <p:spPr>
              <a:xfrm>
                <a:off x="1641240" y="2123280"/>
                <a:ext cx="30600" cy="118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645560" y="2128680"/>
                <a:ext cx="2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1641240" y="2140560"/>
                <a:ext cx="30600" cy="4284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7" name=""/>
            <p:cNvSpPr/>
            <p:nvPr/>
          </p:nvSpPr>
          <p:spPr>
            <a:xfrm flipV="1">
              <a:off x="1868400" y="1764720"/>
              <a:ext cx="0" cy="263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2036880" y="1766160"/>
              <a:ext cx="0" cy="253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V="1">
              <a:off x="2205000" y="1761840"/>
              <a:ext cx="0" cy="258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V="1">
              <a:off x="2373480" y="1760040"/>
              <a:ext cx="0" cy="263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V="1">
              <a:off x="2541600" y="1761840"/>
              <a:ext cx="0" cy="258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2709720" y="1761840"/>
              <a:ext cx="0" cy="258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3" name=""/>
            <p:cNvGrpSpPr/>
            <p:nvPr/>
          </p:nvGrpSpPr>
          <p:grpSpPr>
            <a:xfrm>
              <a:off x="1814400" y="1869840"/>
              <a:ext cx="88920" cy="107640"/>
              <a:chOff x="1814400" y="1869840"/>
              <a:chExt cx="88920" cy="107640"/>
            </a:xfrm>
          </p:grpSpPr>
          <p:grpSp>
            <p:nvGrpSpPr>
              <p:cNvPr id="1754" name=""/>
              <p:cNvGrpSpPr/>
              <p:nvPr/>
            </p:nvGrpSpPr>
            <p:grpSpPr>
              <a:xfrm>
                <a:off x="1814400" y="1869840"/>
                <a:ext cx="88920" cy="107640"/>
                <a:chOff x="1814400" y="1869840"/>
                <a:chExt cx="88920" cy="107640"/>
              </a:xfrm>
            </p:grpSpPr>
            <p:sp>
              <p:nvSpPr>
                <p:cNvPr id="1755" name=""/>
                <p:cNvSpPr/>
                <p:nvPr/>
              </p:nvSpPr>
              <p:spPr>
                <a:xfrm>
                  <a:off x="1814400" y="1961280"/>
                  <a:ext cx="88920" cy="1620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1824840" y="1869840"/>
                  <a:ext cx="73080" cy="896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7" name=""/>
              <p:cNvSpPr/>
              <p:nvPr/>
            </p:nvSpPr>
            <p:spPr>
              <a:xfrm>
                <a:off x="1833120" y="1879200"/>
                <a:ext cx="30240" cy="11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1837080" y="1884600"/>
                <a:ext cx="2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1833120" y="1896480"/>
                <a:ext cx="30240" cy="4356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0" name=""/>
            <p:cNvGrpSpPr/>
            <p:nvPr/>
          </p:nvGrpSpPr>
          <p:grpSpPr>
            <a:xfrm>
              <a:off x="1986120" y="1869840"/>
              <a:ext cx="88920" cy="107640"/>
              <a:chOff x="1986120" y="1869840"/>
              <a:chExt cx="88920" cy="107640"/>
            </a:xfrm>
          </p:grpSpPr>
          <p:grpSp>
            <p:nvGrpSpPr>
              <p:cNvPr id="1761" name=""/>
              <p:cNvGrpSpPr/>
              <p:nvPr/>
            </p:nvGrpSpPr>
            <p:grpSpPr>
              <a:xfrm>
                <a:off x="1986120" y="1869840"/>
                <a:ext cx="88920" cy="107640"/>
                <a:chOff x="1986120" y="1869840"/>
                <a:chExt cx="88920" cy="107640"/>
              </a:xfrm>
            </p:grpSpPr>
            <p:sp>
              <p:nvSpPr>
                <p:cNvPr id="1762" name=""/>
                <p:cNvSpPr/>
                <p:nvPr/>
              </p:nvSpPr>
              <p:spPr>
                <a:xfrm>
                  <a:off x="1986120" y="1961280"/>
                  <a:ext cx="88920" cy="1620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1996560" y="1869840"/>
                  <a:ext cx="73080" cy="896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4" name=""/>
              <p:cNvSpPr/>
              <p:nvPr/>
            </p:nvSpPr>
            <p:spPr>
              <a:xfrm>
                <a:off x="2004840" y="1879200"/>
                <a:ext cx="30240" cy="11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008800" y="1884600"/>
                <a:ext cx="2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004840" y="1896480"/>
                <a:ext cx="30240" cy="4356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7" name=""/>
            <p:cNvGrpSpPr/>
            <p:nvPr/>
          </p:nvGrpSpPr>
          <p:grpSpPr>
            <a:xfrm>
              <a:off x="2158920" y="1869840"/>
              <a:ext cx="88920" cy="107640"/>
              <a:chOff x="2158920" y="1869840"/>
              <a:chExt cx="88920" cy="107640"/>
            </a:xfrm>
          </p:grpSpPr>
          <p:grpSp>
            <p:nvGrpSpPr>
              <p:cNvPr id="1768" name=""/>
              <p:cNvGrpSpPr/>
              <p:nvPr/>
            </p:nvGrpSpPr>
            <p:grpSpPr>
              <a:xfrm>
                <a:off x="2158920" y="1869840"/>
                <a:ext cx="88920" cy="107640"/>
                <a:chOff x="2158920" y="1869840"/>
                <a:chExt cx="88920" cy="107640"/>
              </a:xfrm>
            </p:grpSpPr>
            <p:sp>
              <p:nvSpPr>
                <p:cNvPr id="1769" name=""/>
                <p:cNvSpPr/>
                <p:nvPr/>
              </p:nvSpPr>
              <p:spPr>
                <a:xfrm>
                  <a:off x="2158920" y="1961280"/>
                  <a:ext cx="88920" cy="1620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2169360" y="1869840"/>
                  <a:ext cx="73080" cy="896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1" name=""/>
              <p:cNvSpPr/>
              <p:nvPr/>
            </p:nvSpPr>
            <p:spPr>
              <a:xfrm>
                <a:off x="2177640" y="1879200"/>
                <a:ext cx="30240" cy="11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181600" y="1884600"/>
                <a:ext cx="2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177640" y="1896480"/>
                <a:ext cx="30240" cy="4356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4" name=""/>
            <p:cNvGrpSpPr/>
            <p:nvPr/>
          </p:nvGrpSpPr>
          <p:grpSpPr>
            <a:xfrm>
              <a:off x="2330280" y="1869840"/>
              <a:ext cx="88920" cy="107640"/>
              <a:chOff x="2330280" y="1869840"/>
              <a:chExt cx="88920" cy="107640"/>
            </a:xfrm>
          </p:grpSpPr>
          <p:grpSp>
            <p:nvGrpSpPr>
              <p:cNvPr id="1775" name=""/>
              <p:cNvGrpSpPr/>
              <p:nvPr/>
            </p:nvGrpSpPr>
            <p:grpSpPr>
              <a:xfrm>
                <a:off x="2330280" y="1869840"/>
                <a:ext cx="88920" cy="107640"/>
                <a:chOff x="2330280" y="1869840"/>
                <a:chExt cx="88920" cy="107640"/>
              </a:xfrm>
            </p:grpSpPr>
            <p:sp>
              <p:nvSpPr>
                <p:cNvPr id="1776" name=""/>
                <p:cNvSpPr/>
                <p:nvPr/>
              </p:nvSpPr>
              <p:spPr>
                <a:xfrm>
                  <a:off x="2330280" y="1961280"/>
                  <a:ext cx="88920" cy="1620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2340720" y="1869840"/>
                  <a:ext cx="73080" cy="896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8" name=""/>
              <p:cNvSpPr/>
              <p:nvPr/>
            </p:nvSpPr>
            <p:spPr>
              <a:xfrm>
                <a:off x="2349000" y="1879200"/>
                <a:ext cx="30240" cy="118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2352960" y="1884600"/>
                <a:ext cx="2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2349000" y="1896480"/>
                <a:ext cx="30240" cy="4356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1" name=""/>
            <p:cNvGrpSpPr/>
            <p:nvPr/>
          </p:nvGrpSpPr>
          <p:grpSpPr>
            <a:xfrm>
              <a:off x="2502000" y="1869840"/>
              <a:ext cx="90360" cy="107640"/>
              <a:chOff x="2502000" y="1869840"/>
              <a:chExt cx="90360" cy="107640"/>
            </a:xfrm>
          </p:grpSpPr>
          <p:grpSp>
            <p:nvGrpSpPr>
              <p:cNvPr id="1782" name=""/>
              <p:cNvGrpSpPr/>
              <p:nvPr/>
            </p:nvGrpSpPr>
            <p:grpSpPr>
              <a:xfrm>
                <a:off x="2502000" y="1869840"/>
                <a:ext cx="90360" cy="107640"/>
                <a:chOff x="2502000" y="1869840"/>
                <a:chExt cx="90360" cy="107640"/>
              </a:xfrm>
            </p:grpSpPr>
            <p:sp>
              <p:nvSpPr>
                <p:cNvPr id="1783" name=""/>
                <p:cNvSpPr/>
                <p:nvPr/>
              </p:nvSpPr>
              <p:spPr>
                <a:xfrm>
                  <a:off x="2502000" y="1961280"/>
                  <a:ext cx="90360" cy="1620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2512800" y="1869840"/>
                  <a:ext cx="74160" cy="896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5" name=""/>
              <p:cNvSpPr/>
              <p:nvPr/>
            </p:nvSpPr>
            <p:spPr>
              <a:xfrm>
                <a:off x="2520720" y="1879200"/>
                <a:ext cx="30600" cy="11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525040" y="1884600"/>
                <a:ext cx="2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520720" y="1896480"/>
                <a:ext cx="30600" cy="4356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8" name=""/>
            <p:cNvGrpSpPr/>
            <p:nvPr/>
          </p:nvGrpSpPr>
          <p:grpSpPr>
            <a:xfrm>
              <a:off x="2674800" y="1869840"/>
              <a:ext cx="88920" cy="107640"/>
              <a:chOff x="2674800" y="1869840"/>
              <a:chExt cx="88920" cy="107640"/>
            </a:xfrm>
          </p:grpSpPr>
          <p:grpSp>
            <p:nvGrpSpPr>
              <p:cNvPr id="1789" name=""/>
              <p:cNvGrpSpPr/>
              <p:nvPr/>
            </p:nvGrpSpPr>
            <p:grpSpPr>
              <a:xfrm>
                <a:off x="2674800" y="1869840"/>
                <a:ext cx="88920" cy="107640"/>
                <a:chOff x="2674800" y="1869840"/>
                <a:chExt cx="88920" cy="107640"/>
              </a:xfrm>
            </p:grpSpPr>
            <p:sp>
              <p:nvSpPr>
                <p:cNvPr id="1790" name=""/>
                <p:cNvSpPr/>
                <p:nvPr/>
              </p:nvSpPr>
              <p:spPr>
                <a:xfrm>
                  <a:off x="2674800" y="1961280"/>
                  <a:ext cx="88920" cy="1620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2685240" y="1869840"/>
                  <a:ext cx="73080" cy="896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2" name=""/>
              <p:cNvSpPr/>
              <p:nvPr/>
            </p:nvSpPr>
            <p:spPr>
              <a:xfrm>
                <a:off x="2693520" y="1879200"/>
                <a:ext cx="30240" cy="11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697480" y="1884600"/>
                <a:ext cx="2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693520" y="1896480"/>
                <a:ext cx="30240" cy="4356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5" name=""/>
            <p:cNvSpPr/>
            <p:nvPr/>
          </p:nvSpPr>
          <p:spPr>
            <a:xfrm>
              <a:off x="1230480" y="1757160"/>
              <a:ext cx="1519200" cy="14040"/>
            </a:xfrm>
            <a:prstGeom prst="rect">
              <a:avLst/>
            </a:prstGeom>
            <a:gradFill rotWithShape="0">
              <a:gsLst>
                <a:gs pos="0">
                  <a:srgbClr val="474747"/>
                </a:gs>
                <a:gs pos="50000">
                  <a:srgbClr val="ededed"/>
                </a:gs>
                <a:gs pos="100000">
                  <a:srgbClr val="4747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308240" y="2014200"/>
              <a:ext cx="1447560" cy="14040"/>
            </a:xfrm>
            <a:prstGeom prst="rect">
              <a:avLst/>
            </a:prstGeom>
            <a:gradFill rotWithShape="0">
              <a:gsLst>
                <a:gs pos="0">
                  <a:srgbClr val="474747"/>
                </a:gs>
                <a:gs pos="50000">
                  <a:srgbClr val="ededed"/>
                </a:gs>
                <a:gs pos="100000">
                  <a:srgbClr val="4747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167360" y="1677600"/>
              <a:ext cx="0" cy="255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968640" y="1672920"/>
              <a:ext cx="0" cy="258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359240" y="1676160"/>
              <a:ext cx="0" cy="255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314960" y="1933200"/>
              <a:ext cx="0" cy="16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202280" y="1936440"/>
              <a:ext cx="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2" name=""/>
            <p:cNvGrpSpPr/>
            <p:nvPr/>
          </p:nvGrpSpPr>
          <p:grpSpPr>
            <a:xfrm>
              <a:off x="3867120" y="1787400"/>
              <a:ext cx="146160" cy="45360"/>
              <a:chOff x="3867120" y="1787400"/>
              <a:chExt cx="146160" cy="45360"/>
            </a:xfrm>
          </p:grpSpPr>
          <p:sp>
            <p:nvSpPr>
              <p:cNvPr id="1803" name=""/>
              <p:cNvSpPr/>
              <p:nvPr/>
            </p:nvSpPr>
            <p:spPr>
              <a:xfrm>
                <a:off x="3867120" y="1787400"/>
                <a:ext cx="146160" cy="4536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3874680" y="1801800"/>
                <a:ext cx="129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875400" y="1793160"/>
                <a:ext cx="129240" cy="378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3874680" y="1809360"/>
                <a:ext cx="129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3874680" y="1818000"/>
                <a:ext cx="129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8" name=""/>
              <p:cNvGrpSpPr/>
              <p:nvPr/>
            </p:nvGrpSpPr>
            <p:grpSpPr>
              <a:xfrm>
                <a:off x="3881160" y="1798200"/>
                <a:ext cx="10800" cy="15120"/>
                <a:chOff x="3881160" y="1798200"/>
                <a:chExt cx="10800" cy="15120"/>
              </a:xfrm>
            </p:grpSpPr>
            <p:sp>
              <p:nvSpPr>
                <p:cNvPr id="1809" name=""/>
                <p:cNvSpPr/>
                <p:nvPr/>
              </p:nvSpPr>
              <p:spPr>
                <a:xfrm>
                  <a:off x="3881160" y="180576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3881160" y="181332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3881160" y="179820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2" name=""/>
              <p:cNvGrpSpPr/>
              <p:nvPr/>
            </p:nvGrpSpPr>
            <p:grpSpPr>
              <a:xfrm>
                <a:off x="3900600" y="1798200"/>
                <a:ext cx="10800" cy="15120"/>
                <a:chOff x="3900600" y="1798200"/>
                <a:chExt cx="10800" cy="15120"/>
              </a:xfrm>
            </p:grpSpPr>
            <p:sp>
              <p:nvSpPr>
                <p:cNvPr id="1813" name=""/>
                <p:cNvSpPr/>
                <p:nvPr/>
              </p:nvSpPr>
              <p:spPr>
                <a:xfrm>
                  <a:off x="3900600" y="180576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3900600" y="181332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3900600" y="179820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6" name=""/>
              <p:cNvGrpSpPr/>
              <p:nvPr/>
            </p:nvGrpSpPr>
            <p:grpSpPr>
              <a:xfrm>
                <a:off x="3920400" y="1798200"/>
                <a:ext cx="10800" cy="15120"/>
                <a:chOff x="3920400" y="1798200"/>
                <a:chExt cx="10800" cy="15120"/>
              </a:xfrm>
            </p:grpSpPr>
            <p:sp>
              <p:nvSpPr>
                <p:cNvPr id="1817" name=""/>
                <p:cNvSpPr/>
                <p:nvPr/>
              </p:nvSpPr>
              <p:spPr>
                <a:xfrm>
                  <a:off x="3920400" y="180576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3920400" y="181332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3920400" y="179820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0" name=""/>
              <p:cNvGrpSpPr/>
              <p:nvPr/>
            </p:nvGrpSpPr>
            <p:grpSpPr>
              <a:xfrm>
                <a:off x="3940200" y="1798200"/>
                <a:ext cx="10800" cy="15120"/>
                <a:chOff x="3940200" y="1798200"/>
                <a:chExt cx="10800" cy="1512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3940200" y="180576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3940200" y="181332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3940200" y="179820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4" name=""/>
              <p:cNvGrpSpPr/>
              <p:nvPr/>
            </p:nvGrpSpPr>
            <p:grpSpPr>
              <a:xfrm>
                <a:off x="3959640" y="1798200"/>
                <a:ext cx="10800" cy="15120"/>
                <a:chOff x="3959640" y="1798200"/>
                <a:chExt cx="10800" cy="15120"/>
              </a:xfrm>
            </p:grpSpPr>
            <p:sp>
              <p:nvSpPr>
                <p:cNvPr id="1825" name=""/>
                <p:cNvSpPr/>
                <p:nvPr/>
              </p:nvSpPr>
              <p:spPr>
                <a:xfrm>
                  <a:off x="3959640" y="180576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3959640" y="181332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3959640" y="179820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3979440" y="1798200"/>
                <a:ext cx="10800" cy="15120"/>
                <a:chOff x="3979440" y="1798200"/>
                <a:chExt cx="10800" cy="15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3979440" y="180576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3979440" y="181332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3979440" y="179820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32" name=""/>
            <p:cNvGrpSpPr/>
            <p:nvPr/>
          </p:nvGrpSpPr>
          <p:grpSpPr>
            <a:xfrm>
              <a:off x="4097160" y="1742760"/>
              <a:ext cx="100080" cy="169560"/>
              <a:chOff x="4097160" y="1742760"/>
              <a:chExt cx="100080" cy="169560"/>
            </a:xfrm>
          </p:grpSpPr>
          <p:sp>
            <p:nvSpPr>
              <p:cNvPr id="1833" name=""/>
              <p:cNvSpPr/>
              <p:nvPr/>
            </p:nvSpPr>
            <p:spPr>
              <a:xfrm>
                <a:off x="4097160" y="1742760"/>
                <a:ext cx="99720" cy="16956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097160" y="1880640"/>
                <a:ext cx="9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097160" y="1772280"/>
                <a:ext cx="10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106520" y="1772280"/>
                <a:ext cx="0" cy="10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123080" y="1772280"/>
                <a:ext cx="0" cy="10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139280" y="1772280"/>
                <a:ext cx="0" cy="10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155840" y="1772280"/>
                <a:ext cx="0" cy="10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172400" y="1772280"/>
                <a:ext cx="0" cy="10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188960" y="1772280"/>
                <a:ext cx="0" cy="10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2" name=""/>
              <p:cNvGrpSpPr/>
              <p:nvPr/>
            </p:nvGrpSpPr>
            <p:grpSpPr>
              <a:xfrm>
                <a:off x="4109760" y="1778760"/>
                <a:ext cx="7560" cy="86760"/>
                <a:chOff x="4109760" y="1778760"/>
                <a:chExt cx="7560" cy="86760"/>
              </a:xfrm>
            </p:grpSpPr>
            <p:sp>
              <p:nvSpPr>
                <p:cNvPr id="1843" name=""/>
                <p:cNvSpPr/>
                <p:nvPr/>
              </p:nvSpPr>
              <p:spPr>
                <a:xfrm>
                  <a:off x="4109760" y="1778760"/>
                  <a:ext cx="756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4109760" y="1800720"/>
                  <a:ext cx="756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4109760" y="1824120"/>
                  <a:ext cx="756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4109760" y="1847160"/>
                  <a:ext cx="756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4125960" y="1778760"/>
                <a:ext cx="7920" cy="86760"/>
                <a:chOff x="4125960" y="1778760"/>
                <a:chExt cx="7920" cy="867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4125960" y="177876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4125960" y="180072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4125960" y="182412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4125960" y="184716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2" name=""/>
              <p:cNvGrpSpPr/>
              <p:nvPr/>
            </p:nvGrpSpPr>
            <p:grpSpPr>
              <a:xfrm>
                <a:off x="4145040" y="1778760"/>
                <a:ext cx="7920" cy="86760"/>
                <a:chOff x="4145040" y="1778760"/>
                <a:chExt cx="7920" cy="86760"/>
              </a:xfrm>
            </p:grpSpPr>
            <p:sp>
              <p:nvSpPr>
                <p:cNvPr id="1853" name=""/>
                <p:cNvSpPr/>
                <p:nvPr/>
              </p:nvSpPr>
              <p:spPr>
                <a:xfrm>
                  <a:off x="4145040" y="177876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145040" y="180072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4145040" y="182412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4145040" y="184716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4159440" y="1778760"/>
                <a:ext cx="7920" cy="86760"/>
                <a:chOff x="4159440" y="1778760"/>
                <a:chExt cx="7920" cy="8676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4159440" y="177876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4159440" y="180072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4159440" y="182412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4159440" y="184716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2" name=""/>
              <p:cNvGrpSpPr/>
              <p:nvPr/>
            </p:nvGrpSpPr>
            <p:grpSpPr>
              <a:xfrm>
                <a:off x="4176000" y="1778760"/>
                <a:ext cx="7920" cy="86760"/>
                <a:chOff x="4176000" y="1778760"/>
                <a:chExt cx="7920" cy="86760"/>
              </a:xfrm>
            </p:grpSpPr>
            <p:sp>
              <p:nvSpPr>
                <p:cNvPr id="1863" name=""/>
                <p:cNvSpPr/>
                <p:nvPr/>
              </p:nvSpPr>
              <p:spPr>
                <a:xfrm>
                  <a:off x="4176000" y="177876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4176000" y="180072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4176000" y="182412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4176000" y="184716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67" name=""/>
            <p:cNvGrpSpPr/>
            <p:nvPr/>
          </p:nvGrpSpPr>
          <p:grpSpPr>
            <a:xfrm>
              <a:off x="4322880" y="1742760"/>
              <a:ext cx="52200" cy="169560"/>
              <a:chOff x="4322880" y="1742760"/>
              <a:chExt cx="52200" cy="169560"/>
            </a:xfrm>
          </p:grpSpPr>
          <p:sp>
            <p:nvSpPr>
              <p:cNvPr id="1868" name=""/>
              <p:cNvSpPr/>
              <p:nvPr/>
            </p:nvSpPr>
            <p:spPr>
              <a:xfrm>
                <a:off x="4322880" y="1742760"/>
                <a:ext cx="52200" cy="16956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4322880" y="1880640"/>
                <a:ext cx="4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322880" y="1772280"/>
                <a:ext cx="4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332240" y="1772280"/>
                <a:ext cx="0" cy="10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4348800" y="1772280"/>
                <a:ext cx="0" cy="10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365360" y="1772280"/>
                <a:ext cx="0" cy="108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4" name=""/>
              <p:cNvGrpSpPr/>
              <p:nvPr/>
            </p:nvGrpSpPr>
            <p:grpSpPr>
              <a:xfrm>
                <a:off x="4335480" y="1778760"/>
                <a:ext cx="7560" cy="87120"/>
                <a:chOff x="4335480" y="1778760"/>
                <a:chExt cx="7560" cy="8712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4335480" y="1778760"/>
                  <a:ext cx="756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4335480" y="1800720"/>
                  <a:ext cx="756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4335480" y="1824120"/>
                  <a:ext cx="756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4335480" y="1847520"/>
                  <a:ext cx="756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9" name=""/>
              <p:cNvGrpSpPr/>
              <p:nvPr/>
            </p:nvGrpSpPr>
            <p:grpSpPr>
              <a:xfrm>
                <a:off x="4351680" y="1778760"/>
                <a:ext cx="7920" cy="87120"/>
                <a:chOff x="4351680" y="1778760"/>
                <a:chExt cx="7920" cy="87120"/>
              </a:xfrm>
            </p:grpSpPr>
            <p:sp>
              <p:nvSpPr>
                <p:cNvPr id="1880" name=""/>
                <p:cNvSpPr/>
                <p:nvPr/>
              </p:nvSpPr>
              <p:spPr>
                <a:xfrm>
                  <a:off x="4351680" y="177876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4351680" y="180072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4351680" y="182412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4351680" y="1847520"/>
                  <a:ext cx="7920" cy="183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84" name=""/>
            <p:cNvGrpSpPr/>
            <p:nvPr/>
          </p:nvGrpSpPr>
          <p:grpSpPr>
            <a:xfrm>
              <a:off x="4268880" y="2023920"/>
              <a:ext cx="90360" cy="105840"/>
              <a:chOff x="4268880" y="2023920"/>
              <a:chExt cx="90360" cy="105840"/>
            </a:xfrm>
          </p:grpSpPr>
          <p:grpSp>
            <p:nvGrpSpPr>
              <p:cNvPr id="1885" name=""/>
              <p:cNvGrpSpPr/>
              <p:nvPr/>
            </p:nvGrpSpPr>
            <p:grpSpPr>
              <a:xfrm>
                <a:off x="4268880" y="2023920"/>
                <a:ext cx="90360" cy="105840"/>
                <a:chOff x="4268880" y="2023920"/>
                <a:chExt cx="90360" cy="105840"/>
              </a:xfrm>
            </p:grpSpPr>
            <p:sp>
              <p:nvSpPr>
                <p:cNvPr id="1886" name=""/>
                <p:cNvSpPr/>
                <p:nvPr/>
              </p:nvSpPr>
              <p:spPr>
                <a:xfrm>
                  <a:off x="4268880" y="2113920"/>
                  <a:ext cx="90360" cy="158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4279680" y="2023920"/>
                  <a:ext cx="74160" cy="8820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8" name=""/>
              <p:cNvSpPr/>
              <p:nvPr/>
            </p:nvSpPr>
            <p:spPr>
              <a:xfrm>
                <a:off x="4287600" y="2032920"/>
                <a:ext cx="30600" cy="118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4291920" y="2038320"/>
                <a:ext cx="2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287600" y="2050200"/>
                <a:ext cx="30600" cy="4284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1" name=""/>
            <p:cNvSpPr/>
            <p:nvPr/>
          </p:nvSpPr>
          <p:spPr>
            <a:xfrm flipV="1">
              <a:off x="4508640" y="1674360"/>
              <a:ext cx="0" cy="263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4683240" y="1676160"/>
              <a:ext cx="0" cy="2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4844880" y="1671120"/>
              <a:ext cx="0" cy="258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5013360" y="1669320"/>
              <a:ext cx="0" cy="263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5181480" y="1671120"/>
              <a:ext cx="0" cy="258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5349960" y="1671120"/>
              <a:ext cx="0" cy="258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7" name=""/>
            <p:cNvGrpSpPr/>
            <p:nvPr/>
          </p:nvGrpSpPr>
          <p:grpSpPr>
            <a:xfrm>
              <a:off x="4460760" y="1779480"/>
              <a:ext cx="88920" cy="106920"/>
              <a:chOff x="4460760" y="1779480"/>
              <a:chExt cx="88920" cy="106920"/>
            </a:xfrm>
          </p:grpSpPr>
          <p:grpSp>
            <p:nvGrpSpPr>
              <p:cNvPr id="1898" name=""/>
              <p:cNvGrpSpPr/>
              <p:nvPr/>
            </p:nvGrpSpPr>
            <p:grpSpPr>
              <a:xfrm>
                <a:off x="4460760" y="1779480"/>
                <a:ext cx="88920" cy="106920"/>
                <a:chOff x="4460760" y="1779480"/>
                <a:chExt cx="88920" cy="106920"/>
              </a:xfrm>
            </p:grpSpPr>
            <p:sp>
              <p:nvSpPr>
                <p:cNvPr id="1899" name=""/>
                <p:cNvSpPr/>
                <p:nvPr/>
              </p:nvSpPr>
              <p:spPr>
                <a:xfrm>
                  <a:off x="4460760" y="1870560"/>
                  <a:ext cx="88920" cy="158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4471200" y="1779480"/>
                  <a:ext cx="73080" cy="896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1" name=""/>
              <p:cNvSpPr/>
              <p:nvPr/>
            </p:nvSpPr>
            <p:spPr>
              <a:xfrm>
                <a:off x="4479480" y="1788840"/>
                <a:ext cx="30240" cy="11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483440" y="1794240"/>
                <a:ext cx="2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479480" y="1806120"/>
                <a:ext cx="30240" cy="4320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"/>
            <p:cNvGrpSpPr/>
            <p:nvPr/>
          </p:nvGrpSpPr>
          <p:grpSpPr>
            <a:xfrm>
              <a:off x="4632480" y="1779480"/>
              <a:ext cx="88920" cy="106920"/>
              <a:chOff x="4632480" y="1779480"/>
              <a:chExt cx="88920" cy="106920"/>
            </a:xfrm>
          </p:grpSpPr>
          <p:grpSp>
            <p:nvGrpSpPr>
              <p:cNvPr id="1905" name=""/>
              <p:cNvGrpSpPr/>
              <p:nvPr/>
            </p:nvGrpSpPr>
            <p:grpSpPr>
              <a:xfrm>
                <a:off x="4632480" y="1779480"/>
                <a:ext cx="88920" cy="106920"/>
                <a:chOff x="4632480" y="1779480"/>
                <a:chExt cx="88920" cy="106920"/>
              </a:xfrm>
            </p:grpSpPr>
            <p:sp>
              <p:nvSpPr>
                <p:cNvPr id="1906" name=""/>
                <p:cNvSpPr/>
                <p:nvPr/>
              </p:nvSpPr>
              <p:spPr>
                <a:xfrm>
                  <a:off x="4632480" y="1870560"/>
                  <a:ext cx="88920" cy="158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4642920" y="1779480"/>
                  <a:ext cx="73080" cy="896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8" name=""/>
              <p:cNvSpPr/>
              <p:nvPr/>
            </p:nvSpPr>
            <p:spPr>
              <a:xfrm>
                <a:off x="4651200" y="1788840"/>
                <a:ext cx="30240" cy="11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4655160" y="1794240"/>
                <a:ext cx="2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651200" y="1806120"/>
                <a:ext cx="30240" cy="4320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4805280" y="1779480"/>
              <a:ext cx="88920" cy="106920"/>
              <a:chOff x="4805280" y="1779480"/>
              <a:chExt cx="88920" cy="106920"/>
            </a:xfrm>
          </p:grpSpPr>
          <p:grpSp>
            <p:nvGrpSpPr>
              <p:cNvPr id="1912" name=""/>
              <p:cNvGrpSpPr/>
              <p:nvPr/>
            </p:nvGrpSpPr>
            <p:grpSpPr>
              <a:xfrm>
                <a:off x="4805280" y="1779480"/>
                <a:ext cx="88920" cy="106920"/>
                <a:chOff x="4805280" y="1779480"/>
                <a:chExt cx="88920" cy="106920"/>
              </a:xfrm>
            </p:grpSpPr>
            <p:sp>
              <p:nvSpPr>
                <p:cNvPr id="1913" name=""/>
                <p:cNvSpPr/>
                <p:nvPr/>
              </p:nvSpPr>
              <p:spPr>
                <a:xfrm>
                  <a:off x="4805280" y="1870560"/>
                  <a:ext cx="88920" cy="158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4815720" y="1779480"/>
                  <a:ext cx="73080" cy="896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5" name=""/>
              <p:cNvSpPr/>
              <p:nvPr/>
            </p:nvSpPr>
            <p:spPr>
              <a:xfrm>
                <a:off x="4824000" y="1788840"/>
                <a:ext cx="30240" cy="1188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4827960" y="1794240"/>
                <a:ext cx="2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4824000" y="1806120"/>
                <a:ext cx="30240" cy="4320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8" name=""/>
            <p:cNvGrpSpPr/>
            <p:nvPr/>
          </p:nvGrpSpPr>
          <p:grpSpPr>
            <a:xfrm>
              <a:off x="4976640" y="1779480"/>
              <a:ext cx="88920" cy="106920"/>
              <a:chOff x="4976640" y="1779480"/>
              <a:chExt cx="88920" cy="106920"/>
            </a:xfrm>
          </p:grpSpPr>
          <p:grpSp>
            <p:nvGrpSpPr>
              <p:cNvPr id="1919" name=""/>
              <p:cNvGrpSpPr/>
              <p:nvPr/>
            </p:nvGrpSpPr>
            <p:grpSpPr>
              <a:xfrm>
                <a:off x="4976640" y="1779480"/>
                <a:ext cx="88920" cy="106920"/>
                <a:chOff x="4976640" y="1779480"/>
                <a:chExt cx="88920" cy="106920"/>
              </a:xfrm>
            </p:grpSpPr>
            <p:sp>
              <p:nvSpPr>
                <p:cNvPr id="1920" name=""/>
                <p:cNvSpPr/>
                <p:nvPr/>
              </p:nvSpPr>
              <p:spPr>
                <a:xfrm>
                  <a:off x="4976640" y="1870560"/>
                  <a:ext cx="88920" cy="158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4987080" y="1779480"/>
                  <a:ext cx="73080" cy="896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2" name=""/>
              <p:cNvSpPr/>
              <p:nvPr/>
            </p:nvSpPr>
            <p:spPr>
              <a:xfrm>
                <a:off x="4995360" y="1788840"/>
                <a:ext cx="30240" cy="1188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4999320" y="1794240"/>
                <a:ext cx="2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4995360" y="1806120"/>
                <a:ext cx="30240" cy="4320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5" name=""/>
            <p:cNvGrpSpPr/>
            <p:nvPr/>
          </p:nvGrpSpPr>
          <p:grpSpPr>
            <a:xfrm>
              <a:off x="5148360" y="1779480"/>
              <a:ext cx="90360" cy="106920"/>
              <a:chOff x="5148360" y="1779480"/>
              <a:chExt cx="90360" cy="106920"/>
            </a:xfrm>
          </p:grpSpPr>
          <p:grpSp>
            <p:nvGrpSpPr>
              <p:cNvPr id="1926" name=""/>
              <p:cNvGrpSpPr/>
              <p:nvPr/>
            </p:nvGrpSpPr>
            <p:grpSpPr>
              <a:xfrm>
                <a:off x="5148360" y="1779480"/>
                <a:ext cx="90360" cy="106920"/>
                <a:chOff x="5148360" y="1779480"/>
                <a:chExt cx="90360" cy="106920"/>
              </a:xfrm>
            </p:grpSpPr>
            <p:sp>
              <p:nvSpPr>
                <p:cNvPr id="1927" name=""/>
                <p:cNvSpPr/>
                <p:nvPr/>
              </p:nvSpPr>
              <p:spPr>
                <a:xfrm>
                  <a:off x="5148360" y="1870560"/>
                  <a:ext cx="90360" cy="158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5159160" y="1779480"/>
                  <a:ext cx="74160" cy="896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9" name=""/>
              <p:cNvSpPr/>
              <p:nvPr/>
            </p:nvSpPr>
            <p:spPr>
              <a:xfrm>
                <a:off x="5167080" y="1788840"/>
                <a:ext cx="30600" cy="1188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171400" y="1794240"/>
                <a:ext cx="2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167080" y="1806120"/>
                <a:ext cx="30600" cy="4320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2" name=""/>
            <p:cNvGrpSpPr/>
            <p:nvPr/>
          </p:nvGrpSpPr>
          <p:grpSpPr>
            <a:xfrm>
              <a:off x="5321160" y="1779480"/>
              <a:ext cx="88920" cy="106920"/>
              <a:chOff x="5321160" y="1779480"/>
              <a:chExt cx="88920" cy="106920"/>
            </a:xfrm>
          </p:grpSpPr>
          <p:grpSp>
            <p:nvGrpSpPr>
              <p:cNvPr id="1933" name=""/>
              <p:cNvGrpSpPr/>
              <p:nvPr/>
            </p:nvGrpSpPr>
            <p:grpSpPr>
              <a:xfrm>
                <a:off x="5321160" y="1779480"/>
                <a:ext cx="88920" cy="106920"/>
                <a:chOff x="5321160" y="1779480"/>
                <a:chExt cx="88920" cy="106920"/>
              </a:xfrm>
            </p:grpSpPr>
            <p:sp>
              <p:nvSpPr>
                <p:cNvPr id="1934" name=""/>
                <p:cNvSpPr/>
                <p:nvPr/>
              </p:nvSpPr>
              <p:spPr>
                <a:xfrm>
                  <a:off x="5321160" y="1870560"/>
                  <a:ext cx="88920" cy="158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5331600" y="1779480"/>
                  <a:ext cx="73080" cy="896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6" name=""/>
              <p:cNvSpPr/>
              <p:nvPr/>
            </p:nvSpPr>
            <p:spPr>
              <a:xfrm>
                <a:off x="5339880" y="1788840"/>
                <a:ext cx="30240" cy="1188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343840" y="1794240"/>
                <a:ext cx="2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339880" y="1806120"/>
                <a:ext cx="30240" cy="4320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9" name=""/>
            <p:cNvSpPr/>
            <p:nvPr/>
          </p:nvSpPr>
          <p:spPr>
            <a:xfrm>
              <a:off x="3876840" y="1666800"/>
              <a:ext cx="1519200" cy="14040"/>
            </a:xfrm>
            <a:prstGeom prst="rect">
              <a:avLst/>
            </a:prstGeom>
            <a:gradFill rotWithShape="0">
              <a:gsLst>
                <a:gs pos="0">
                  <a:srgbClr val="474747"/>
                </a:gs>
                <a:gs pos="50000">
                  <a:srgbClr val="ededed"/>
                </a:gs>
                <a:gs pos="100000">
                  <a:srgbClr val="4747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954600" y="1923840"/>
              <a:ext cx="1447560" cy="14040"/>
            </a:xfrm>
            <a:prstGeom prst="rect">
              <a:avLst/>
            </a:prstGeom>
            <a:gradFill rotWithShape="0">
              <a:gsLst>
                <a:gs pos="0">
                  <a:srgbClr val="474747"/>
                </a:gs>
                <a:gs pos="50000">
                  <a:srgbClr val="ededed"/>
                </a:gs>
                <a:gs pos="100000">
                  <a:srgbClr val="4747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712880" y="1876320"/>
              <a:ext cx="1436760" cy="1441080"/>
            </a:xfrm>
            <a:prstGeom prst="line">
              <a:avLst/>
            </a:prstGeom>
            <a:ln w="38160">
              <a:solidFill>
                <a:srgbClr val="3d3d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H="1">
              <a:off x="3181320" y="1798200"/>
              <a:ext cx="1139760" cy="1509480"/>
            </a:xfrm>
            <a:prstGeom prst="line">
              <a:avLst/>
            </a:prstGeom>
            <a:ln w="38160">
              <a:solidFill>
                <a:srgbClr val="3d3d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116080" y="3097080"/>
              <a:ext cx="0" cy="130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103400" y="3074760"/>
              <a:ext cx="0" cy="13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097080" y="3089160"/>
              <a:ext cx="0" cy="130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683160" y="4409640"/>
              <a:ext cx="0" cy="81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870280" y="4400280"/>
              <a:ext cx="0" cy="82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260440" y="4422600"/>
              <a:ext cx="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9" name=""/>
            <p:cNvGrpSpPr/>
            <p:nvPr/>
          </p:nvGrpSpPr>
          <p:grpSpPr>
            <a:xfrm>
              <a:off x="547560" y="3660480"/>
              <a:ext cx="752760" cy="231480"/>
              <a:chOff x="547560" y="3660480"/>
              <a:chExt cx="752760" cy="231480"/>
            </a:xfrm>
          </p:grpSpPr>
          <p:sp>
            <p:nvSpPr>
              <p:cNvPr id="1950" name=""/>
              <p:cNvSpPr/>
              <p:nvPr/>
            </p:nvSpPr>
            <p:spPr>
              <a:xfrm>
                <a:off x="547560" y="3660480"/>
                <a:ext cx="752760" cy="23148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87880" y="3733560"/>
                <a:ext cx="665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90760" y="3690360"/>
                <a:ext cx="665640" cy="1922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87880" y="3772440"/>
                <a:ext cx="665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87880" y="3816360"/>
                <a:ext cx="665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5" name=""/>
              <p:cNvGrpSpPr/>
              <p:nvPr/>
            </p:nvGrpSpPr>
            <p:grpSpPr>
              <a:xfrm>
                <a:off x="620640" y="3715560"/>
                <a:ext cx="56880" cy="77760"/>
                <a:chOff x="620640" y="3715560"/>
                <a:chExt cx="56880" cy="77760"/>
              </a:xfrm>
            </p:grpSpPr>
            <p:sp>
              <p:nvSpPr>
                <p:cNvPr id="1956" name=""/>
                <p:cNvSpPr/>
                <p:nvPr/>
              </p:nvSpPr>
              <p:spPr>
                <a:xfrm>
                  <a:off x="620640" y="37544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620640" y="37933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620640" y="371556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9" name=""/>
              <p:cNvGrpSpPr/>
              <p:nvPr/>
            </p:nvGrpSpPr>
            <p:grpSpPr>
              <a:xfrm>
                <a:off x="721080" y="3715560"/>
                <a:ext cx="57240" cy="77760"/>
                <a:chOff x="721080" y="3715560"/>
                <a:chExt cx="57240" cy="77760"/>
              </a:xfrm>
            </p:grpSpPr>
            <p:sp>
              <p:nvSpPr>
                <p:cNvPr id="1960" name=""/>
                <p:cNvSpPr/>
                <p:nvPr/>
              </p:nvSpPr>
              <p:spPr>
                <a:xfrm>
                  <a:off x="721080" y="37544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721080" y="37933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721080" y="371556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3" name=""/>
              <p:cNvGrpSpPr/>
              <p:nvPr/>
            </p:nvGrpSpPr>
            <p:grpSpPr>
              <a:xfrm>
                <a:off x="821880" y="3715560"/>
                <a:ext cx="56880" cy="77760"/>
                <a:chOff x="821880" y="3715560"/>
                <a:chExt cx="56880" cy="77760"/>
              </a:xfrm>
            </p:grpSpPr>
            <p:sp>
              <p:nvSpPr>
                <p:cNvPr id="1964" name=""/>
                <p:cNvSpPr/>
                <p:nvPr/>
              </p:nvSpPr>
              <p:spPr>
                <a:xfrm>
                  <a:off x="821880" y="37544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821880" y="37933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821880" y="371556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7" name=""/>
              <p:cNvGrpSpPr/>
              <p:nvPr/>
            </p:nvGrpSpPr>
            <p:grpSpPr>
              <a:xfrm>
                <a:off x="923760" y="3715560"/>
                <a:ext cx="57240" cy="77760"/>
                <a:chOff x="923760" y="3715560"/>
                <a:chExt cx="57240" cy="77760"/>
              </a:xfrm>
            </p:grpSpPr>
            <p:sp>
              <p:nvSpPr>
                <p:cNvPr id="1968" name=""/>
                <p:cNvSpPr/>
                <p:nvPr/>
              </p:nvSpPr>
              <p:spPr>
                <a:xfrm>
                  <a:off x="923760" y="37544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923760" y="37933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923760" y="371556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1" name=""/>
              <p:cNvGrpSpPr/>
              <p:nvPr/>
            </p:nvGrpSpPr>
            <p:grpSpPr>
              <a:xfrm>
                <a:off x="1024560" y="3715560"/>
                <a:ext cx="56880" cy="77760"/>
                <a:chOff x="1024560" y="3715560"/>
                <a:chExt cx="56880" cy="7776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1024560" y="37544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1024560" y="37933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1024560" y="371556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5" name=""/>
              <p:cNvGrpSpPr/>
              <p:nvPr/>
            </p:nvGrpSpPr>
            <p:grpSpPr>
              <a:xfrm>
                <a:off x="1126080" y="3715560"/>
                <a:ext cx="57240" cy="77760"/>
                <a:chOff x="1126080" y="3715560"/>
                <a:chExt cx="57240" cy="7776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1126080" y="37544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1126080" y="37933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1126080" y="371556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79" name=""/>
            <p:cNvGrpSpPr/>
            <p:nvPr/>
          </p:nvGrpSpPr>
          <p:grpSpPr>
            <a:xfrm>
              <a:off x="1727280" y="3431880"/>
              <a:ext cx="511200" cy="863280"/>
              <a:chOff x="1727280" y="3431880"/>
              <a:chExt cx="511200" cy="863280"/>
            </a:xfrm>
          </p:grpSpPr>
          <p:sp>
            <p:nvSpPr>
              <p:cNvPr id="1980" name=""/>
              <p:cNvSpPr/>
              <p:nvPr/>
            </p:nvSpPr>
            <p:spPr>
              <a:xfrm>
                <a:off x="1729080" y="3431880"/>
                <a:ext cx="509400" cy="86328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729080" y="413388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727280" y="3582000"/>
                <a:ext cx="51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776600" y="358200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860840" y="358200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943280" y="358200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027520" y="358200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111760" y="358200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195640" y="3582000"/>
                <a:ext cx="0" cy="549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9" name=""/>
              <p:cNvGrpSpPr/>
              <p:nvPr/>
            </p:nvGrpSpPr>
            <p:grpSpPr>
              <a:xfrm>
                <a:off x="1792440" y="3616200"/>
                <a:ext cx="39600" cy="441720"/>
                <a:chOff x="1792440" y="3616200"/>
                <a:chExt cx="39600" cy="441720"/>
              </a:xfrm>
            </p:grpSpPr>
            <p:sp>
              <p:nvSpPr>
                <p:cNvPr id="1990" name=""/>
                <p:cNvSpPr/>
                <p:nvPr/>
              </p:nvSpPr>
              <p:spPr>
                <a:xfrm>
                  <a:off x="1792440" y="3616200"/>
                  <a:ext cx="396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1792440" y="3728160"/>
                  <a:ext cx="396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1792440" y="384732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1792440" y="3963960"/>
                  <a:ext cx="396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4" name=""/>
              <p:cNvGrpSpPr/>
              <p:nvPr/>
            </p:nvGrpSpPr>
            <p:grpSpPr>
              <a:xfrm>
                <a:off x="1874880" y="3616200"/>
                <a:ext cx="41400" cy="441720"/>
                <a:chOff x="1874880" y="3616200"/>
                <a:chExt cx="41400" cy="441720"/>
              </a:xfrm>
            </p:grpSpPr>
            <p:sp>
              <p:nvSpPr>
                <p:cNvPr id="1995" name=""/>
                <p:cNvSpPr/>
                <p:nvPr/>
              </p:nvSpPr>
              <p:spPr>
                <a:xfrm>
                  <a:off x="1874880" y="361620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1874880" y="37281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1874880" y="384732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1874880" y="39639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9" name=""/>
              <p:cNvGrpSpPr/>
              <p:nvPr/>
            </p:nvGrpSpPr>
            <p:grpSpPr>
              <a:xfrm>
                <a:off x="1971720" y="3616200"/>
                <a:ext cx="41400" cy="441720"/>
                <a:chOff x="1971720" y="3616200"/>
                <a:chExt cx="41400" cy="44172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1971720" y="361620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1971720" y="37281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1971720" y="384732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1971720" y="39639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4" name=""/>
              <p:cNvGrpSpPr/>
              <p:nvPr/>
            </p:nvGrpSpPr>
            <p:grpSpPr>
              <a:xfrm>
                <a:off x="2044800" y="3616200"/>
                <a:ext cx="41400" cy="441720"/>
                <a:chOff x="2044800" y="3616200"/>
                <a:chExt cx="41400" cy="441720"/>
              </a:xfrm>
            </p:grpSpPr>
            <p:sp>
              <p:nvSpPr>
                <p:cNvPr id="2005" name=""/>
                <p:cNvSpPr/>
                <p:nvPr/>
              </p:nvSpPr>
              <p:spPr>
                <a:xfrm>
                  <a:off x="2044800" y="361620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2044800" y="37281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2044800" y="384732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2044800" y="39639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9" name=""/>
              <p:cNvGrpSpPr/>
              <p:nvPr/>
            </p:nvGrpSpPr>
            <p:grpSpPr>
              <a:xfrm>
                <a:off x="2130480" y="3616200"/>
                <a:ext cx="41400" cy="441720"/>
                <a:chOff x="2130480" y="3616200"/>
                <a:chExt cx="41400" cy="441720"/>
              </a:xfrm>
            </p:grpSpPr>
            <p:sp>
              <p:nvSpPr>
                <p:cNvPr id="2010" name=""/>
                <p:cNvSpPr/>
                <p:nvPr/>
              </p:nvSpPr>
              <p:spPr>
                <a:xfrm>
                  <a:off x="2130480" y="361620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2130480" y="37281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2130480" y="384732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2130480" y="39639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4" name=""/>
            <p:cNvGrpSpPr/>
            <p:nvPr/>
          </p:nvGrpSpPr>
          <p:grpSpPr>
            <a:xfrm>
              <a:off x="2878200" y="3431880"/>
              <a:ext cx="266760" cy="863280"/>
              <a:chOff x="2878200" y="3431880"/>
              <a:chExt cx="266760" cy="863280"/>
            </a:xfrm>
          </p:grpSpPr>
          <p:sp>
            <p:nvSpPr>
              <p:cNvPr id="2015" name=""/>
              <p:cNvSpPr/>
              <p:nvPr/>
            </p:nvSpPr>
            <p:spPr>
              <a:xfrm>
                <a:off x="2879640" y="3431880"/>
                <a:ext cx="265320" cy="86328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879640" y="4133520"/>
                <a:ext cx="24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2878200" y="3582360"/>
                <a:ext cx="25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927520" y="358236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011400" y="358236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094200" y="358236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1" name=""/>
              <p:cNvGrpSpPr/>
              <p:nvPr/>
            </p:nvGrpSpPr>
            <p:grpSpPr>
              <a:xfrm>
                <a:off x="2943360" y="3615840"/>
                <a:ext cx="39600" cy="442800"/>
                <a:chOff x="2943360" y="3615840"/>
                <a:chExt cx="39600" cy="442800"/>
              </a:xfrm>
            </p:grpSpPr>
            <p:sp>
              <p:nvSpPr>
                <p:cNvPr id="2022" name=""/>
                <p:cNvSpPr/>
                <p:nvPr/>
              </p:nvSpPr>
              <p:spPr>
                <a:xfrm>
                  <a:off x="2943360" y="361584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2943360" y="372816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2943360" y="384732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2943360" y="396432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6" name=""/>
              <p:cNvGrpSpPr/>
              <p:nvPr/>
            </p:nvGrpSpPr>
            <p:grpSpPr>
              <a:xfrm>
                <a:off x="3025800" y="3615840"/>
                <a:ext cx="41400" cy="442800"/>
                <a:chOff x="3025800" y="3615840"/>
                <a:chExt cx="41400" cy="442800"/>
              </a:xfrm>
            </p:grpSpPr>
            <p:sp>
              <p:nvSpPr>
                <p:cNvPr id="2027" name=""/>
                <p:cNvSpPr/>
                <p:nvPr/>
              </p:nvSpPr>
              <p:spPr>
                <a:xfrm>
                  <a:off x="3025800" y="361584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3025800" y="372816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3025800" y="384732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3025800" y="396432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1" name=""/>
            <p:cNvGrpSpPr/>
            <p:nvPr/>
          </p:nvGrpSpPr>
          <p:grpSpPr>
            <a:xfrm>
              <a:off x="2603520" y="4863960"/>
              <a:ext cx="455760" cy="545400"/>
              <a:chOff x="2603520" y="4863960"/>
              <a:chExt cx="455760" cy="545400"/>
            </a:xfrm>
          </p:grpSpPr>
          <p:grpSp>
            <p:nvGrpSpPr>
              <p:cNvPr id="2032" name=""/>
              <p:cNvGrpSpPr/>
              <p:nvPr/>
            </p:nvGrpSpPr>
            <p:grpSpPr>
              <a:xfrm>
                <a:off x="2603520" y="4863960"/>
                <a:ext cx="455760" cy="545400"/>
                <a:chOff x="2603520" y="4863960"/>
                <a:chExt cx="455760" cy="545400"/>
              </a:xfrm>
            </p:grpSpPr>
            <p:sp>
              <p:nvSpPr>
                <p:cNvPr id="2033" name=""/>
                <p:cNvSpPr/>
                <p:nvPr/>
              </p:nvSpPr>
              <p:spPr>
                <a:xfrm>
                  <a:off x="2603520" y="5327640"/>
                  <a:ext cx="45576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2658240" y="4863960"/>
                  <a:ext cx="373680" cy="4546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5" name=""/>
              <p:cNvSpPr/>
              <p:nvPr/>
            </p:nvSpPr>
            <p:spPr>
              <a:xfrm>
                <a:off x="2699280" y="4911480"/>
                <a:ext cx="154440" cy="6156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719800" y="493884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99280" y="500004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8" name=""/>
            <p:cNvGrpSpPr/>
            <p:nvPr/>
          </p:nvGrpSpPr>
          <p:grpSpPr>
            <a:xfrm>
              <a:off x="3429000" y="4863960"/>
              <a:ext cx="455760" cy="545400"/>
              <a:chOff x="3429000" y="4863960"/>
              <a:chExt cx="455760" cy="545400"/>
            </a:xfrm>
          </p:grpSpPr>
          <p:grpSp>
            <p:nvGrpSpPr>
              <p:cNvPr id="2039" name=""/>
              <p:cNvGrpSpPr/>
              <p:nvPr/>
            </p:nvGrpSpPr>
            <p:grpSpPr>
              <a:xfrm>
                <a:off x="3429000" y="4863960"/>
                <a:ext cx="455760" cy="545400"/>
                <a:chOff x="3429000" y="4863960"/>
                <a:chExt cx="455760" cy="545400"/>
              </a:xfrm>
            </p:grpSpPr>
            <p:sp>
              <p:nvSpPr>
                <p:cNvPr id="2040" name=""/>
                <p:cNvSpPr/>
                <p:nvPr/>
              </p:nvSpPr>
              <p:spPr>
                <a:xfrm>
                  <a:off x="3429000" y="5327640"/>
                  <a:ext cx="45576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3483720" y="4863960"/>
                  <a:ext cx="373680" cy="4546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2" name=""/>
              <p:cNvSpPr/>
              <p:nvPr/>
            </p:nvSpPr>
            <p:spPr>
              <a:xfrm>
                <a:off x="3524760" y="4911480"/>
                <a:ext cx="154440" cy="6156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545280" y="493884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524760" y="500004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5" name=""/>
            <p:cNvSpPr/>
            <p:nvPr/>
          </p:nvSpPr>
          <p:spPr>
            <a:xfrm flipV="1">
              <a:off x="3855960" y="3080880"/>
              <a:ext cx="0" cy="134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V="1">
              <a:off x="4713120" y="3091680"/>
              <a:ext cx="0" cy="129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V="1">
              <a:off x="5572080" y="3070080"/>
              <a:ext cx="0" cy="131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V="1">
              <a:off x="6431040" y="3058560"/>
              <a:ext cx="0" cy="134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V="1">
              <a:off x="7289640" y="3070080"/>
              <a:ext cx="0" cy="131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V="1">
              <a:off x="8148600" y="3070080"/>
              <a:ext cx="0" cy="131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1" name=""/>
            <p:cNvGrpSpPr/>
            <p:nvPr/>
          </p:nvGrpSpPr>
          <p:grpSpPr>
            <a:xfrm>
              <a:off x="3578400" y="3622320"/>
              <a:ext cx="455400" cy="545400"/>
              <a:chOff x="3578400" y="3622320"/>
              <a:chExt cx="455400" cy="545400"/>
            </a:xfrm>
          </p:grpSpPr>
          <p:grpSp>
            <p:nvGrpSpPr>
              <p:cNvPr id="2052" name=""/>
              <p:cNvGrpSpPr/>
              <p:nvPr/>
            </p:nvGrpSpPr>
            <p:grpSpPr>
              <a:xfrm>
                <a:off x="3578400" y="3622320"/>
                <a:ext cx="455400" cy="545400"/>
                <a:chOff x="3578400" y="3622320"/>
                <a:chExt cx="455400" cy="545400"/>
              </a:xfrm>
            </p:grpSpPr>
            <p:sp>
              <p:nvSpPr>
                <p:cNvPr id="2053" name=""/>
                <p:cNvSpPr/>
                <p:nvPr/>
              </p:nvSpPr>
              <p:spPr>
                <a:xfrm>
                  <a:off x="3578400" y="4086000"/>
                  <a:ext cx="45540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3633120" y="3622320"/>
                  <a:ext cx="373320" cy="4546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5" name=""/>
              <p:cNvSpPr/>
              <p:nvPr/>
            </p:nvSpPr>
            <p:spPr>
              <a:xfrm>
                <a:off x="3674160" y="3669840"/>
                <a:ext cx="154440" cy="6156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694320" y="369720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674160" y="375840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8" name=""/>
            <p:cNvGrpSpPr/>
            <p:nvPr/>
          </p:nvGrpSpPr>
          <p:grpSpPr>
            <a:xfrm>
              <a:off x="4456080" y="3622320"/>
              <a:ext cx="455760" cy="545400"/>
              <a:chOff x="4456080" y="3622320"/>
              <a:chExt cx="455760" cy="545400"/>
            </a:xfrm>
          </p:grpSpPr>
          <p:grpSp>
            <p:nvGrpSpPr>
              <p:cNvPr id="2059" name=""/>
              <p:cNvGrpSpPr/>
              <p:nvPr/>
            </p:nvGrpSpPr>
            <p:grpSpPr>
              <a:xfrm>
                <a:off x="4456080" y="3622320"/>
                <a:ext cx="455760" cy="545400"/>
                <a:chOff x="4456080" y="3622320"/>
                <a:chExt cx="455760" cy="545400"/>
              </a:xfrm>
            </p:grpSpPr>
            <p:sp>
              <p:nvSpPr>
                <p:cNvPr id="2060" name=""/>
                <p:cNvSpPr/>
                <p:nvPr/>
              </p:nvSpPr>
              <p:spPr>
                <a:xfrm>
                  <a:off x="4456080" y="4086000"/>
                  <a:ext cx="45576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4510800" y="3622320"/>
                  <a:ext cx="373680" cy="4546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2" name=""/>
              <p:cNvSpPr/>
              <p:nvPr/>
            </p:nvSpPr>
            <p:spPr>
              <a:xfrm>
                <a:off x="4551840" y="3669840"/>
                <a:ext cx="154440" cy="6156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4572360" y="369720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4551840" y="375840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5" name=""/>
            <p:cNvGrpSpPr/>
            <p:nvPr/>
          </p:nvGrpSpPr>
          <p:grpSpPr>
            <a:xfrm>
              <a:off x="5335560" y="3622320"/>
              <a:ext cx="455760" cy="545400"/>
              <a:chOff x="5335560" y="3622320"/>
              <a:chExt cx="455760" cy="545400"/>
            </a:xfrm>
          </p:grpSpPr>
          <p:grpSp>
            <p:nvGrpSpPr>
              <p:cNvPr id="2066" name=""/>
              <p:cNvGrpSpPr/>
              <p:nvPr/>
            </p:nvGrpSpPr>
            <p:grpSpPr>
              <a:xfrm>
                <a:off x="5335560" y="3622320"/>
                <a:ext cx="455760" cy="545400"/>
                <a:chOff x="5335560" y="3622320"/>
                <a:chExt cx="455760" cy="545400"/>
              </a:xfrm>
            </p:grpSpPr>
            <p:sp>
              <p:nvSpPr>
                <p:cNvPr id="2067" name=""/>
                <p:cNvSpPr/>
                <p:nvPr/>
              </p:nvSpPr>
              <p:spPr>
                <a:xfrm>
                  <a:off x="5335560" y="4086000"/>
                  <a:ext cx="45576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5390280" y="3622320"/>
                  <a:ext cx="373680" cy="4546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9" name=""/>
              <p:cNvSpPr/>
              <p:nvPr/>
            </p:nvSpPr>
            <p:spPr>
              <a:xfrm>
                <a:off x="5431320" y="3669840"/>
                <a:ext cx="154440" cy="6156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451840" y="369720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431320" y="375840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2" name=""/>
            <p:cNvGrpSpPr/>
            <p:nvPr/>
          </p:nvGrpSpPr>
          <p:grpSpPr>
            <a:xfrm>
              <a:off x="6213600" y="3622320"/>
              <a:ext cx="455400" cy="545400"/>
              <a:chOff x="6213600" y="3622320"/>
              <a:chExt cx="455400" cy="545400"/>
            </a:xfrm>
          </p:grpSpPr>
          <p:grpSp>
            <p:nvGrpSpPr>
              <p:cNvPr id="2073" name=""/>
              <p:cNvGrpSpPr/>
              <p:nvPr/>
            </p:nvGrpSpPr>
            <p:grpSpPr>
              <a:xfrm>
                <a:off x="6213600" y="3622320"/>
                <a:ext cx="455400" cy="545400"/>
                <a:chOff x="6213600" y="3622320"/>
                <a:chExt cx="455400" cy="545400"/>
              </a:xfrm>
            </p:grpSpPr>
            <p:sp>
              <p:nvSpPr>
                <p:cNvPr id="2074" name=""/>
                <p:cNvSpPr/>
                <p:nvPr/>
              </p:nvSpPr>
              <p:spPr>
                <a:xfrm>
                  <a:off x="6213600" y="4086000"/>
                  <a:ext cx="45540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6268320" y="3622320"/>
                  <a:ext cx="373320" cy="4546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6" name=""/>
              <p:cNvSpPr/>
              <p:nvPr/>
            </p:nvSpPr>
            <p:spPr>
              <a:xfrm>
                <a:off x="6309360" y="3669840"/>
                <a:ext cx="154440" cy="6156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329520" y="369720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309360" y="375840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7091280" y="3622320"/>
              <a:ext cx="455760" cy="545400"/>
              <a:chOff x="7091280" y="3622320"/>
              <a:chExt cx="455760" cy="545400"/>
            </a:xfrm>
          </p:grpSpPr>
          <p:grpSp>
            <p:nvGrpSpPr>
              <p:cNvPr id="2080" name=""/>
              <p:cNvGrpSpPr/>
              <p:nvPr/>
            </p:nvGrpSpPr>
            <p:grpSpPr>
              <a:xfrm>
                <a:off x="7091280" y="3622320"/>
                <a:ext cx="455760" cy="545400"/>
                <a:chOff x="7091280" y="3622320"/>
                <a:chExt cx="455760" cy="545400"/>
              </a:xfrm>
            </p:grpSpPr>
            <p:sp>
              <p:nvSpPr>
                <p:cNvPr id="2081" name=""/>
                <p:cNvSpPr/>
                <p:nvPr/>
              </p:nvSpPr>
              <p:spPr>
                <a:xfrm>
                  <a:off x="7091280" y="4086000"/>
                  <a:ext cx="45576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7146000" y="3622320"/>
                  <a:ext cx="373680" cy="4546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3" name=""/>
              <p:cNvSpPr/>
              <p:nvPr/>
            </p:nvSpPr>
            <p:spPr>
              <a:xfrm>
                <a:off x="7187040" y="3669840"/>
                <a:ext cx="154440" cy="6156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7207560" y="369720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7187040" y="375840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6" name=""/>
            <p:cNvGrpSpPr/>
            <p:nvPr/>
          </p:nvGrpSpPr>
          <p:grpSpPr>
            <a:xfrm>
              <a:off x="7970760" y="3622320"/>
              <a:ext cx="455760" cy="545400"/>
              <a:chOff x="7970760" y="3622320"/>
              <a:chExt cx="455760" cy="545400"/>
            </a:xfrm>
          </p:grpSpPr>
          <p:grpSp>
            <p:nvGrpSpPr>
              <p:cNvPr id="2087" name=""/>
              <p:cNvGrpSpPr/>
              <p:nvPr/>
            </p:nvGrpSpPr>
            <p:grpSpPr>
              <a:xfrm>
                <a:off x="7970760" y="3622320"/>
                <a:ext cx="455760" cy="545400"/>
                <a:chOff x="7970760" y="3622320"/>
                <a:chExt cx="455760" cy="545400"/>
              </a:xfrm>
            </p:grpSpPr>
            <p:sp>
              <p:nvSpPr>
                <p:cNvPr id="2088" name=""/>
                <p:cNvSpPr/>
                <p:nvPr/>
              </p:nvSpPr>
              <p:spPr>
                <a:xfrm>
                  <a:off x="7970760" y="4086000"/>
                  <a:ext cx="45576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8025480" y="3622320"/>
                  <a:ext cx="373680" cy="4546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0" name=""/>
              <p:cNvSpPr/>
              <p:nvPr/>
            </p:nvSpPr>
            <p:spPr>
              <a:xfrm>
                <a:off x="8066520" y="3669840"/>
                <a:ext cx="154440" cy="61560"/>
              </a:xfrm>
              <a:prstGeom prst="rect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8087040" y="369720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8066520" y="375840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3" name=""/>
            <p:cNvSpPr/>
            <p:nvPr/>
          </p:nvSpPr>
          <p:spPr>
            <a:xfrm>
              <a:off x="2691720" y="3568320"/>
              <a:ext cx="76752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Network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574280" y="3603240"/>
              <a:ext cx="106452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Local Off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Access 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18600" y="3568320"/>
              <a:ext cx="118512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Network Ac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522960" y="3636720"/>
              <a:ext cx="60588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Radi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4408920" y="3636720"/>
              <a:ext cx="58752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Ma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294880" y="3636720"/>
              <a:ext cx="58752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196320" y="3636720"/>
              <a:ext cx="56160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WW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7068240" y="3636720"/>
              <a:ext cx="58752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WW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936560" y="3636720"/>
              <a:ext cx="62712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Use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370600" y="4920840"/>
              <a:ext cx="90144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Accoun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169800" y="4844880"/>
              <a:ext cx="1029600" cy="550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98320" y="3044520"/>
              <a:ext cx="7751880" cy="74160"/>
            </a:xfrm>
            <a:prstGeom prst="rect">
              <a:avLst/>
            </a:prstGeom>
            <a:gradFill rotWithShape="0">
              <a:gsLst>
                <a:gs pos="0">
                  <a:srgbClr val="474747"/>
                </a:gs>
                <a:gs pos="50000">
                  <a:srgbClr val="ededed"/>
                </a:gs>
                <a:gs pos="100000">
                  <a:srgbClr val="4747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998640" y="4357440"/>
              <a:ext cx="7381800" cy="74160"/>
            </a:xfrm>
            <a:prstGeom prst="rect">
              <a:avLst/>
            </a:prstGeom>
            <a:gradFill rotWithShape="0">
              <a:gsLst>
                <a:gs pos="0">
                  <a:srgbClr val="474747"/>
                </a:gs>
                <a:gs pos="50000">
                  <a:srgbClr val="ededed"/>
                </a:gs>
                <a:gs pos="100000">
                  <a:srgbClr val="4747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987360" y="2641320"/>
              <a:ext cx="152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rvice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446360" y="4541400"/>
              <a:ext cx="33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ntrol and Management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8" name=""/>
            <p:cNvGrpSpPr/>
            <p:nvPr/>
          </p:nvGrpSpPr>
          <p:grpSpPr>
            <a:xfrm>
              <a:off x="917640" y="4668480"/>
              <a:ext cx="419040" cy="129600"/>
              <a:chOff x="917640" y="4668480"/>
              <a:chExt cx="419040" cy="129600"/>
            </a:xfrm>
          </p:grpSpPr>
          <p:sp>
            <p:nvSpPr>
              <p:cNvPr id="2109" name=""/>
              <p:cNvSpPr/>
              <p:nvPr/>
            </p:nvSpPr>
            <p:spPr>
              <a:xfrm rot="16200000">
                <a:off x="1062360" y="4523400"/>
                <a:ext cx="129240" cy="41904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flipV="1">
                <a:off x="1258200" y="4678560"/>
                <a:ext cx="0" cy="11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flipV="1">
                <a:off x="990360" y="467460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990360" y="4774320"/>
                <a:ext cx="2667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990360" y="4733280"/>
                <a:ext cx="2667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990360" y="4692960"/>
                <a:ext cx="2667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5" name=""/>
              <p:cNvGrpSpPr/>
              <p:nvPr/>
            </p:nvGrpSpPr>
            <p:grpSpPr>
              <a:xfrm>
                <a:off x="1006920" y="4747320"/>
                <a:ext cx="214920" cy="19080"/>
                <a:chOff x="1006920" y="4747320"/>
                <a:chExt cx="214920" cy="19080"/>
              </a:xfrm>
            </p:grpSpPr>
            <p:sp>
              <p:nvSpPr>
                <p:cNvPr id="2116" name=""/>
                <p:cNvSpPr/>
                <p:nvPr/>
              </p:nvSpPr>
              <p:spPr>
                <a:xfrm rot="16200000">
                  <a:off x="1020240" y="4734000"/>
                  <a:ext cx="19080" cy="457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 rot="16200000">
                  <a:off x="1074600" y="4734000"/>
                  <a:ext cx="19080" cy="457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 rot="16200000">
                  <a:off x="1132560" y="4734000"/>
                  <a:ext cx="19080" cy="457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 rot="16200000">
                  <a:off x="1189440" y="4734000"/>
                  <a:ext cx="19080" cy="457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0" name=""/>
              <p:cNvGrpSpPr/>
              <p:nvPr/>
            </p:nvGrpSpPr>
            <p:grpSpPr>
              <a:xfrm>
                <a:off x="1006920" y="4705920"/>
                <a:ext cx="214920" cy="20160"/>
                <a:chOff x="1006920" y="4705920"/>
                <a:chExt cx="214920" cy="20160"/>
              </a:xfrm>
            </p:grpSpPr>
            <p:sp>
              <p:nvSpPr>
                <p:cNvPr id="2121" name=""/>
                <p:cNvSpPr/>
                <p:nvPr/>
              </p:nvSpPr>
              <p:spPr>
                <a:xfrm rot="16200000">
                  <a:off x="1019520" y="4692960"/>
                  <a:ext cx="20160" cy="457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 rot="16200000">
                  <a:off x="1073880" y="4692960"/>
                  <a:ext cx="20160" cy="457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 rot="16200000">
                  <a:off x="1131840" y="4692960"/>
                  <a:ext cx="20160" cy="457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 rot="16200000">
                  <a:off x="1188720" y="4692960"/>
                  <a:ext cx="20160" cy="457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5" name=""/>
            <p:cNvGrpSpPr/>
            <p:nvPr/>
          </p:nvGrpSpPr>
          <p:grpSpPr>
            <a:xfrm>
              <a:off x="1357200" y="2058840"/>
              <a:ext cx="146160" cy="45720"/>
              <a:chOff x="1357200" y="2058840"/>
              <a:chExt cx="146160" cy="45720"/>
            </a:xfrm>
          </p:grpSpPr>
          <p:sp>
            <p:nvSpPr>
              <p:cNvPr id="2126" name=""/>
              <p:cNvSpPr/>
              <p:nvPr/>
            </p:nvSpPr>
            <p:spPr>
              <a:xfrm>
                <a:off x="1357200" y="2058840"/>
                <a:ext cx="146160" cy="4572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1364760" y="2073240"/>
                <a:ext cx="129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1365480" y="2064600"/>
                <a:ext cx="129240" cy="38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1364760" y="2080800"/>
                <a:ext cx="129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1364760" y="2089800"/>
                <a:ext cx="129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1" name=""/>
              <p:cNvGrpSpPr/>
              <p:nvPr/>
            </p:nvGrpSpPr>
            <p:grpSpPr>
              <a:xfrm>
                <a:off x="1371240" y="2069640"/>
                <a:ext cx="10800" cy="15480"/>
                <a:chOff x="1371240" y="2069640"/>
                <a:chExt cx="10800" cy="15480"/>
              </a:xfrm>
            </p:grpSpPr>
            <p:sp>
              <p:nvSpPr>
                <p:cNvPr id="2132" name=""/>
                <p:cNvSpPr/>
                <p:nvPr/>
              </p:nvSpPr>
              <p:spPr>
                <a:xfrm>
                  <a:off x="1371240" y="207720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1371240" y="208512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1371240" y="206964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5" name=""/>
              <p:cNvGrpSpPr/>
              <p:nvPr/>
            </p:nvGrpSpPr>
            <p:grpSpPr>
              <a:xfrm>
                <a:off x="1390680" y="2069640"/>
                <a:ext cx="10800" cy="15480"/>
                <a:chOff x="1390680" y="2069640"/>
                <a:chExt cx="10800" cy="15480"/>
              </a:xfrm>
            </p:grpSpPr>
            <p:sp>
              <p:nvSpPr>
                <p:cNvPr id="2136" name=""/>
                <p:cNvSpPr/>
                <p:nvPr/>
              </p:nvSpPr>
              <p:spPr>
                <a:xfrm>
                  <a:off x="1390680" y="207720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1390680" y="208512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1390680" y="206964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9" name=""/>
              <p:cNvGrpSpPr/>
              <p:nvPr/>
            </p:nvGrpSpPr>
            <p:grpSpPr>
              <a:xfrm>
                <a:off x="1410480" y="2069640"/>
                <a:ext cx="10800" cy="15480"/>
                <a:chOff x="1410480" y="2069640"/>
                <a:chExt cx="10800" cy="15480"/>
              </a:xfrm>
            </p:grpSpPr>
            <p:sp>
              <p:nvSpPr>
                <p:cNvPr id="2140" name=""/>
                <p:cNvSpPr/>
                <p:nvPr/>
              </p:nvSpPr>
              <p:spPr>
                <a:xfrm>
                  <a:off x="1410480" y="207720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1410480" y="208512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1410480" y="206964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3" name=""/>
              <p:cNvGrpSpPr/>
              <p:nvPr/>
            </p:nvGrpSpPr>
            <p:grpSpPr>
              <a:xfrm>
                <a:off x="1430280" y="2069640"/>
                <a:ext cx="10800" cy="15480"/>
                <a:chOff x="1430280" y="2069640"/>
                <a:chExt cx="10800" cy="15480"/>
              </a:xfrm>
            </p:grpSpPr>
            <p:sp>
              <p:nvSpPr>
                <p:cNvPr id="2144" name=""/>
                <p:cNvSpPr/>
                <p:nvPr/>
              </p:nvSpPr>
              <p:spPr>
                <a:xfrm>
                  <a:off x="1430280" y="207720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1430280" y="208512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1430280" y="206964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7" name=""/>
              <p:cNvGrpSpPr/>
              <p:nvPr/>
            </p:nvGrpSpPr>
            <p:grpSpPr>
              <a:xfrm>
                <a:off x="1449720" y="2069640"/>
                <a:ext cx="10800" cy="15480"/>
                <a:chOff x="1449720" y="2069640"/>
                <a:chExt cx="10800" cy="15480"/>
              </a:xfrm>
            </p:grpSpPr>
            <p:sp>
              <p:nvSpPr>
                <p:cNvPr id="2148" name=""/>
                <p:cNvSpPr/>
                <p:nvPr/>
              </p:nvSpPr>
              <p:spPr>
                <a:xfrm>
                  <a:off x="1449720" y="207720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1449720" y="208512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1449720" y="206964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1" name=""/>
              <p:cNvGrpSpPr/>
              <p:nvPr/>
            </p:nvGrpSpPr>
            <p:grpSpPr>
              <a:xfrm>
                <a:off x="1469520" y="2069640"/>
                <a:ext cx="10800" cy="15480"/>
                <a:chOff x="1469520" y="2069640"/>
                <a:chExt cx="10800" cy="15480"/>
              </a:xfrm>
            </p:grpSpPr>
            <p:sp>
              <p:nvSpPr>
                <p:cNvPr id="2152" name=""/>
                <p:cNvSpPr/>
                <p:nvPr/>
              </p:nvSpPr>
              <p:spPr>
                <a:xfrm>
                  <a:off x="1469520" y="207720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1469520" y="208512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1469520" y="206964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55" name=""/>
            <p:cNvSpPr/>
            <p:nvPr/>
          </p:nvSpPr>
          <p:spPr>
            <a:xfrm flipV="1">
              <a:off x="1419120" y="2026800"/>
              <a:ext cx="0" cy="41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6" name=""/>
            <p:cNvGrpSpPr/>
            <p:nvPr/>
          </p:nvGrpSpPr>
          <p:grpSpPr>
            <a:xfrm>
              <a:off x="3986280" y="1960200"/>
              <a:ext cx="146160" cy="45720"/>
              <a:chOff x="3986280" y="1960200"/>
              <a:chExt cx="146160" cy="45720"/>
            </a:xfrm>
          </p:grpSpPr>
          <p:sp>
            <p:nvSpPr>
              <p:cNvPr id="2157" name=""/>
              <p:cNvSpPr/>
              <p:nvPr/>
            </p:nvSpPr>
            <p:spPr>
              <a:xfrm>
                <a:off x="3986280" y="1960200"/>
                <a:ext cx="146160" cy="4572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993840" y="1974600"/>
                <a:ext cx="129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994560" y="1965960"/>
                <a:ext cx="129240" cy="38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993840" y="1982160"/>
                <a:ext cx="129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993840" y="1991160"/>
                <a:ext cx="129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2" name=""/>
              <p:cNvGrpSpPr/>
              <p:nvPr/>
            </p:nvGrpSpPr>
            <p:grpSpPr>
              <a:xfrm>
                <a:off x="4000320" y="1971000"/>
                <a:ext cx="10800" cy="15480"/>
                <a:chOff x="4000320" y="1971000"/>
                <a:chExt cx="10800" cy="15480"/>
              </a:xfrm>
            </p:grpSpPr>
            <p:sp>
              <p:nvSpPr>
                <p:cNvPr id="2163" name=""/>
                <p:cNvSpPr/>
                <p:nvPr/>
              </p:nvSpPr>
              <p:spPr>
                <a:xfrm>
                  <a:off x="4000320" y="197856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000320" y="198648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000320" y="197100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6" name=""/>
              <p:cNvGrpSpPr/>
              <p:nvPr/>
            </p:nvGrpSpPr>
            <p:grpSpPr>
              <a:xfrm>
                <a:off x="4019760" y="1971000"/>
                <a:ext cx="10800" cy="15480"/>
                <a:chOff x="4019760" y="1971000"/>
                <a:chExt cx="10800" cy="15480"/>
              </a:xfrm>
            </p:grpSpPr>
            <p:sp>
              <p:nvSpPr>
                <p:cNvPr id="2167" name=""/>
                <p:cNvSpPr/>
                <p:nvPr/>
              </p:nvSpPr>
              <p:spPr>
                <a:xfrm>
                  <a:off x="4019760" y="197856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019760" y="198648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019760" y="197100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0" name=""/>
              <p:cNvGrpSpPr/>
              <p:nvPr/>
            </p:nvGrpSpPr>
            <p:grpSpPr>
              <a:xfrm>
                <a:off x="4039560" y="1971000"/>
                <a:ext cx="10800" cy="15480"/>
                <a:chOff x="4039560" y="1971000"/>
                <a:chExt cx="10800" cy="15480"/>
              </a:xfrm>
            </p:grpSpPr>
            <p:sp>
              <p:nvSpPr>
                <p:cNvPr id="2171" name=""/>
                <p:cNvSpPr/>
                <p:nvPr/>
              </p:nvSpPr>
              <p:spPr>
                <a:xfrm>
                  <a:off x="4039560" y="197856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039560" y="198648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039560" y="197100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4" name=""/>
              <p:cNvGrpSpPr/>
              <p:nvPr/>
            </p:nvGrpSpPr>
            <p:grpSpPr>
              <a:xfrm>
                <a:off x="4059360" y="1971000"/>
                <a:ext cx="10800" cy="15480"/>
                <a:chOff x="4059360" y="1971000"/>
                <a:chExt cx="10800" cy="15480"/>
              </a:xfrm>
            </p:grpSpPr>
            <p:sp>
              <p:nvSpPr>
                <p:cNvPr id="2175" name=""/>
                <p:cNvSpPr/>
                <p:nvPr/>
              </p:nvSpPr>
              <p:spPr>
                <a:xfrm>
                  <a:off x="4059360" y="197856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059360" y="198648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059360" y="197100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8" name=""/>
              <p:cNvGrpSpPr/>
              <p:nvPr/>
            </p:nvGrpSpPr>
            <p:grpSpPr>
              <a:xfrm>
                <a:off x="4078800" y="1971000"/>
                <a:ext cx="10800" cy="15480"/>
                <a:chOff x="4078800" y="1971000"/>
                <a:chExt cx="10800" cy="15480"/>
              </a:xfrm>
            </p:grpSpPr>
            <p:sp>
              <p:nvSpPr>
                <p:cNvPr id="2179" name=""/>
                <p:cNvSpPr/>
                <p:nvPr/>
              </p:nvSpPr>
              <p:spPr>
                <a:xfrm>
                  <a:off x="4078800" y="197856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078800" y="198648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4078800" y="197100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2" name=""/>
              <p:cNvGrpSpPr/>
              <p:nvPr/>
            </p:nvGrpSpPr>
            <p:grpSpPr>
              <a:xfrm>
                <a:off x="4098600" y="1971000"/>
                <a:ext cx="10800" cy="15480"/>
                <a:chOff x="4098600" y="1971000"/>
                <a:chExt cx="10800" cy="15480"/>
              </a:xfrm>
            </p:grpSpPr>
            <p:sp>
              <p:nvSpPr>
                <p:cNvPr id="2183" name=""/>
                <p:cNvSpPr/>
                <p:nvPr/>
              </p:nvSpPr>
              <p:spPr>
                <a:xfrm>
                  <a:off x="4098600" y="197856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098600" y="198648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098600" y="1971000"/>
                  <a:ext cx="1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86" name=""/>
            <p:cNvSpPr/>
            <p:nvPr/>
          </p:nvSpPr>
          <p:spPr>
            <a:xfrm flipV="1">
              <a:off x="4048200" y="1928520"/>
              <a:ext cx="0" cy="41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7" name=""/>
          <p:cNvGrpSpPr/>
          <p:nvPr/>
        </p:nvGrpSpPr>
        <p:grpSpPr>
          <a:xfrm>
            <a:off x="141480" y="0"/>
            <a:ext cx="8664840" cy="6146640"/>
            <a:chOff x="141480" y="0"/>
            <a:chExt cx="8664840" cy="6146640"/>
          </a:xfrm>
        </p:grpSpPr>
        <p:sp>
          <p:nvSpPr>
            <p:cNvPr id="2188" name=""/>
            <p:cNvSpPr/>
            <p:nvPr/>
          </p:nvSpPr>
          <p:spPr>
            <a:xfrm>
              <a:off x="3893760" y="5580000"/>
              <a:ext cx="1029600" cy="550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508640" y="4622760"/>
              <a:ext cx="0" cy="73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0" name=""/>
            <p:cNvGrpSpPr/>
            <p:nvPr/>
          </p:nvGrpSpPr>
          <p:grpSpPr>
            <a:xfrm>
              <a:off x="4191120" y="4976640"/>
              <a:ext cx="455400" cy="545760"/>
              <a:chOff x="4191120" y="4976640"/>
              <a:chExt cx="455400" cy="545760"/>
            </a:xfrm>
          </p:grpSpPr>
          <p:grpSp>
            <p:nvGrpSpPr>
              <p:cNvPr id="2191" name=""/>
              <p:cNvGrpSpPr/>
              <p:nvPr/>
            </p:nvGrpSpPr>
            <p:grpSpPr>
              <a:xfrm>
                <a:off x="4191120" y="4976640"/>
                <a:ext cx="455400" cy="545760"/>
                <a:chOff x="4191120" y="4976640"/>
                <a:chExt cx="455400" cy="545760"/>
              </a:xfrm>
            </p:grpSpPr>
            <p:sp>
              <p:nvSpPr>
                <p:cNvPr id="2192" name=""/>
                <p:cNvSpPr/>
                <p:nvPr/>
              </p:nvSpPr>
              <p:spPr>
                <a:xfrm>
                  <a:off x="4191120" y="5440680"/>
                  <a:ext cx="45540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4245840" y="4976640"/>
                  <a:ext cx="373320" cy="4550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4" name=""/>
              <p:cNvSpPr/>
              <p:nvPr/>
            </p:nvSpPr>
            <p:spPr>
              <a:xfrm>
                <a:off x="4286880" y="5024160"/>
                <a:ext cx="154440" cy="615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307040" y="505152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286880" y="511308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7" name=""/>
            <p:cNvSpPr/>
            <p:nvPr/>
          </p:nvSpPr>
          <p:spPr>
            <a:xfrm flipH="1" flipV="1">
              <a:off x="2502000" y="317160"/>
              <a:ext cx="95256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V="1">
              <a:off x="3378240" y="469800"/>
              <a:ext cx="1130400" cy="7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V="1">
              <a:off x="3390840" y="495360"/>
              <a:ext cx="177840" cy="67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692440" y="3911760"/>
              <a:ext cx="0" cy="73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006640" y="1930320"/>
              <a:ext cx="0" cy="72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238560" y="1714680"/>
              <a:ext cx="0" cy="93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495680" y="1714680"/>
              <a:ext cx="0" cy="93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556080" y="462276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137040" y="2654280"/>
              <a:ext cx="0" cy="165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6" name=""/>
            <p:cNvGrpSpPr/>
            <p:nvPr/>
          </p:nvGrpSpPr>
          <p:grpSpPr>
            <a:xfrm>
              <a:off x="1473120" y="1812960"/>
              <a:ext cx="752400" cy="231840"/>
              <a:chOff x="1473120" y="1812960"/>
              <a:chExt cx="752400" cy="231840"/>
            </a:xfrm>
          </p:grpSpPr>
          <p:sp>
            <p:nvSpPr>
              <p:cNvPr id="2207" name=""/>
              <p:cNvSpPr/>
              <p:nvPr/>
            </p:nvSpPr>
            <p:spPr>
              <a:xfrm>
                <a:off x="1473120" y="1812960"/>
                <a:ext cx="752400" cy="23184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1513440" y="188604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1516320" y="1842840"/>
                <a:ext cx="665280" cy="1926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1513440" y="192528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1513440" y="196884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2" name=""/>
              <p:cNvGrpSpPr/>
              <p:nvPr/>
            </p:nvGrpSpPr>
            <p:grpSpPr>
              <a:xfrm>
                <a:off x="1546200" y="1868040"/>
                <a:ext cx="56880" cy="77760"/>
                <a:chOff x="1546200" y="1868040"/>
                <a:chExt cx="56880" cy="77760"/>
              </a:xfrm>
            </p:grpSpPr>
            <p:sp>
              <p:nvSpPr>
                <p:cNvPr id="2213" name=""/>
                <p:cNvSpPr/>
                <p:nvPr/>
              </p:nvSpPr>
              <p:spPr>
                <a:xfrm>
                  <a:off x="1546200" y="19069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1546200" y="194580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1546200" y="18680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6" name=""/>
              <p:cNvGrpSpPr/>
              <p:nvPr/>
            </p:nvGrpSpPr>
            <p:grpSpPr>
              <a:xfrm>
                <a:off x="1646640" y="1868040"/>
                <a:ext cx="57240" cy="77760"/>
                <a:chOff x="1646640" y="1868040"/>
                <a:chExt cx="57240" cy="77760"/>
              </a:xfrm>
            </p:grpSpPr>
            <p:sp>
              <p:nvSpPr>
                <p:cNvPr id="2217" name=""/>
                <p:cNvSpPr/>
                <p:nvPr/>
              </p:nvSpPr>
              <p:spPr>
                <a:xfrm>
                  <a:off x="1646640" y="19069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1646640" y="194580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1646640" y="18680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0" name=""/>
              <p:cNvGrpSpPr/>
              <p:nvPr/>
            </p:nvGrpSpPr>
            <p:grpSpPr>
              <a:xfrm>
                <a:off x="1747440" y="1868040"/>
                <a:ext cx="56880" cy="77760"/>
                <a:chOff x="1747440" y="1868040"/>
                <a:chExt cx="56880" cy="77760"/>
              </a:xfrm>
            </p:grpSpPr>
            <p:sp>
              <p:nvSpPr>
                <p:cNvPr id="2221" name=""/>
                <p:cNvSpPr/>
                <p:nvPr/>
              </p:nvSpPr>
              <p:spPr>
                <a:xfrm>
                  <a:off x="1747440" y="19069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1747440" y="194580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1747440" y="18680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4" name=""/>
              <p:cNvGrpSpPr/>
              <p:nvPr/>
            </p:nvGrpSpPr>
            <p:grpSpPr>
              <a:xfrm>
                <a:off x="1848960" y="1868040"/>
                <a:ext cx="57240" cy="77760"/>
                <a:chOff x="1848960" y="1868040"/>
                <a:chExt cx="57240" cy="77760"/>
              </a:xfrm>
            </p:grpSpPr>
            <p:sp>
              <p:nvSpPr>
                <p:cNvPr id="2225" name=""/>
                <p:cNvSpPr/>
                <p:nvPr/>
              </p:nvSpPr>
              <p:spPr>
                <a:xfrm>
                  <a:off x="1848960" y="19069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1848960" y="194580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1848960" y="18680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8" name=""/>
              <p:cNvGrpSpPr/>
              <p:nvPr/>
            </p:nvGrpSpPr>
            <p:grpSpPr>
              <a:xfrm>
                <a:off x="1949760" y="1868040"/>
                <a:ext cx="56880" cy="77760"/>
                <a:chOff x="1949760" y="1868040"/>
                <a:chExt cx="56880" cy="77760"/>
              </a:xfrm>
            </p:grpSpPr>
            <p:sp>
              <p:nvSpPr>
                <p:cNvPr id="2229" name=""/>
                <p:cNvSpPr/>
                <p:nvPr/>
              </p:nvSpPr>
              <p:spPr>
                <a:xfrm>
                  <a:off x="1949760" y="19069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1949760" y="194580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1949760" y="18680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2" name=""/>
              <p:cNvGrpSpPr/>
              <p:nvPr/>
            </p:nvGrpSpPr>
            <p:grpSpPr>
              <a:xfrm>
                <a:off x="2051280" y="1868040"/>
                <a:ext cx="57240" cy="77760"/>
                <a:chOff x="2051280" y="1868040"/>
                <a:chExt cx="57240" cy="77760"/>
              </a:xfrm>
            </p:grpSpPr>
            <p:sp>
              <p:nvSpPr>
                <p:cNvPr id="2233" name=""/>
                <p:cNvSpPr/>
                <p:nvPr/>
              </p:nvSpPr>
              <p:spPr>
                <a:xfrm>
                  <a:off x="2051280" y="19069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2051280" y="194580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2051280" y="18680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36" name=""/>
            <p:cNvGrpSpPr/>
            <p:nvPr/>
          </p:nvGrpSpPr>
          <p:grpSpPr>
            <a:xfrm>
              <a:off x="3021120" y="1181160"/>
              <a:ext cx="511200" cy="863640"/>
              <a:chOff x="3021120" y="1181160"/>
              <a:chExt cx="511200" cy="863640"/>
            </a:xfrm>
          </p:grpSpPr>
          <p:sp>
            <p:nvSpPr>
              <p:cNvPr id="2237" name=""/>
              <p:cNvSpPr/>
              <p:nvPr/>
            </p:nvSpPr>
            <p:spPr>
              <a:xfrm>
                <a:off x="3022920" y="1181160"/>
                <a:ext cx="509400" cy="86364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3022920" y="1883520"/>
                <a:ext cx="50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3021120" y="1331280"/>
                <a:ext cx="51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3070440" y="133128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3154680" y="133128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3237120" y="133128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3321360" y="133128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3405600" y="133128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3489480" y="133128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6" name=""/>
              <p:cNvGrpSpPr/>
              <p:nvPr/>
            </p:nvGrpSpPr>
            <p:grpSpPr>
              <a:xfrm>
                <a:off x="3086280" y="1365840"/>
                <a:ext cx="39600" cy="442080"/>
                <a:chOff x="3086280" y="1365840"/>
                <a:chExt cx="39600" cy="442080"/>
              </a:xfrm>
            </p:grpSpPr>
            <p:sp>
              <p:nvSpPr>
                <p:cNvPr id="2247" name=""/>
                <p:cNvSpPr/>
                <p:nvPr/>
              </p:nvSpPr>
              <p:spPr>
                <a:xfrm>
                  <a:off x="3086280" y="1365840"/>
                  <a:ext cx="396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3086280" y="1478160"/>
                  <a:ext cx="396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3086280" y="159696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3086280" y="1713960"/>
                  <a:ext cx="396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1" name=""/>
              <p:cNvGrpSpPr/>
              <p:nvPr/>
            </p:nvGrpSpPr>
            <p:grpSpPr>
              <a:xfrm>
                <a:off x="3168720" y="1365840"/>
                <a:ext cx="41400" cy="442080"/>
                <a:chOff x="3168720" y="1365840"/>
                <a:chExt cx="41400" cy="442080"/>
              </a:xfrm>
            </p:grpSpPr>
            <p:sp>
              <p:nvSpPr>
                <p:cNvPr id="2252" name=""/>
                <p:cNvSpPr/>
                <p:nvPr/>
              </p:nvSpPr>
              <p:spPr>
                <a:xfrm>
                  <a:off x="3168720" y="136584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3168720" y="14781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3168720" y="159696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3168720" y="17139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6" name=""/>
              <p:cNvGrpSpPr/>
              <p:nvPr/>
            </p:nvGrpSpPr>
            <p:grpSpPr>
              <a:xfrm>
                <a:off x="3265560" y="1365840"/>
                <a:ext cx="41400" cy="442080"/>
                <a:chOff x="3265560" y="1365840"/>
                <a:chExt cx="41400" cy="442080"/>
              </a:xfrm>
            </p:grpSpPr>
            <p:sp>
              <p:nvSpPr>
                <p:cNvPr id="2257" name=""/>
                <p:cNvSpPr/>
                <p:nvPr/>
              </p:nvSpPr>
              <p:spPr>
                <a:xfrm>
                  <a:off x="3265560" y="136584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3265560" y="14781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3265560" y="159696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3265560" y="17139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1" name=""/>
              <p:cNvGrpSpPr/>
              <p:nvPr/>
            </p:nvGrpSpPr>
            <p:grpSpPr>
              <a:xfrm>
                <a:off x="3338640" y="1365840"/>
                <a:ext cx="41400" cy="442080"/>
                <a:chOff x="3338640" y="1365840"/>
                <a:chExt cx="41400" cy="442080"/>
              </a:xfrm>
            </p:grpSpPr>
            <p:sp>
              <p:nvSpPr>
                <p:cNvPr id="2262" name=""/>
                <p:cNvSpPr/>
                <p:nvPr/>
              </p:nvSpPr>
              <p:spPr>
                <a:xfrm>
                  <a:off x="3338640" y="136584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3338640" y="14781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3338640" y="159696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3338640" y="17139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6" name=""/>
              <p:cNvGrpSpPr/>
              <p:nvPr/>
            </p:nvGrpSpPr>
            <p:grpSpPr>
              <a:xfrm>
                <a:off x="3424320" y="1365840"/>
                <a:ext cx="41400" cy="442080"/>
                <a:chOff x="3424320" y="1365840"/>
                <a:chExt cx="41400" cy="442080"/>
              </a:xfrm>
            </p:grpSpPr>
            <p:sp>
              <p:nvSpPr>
                <p:cNvPr id="2267" name=""/>
                <p:cNvSpPr/>
                <p:nvPr/>
              </p:nvSpPr>
              <p:spPr>
                <a:xfrm>
                  <a:off x="3424320" y="136584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3424320" y="14781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3424320" y="159696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3424320" y="1713960"/>
                  <a:ext cx="41400" cy="939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71" name=""/>
            <p:cNvGrpSpPr/>
            <p:nvPr/>
          </p:nvGrpSpPr>
          <p:grpSpPr>
            <a:xfrm>
              <a:off x="4327560" y="1181160"/>
              <a:ext cx="266760" cy="863280"/>
              <a:chOff x="4327560" y="1181160"/>
              <a:chExt cx="266760" cy="863280"/>
            </a:xfrm>
          </p:grpSpPr>
          <p:sp>
            <p:nvSpPr>
              <p:cNvPr id="2272" name=""/>
              <p:cNvSpPr/>
              <p:nvPr/>
            </p:nvSpPr>
            <p:spPr>
              <a:xfrm>
                <a:off x="4329000" y="1181160"/>
                <a:ext cx="265320" cy="86328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4329000" y="1882800"/>
                <a:ext cx="24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4327560" y="1331640"/>
                <a:ext cx="25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4376880" y="133164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460760" y="133164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4543560" y="1331640"/>
                <a:ext cx="0" cy="54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8" name=""/>
              <p:cNvGrpSpPr/>
              <p:nvPr/>
            </p:nvGrpSpPr>
            <p:grpSpPr>
              <a:xfrm>
                <a:off x="4392720" y="1365120"/>
                <a:ext cx="39600" cy="442800"/>
                <a:chOff x="4392720" y="1365120"/>
                <a:chExt cx="39600" cy="442800"/>
              </a:xfrm>
            </p:grpSpPr>
            <p:sp>
              <p:nvSpPr>
                <p:cNvPr id="2279" name=""/>
                <p:cNvSpPr/>
                <p:nvPr/>
              </p:nvSpPr>
              <p:spPr>
                <a:xfrm>
                  <a:off x="4392720" y="136512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4392720" y="147744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4392720" y="159660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4392720" y="171360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3" name=""/>
              <p:cNvGrpSpPr/>
              <p:nvPr/>
            </p:nvGrpSpPr>
            <p:grpSpPr>
              <a:xfrm>
                <a:off x="4475160" y="1365120"/>
                <a:ext cx="41400" cy="442800"/>
                <a:chOff x="4475160" y="1365120"/>
                <a:chExt cx="41400" cy="442800"/>
              </a:xfrm>
            </p:grpSpPr>
            <p:sp>
              <p:nvSpPr>
                <p:cNvPr id="2284" name=""/>
                <p:cNvSpPr/>
                <p:nvPr/>
              </p:nvSpPr>
              <p:spPr>
                <a:xfrm>
                  <a:off x="4475160" y="136512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4475160" y="147744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4475160" y="159660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4475160" y="171360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88" name=""/>
            <p:cNvGrpSpPr/>
            <p:nvPr/>
          </p:nvGrpSpPr>
          <p:grpSpPr>
            <a:xfrm>
              <a:off x="3174840" y="5029200"/>
              <a:ext cx="455760" cy="545760"/>
              <a:chOff x="3174840" y="5029200"/>
              <a:chExt cx="455760" cy="545760"/>
            </a:xfrm>
          </p:grpSpPr>
          <p:grpSp>
            <p:nvGrpSpPr>
              <p:cNvPr id="2289" name=""/>
              <p:cNvGrpSpPr/>
              <p:nvPr/>
            </p:nvGrpSpPr>
            <p:grpSpPr>
              <a:xfrm>
                <a:off x="3174840" y="5029200"/>
                <a:ext cx="455760" cy="545760"/>
                <a:chOff x="3174840" y="5029200"/>
                <a:chExt cx="455760" cy="545760"/>
              </a:xfrm>
            </p:grpSpPr>
            <p:sp>
              <p:nvSpPr>
                <p:cNvPr id="2290" name=""/>
                <p:cNvSpPr/>
                <p:nvPr/>
              </p:nvSpPr>
              <p:spPr>
                <a:xfrm>
                  <a:off x="3174840" y="5493240"/>
                  <a:ext cx="45576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3229560" y="5029200"/>
                  <a:ext cx="373680" cy="4550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2" name=""/>
              <p:cNvSpPr/>
              <p:nvPr/>
            </p:nvSpPr>
            <p:spPr>
              <a:xfrm>
                <a:off x="3270600" y="5076720"/>
                <a:ext cx="154440" cy="61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3291120" y="510408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3270600" y="516564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5" name=""/>
            <p:cNvSpPr/>
            <p:nvPr/>
          </p:nvSpPr>
          <p:spPr>
            <a:xfrm>
              <a:off x="2908440" y="4267080"/>
              <a:ext cx="5765760" cy="88920"/>
            </a:xfrm>
            <a:prstGeom prst="rect">
              <a:avLst/>
            </a:prstGeom>
            <a:gradFill rotWithShape="0">
              <a:gsLst>
                <a:gs pos="0">
                  <a:srgbClr val="474747"/>
                </a:gs>
                <a:gs pos="50000">
                  <a:srgbClr val="ededed"/>
                </a:gs>
                <a:gs pos="100000">
                  <a:srgbClr val="4747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447920" y="2616120"/>
              <a:ext cx="3111480" cy="74520"/>
            </a:xfrm>
            <a:prstGeom prst="rect">
              <a:avLst/>
            </a:prstGeom>
            <a:gradFill rotWithShape="0">
              <a:gsLst>
                <a:gs pos="0">
                  <a:srgbClr val="474747"/>
                </a:gs>
                <a:gs pos="50000">
                  <a:srgbClr val="ededed"/>
                </a:gs>
                <a:gs pos="100000">
                  <a:srgbClr val="4747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V="1">
              <a:off x="3797280" y="3657240"/>
              <a:ext cx="0" cy="62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V="1">
              <a:off x="4654440" y="3657240"/>
              <a:ext cx="0" cy="62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5513400" y="3657240"/>
              <a:ext cx="0" cy="62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6372360" y="3657240"/>
              <a:ext cx="0" cy="62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V="1">
              <a:off x="7230960" y="3657240"/>
              <a:ext cx="0" cy="62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V="1">
              <a:off x="8089920" y="3657240"/>
              <a:ext cx="0" cy="62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3" name=""/>
            <p:cNvGrpSpPr/>
            <p:nvPr/>
          </p:nvGrpSpPr>
          <p:grpSpPr>
            <a:xfrm>
              <a:off x="3519360" y="3505320"/>
              <a:ext cx="455760" cy="545760"/>
              <a:chOff x="3519360" y="3505320"/>
              <a:chExt cx="455760" cy="545760"/>
            </a:xfrm>
          </p:grpSpPr>
          <p:grpSp>
            <p:nvGrpSpPr>
              <p:cNvPr id="2304" name=""/>
              <p:cNvGrpSpPr/>
              <p:nvPr/>
            </p:nvGrpSpPr>
            <p:grpSpPr>
              <a:xfrm>
                <a:off x="3519360" y="3505320"/>
                <a:ext cx="455760" cy="545760"/>
                <a:chOff x="3519360" y="3505320"/>
                <a:chExt cx="455760" cy="545760"/>
              </a:xfrm>
            </p:grpSpPr>
            <p:sp>
              <p:nvSpPr>
                <p:cNvPr id="2305" name=""/>
                <p:cNvSpPr/>
                <p:nvPr/>
              </p:nvSpPr>
              <p:spPr>
                <a:xfrm>
                  <a:off x="3519360" y="3969360"/>
                  <a:ext cx="45576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3574080" y="3505320"/>
                  <a:ext cx="373680" cy="4550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7" name=""/>
              <p:cNvSpPr/>
              <p:nvPr/>
            </p:nvSpPr>
            <p:spPr>
              <a:xfrm>
                <a:off x="3615120" y="3552840"/>
                <a:ext cx="154440" cy="61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3635640" y="358020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3615120" y="364176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0" name=""/>
            <p:cNvGrpSpPr/>
            <p:nvPr/>
          </p:nvGrpSpPr>
          <p:grpSpPr>
            <a:xfrm>
              <a:off x="4397400" y="3505320"/>
              <a:ext cx="455760" cy="545760"/>
              <a:chOff x="4397400" y="3505320"/>
              <a:chExt cx="455760" cy="545760"/>
            </a:xfrm>
          </p:grpSpPr>
          <p:grpSp>
            <p:nvGrpSpPr>
              <p:cNvPr id="2311" name=""/>
              <p:cNvGrpSpPr/>
              <p:nvPr/>
            </p:nvGrpSpPr>
            <p:grpSpPr>
              <a:xfrm>
                <a:off x="4397400" y="3505320"/>
                <a:ext cx="455760" cy="545760"/>
                <a:chOff x="4397400" y="3505320"/>
                <a:chExt cx="455760" cy="545760"/>
              </a:xfrm>
            </p:grpSpPr>
            <p:sp>
              <p:nvSpPr>
                <p:cNvPr id="2312" name=""/>
                <p:cNvSpPr/>
                <p:nvPr/>
              </p:nvSpPr>
              <p:spPr>
                <a:xfrm>
                  <a:off x="4397400" y="3969360"/>
                  <a:ext cx="45576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4452120" y="3505320"/>
                  <a:ext cx="373680" cy="4550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4" name=""/>
              <p:cNvSpPr/>
              <p:nvPr/>
            </p:nvSpPr>
            <p:spPr>
              <a:xfrm>
                <a:off x="4493160" y="3552840"/>
                <a:ext cx="154440" cy="61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4513680" y="358020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4493160" y="364176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7" name=""/>
            <p:cNvGrpSpPr/>
            <p:nvPr/>
          </p:nvGrpSpPr>
          <p:grpSpPr>
            <a:xfrm>
              <a:off x="5276880" y="3505320"/>
              <a:ext cx="455760" cy="545760"/>
              <a:chOff x="5276880" y="3505320"/>
              <a:chExt cx="455760" cy="545760"/>
            </a:xfrm>
          </p:grpSpPr>
          <p:grpSp>
            <p:nvGrpSpPr>
              <p:cNvPr id="2318" name=""/>
              <p:cNvGrpSpPr/>
              <p:nvPr/>
            </p:nvGrpSpPr>
            <p:grpSpPr>
              <a:xfrm>
                <a:off x="5276880" y="3505320"/>
                <a:ext cx="455760" cy="545760"/>
                <a:chOff x="5276880" y="3505320"/>
                <a:chExt cx="455760" cy="545760"/>
              </a:xfrm>
            </p:grpSpPr>
            <p:sp>
              <p:nvSpPr>
                <p:cNvPr id="2319" name=""/>
                <p:cNvSpPr/>
                <p:nvPr/>
              </p:nvSpPr>
              <p:spPr>
                <a:xfrm>
                  <a:off x="5276880" y="3969360"/>
                  <a:ext cx="45576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5331600" y="3505320"/>
                  <a:ext cx="373680" cy="4550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1" name=""/>
              <p:cNvSpPr/>
              <p:nvPr/>
            </p:nvSpPr>
            <p:spPr>
              <a:xfrm>
                <a:off x="5372640" y="3552840"/>
                <a:ext cx="154440" cy="615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5393160" y="358020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5372640" y="364176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4" name=""/>
            <p:cNvGrpSpPr/>
            <p:nvPr/>
          </p:nvGrpSpPr>
          <p:grpSpPr>
            <a:xfrm>
              <a:off x="6154560" y="3505320"/>
              <a:ext cx="455760" cy="545760"/>
              <a:chOff x="6154560" y="3505320"/>
              <a:chExt cx="455760" cy="545760"/>
            </a:xfrm>
          </p:grpSpPr>
          <p:grpSp>
            <p:nvGrpSpPr>
              <p:cNvPr id="2325" name=""/>
              <p:cNvGrpSpPr/>
              <p:nvPr/>
            </p:nvGrpSpPr>
            <p:grpSpPr>
              <a:xfrm>
                <a:off x="6154560" y="3505320"/>
                <a:ext cx="455760" cy="545760"/>
                <a:chOff x="6154560" y="3505320"/>
                <a:chExt cx="455760" cy="545760"/>
              </a:xfrm>
            </p:grpSpPr>
            <p:sp>
              <p:nvSpPr>
                <p:cNvPr id="2326" name=""/>
                <p:cNvSpPr/>
                <p:nvPr/>
              </p:nvSpPr>
              <p:spPr>
                <a:xfrm>
                  <a:off x="6154560" y="3969360"/>
                  <a:ext cx="45576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6209280" y="3505320"/>
                  <a:ext cx="373680" cy="4550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8" name=""/>
              <p:cNvSpPr/>
              <p:nvPr/>
            </p:nvSpPr>
            <p:spPr>
              <a:xfrm>
                <a:off x="6250320" y="3552840"/>
                <a:ext cx="154440" cy="615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270840" y="358020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6250320" y="364176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1" name=""/>
            <p:cNvGrpSpPr/>
            <p:nvPr/>
          </p:nvGrpSpPr>
          <p:grpSpPr>
            <a:xfrm>
              <a:off x="7032600" y="3505320"/>
              <a:ext cx="455760" cy="545760"/>
              <a:chOff x="7032600" y="3505320"/>
              <a:chExt cx="455760" cy="545760"/>
            </a:xfrm>
          </p:grpSpPr>
          <p:grpSp>
            <p:nvGrpSpPr>
              <p:cNvPr id="2332" name=""/>
              <p:cNvGrpSpPr/>
              <p:nvPr/>
            </p:nvGrpSpPr>
            <p:grpSpPr>
              <a:xfrm>
                <a:off x="7032600" y="3505320"/>
                <a:ext cx="455760" cy="545760"/>
                <a:chOff x="7032600" y="3505320"/>
                <a:chExt cx="455760" cy="545760"/>
              </a:xfrm>
            </p:grpSpPr>
            <p:sp>
              <p:nvSpPr>
                <p:cNvPr id="2333" name=""/>
                <p:cNvSpPr/>
                <p:nvPr/>
              </p:nvSpPr>
              <p:spPr>
                <a:xfrm>
                  <a:off x="7032600" y="3969360"/>
                  <a:ext cx="45576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7087320" y="3505320"/>
                  <a:ext cx="373680" cy="4550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5" name=""/>
              <p:cNvSpPr/>
              <p:nvPr/>
            </p:nvSpPr>
            <p:spPr>
              <a:xfrm>
                <a:off x="7128360" y="3552840"/>
                <a:ext cx="154440" cy="615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148880" y="358020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128360" y="364176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8" name=""/>
            <p:cNvGrpSpPr/>
            <p:nvPr/>
          </p:nvGrpSpPr>
          <p:grpSpPr>
            <a:xfrm>
              <a:off x="7912080" y="3505320"/>
              <a:ext cx="455760" cy="545760"/>
              <a:chOff x="7912080" y="3505320"/>
              <a:chExt cx="455760" cy="545760"/>
            </a:xfrm>
          </p:grpSpPr>
          <p:grpSp>
            <p:nvGrpSpPr>
              <p:cNvPr id="2339" name=""/>
              <p:cNvGrpSpPr/>
              <p:nvPr/>
            </p:nvGrpSpPr>
            <p:grpSpPr>
              <a:xfrm>
                <a:off x="7912080" y="3505320"/>
                <a:ext cx="455760" cy="545760"/>
                <a:chOff x="7912080" y="3505320"/>
                <a:chExt cx="455760" cy="545760"/>
              </a:xfrm>
            </p:grpSpPr>
            <p:sp>
              <p:nvSpPr>
                <p:cNvPr id="2340" name=""/>
                <p:cNvSpPr/>
                <p:nvPr/>
              </p:nvSpPr>
              <p:spPr>
                <a:xfrm>
                  <a:off x="7912080" y="3969360"/>
                  <a:ext cx="455760" cy="8172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7966800" y="3505320"/>
                  <a:ext cx="373680" cy="4550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2" name=""/>
              <p:cNvSpPr/>
              <p:nvPr/>
            </p:nvSpPr>
            <p:spPr>
              <a:xfrm>
                <a:off x="8007840" y="3552840"/>
                <a:ext cx="154440" cy="615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8028360" y="358020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007840" y="3641760"/>
                <a:ext cx="154440" cy="22068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5" name=""/>
            <p:cNvSpPr/>
            <p:nvPr/>
          </p:nvSpPr>
          <p:spPr>
            <a:xfrm>
              <a:off x="3924720" y="2152800"/>
              <a:ext cx="1608840" cy="246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Upstream Feed 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718720" y="2152800"/>
              <a:ext cx="106452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Local Off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Access 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1440720" y="2152800"/>
              <a:ext cx="118512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Network Ac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8" name=""/>
            <p:cNvGrpSpPr/>
            <p:nvPr/>
          </p:nvGrpSpPr>
          <p:grpSpPr>
            <a:xfrm>
              <a:off x="2467080" y="3688920"/>
              <a:ext cx="863280" cy="266760"/>
              <a:chOff x="2467080" y="3688920"/>
              <a:chExt cx="863280" cy="266760"/>
            </a:xfrm>
          </p:grpSpPr>
          <p:sp>
            <p:nvSpPr>
              <p:cNvPr id="2349" name=""/>
              <p:cNvSpPr/>
              <p:nvPr/>
            </p:nvSpPr>
            <p:spPr>
              <a:xfrm rot="16200000">
                <a:off x="2765880" y="3389760"/>
                <a:ext cx="265320" cy="86328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 flipV="1">
                <a:off x="3168720" y="370980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 flipV="1">
                <a:off x="2617560" y="370188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617560" y="3906360"/>
                <a:ext cx="549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2617560" y="3822480"/>
                <a:ext cx="549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2617560" y="3739680"/>
                <a:ext cx="549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5" name=""/>
              <p:cNvGrpSpPr/>
              <p:nvPr/>
            </p:nvGrpSpPr>
            <p:grpSpPr>
              <a:xfrm>
                <a:off x="2651040" y="3850920"/>
                <a:ext cx="442800" cy="39600"/>
                <a:chOff x="2651040" y="3850920"/>
                <a:chExt cx="442800" cy="39600"/>
              </a:xfrm>
            </p:grpSpPr>
            <p:sp>
              <p:nvSpPr>
                <p:cNvPr id="2356" name=""/>
                <p:cNvSpPr/>
                <p:nvPr/>
              </p:nvSpPr>
              <p:spPr>
                <a:xfrm rot="16200000">
                  <a:off x="2678400" y="382356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 rot="16200000">
                  <a:off x="2790720" y="382356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 rot="16200000">
                  <a:off x="2909880" y="382356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 rot="16200000">
                  <a:off x="3026880" y="3823560"/>
                  <a:ext cx="396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0" name=""/>
              <p:cNvGrpSpPr/>
              <p:nvPr/>
            </p:nvGrpSpPr>
            <p:grpSpPr>
              <a:xfrm>
                <a:off x="2651040" y="3766680"/>
                <a:ext cx="442800" cy="41400"/>
                <a:chOff x="2651040" y="3766680"/>
                <a:chExt cx="442800" cy="41400"/>
              </a:xfrm>
            </p:grpSpPr>
            <p:sp>
              <p:nvSpPr>
                <p:cNvPr id="2361" name=""/>
                <p:cNvSpPr/>
                <p:nvPr/>
              </p:nvSpPr>
              <p:spPr>
                <a:xfrm rot="16200000">
                  <a:off x="2677320" y="374004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 rot="16200000">
                  <a:off x="2789640" y="374004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 rot="16200000">
                  <a:off x="2908800" y="374004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 rot="16200000">
                  <a:off x="3025800" y="3740040"/>
                  <a:ext cx="41400" cy="943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65" name=""/>
            <p:cNvSpPr/>
            <p:nvPr/>
          </p:nvSpPr>
          <p:spPr>
            <a:xfrm>
              <a:off x="3476880" y="2851200"/>
              <a:ext cx="60588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Radi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363200" y="2851200"/>
              <a:ext cx="58752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Ma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248800" y="2851200"/>
              <a:ext cx="58752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150240" y="2851200"/>
              <a:ext cx="56160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WW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022160" y="2851200"/>
              <a:ext cx="58752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WW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890480" y="2851200"/>
              <a:ext cx="62712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Use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2916360" y="5683320"/>
              <a:ext cx="901440" cy="3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Accoun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584600"/>
              <a:ext cx="3111480" cy="74880"/>
            </a:xfrm>
            <a:prstGeom prst="rect">
              <a:avLst/>
            </a:prstGeom>
            <a:gradFill rotWithShape="0">
              <a:gsLst>
                <a:gs pos="0">
                  <a:srgbClr val="474747"/>
                </a:gs>
                <a:gs pos="50000">
                  <a:srgbClr val="ededed"/>
                </a:gs>
                <a:gs pos="100000">
                  <a:srgbClr val="4747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3" name=""/>
            <p:cNvGrpSpPr/>
            <p:nvPr/>
          </p:nvGrpSpPr>
          <p:grpSpPr>
            <a:xfrm>
              <a:off x="4089240" y="317520"/>
              <a:ext cx="773640" cy="474120"/>
              <a:chOff x="4089240" y="317520"/>
              <a:chExt cx="773640" cy="474120"/>
            </a:xfrm>
          </p:grpSpPr>
          <p:sp>
            <p:nvSpPr>
              <p:cNvPr id="2374" name=""/>
              <p:cNvSpPr/>
              <p:nvPr/>
            </p:nvSpPr>
            <p:spPr>
              <a:xfrm>
                <a:off x="4330800" y="317520"/>
                <a:ext cx="266760" cy="266400"/>
              </a:xfrm>
              <a:prstGeom prst="rect">
                <a:avLst/>
              </a:prstGeom>
              <a:solidFill>
                <a:srgbClr val="edede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089240" y="576000"/>
                <a:ext cx="77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Local Offi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6" name=""/>
            <p:cNvGrpSpPr/>
            <p:nvPr/>
          </p:nvGrpSpPr>
          <p:grpSpPr>
            <a:xfrm>
              <a:off x="3111120" y="317520"/>
              <a:ext cx="773640" cy="474120"/>
              <a:chOff x="3111120" y="317520"/>
              <a:chExt cx="773640" cy="474120"/>
            </a:xfrm>
          </p:grpSpPr>
          <p:sp>
            <p:nvSpPr>
              <p:cNvPr id="2377" name=""/>
              <p:cNvSpPr/>
              <p:nvPr/>
            </p:nvSpPr>
            <p:spPr>
              <a:xfrm>
                <a:off x="3352680" y="317520"/>
                <a:ext cx="266760" cy="266400"/>
              </a:xfrm>
              <a:prstGeom prst="rect">
                <a:avLst/>
              </a:prstGeom>
              <a:solidFill>
                <a:srgbClr val="edede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3111120" y="576000"/>
                <a:ext cx="77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Local Offi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9" name=""/>
            <p:cNvGrpSpPr/>
            <p:nvPr/>
          </p:nvGrpSpPr>
          <p:grpSpPr>
            <a:xfrm>
              <a:off x="2133360" y="317520"/>
              <a:ext cx="773640" cy="474120"/>
              <a:chOff x="2133360" y="317520"/>
              <a:chExt cx="773640" cy="474120"/>
            </a:xfrm>
          </p:grpSpPr>
          <p:sp>
            <p:nvSpPr>
              <p:cNvPr id="2380" name=""/>
              <p:cNvSpPr/>
              <p:nvPr/>
            </p:nvSpPr>
            <p:spPr>
              <a:xfrm>
                <a:off x="2374920" y="317520"/>
                <a:ext cx="266760" cy="266400"/>
              </a:xfrm>
              <a:prstGeom prst="rect">
                <a:avLst/>
              </a:prstGeom>
              <a:solidFill>
                <a:srgbClr val="edede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2133360" y="576000"/>
                <a:ext cx="773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ahoma"/>
                  </a:rPr>
                  <a:t>Local Offi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2" name=""/>
            <p:cNvSpPr/>
            <p:nvPr/>
          </p:nvSpPr>
          <p:spPr>
            <a:xfrm>
              <a:off x="1193760" y="0"/>
              <a:ext cx="4356000" cy="2603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882440" y="1452600"/>
              <a:ext cx="26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etwork Carriage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517920" y="2705040"/>
              <a:ext cx="4280040" cy="1549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587920" y="4699080"/>
              <a:ext cx="2629080" cy="927000"/>
            </a:xfrm>
            <a:prstGeom prst="wedgeRectCallout">
              <a:avLst>
                <a:gd name="adj1" fmla="val 44685"/>
                <a:gd name="adj2" fmla="val -1099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580000" y="4718160"/>
              <a:ext cx="271044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TCP logg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YN prote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ermit any source connect to TCP port 1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ermit NetOpsCenter source to any 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eny all el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77840" y="2743200"/>
              <a:ext cx="2628720" cy="762120"/>
            </a:xfrm>
            <a:prstGeom prst="wedgeRectCallout">
              <a:avLst>
                <a:gd name="adj1" fmla="val 63041"/>
                <a:gd name="adj2" fmla="val 10375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41480" y="2762280"/>
              <a:ext cx="27716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 loose source rout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 directed broadca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permit any source to usenet server TCP port 11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permit NetOpsCenter source to usenet serv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deny all el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559400" y="3624120"/>
              <a:ext cx="189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SP Service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420800" y="209520"/>
              <a:ext cx="4385520" cy="36828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  <a:effectLst>
              <a:outerShdw dist="107932" dir="2700000" blurRad="0" rotWithShape="0">
                <a:srgbClr val="5e57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xample: Securing the Usenet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768760" y="4673520"/>
              <a:ext cx="2222280" cy="1473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518200" y="4944960"/>
              <a:ext cx="252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SP Management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rvice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ISP services attract a different tariff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re service ports accoun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Access is not enoug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ISP service also requi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&amp; mailing l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i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474920" y="1517760"/>
            <a:ext cx="6372360" cy="4503960"/>
            <a:chOff x="1474920" y="1517760"/>
            <a:chExt cx="6372360" cy="4503960"/>
          </a:xfrm>
        </p:grpSpPr>
        <p:grpSp>
          <p:nvGrpSpPr>
            <p:cNvPr id="90" name=""/>
            <p:cNvGrpSpPr/>
            <p:nvPr/>
          </p:nvGrpSpPr>
          <p:grpSpPr>
            <a:xfrm>
              <a:off x="2363760" y="1517760"/>
              <a:ext cx="4863960" cy="4342680"/>
              <a:chOff x="2363760" y="1517760"/>
              <a:chExt cx="4863960" cy="4342680"/>
            </a:xfrm>
          </p:grpSpPr>
          <p:sp>
            <p:nvSpPr>
              <p:cNvPr id="91" name=""/>
              <p:cNvSpPr/>
              <p:nvPr/>
            </p:nvSpPr>
            <p:spPr>
              <a:xfrm>
                <a:off x="2363760" y="2422080"/>
                <a:ext cx="2170080" cy="2352600"/>
              </a:xfrm>
              <a:prstGeom prst="ellipse">
                <a:avLst/>
              </a:prstGeom>
              <a:solidFill>
                <a:srgbClr val="dedede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812680" y="3507840"/>
                <a:ext cx="2170080" cy="2352600"/>
              </a:xfrm>
              <a:prstGeom prst="ellipse">
                <a:avLst/>
              </a:prstGeom>
              <a:solidFill>
                <a:srgbClr val="dedede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411360" y="1517760"/>
                <a:ext cx="2170440" cy="2352600"/>
              </a:xfrm>
              <a:prstGeom prst="ellips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84080" y="1698840"/>
                <a:ext cx="2170080" cy="2351520"/>
              </a:xfrm>
              <a:prstGeom prst="ellipse">
                <a:avLst/>
              </a:prstGeom>
              <a:solidFill>
                <a:srgbClr val="dedede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010040" y="2964960"/>
                <a:ext cx="2170080" cy="2352600"/>
              </a:xfrm>
              <a:prstGeom prst="ellipse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09200" y="3327480"/>
                <a:ext cx="2170440" cy="2351520"/>
              </a:xfrm>
              <a:prstGeom prst="ellipse">
                <a:avLst/>
              </a:prstGeom>
              <a:solidFill>
                <a:srgbClr val="dedede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057640" y="2603160"/>
                <a:ext cx="2170080" cy="2352600"/>
              </a:xfrm>
              <a:prstGeom prst="ellipse">
                <a:avLst/>
              </a:prstGeom>
              <a:solidFill>
                <a:srgbClr val="dedede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82760" y="3327480"/>
                <a:ext cx="2170440" cy="2351520"/>
              </a:xfrm>
              <a:prstGeom prst="ellipse">
                <a:avLst/>
              </a:prstGeom>
              <a:solidFill>
                <a:srgbClr val="dedede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 rot="13849200">
              <a:off x="4776480" y="4019400"/>
              <a:ext cx="74952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355160" y="2578320"/>
              <a:ext cx="380880" cy="488880"/>
              <a:chOff x="7355160" y="2578320"/>
              <a:chExt cx="380880" cy="488880"/>
            </a:xfrm>
          </p:grpSpPr>
          <p:sp>
            <p:nvSpPr>
              <p:cNvPr id="101" name=""/>
              <p:cNvSpPr/>
              <p:nvPr/>
            </p:nvSpPr>
            <p:spPr>
              <a:xfrm>
                <a:off x="7355160" y="2914920"/>
                <a:ext cx="380880" cy="15228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55160" y="2578320"/>
                <a:ext cx="380880" cy="30492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83600" y="2603880"/>
                <a:ext cx="304200" cy="237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02680" y="2625840"/>
                <a:ext cx="50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399440" y="2625840"/>
                <a:ext cx="0" cy="32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4078440" y="3549960"/>
              <a:ext cx="635040" cy="762120"/>
              <a:chOff x="4078440" y="3549960"/>
              <a:chExt cx="635040" cy="76212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4078440" y="3549960"/>
                <a:ext cx="635040" cy="762120"/>
                <a:chOff x="4078440" y="3549960"/>
                <a:chExt cx="635040" cy="7621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4078440" y="4197600"/>
                  <a:ext cx="635040" cy="1144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154760" y="3549960"/>
                  <a:ext cx="520560" cy="6350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"/>
              <p:cNvSpPr/>
              <p:nvPr/>
            </p:nvSpPr>
            <p:spPr>
              <a:xfrm>
                <a:off x="4212000" y="3616560"/>
                <a:ext cx="215640" cy="860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40440" y="36547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212000" y="3740400"/>
                <a:ext cx="215640" cy="30816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027680" y="2051280"/>
              <a:ext cx="635040" cy="762120"/>
              <a:chOff x="4027680" y="2051280"/>
              <a:chExt cx="635040" cy="7621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4027680" y="2051280"/>
                <a:ext cx="635040" cy="762120"/>
                <a:chOff x="4027680" y="2051280"/>
                <a:chExt cx="635040" cy="762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027680" y="2698920"/>
                  <a:ext cx="635040" cy="1144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104000" y="2051280"/>
                  <a:ext cx="520560" cy="6350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4161240" y="2117880"/>
                <a:ext cx="215640" cy="860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189680" y="21560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61240" y="2241720"/>
                <a:ext cx="215640" cy="30816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1474920" y="3854880"/>
              <a:ext cx="2679840" cy="6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55040" y="4305600"/>
              <a:ext cx="103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ail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22960" y="4502520"/>
              <a:ext cx="1422360" cy="9903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  <a:effectLst>
              <a:outerShdw dist="17819" dir="2700000" blurRad="0" rotWithShape="0">
                <a:srgbClr val="606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05720" y="4502520"/>
              <a:ext cx="0" cy="9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22960" y="4626360"/>
              <a:ext cx="139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22960" y="4799160"/>
              <a:ext cx="139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22960" y="4972320"/>
              <a:ext cx="139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22960" y="5143680"/>
              <a:ext cx="139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22960" y="5316840"/>
              <a:ext cx="139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22960" y="5403960"/>
              <a:ext cx="139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22960" y="5490000"/>
              <a:ext cx="139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22960" y="5231160"/>
              <a:ext cx="139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22960" y="5058000"/>
              <a:ext cx="139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22960" y="4884840"/>
              <a:ext cx="139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22960" y="4540680"/>
              <a:ext cx="139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22960" y="4712040"/>
              <a:ext cx="139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64200" y="4169160"/>
              <a:ext cx="74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Mail Ali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52880" y="4102200"/>
              <a:ext cx="916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Local Ac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ccou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052880" y="4832640"/>
              <a:ext cx="635040" cy="762120"/>
              <a:chOff x="4052880" y="4832640"/>
              <a:chExt cx="635040" cy="76212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4052880" y="4832640"/>
                <a:ext cx="635040" cy="762120"/>
                <a:chOff x="4052880" y="4832640"/>
                <a:chExt cx="635040" cy="762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052880" y="5480280"/>
                  <a:ext cx="635040" cy="1144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129200" y="4832640"/>
                  <a:ext cx="520560" cy="63504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4186440" y="4899240"/>
                <a:ext cx="215640" cy="860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214880" y="4937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86440" y="5023080"/>
                <a:ext cx="215640" cy="30816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3902760" y="5562720"/>
              <a:ext cx="103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Second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ail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79840" y="4515120"/>
              <a:ext cx="2222280" cy="419040"/>
            </a:xfrm>
            <a:prstGeom prst="line">
              <a:avLst/>
            </a:prstGeom>
            <a:ln cap="rnd" w="38160">
              <a:solidFill>
                <a:srgbClr val="74767a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85480" y="3986640"/>
              <a:ext cx="1710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Inbound Mail deliver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17080" y="4672440"/>
              <a:ext cx="698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Backu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865400" y="2927520"/>
              <a:ext cx="24512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56520" y="3135600"/>
              <a:ext cx="590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Mai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Cli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50440" y="2921400"/>
              <a:ext cx="1370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OP or IMAP Ac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to Mail Accou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4815000" y="2216160"/>
              <a:ext cx="24256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32720" y="2032200"/>
              <a:ext cx="14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Outgoing Mail 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98360" y="2857680"/>
              <a:ext cx="1325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utbound M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512720" y="2368800"/>
              <a:ext cx="2552760" cy="571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77360" y="2741760"/>
              <a:ext cx="123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Outbound Mai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i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er mailbox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 / IMAP access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as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i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TP relay for outbound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ary MX for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 List management for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NS Servi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ing Primary Domain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ary DNS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 Forwa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eb Cach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oved fetch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P cost re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tual web servers (virtual domai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x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ing advertisements on the web 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ch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26680" y="2593800"/>
            <a:ext cx="7257240" cy="3197160"/>
            <a:chOff x="526680" y="2593800"/>
            <a:chExt cx="7257240" cy="3197160"/>
          </a:xfrm>
        </p:grpSpPr>
        <p:grpSp>
          <p:nvGrpSpPr>
            <p:cNvPr id="167" name=""/>
            <p:cNvGrpSpPr/>
            <p:nvPr/>
          </p:nvGrpSpPr>
          <p:grpSpPr>
            <a:xfrm>
              <a:off x="888840" y="2987280"/>
              <a:ext cx="381240" cy="488880"/>
              <a:chOff x="888840" y="2987280"/>
              <a:chExt cx="381240" cy="488880"/>
            </a:xfrm>
          </p:grpSpPr>
          <p:sp>
            <p:nvSpPr>
              <p:cNvPr id="168" name=""/>
              <p:cNvSpPr/>
              <p:nvPr/>
            </p:nvSpPr>
            <p:spPr>
              <a:xfrm>
                <a:off x="888840" y="3323880"/>
                <a:ext cx="381240" cy="15228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88840" y="2987280"/>
                <a:ext cx="381240" cy="30492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17640" y="3012840"/>
                <a:ext cx="304560" cy="237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36720" y="3034800"/>
                <a:ext cx="507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33480" y="3034800"/>
                <a:ext cx="0" cy="32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851040" y="4663800"/>
              <a:ext cx="380880" cy="488880"/>
              <a:chOff x="851040" y="4663800"/>
              <a:chExt cx="380880" cy="488880"/>
            </a:xfrm>
          </p:grpSpPr>
          <p:sp>
            <p:nvSpPr>
              <p:cNvPr id="174" name=""/>
              <p:cNvSpPr/>
              <p:nvPr/>
            </p:nvSpPr>
            <p:spPr>
              <a:xfrm>
                <a:off x="851040" y="5000400"/>
                <a:ext cx="380880" cy="15228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51040" y="4663800"/>
                <a:ext cx="380880" cy="30492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9480" y="4689360"/>
                <a:ext cx="304200" cy="237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98560" y="4711320"/>
                <a:ext cx="50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5320" y="4711320"/>
                <a:ext cx="0" cy="32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1422360" y="3108240"/>
              <a:ext cx="233676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3911760" y="3222360"/>
              <a:ext cx="507960" cy="558720"/>
              <a:chOff x="3911760" y="3222360"/>
              <a:chExt cx="507960" cy="55872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3911760" y="3222360"/>
                <a:ext cx="507960" cy="558720"/>
                <a:chOff x="3911760" y="3222360"/>
                <a:chExt cx="507960" cy="558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911760" y="3697200"/>
                  <a:ext cx="507960" cy="838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972600" y="3222360"/>
                  <a:ext cx="416160" cy="4654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4018320" y="3270960"/>
                <a:ext cx="172440" cy="630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041360" y="3299040"/>
                <a:ext cx="12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018320" y="3361680"/>
                <a:ext cx="172440" cy="22572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rot="466800">
              <a:off x="1478880" y="3025440"/>
              <a:ext cx="22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GET www.stuff.isp/page.ht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05720" y="3819240"/>
              <a:ext cx="507960" cy="558720"/>
              <a:chOff x="6705720" y="3819240"/>
              <a:chExt cx="507960" cy="55872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6705720" y="3819240"/>
                <a:ext cx="507960" cy="558720"/>
                <a:chOff x="6705720" y="3819240"/>
                <a:chExt cx="507960" cy="5587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705720" y="4294080"/>
                  <a:ext cx="507960" cy="838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766560" y="3819240"/>
                  <a:ext cx="416160" cy="4654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6812280" y="3867840"/>
                <a:ext cx="172440" cy="63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35320" y="3895920"/>
                <a:ext cx="12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812280" y="3958560"/>
                <a:ext cx="172440" cy="22572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4699080" y="3565440"/>
              <a:ext cx="1854000" cy="40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24720" y="3419280"/>
              <a:ext cx="115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www.stuff.i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49560" y="2720880"/>
              <a:ext cx="61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696000">
              <a:off x="4539960" y="3533400"/>
              <a:ext cx="22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GET www.stuff.isp/page.ht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4054320" y="3682800"/>
              <a:ext cx="282600" cy="393120"/>
              <a:chOff x="4054320" y="3682800"/>
              <a:chExt cx="282600" cy="393120"/>
            </a:xfrm>
          </p:grpSpPr>
          <p:sp>
            <p:nvSpPr>
              <p:cNvPr id="200" name=""/>
              <p:cNvSpPr/>
              <p:nvPr/>
            </p:nvSpPr>
            <p:spPr>
              <a:xfrm>
                <a:off x="4056840" y="3965400"/>
                <a:ext cx="280080" cy="11052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054320" y="3741480"/>
                <a:ext cx="282600" cy="28476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055400" y="3682800"/>
                <a:ext cx="280080" cy="110520"/>
              </a:xfrm>
              <a:prstGeom prst="ellipse">
                <a:avLst/>
              </a:prstGeom>
              <a:solidFill>
                <a:srgbClr val="cfcf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4055400" y="3738600"/>
                <a:ext cx="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4336920" y="3743640"/>
                <a:ext cx="0" cy="28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1409760" y="4822560"/>
              <a:ext cx="233676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3898800" y="4937040"/>
              <a:ext cx="507960" cy="558720"/>
              <a:chOff x="3898800" y="4937040"/>
              <a:chExt cx="507960" cy="55872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3898800" y="4937040"/>
                <a:ext cx="507960" cy="558720"/>
                <a:chOff x="3898800" y="4937040"/>
                <a:chExt cx="507960" cy="5587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898800" y="5411880"/>
                  <a:ext cx="507960" cy="838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59640" y="4937040"/>
                  <a:ext cx="416160" cy="4654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4005360" y="4985640"/>
                <a:ext cx="172440" cy="630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28400" y="5013720"/>
                <a:ext cx="12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005360" y="5076360"/>
                <a:ext cx="172440" cy="22572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rot="466800">
              <a:off x="1428120" y="4740120"/>
              <a:ext cx="22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GET www.stuff.isp/page.ht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36600" y="4435200"/>
              <a:ext cx="61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4041720" y="5397120"/>
              <a:ext cx="282600" cy="393840"/>
              <a:chOff x="4041720" y="5397120"/>
              <a:chExt cx="282600" cy="393840"/>
            </a:xfrm>
          </p:grpSpPr>
          <p:sp>
            <p:nvSpPr>
              <p:cNvPr id="216" name=""/>
              <p:cNvSpPr/>
              <p:nvPr/>
            </p:nvSpPr>
            <p:spPr>
              <a:xfrm>
                <a:off x="4044240" y="5680080"/>
                <a:ext cx="280080" cy="11088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041720" y="5455800"/>
                <a:ext cx="282600" cy="28512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042800" y="5397120"/>
                <a:ext cx="280080" cy="110880"/>
              </a:xfrm>
              <a:prstGeom prst="ellipse">
                <a:avLst/>
              </a:prstGeom>
              <a:solidFill>
                <a:srgbClr val="cfcf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4042800" y="5452920"/>
                <a:ext cx="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4324320" y="5457600"/>
                <a:ext cx="0" cy="28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552600" y="2593800"/>
              <a:ext cx="293040" cy="314280"/>
              <a:chOff x="552600" y="2593800"/>
              <a:chExt cx="293040" cy="314280"/>
            </a:xfrm>
          </p:grpSpPr>
          <p:sp>
            <p:nvSpPr>
              <p:cNvPr id="222" name=""/>
              <p:cNvSpPr/>
              <p:nvPr/>
            </p:nvSpPr>
            <p:spPr>
              <a:xfrm>
                <a:off x="552600" y="2616120"/>
                <a:ext cx="291960" cy="291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2680" y="2593800"/>
                <a:ext cx="28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526680" y="4260600"/>
              <a:ext cx="291960" cy="311040"/>
              <a:chOff x="526680" y="4260600"/>
              <a:chExt cx="291960" cy="311040"/>
            </a:xfrm>
          </p:grpSpPr>
          <p:sp>
            <p:nvSpPr>
              <p:cNvPr id="225" name=""/>
              <p:cNvSpPr/>
              <p:nvPr/>
            </p:nvSpPr>
            <p:spPr>
              <a:xfrm>
                <a:off x="526680" y="4279680"/>
                <a:ext cx="291960" cy="291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32440" y="4260600"/>
                <a:ext cx="28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4622760" y="3882960"/>
              <a:ext cx="1854360" cy="40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71600" y="3336840"/>
              <a:ext cx="233676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09760" y="5038560"/>
              <a:ext cx="233676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rge Scale Cach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01680" y="1619280"/>
            <a:ext cx="8313840" cy="4628520"/>
            <a:chOff x="301680" y="1619280"/>
            <a:chExt cx="8313840" cy="4628520"/>
          </a:xfrm>
        </p:grpSpPr>
        <p:grpSp>
          <p:nvGrpSpPr>
            <p:cNvPr id="232" name=""/>
            <p:cNvGrpSpPr/>
            <p:nvPr/>
          </p:nvGrpSpPr>
          <p:grpSpPr>
            <a:xfrm>
              <a:off x="2222640" y="2463840"/>
              <a:ext cx="4660560" cy="3783960"/>
              <a:chOff x="2222640" y="2463840"/>
              <a:chExt cx="4660560" cy="3783960"/>
            </a:xfrm>
          </p:grpSpPr>
          <p:sp>
            <p:nvSpPr>
              <p:cNvPr id="233" name=""/>
              <p:cNvSpPr/>
              <p:nvPr/>
            </p:nvSpPr>
            <p:spPr>
              <a:xfrm>
                <a:off x="2222640" y="3251880"/>
                <a:ext cx="2079360" cy="204984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652840" y="4197960"/>
                <a:ext cx="2079360" cy="204984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226320" y="2463840"/>
                <a:ext cx="2079720" cy="204984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58720" y="2621520"/>
                <a:ext cx="2079360" cy="204912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800160" y="3724920"/>
                <a:ext cx="2079360" cy="204984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086720" y="4040640"/>
                <a:ext cx="2079720" cy="204912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03840" y="3409560"/>
                <a:ext cx="2079360" cy="204984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732200" y="4040640"/>
                <a:ext cx="2079720" cy="204912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 flipV="1">
              <a:off x="6362640" y="4559400"/>
              <a:ext cx="119376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25680" y="2197080"/>
              <a:ext cx="132084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1160" y="4178520"/>
              <a:ext cx="190512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2565360" y="4114800"/>
              <a:ext cx="554040" cy="361800"/>
              <a:chOff x="2565360" y="4114800"/>
              <a:chExt cx="554040" cy="361800"/>
            </a:xfrm>
          </p:grpSpPr>
          <p:sp>
            <p:nvSpPr>
              <p:cNvPr id="245" name=""/>
              <p:cNvSpPr/>
              <p:nvPr/>
            </p:nvSpPr>
            <p:spPr>
              <a:xfrm>
                <a:off x="2565720" y="4219560"/>
                <a:ext cx="551160" cy="257040"/>
              </a:xfrm>
              <a:prstGeom prst="ellipse">
                <a:avLst/>
              </a:prstGeom>
              <a:gradFill rotWithShape="0">
                <a:gsLst>
                  <a:gs pos="0">
                    <a:srgbClr val="413c36"/>
                  </a:gs>
                  <a:gs pos="50000">
                    <a:srgbClr val="5e574e"/>
                  </a:gs>
                  <a:gs pos="100000">
                    <a:srgbClr val="413c36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566440" y="4251240"/>
                <a:ext cx="552240" cy="99000"/>
              </a:xfrm>
              <a:prstGeom prst="rect">
                <a:avLst/>
              </a:prstGeom>
              <a:gradFill rotWithShape="0">
                <a:gsLst>
                  <a:gs pos="0">
                    <a:srgbClr val="3d3933"/>
                  </a:gs>
                  <a:gs pos="50000">
                    <a:srgbClr val="5e574e"/>
                  </a:gs>
                  <a:gs pos="100000">
                    <a:srgbClr val="3d39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65720" y="4114800"/>
                <a:ext cx="551160" cy="257760"/>
              </a:xfrm>
              <a:prstGeom prst="ellipse">
                <a:avLst/>
              </a:prstGeom>
              <a:solidFill>
                <a:srgbClr val="5e574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585160" y="4172040"/>
                <a:ext cx="221040" cy="12636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8" y="48"/>
                    </a:moveTo>
                    <a:lnTo>
                      <a:pt x="208" y="48"/>
                    </a:lnTo>
                    <a:lnTo>
                      <a:pt x="216" y="0"/>
                    </a:lnTo>
                    <a:lnTo>
                      <a:pt x="327" y="88"/>
                    </a:lnTo>
                    <a:lnTo>
                      <a:pt x="192" y="175"/>
                    </a:lnTo>
                    <a:lnTo>
                      <a:pt x="192" y="135"/>
                    </a:lnTo>
                    <a:lnTo>
                      <a:pt x="0" y="135"/>
                    </a:lnTo>
                    <a:lnTo>
                      <a:pt x="0" y="88"/>
                    </a:lnTo>
                    <a:lnTo>
                      <a:pt x="8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870280" y="4176360"/>
                <a:ext cx="236160" cy="12636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312" y="48"/>
                    </a:moveTo>
                    <a:lnTo>
                      <a:pt x="120" y="48"/>
                    </a:lnTo>
                    <a:lnTo>
                      <a:pt x="112" y="0"/>
                    </a:lnTo>
                    <a:lnTo>
                      <a:pt x="0" y="88"/>
                    </a:lnTo>
                    <a:lnTo>
                      <a:pt x="136" y="175"/>
                    </a:lnTo>
                    <a:lnTo>
                      <a:pt x="128" y="127"/>
                    </a:lnTo>
                    <a:lnTo>
                      <a:pt x="327" y="127"/>
                    </a:lnTo>
                    <a:lnTo>
                      <a:pt x="312" y="40"/>
                    </a:lnTo>
                    <a:lnTo>
                      <a:pt x="312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60840" y="4258440"/>
                <a:ext cx="167760" cy="104040"/>
              </a:xfrm>
              <a:custGeom>
                <a:avLst/>
                <a:gdLst/>
                <a:ahLst/>
                <a:rect l="l" t="t" r="r" b="b"/>
                <a:pathLst>
                  <a:path w="233" h="145">
                    <a:moveTo>
                      <a:pt x="80" y="0"/>
                    </a:moveTo>
                    <a:lnTo>
                      <a:pt x="80" y="72"/>
                    </a:lnTo>
                    <a:lnTo>
                      <a:pt x="0" y="72"/>
                    </a:lnTo>
                    <a:lnTo>
                      <a:pt x="112" y="144"/>
                    </a:lnTo>
                    <a:lnTo>
                      <a:pt x="232" y="72"/>
                    </a:lnTo>
                    <a:lnTo>
                      <a:pt x="152" y="72"/>
                    </a:lnTo>
                    <a:lnTo>
                      <a:pt x="152" y="0"/>
                    </a:lnTo>
                    <a:lnTo>
                      <a:pt x="120" y="0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760840" y="4118040"/>
                <a:ext cx="167760" cy="109800"/>
              </a:xfrm>
              <a:custGeom>
                <a:avLst/>
                <a:gdLst/>
                <a:ahLst/>
                <a:rect l="l" t="t" r="r" b="b"/>
                <a:pathLst>
                  <a:path w="233" h="153">
                    <a:moveTo>
                      <a:pt x="152" y="152"/>
                    </a:moveTo>
                    <a:lnTo>
                      <a:pt x="152" y="72"/>
                    </a:lnTo>
                    <a:lnTo>
                      <a:pt x="232" y="72"/>
                    </a:lnTo>
                    <a:lnTo>
                      <a:pt x="112" y="0"/>
                    </a:lnTo>
                    <a:lnTo>
                      <a:pt x="0" y="72"/>
                    </a:lnTo>
                    <a:lnTo>
                      <a:pt x="72" y="72"/>
                    </a:lnTo>
                    <a:lnTo>
                      <a:pt x="72" y="152"/>
                    </a:lnTo>
                    <a:lnTo>
                      <a:pt x="112" y="152"/>
                    </a:lnTo>
                    <a:lnTo>
                      <a:pt x="152" y="15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565360" y="4240440"/>
                <a:ext cx="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119400" y="4244040"/>
                <a:ext cx="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783600" y="5442120"/>
              <a:ext cx="112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SP 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301680" y="3524400"/>
              <a:ext cx="1849680" cy="1432080"/>
              <a:chOff x="301680" y="3524400"/>
              <a:chExt cx="1849680" cy="143208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851040" y="3841920"/>
                <a:ext cx="380880" cy="488880"/>
                <a:chOff x="851040" y="3841920"/>
                <a:chExt cx="380880" cy="48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851040" y="4178520"/>
                  <a:ext cx="380880" cy="15228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51040" y="3841920"/>
                  <a:ext cx="380880" cy="30492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79480" y="3867480"/>
                  <a:ext cx="304200" cy="237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98560" y="3889440"/>
                  <a:ext cx="50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95320" y="3889440"/>
                  <a:ext cx="0" cy="32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301680" y="4680000"/>
                <a:ext cx="184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cache server 172.16.0.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76240" y="4368960"/>
                <a:ext cx="419040" cy="3556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96680" y="3524400"/>
                <a:ext cx="60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3505320" y="2641680"/>
              <a:ext cx="554040" cy="361800"/>
              <a:chOff x="3505320" y="2641680"/>
              <a:chExt cx="554040" cy="361800"/>
            </a:xfrm>
          </p:grpSpPr>
          <p:sp>
            <p:nvSpPr>
              <p:cNvPr id="266" name=""/>
              <p:cNvSpPr/>
              <p:nvPr/>
            </p:nvSpPr>
            <p:spPr>
              <a:xfrm>
                <a:off x="3505680" y="2746440"/>
                <a:ext cx="551160" cy="257040"/>
              </a:xfrm>
              <a:prstGeom prst="ellipse">
                <a:avLst/>
              </a:prstGeom>
              <a:gradFill rotWithShape="0">
                <a:gsLst>
                  <a:gs pos="0">
                    <a:srgbClr val="413c36"/>
                  </a:gs>
                  <a:gs pos="50000">
                    <a:srgbClr val="5e574e"/>
                  </a:gs>
                  <a:gs pos="100000">
                    <a:srgbClr val="413c36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506400" y="2778120"/>
                <a:ext cx="552240" cy="99000"/>
              </a:xfrm>
              <a:prstGeom prst="rect">
                <a:avLst/>
              </a:prstGeom>
              <a:gradFill rotWithShape="0">
                <a:gsLst>
                  <a:gs pos="0">
                    <a:srgbClr val="3d3933"/>
                  </a:gs>
                  <a:gs pos="50000">
                    <a:srgbClr val="5e574e"/>
                  </a:gs>
                  <a:gs pos="100000">
                    <a:srgbClr val="3d39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505680" y="2641680"/>
                <a:ext cx="551160" cy="257760"/>
              </a:xfrm>
              <a:prstGeom prst="ellipse">
                <a:avLst/>
              </a:prstGeom>
              <a:solidFill>
                <a:srgbClr val="5e574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525120" y="2698920"/>
                <a:ext cx="221040" cy="12636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8" y="48"/>
                    </a:moveTo>
                    <a:lnTo>
                      <a:pt x="208" y="48"/>
                    </a:lnTo>
                    <a:lnTo>
                      <a:pt x="216" y="0"/>
                    </a:lnTo>
                    <a:lnTo>
                      <a:pt x="327" y="88"/>
                    </a:lnTo>
                    <a:lnTo>
                      <a:pt x="192" y="175"/>
                    </a:lnTo>
                    <a:lnTo>
                      <a:pt x="192" y="135"/>
                    </a:lnTo>
                    <a:lnTo>
                      <a:pt x="0" y="135"/>
                    </a:lnTo>
                    <a:lnTo>
                      <a:pt x="0" y="88"/>
                    </a:lnTo>
                    <a:lnTo>
                      <a:pt x="8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810240" y="2703240"/>
                <a:ext cx="236160" cy="12636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312" y="48"/>
                    </a:moveTo>
                    <a:lnTo>
                      <a:pt x="120" y="48"/>
                    </a:lnTo>
                    <a:lnTo>
                      <a:pt x="112" y="0"/>
                    </a:lnTo>
                    <a:lnTo>
                      <a:pt x="0" y="88"/>
                    </a:lnTo>
                    <a:lnTo>
                      <a:pt x="136" y="175"/>
                    </a:lnTo>
                    <a:lnTo>
                      <a:pt x="128" y="127"/>
                    </a:lnTo>
                    <a:lnTo>
                      <a:pt x="327" y="127"/>
                    </a:lnTo>
                    <a:lnTo>
                      <a:pt x="312" y="40"/>
                    </a:lnTo>
                    <a:lnTo>
                      <a:pt x="312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700800" y="2784960"/>
                <a:ext cx="167760" cy="104040"/>
              </a:xfrm>
              <a:custGeom>
                <a:avLst/>
                <a:gdLst/>
                <a:ahLst/>
                <a:rect l="l" t="t" r="r" b="b"/>
                <a:pathLst>
                  <a:path w="233" h="145">
                    <a:moveTo>
                      <a:pt x="80" y="0"/>
                    </a:moveTo>
                    <a:lnTo>
                      <a:pt x="80" y="72"/>
                    </a:lnTo>
                    <a:lnTo>
                      <a:pt x="0" y="72"/>
                    </a:lnTo>
                    <a:lnTo>
                      <a:pt x="112" y="144"/>
                    </a:lnTo>
                    <a:lnTo>
                      <a:pt x="232" y="72"/>
                    </a:lnTo>
                    <a:lnTo>
                      <a:pt x="152" y="72"/>
                    </a:lnTo>
                    <a:lnTo>
                      <a:pt x="152" y="0"/>
                    </a:lnTo>
                    <a:lnTo>
                      <a:pt x="120" y="0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00800" y="2644920"/>
                <a:ext cx="167760" cy="109800"/>
              </a:xfrm>
              <a:custGeom>
                <a:avLst/>
                <a:gdLst/>
                <a:ahLst/>
                <a:rect l="l" t="t" r="r" b="b"/>
                <a:pathLst>
                  <a:path w="233" h="153">
                    <a:moveTo>
                      <a:pt x="152" y="152"/>
                    </a:moveTo>
                    <a:lnTo>
                      <a:pt x="152" y="72"/>
                    </a:lnTo>
                    <a:lnTo>
                      <a:pt x="232" y="72"/>
                    </a:lnTo>
                    <a:lnTo>
                      <a:pt x="112" y="0"/>
                    </a:lnTo>
                    <a:lnTo>
                      <a:pt x="0" y="72"/>
                    </a:lnTo>
                    <a:lnTo>
                      <a:pt x="72" y="72"/>
                    </a:lnTo>
                    <a:lnTo>
                      <a:pt x="72" y="152"/>
                    </a:lnTo>
                    <a:lnTo>
                      <a:pt x="112" y="152"/>
                    </a:lnTo>
                    <a:lnTo>
                      <a:pt x="152" y="15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505320" y="2767320"/>
                <a:ext cx="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59360" y="2770920"/>
                <a:ext cx="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6045120" y="4610160"/>
              <a:ext cx="554040" cy="361800"/>
              <a:chOff x="6045120" y="4610160"/>
              <a:chExt cx="554040" cy="361800"/>
            </a:xfrm>
          </p:grpSpPr>
          <p:sp>
            <p:nvSpPr>
              <p:cNvPr id="276" name=""/>
              <p:cNvSpPr/>
              <p:nvPr/>
            </p:nvSpPr>
            <p:spPr>
              <a:xfrm>
                <a:off x="6045480" y="4714920"/>
                <a:ext cx="551160" cy="257040"/>
              </a:xfrm>
              <a:prstGeom prst="ellipse">
                <a:avLst/>
              </a:prstGeom>
              <a:gradFill rotWithShape="0">
                <a:gsLst>
                  <a:gs pos="0">
                    <a:srgbClr val="413c36"/>
                  </a:gs>
                  <a:gs pos="50000">
                    <a:srgbClr val="5e574e"/>
                  </a:gs>
                  <a:gs pos="100000">
                    <a:srgbClr val="413c36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046200" y="4746600"/>
                <a:ext cx="552240" cy="99000"/>
              </a:xfrm>
              <a:prstGeom prst="rect">
                <a:avLst/>
              </a:prstGeom>
              <a:gradFill rotWithShape="0">
                <a:gsLst>
                  <a:gs pos="0">
                    <a:srgbClr val="3d3933"/>
                  </a:gs>
                  <a:gs pos="50000">
                    <a:srgbClr val="5e574e"/>
                  </a:gs>
                  <a:gs pos="100000">
                    <a:srgbClr val="3d39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045480" y="4610160"/>
                <a:ext cx="551160" cy="257760"/>
              </a:xfrm>
              <a:prstGeom prst="ellipse">
                <a:avLst/>
              </a:prstGeom>
              <a:solidFill>
                <a:srgbClr val="5e574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064920" y="4667400"/>
                <a:ext cx="221040" cy="12636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8" y="48"/>
                    </a:moveTo>
                    <a:lnTo>
                      <a:pt x="208" y="48"/>
                    </a:lnTo>
                    <a:lnTo>
                      <a:pt x="216" y="0"/>
                    </a:lnTo>
                    <a:lnTo>
                      <a:pt x="327" y="88"/>
                    </a:lnTo>
                    <a:lnTo>
                      <a:pt x="192" y="175"/>
                    </a:lnTo>
                    <a:lnTo>
                      <a:pt x="192" y="135"/>
                    </a:lnTo>
                    <a:lnTo>
                      <a:pt x="0" y="135"/>
                    </a:lnTo>
                    <a:lnTo>
                      <a:pt x="0" y="88"/>
                    </a:lnTo>
                    <a:lnTo>
                      <a:pt x="8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350040" y="4671720"/>
                <a:ext cx="236160" cy="12636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312" y="48"/>
                    </a:moveTo>
                    <a:lnTo>
                      <a:pt x="120" y="48"/>
                    </a:lnTo>
                    <a:lnTo>
                      <a:pt x="112" y="0"/>
                    </a:lnTo>
                    <a:lnTo>
                      <a:pt x="0" y="88"/>
                    </a:lnTo>
                    <a:lnTo>
                      <a:pt x="136" y="175"/>
                    </a:lnTo>
                    <a:lnTo>
                      <a:pt x="128" y="127"/>
                    </a:lnTo>
                    <a:lnTo>
                      <a:pt x="327" y="127"/>
                    </a:lnTo>
                    <a:lnTo>
                      <a:pt x="312" y="40"/>
                    </a:lnTo>
                    <a:lnTo>
                      <a:pt x="312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40600" y="4753800"/>
                <a:ext cx="167760" cy="104040"/>
              </a:xfrm>
              <a:custGeom>
                <a:avLst/>
                <a:gdLst/>
                <a:ahLst/>
                <a:rect l="l" t="t" r="r" b="b"/>
                <a:pathLst>
                  <a:path w="233" h="145">
                    <a:moveTo>
                      <a:pt x="80" y="0"/>
                    </a:moveTo>
                    <a:lnTo>
                      <a:pt x="80" y="72"/>
                    </a:lnTo>
                    <a:lnTo>
                      <a:pt x="0" y="72"/>
                    </a:lnTo>
                    <a:lnTo>
                      <a:pt x="112" y="144"/>
                    </a:lnTo>
                    <a:lnTo>
                      <a:pt x="232" y="72"/>
                    </a:lnTo>
                    <a:lnTo>
                      <a:pt x="152" y="72"/>
                    </a:lnTo>
                    <a:lnTo>
                      <a:pt x="152" y="0"/>
                    </a:lnTo>
                    <a:lnTo>
                      <a:pt x="120" y="0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240600" y="4613400"/>
                <a:ext cx="167760" cy="109800"/>
              </a:xfrm>
              <a:custGeom>
                <a:avLst/>
                <a:gdLst/>
                <a:ahLst/>
                <a:rect l="l" t="t" r="r" b="b"/>
                <a:pathLst>
                  <a:path w="233" h="153">
                    <a:moveTo>
                      <a:pt x="152" y="152"/>
                    </a:moveTo>
                    <a:lnTo>
                      <a:pt x="152" y="72"/>
                    </a:lnTo>
                    <a:lnTo>
                      <a:pt x="232" y="72"/>
                    </a:lnTo>
                    <a:lnTo>
                      <a:pt x="112" y="0"/>
                    </a:lnTo>
                    <a:lnTo>
                      <a:pt x="0" y="72"/>
                    </a:lnTo>
                    <a:lnTo>
                      <a:pt x="72" y="72"/>
                    </a:lnTo>
                    <a:lnTo>
                      <a:pt x="72" y="152"/>
                    </a:lnTo>
                    <a:lnTo>
                      <a:pt x="112" y="152"/>
                    </a:lnTo>
                    <a:lnTo>
                      <a:pt x="152" y="15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45120" y="4735800"/>
                <a:ext cx="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99160" y="4739400"/>
                <a:ext cx="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4591080" y="2938680"/>
              <a:ext cx="349200" cy="366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72000" y="2908440"/>
              <a:ext cx="198360" cy="40644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659120" y="3306960"/>
              <a:ext cx="11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648320" y="293868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4025880" y="2997360"/>
              <a:ext cx="507960" cy="558720"/>
              <a:chOff x="4025880" y="2997360"/>
              <a:chExt cx="507960" cy="55872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4025880" y="2997360"/>
                <a:ext cx="507960" cy="558720"/>
                <a:chOff x="4025880" y="2997360"/>
                <a:chExt cx="507960" cy="5587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4025880" y="3472200"/>
                  <a:ext cx="507960" cy="838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086720" y="2997360"/>
                  <a:ext cx="416160" cy="4654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4132440" y="3045960"/>
                <a:ext cx="172440" cy="630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155480" y="3074040"/>
                <a:ext cx="12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132440" y="3136680"/>
                <a:ext cx="172440" cy="22572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4127040" y="2584440"/>
              <a:ext cx="61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4168800" y="3457800"/>
              <a:ext cx="282600" cy="393120"/>
              <a:chOff x="4168800" y="3457800"/>
              <a:chExt cx="282600" cy="393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171320" y="3740400"/>
                <a:ext cx="280080" cy="11052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68800" y="3516480"/>
                <a:ext cx="282600" cy="28476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69880" y="3457800"/>
                <a:ext cx="280080" cy="110520"/>
              </a:xfrm>
              <a:prstGeom prst="ellipse">
                <a:avLst/>
              </a:prstGeom>
              <a:solidFill>
                <a:srgbClr val="cfcf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4169880" y="3513600"/>
                <a:ext cx="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4451400" y="3518640"/>
                <a:ext cx="0" cy="28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4634640" y="325764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72.16.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4" name=""/>
            <p:cNvCxnSpPr>
              <a:stCxn id="266" idx="4"/>
              <a:endCxn id="295" idx="1"/>
            </p:cNvCxnSpPr>
            <p:nvPr/>
          </p:nvCxnSpPr>
          <p:spPr>
            <a:xfrm flipH="1" rot="16200000">
              <a:off x="3832560" y="2950920"/>
              <a:ext cx="246960" cy="351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5" name=""/>
            <p:cNvSpPr/>
            <p:nvPr/>
          </p:nvSpPr>
          <p:spPr>
            <a:xfrm>
              <a:off x="3473280" y="4614840"/>
              <a:ext cx="349560" cy="36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454560" y="4584960"/>
              <a:ext cx="198360" cy="40608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541320" y="4983120"/>
              <a:ext cx="11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530520" y="461484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2908440" y="4673880"/>
              <a:ext cx="507960" cy="558720"/>
              <a:chOff x="2908440" y="4673880"/>
              <a:chExt cx="507960" cy="55872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2908440" y="4673880"/>
                <a:ext cx="507960" cy="558720"/>
                <a:chOff x="2908440" y="4673880"/>
                <a:chExt cx="507960" cy="5587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2908440" y="5148720"/>
                  <a:ext cx="507960" cy="838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969280" y="4673880"/>
                  <a:ext cx="416160" cy="4654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3015000" y="4722480"/>
                <a:ext cx="172440" cy="63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38040" y="4750560"/>
                <a:ext cx="12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15000" y="4813200"/>
                <a:ext cx="172440" cy="22572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3009600" y="4260960"/>
              <a:ext cx="61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3051000" y="5133960"/>
              <a:ext cx="282600" cy="393840"/>
              <a:chOff x="3051000" y="5133960"/>
              <a:chExt cx="282600" cy="393840"/>
            </a:xfrm>
          </p:grpSpPr>
          <p:sp>
            <p:nvSpPr>
              <p:cNvPr id="318" name=""/>
              <p:cNvSpPr/>
              <p:nvPr/>
            </p:nvSpPr>
            <p:spPr>
              <a:xfrm>
                <a:off x="3053520" y="5416920"/>
                <a:ext cx="280080" cy="11088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51000" y="5192640"/>
                <a:ext cx="282600" cy="28512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52080" y="5133960"/>
                <a:ext cx="280080" cy="110880"/>
              </a:xfrm>
              <a:prstGeom prst="ellipse">
                <a:avLst/>
              </a:prstGeom>
              <a:solidFill>
                <a:srgbClr val="cfcf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3052080" y="5189760"/>
                <a:ext cx="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3333600" y="5194440"/>
                <a:ext cx="0" cy="28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3516840" y="493416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72.16.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48200" y="5085000"/>
              <a:ext cx="349560" cy="366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29480" y="5054760"/>
              <a:ext cx="198360" cy="40644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916240" y="5453280"/>
              <a:ext cx="11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5905440" y="508500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5283360" y="5143680"/>
              <a:ext cx="507960" cy="558720"/>
              <a:chOff x="5283360" y="5143680"/>
              <a:chExt cx="507960" cy="55872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5283360" y="5143680"/>
                <a:ext cx="507960" cy="558720"/>
                <a:chOff x="5283360" y="5143680"/>
                <a:chExt cx="507960" cy="5587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5283360" y="5618520"/>
                  <a:ext cx="507960" cy="838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344200" y="5143680"/>
                  <a:ext cx="416160" cy="46548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389920" y="5192280"/>
                <a:ext cx="172440" cy="630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412960" y="5220360"/>
                <a:ext cx="12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389920" y="5283000"/>
                <a:ext cx="172440" cy="22572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5384520" y="4730760"/>
              <a:ext cx="61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5425920" y="5604120"/>
              <a:ext cx="282600" cy="393120"/>
              <a:chOff x="5425920" y="5604120"/>
              <a:chExt cx="282600" cy="393120"/>
            </a:xfrm>
          </p:grpSpPr>
          <p:sp>
            <p:nvSpPr>
              <p:cNvPr id="337" name=""/>
              <p:cNvSpPr/>
              <p:nvPr/>
            </p:nvSpPr>
            <p:spPr>
              <a:xfrm>
                <a:off x="5428440" y="5886720"/>
                <a:ext cx="280080" cy="11052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25920" y="5662800"/>
                <a:ext cx="282600" cy="28476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cfcfcf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427000" y="5604120"/>
                <a:ext cx="280080" cy="110520"/>
              </a:xfrm>
              <a:prstGeom prst="ellipse">
                <a:avLst/>
              </a:prstGeom>
              <a:solidFill>
                <a:srgbClr val="cfcf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5427000" y="5659920"/>
                <a:ext cx="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5708520" y="5664960"/>
                <a:ext cx="0" cy="28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5891760" y="5403960"/>
              <a:ext cx="7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72.16.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3" name=""/>
            <p:cNvCxnSpPr>
              <a:stCxn id="245" idx="4"/>
              <a:endCxn id="315" idx="1"/>
            </p:cNvCxnSpPr>
            <p:nvPr/>
          </p:nvCxnSpPr>
          <p:spPr>
            <a:xfrm flipH="1" rot="16200000">
              <a:off x="2702520" y="4614840"/>
              <a:ext cx="450000" cy="173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4" name=""/>
            <p:cNvCxnSpPr>
              <a:stCxn id="276" idx="4"/>
              <a:endCxn id="334" idx="1"/>
            </p:cNvCxnSpPr>
            <p:nvPr/>
          </p:nvCxnSpPr>
          <p:spPr>
            <a:xfrm rot="5400000">
              <a:off x="5643000" y="4717800"/>
              <a:ext cx="424440" cy="932760"/>
            </a:xfrm>
            <a:prstGeom prst="bentConnector4">
              <a:avLst>
                <a:gd name="adj1" fmla="val -5178"/>
                <a:gd name="adj2" fmla="val 124517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45" name=""/>
            <p:cNvGrpSpPr/>
            <p:nvPr/>
          </p:nvGrpSpPr>
          <p:grpSpPr>
            <a:xfrm>
              <a:off x="1584360" y="1619280"/>
              <a:ext cx="1849680" cy="1432080"/>
              <a:chOff x="1584360" y="1619280"/>
              <a:chExt cx="1849680" cy="143208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2133720" y="1936800"/>
                <a:ext cx="380880" cy="488880"/>
                <a:chOff x="2133720" y="1936800"/>
                <a:chExt cx="380880" cy="4888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2133720" y="2273400"/>
                  <a:ext cx="380880" cy="15228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133720" y="1936800"/>
                  <a:ext cx="380880" cy="30492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162160" y="1962360"/>
                  <a:ext cx="304200" cy="237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181240" y="1984320"/>
                  <a:ext cx="50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178000" y="1984320"/>
                  <a:ext cx="0" cy="32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1584360" y="2774880"/>
                <a:ext cx="184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cache server 172.16.0.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158920" y="2463840"/>
                <a:ext cx="419040" cy="3556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79360" y="1619280"/>
                <a:ext cx="60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6765840" y="3969000"/>
              <a:ext cx="1849680" cy="1432080"/>
              <a:chOff x="6765840" y="3969000"/>
              <a:chExt cx="1849680" cy="143208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7315200" y="4286520"/>
                <a:ext cx="380520" cy="488880"/>
                <a:chOff x="7315200" y="4286520"/>
                <a:chExt cx="380520" cy="4888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7315200" y="4623120"/>
                  <a:ext cx="380520" cy="15228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315200" y="4286520"/>
                  <a:ext cx="380520" cy="30492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343640" y="4312080"/>
                  <a:ext cx="303840" cy="2379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362720" y="4334040"/>
                  <a:ext cx="50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359480" y="4334040"/>
                  <a:ext cx="0" cy="32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6765840" y="5124600"/>
                <a:ext cx="184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cache server 172.16.0.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40400" y="4813560"/>
                <a:ext cx="418680" cy="3556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260480" y="3969000"/>
                <a:ext cx="60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045120" y="2374920"/>
              <a:ext cx="926280" cy="1399680"/>
              <a:chOff x="6045120" y="2374920"/>
              <a:chExt cx="926280" cy="139968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6045120" y="2374920"/>
                <a:ext cx="926280" cy="914760"/>
                <a:chOff x="6045120" y="2374920"/>
                <a:chExt cx="926280" cy="91476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6045120" y="2374920"/>
                  <a:ext cx="926280" cy="914760"/>
                  <a:chOff x="6045120" y="2374920"/>
                  <a:chExt cx="926280" cy="9147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6045120" y="3152520"/>
                    <a:ext cx="926280" cy="13716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6156360" y="2374920"/>
                    <a:ext cx="759240" cy="762480"/>
                  </a:xfrm>
                  <a:prstGeom prst="rect">
                    <a:avLst/>
                  </a:prstGeom>
                  <a:solidFill>
                    <a:srgbClr val="e6e6e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0" name=""/>
                <p:cNvSpPr/>
                <p:nvPr/>
              </p:nvSpPr>
              <p:spPr>
                <a:xfrm>
                  <a:off x="6239880" y="2454840"/>
                  <a:ext cx="314640" cy="10332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281280" y="2500560"/>
                  <a:ext cx="222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239880" y="2603520"/>
                  <a:ext cx="314640" cy="370080"/>
                </a:xfrm>
                <a:prstGeom prst="rect">
                  <a:avLst/>
                </a:prstGeom>
                <a:solidFill>
                  <a:srgbClr val="a2a2a2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6305760" y="3129840"/>
                <a:ext cx="515520" cy="644760"/>
                <a:chOff x="6305760" y="3129840"/>
                <a:chExt cx="515520" cy="64476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6310440" y="3593160"/>
                  <a:ext cx="5108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5f5f"/>
                    </a:gs>
                    <a:gs pos="50000">
                      <a:srgbClr val="cfcfcf"/>
                    </a:gs>
                    <a:gs pos="100000">
                      <a:srgbClr val="5f5f5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305760" y="3225960"/>
                  <a:ext cx="515520" cy="46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5f5f5f"/>
                    </a:gs>
                    <a:gs pos="50000">
                      <a:srgbClr val="cfcfcf"/>
                    </a:gs>
                    <a:gs pos="100000">
                      <a:srgbClr val="5f5f5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307920" y="3129840"/>
                  <a:ext cx="510840" cy="181440"/>
                </a:xfrm>
                <a:prstGeom prst="ellipse">
                  <a:avLst/>
                </a:prstGeom>
                <a:solidFill>
                  <a:srgbClr val="cfcfc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6307920" y="3221640"/>
                  <a:ext cx="0" cy="47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6821280" y="3229920"/>
                  <a:ext cx="0" cy="45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9" name=""/>
            <p:cNvSpPr/>
            <p:nvPr/>
          </p:nvSpPr>
          <p:spPr>
            <a:xfrm flipV="1">
              <a:off x="4457880" y="3467160"/>
              <a:ext cx="185400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327480" y="3555720"/>
              <a:ext cx="2984400" cy="17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715000" y="3619440"/>
              <a:ext cx="609480" cy="21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87680" y="3778200"/>
              <a:ext cx="93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ICP reques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56280" y="1873440"/>
              <a:ext cx="16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ore Cache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1T05:17:42Z</dcterms:created>
  <dc:creator>gih</dc:creator>
  <dc:description/>
  <dc:language>en-US</dc:language>
  <cp:lastModifiedBy>gih</cp:lastModifiedBy>
  <dcterms:modified xsi:type="dcterms:W3CDTF">2000-07-12T10:59:11Z</dcterms:modified>
  <cp:revision>9</cp:revision>
  <dc:subject/>
  <dc:title>Network Servi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my documents\isocwk98\t4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