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902825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C0A-D1B4-4710-A3EF-221A6BC2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69720" y="413064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F5A-CE81-4CF7-B928-C65F312F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58360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9B9-512A-425A-95E9-9F7C8CD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1624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6240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6972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11624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96240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AFE-A5AA-482B-8406-46D0DCE7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E26-9E1E-4250-8F59-C191865B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D133-A669-4769-8C64-B9E397E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43F-3ED9-4A3F-8F0E-E11BB626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0CE-C2C9-4FDB-B526-A9AA6F66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132B-B660-4FE1-B218-355D251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69720" y="456840"/>
            <a:ext cx="841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4A8-3920-4C7C-B712-BB355A75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474-1D46-4E6C-A47A-816C9D0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73A-81BE-4872-BFA8-CE48F03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8360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C32-4C3E-49AF-9363-BF2BC27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62A-033F-4D1E-A31D-2A5441B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69720" y="413064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EC50-F428-4EE9-B2DC-340E35D7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8360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07C-D4DF-41FF-9710-B5108A56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1624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962400" y="198108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6972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11624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962400" y="4130640"/>
            <a:ext cx="271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958-02C8-4BC7-90FC-8AF98A74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0F8-1A02-4D72-A4A1-22BAB171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42C-4E12-4267-8AC1-9851D67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86D-6738-4404-A9ED-5FC63BC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69720" y="456840"/>
            <a:ext cx="841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9AA-5250-44BD-8B0F-77ADDB46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F1D-0BAC-4E72-9400-C875BC9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83600" y="413064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AB0-D075-4A88-A80B-055EE21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83600" y="1981080"/>
            <a:ext cx="4107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69720" y="4130640"/>
            <a:ext cx="841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60F-CE76-4DCB-94C7-6D49987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4680"/>
            <a:ext cx="1151280" cy="6858000"/>
            <a:chOff x="0" y="-4680"/>
            <a:chExt cx="11512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4640" y="-4680"/>
              <a:ext cx="1096560" cy="6857640"/>
              <a:chOff x="44640" y="-4680"/>
              <a:chExt cx="109656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4720" y="-4680"/>
                <a:ext cx="107280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4720" y="1692720"/>
                <a:ext cx="107280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4720" y="1287000"/>
                <a:ext cx="1072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4720" y="149040"/>
                <a:ext cx="107280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4720" y="984600"/>
                <a:ext cx="10728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4720" y="680040"/>
                <a:ext cx="107280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4720" y="371880"/>
                <a:ext cx="10864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6080" y="3939480"/>
                <a:ext cx="10728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6080" y="3533760"/>
                <a:ext cx="1072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6080" y="2395080"/>
                <a:ext cx="107280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6080" y="3230280"/>
                <a:ext cx="107280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6080" y="2926440"/>
                <a:ext cx="107280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6080" y="2617560"/>
                <a:ext cx="10864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4720" y="4970520"/>
                <a:ext cx="107280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4720" y="4564440"/>
                <a:ext cx="107280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6080" y="5672520"/>
                <a:ext cx="107280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408600" y="6142680"/>
                <a:ext cx="345960" cy="10746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6080" y="6204600"/>
                <a:ext cx="107280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6080" y="5895000"/>
                <a:ext cx="108648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074400" y="3070080"/>
              <a:ext cx="6858000" cy="7084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439360" y="3260880"/>
              <a:ext cx="6856200" cy="3250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270080" y="6265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4528-51A9-4C40-B918-1CAD4187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240" y="2438280"/>
            <a:ext cx="9905760" cy="1063800"/>
            <a:chOff x="-3240" y="2438280"/>
            <a:chExt cx="990576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2880" y="2479680"/>
              <a:ext cx="9905400" cy="1012320"/>
              <a:chOff x="-2880" y="2479680"/>
              <a:chExt cx="990540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469040" y="-1953720"/>
                <a:ext cx="990720" cy="9876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4120" y="2622600"/>
                <a:ext cx="990720" cy="723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178760" y="2621520"/>
                <a:ext cx="990720" cy="725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966160" y="2765160"/>
                <a:ext cx="990720" cy="438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725600" y="2731680"/>
                <a:ext cx="990720" cy="5050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8107560" y="2673360"/>
                <a:ext cx="990720" cy="6220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586720" y="2719440"/>
                <a:ext cx="1003320" cy="5414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348000" y="2614680"/>
                <a:ext cx="990720" cy="723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933000" y="2613600"/>
                <a:ext cx="990720" cy="725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722200" y="2757240"/>
                <a:ext cx="990720" cy="438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81640" y="2723760"/>
                <a:ext cx="990720" cy="5050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62880" y="2666160"/>
                <a:ext cx="990720" cy="620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5342040" y="2710800"/>
                <a:ext cx="1003320" cy="5428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859040" y="2622600"/>
                <a:ext cx="990720" cy="7232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444400" y="2621520"/>
                <a:ext cx="990720" cy="7254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987120" y="2757240"/>
                <a:ext cx="990720" cy="438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240" y="2479680"/>
                <a:ext cx="50004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127800" y="2666160"/>
                <a:ext cx="990720" cy="620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606960" y="2710800"/>
                <a:ext cx="1003320" cy="5432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240" y="2438280"/>
              <a:ext cx="990576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240" y="3201840"/>
              <a:ext cx="990432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134100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263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7E54-1DD8-4C91-9F28-7343DDADC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34100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Addressing and the Address Registry Syst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3240" y="3886200"/>
            <a:ext cx="693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R. Con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vid.Conrad@Nominum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inum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ubnet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60240" y="1218960"/>
            <a:ext cx="8342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full addressing was a better fit than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lass A and B networks impossible to man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as to partition large networks internally into sub-networks (subn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“class C” (8 bit host part) sized subnets although variable length subnets used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31800" y="4038480"/>
          <a:ext cx="71024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4038480"/>
                    <a:ext cx="71024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less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6080" y="10666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 what I just told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full addressing is officially “Bad”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000" indent="-144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sizes just don’t fit all -- very wast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olution is to use variable length partitioning between the host and network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partitioning for a site provided by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000" indent="-180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tion is dotted quad followed by a “/” and the network part length, e.g., 202.12.28.129/2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rst host on 64 host network starting at 202.12.28.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44600" y="4724280"/>
          <a:ext cx="6350040" cy="26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4600" y="4724280"/>
                    <a:ext cx="635004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of Classless Address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89440" y="2819520"/>
          <a:ext cx="6013440" cy="35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9440" y="2819520"/>
                    <a:ext cx="6013440" cy="35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7560" y="175248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202.12.28.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4 host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d as a singl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7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0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128/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8.192/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29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0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1.0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.12.31.128/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n Introduction to the Address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Polici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Address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assure global uniqueness for address, a “registry” of allocated addresses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, the role of the registries has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simple accounting role to one with significant policy making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when IP addresses first started being allocated, Jon Postel at USC ISI kept a record of which site had which (class A sized) network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unction was formalized into the “Internet Assigned Numbers Authority” in the early 80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Internet Assigned Numbers Author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79120" y="1371600"/>
            <a:ext cx="812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ANA was (is) the parent of all regional registries and top level domain name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ontext at least, the IANA can be said to “own” all administrative resources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 out all globally unique numbers (IP addresses, protocol numbers, port numbers, object Id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ANA is now a “function” of IC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t USC 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of the address registry has been sub-delegated to the “Registr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ry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IC at Stanford Research Institute (SRI-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d in California (near Stanford Univer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by DOD D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I replaced by GSI in Washington D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bid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leasant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 DCA provided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issued InterNIC 5 year Cooperativ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agreement issued i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, General Atomics, and Network Solutions, Inc. each awarded part of Inte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IC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IC consisted of 3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Services operated by 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and Directory Services operated by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ervices operated by General At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ation Service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llocation and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eanwhile, In Europe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zations, EARN and RARE were investigating inter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eit with the OSI protocol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1989, folks wanting to get work done formed “RI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ing group of RARE looking into internetworking with the TCP/IP protocol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formal group, funded by the EU (via R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the RIPE Network Coordination Centre around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the Address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y Polici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FC 136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0, RIPE-NCC requested a large block of address space so it could manage allocations for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ally correct rationale: to distribute the address managemen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ANA allocated 193/8 and 194/8 to RIPE-N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366 was written to formalize the sub-delegation of address allocation authority to “regional registr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, the regional registries were to be agents of Inte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olitically v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al registries consider themselves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efore ICAN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onal registries operated under the authority of the 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policies defined by the operations groups and  the IAB/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OG/APOPS/E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TF CIDRD and ALE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gional registries self-organized themselves in a bottom-up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y derived from their memb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Hierarchy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(Bottom Up View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19320" y="2206800"/>
          <a:ext cx="8229600" cy="36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06800"/>
                    <a:ext cx="8229600" cy="36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US 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Internet commercialized, the US Gov’t began to take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NSF permitting NSI to charge for domain names, US Gov’t involvement was characterized as “benign negl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-down model was asse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Hierarchy (US View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913040" y="1459080"/>
          <a:ext cx="760392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3040" y="1459080"/>
                    <a:ext cx="76039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nter ICAN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 of the “White Paper” ICANN was given authority over all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A becomes a function of IC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dress Supporting Organization (ASO) provides advice to ICANN on the management of address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O is comprised of an Address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gional registry provides 3 people to the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mfortable mixture of bottom-up and top-dow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590920" y="76320"/>
          <a:ext cx="5779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76320"/>
                    <a:ext cx="5779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 Car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onal registries can still believe they gain their authority from their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ANN is seen as a formalization of the 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legal and political auth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gistries continue to operate as they hav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O may play a role in policy f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ry Hierarch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2760" y="1657440"/>
          <a:ext cx="61326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657440"/>
                    <a:ext cx="61326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onal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 allocat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us in-addr.arpa dom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 Syste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three regional registrie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NIC, ARIN, RIPE-N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e self-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ANN may create others as needs a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NIC and LATNIC are fairly well a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et Addre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evice wishing to use Internet protocols must have at least on Interne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: 32 b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: 128 bi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ddresses provide dual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(naming) an end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the path to reach that end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onal Registries (cont’d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Registries are NOT regulatory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“license” IS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national governmental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the authority for who can or cannot connect to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ho is permitted by law in thei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ntrol any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complaining to them is pretty point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onal Registry Fun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Internet registries have been funded by the 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NSF or D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366 specified the creation of regional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idn’t indicate how they would be fu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3 regional registries have a membership model that provides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NIC and RIPE’s funding is almost exclusively membership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ARIN’s money comes from allocation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N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69680" y="137124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as an APCCIRN/APEPG Pilot Project in Sept., 1993, received address space from IANA in April, 1994, Incorporated in April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 based organization with tiers (very large, large, medium, small) depending on total amount of APNIC allocated address spac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self-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staff of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Brisbane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see http://www.apnic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IPE-NC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69680" y="1447560"/>
            <a:ext cx="82328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in 1990 as the IP networking special interest group of RARE, a EU funded group working to deploy OSI networks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d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based organization with a tiers (large, medium, small) depending on total amount of address space used (complex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be self-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aff of about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in Amsterdam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: see http://www.rip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d in 1998 with seed funding from NSI (InterNIC), took over address allocation functions performed by InterNIC (NSI Registration Serv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membership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mall part of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fees dependent on amount of address space consumed within the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aff of around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in Chantilly, US (near Washington,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: http://www.arin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ocal Internet Regist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Registries delegate authority to “Local Internet Registries” to allocat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Internet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 confederations of 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national level Internet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NIC and ARI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Internet Registries sub-delegate to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ocal Internet Registry may have its own rules, but all must follow the rules of their parent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reation of New Regional Registr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sue for the 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Registries are expected to be continental in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regional registries must demonstrate consensus in their region that they should be the regional registry for that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t vague on how this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the Address Reg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Registry Polici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ddress Delegation Polic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2050 provides the guidelines for address deleg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e Registry polici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is a limited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ddition of new prefixeis to the rou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del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two of these often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llocation Framewor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 are allocated to LIRs for sub-del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this is address space delegated to ISPs so they can give their customers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(at APNIC and ARIN), allocations are made to non-ISPs (confederations or national Internet regis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s will be made by RIRs if the organization is at an Internet Exchange point or is multi-ho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egin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86080" y="11430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when the Internet protocols were first being designed, there was a big argument between fixed length and variable length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length will always be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f you make it big enough, no one will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will always take more cycles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are tricks you can play to minimize the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was made for fixed, 32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 has it, by a flip of a coi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uidelines for Alloca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reak up a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 made from the allocation should be treated as “loans” of address space from an ISP to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stomer should return the address space when they chang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space is allocated on CID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delegations should be aggre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Rs sub-delegate based only on justifie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delegations must be registered at the 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as “reassignments” or “SWI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low-Star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IRs use “slow-start” for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ate a small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delegations occur when that block is consumed and reassig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doubling the amount of address space ea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licy is to improve address space utilization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conform to ISP market 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a source of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ssignment Framework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legation of address space to an end enterprise for its intern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space is not sub-delegate as in the case of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from a RIR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ganization is not connecting to an ISP and cannot use private addres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ganization is multi-ho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est is very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s should get address space from their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mmon Requiremen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document 25% immediate utilization, 50% utilization withi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Network Engineer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usines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network deploymen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document how the address space will be used an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previous delegation history 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pecific Registry Quirk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organizations to a national Internet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allocate address space unless the organization can demonstrate existing /21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a national Internet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ss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get depends on where you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es-as-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es have very f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rcity vs. Rou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addresses are considered a limited resource that must be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Registry system has evolved over time to provide tha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3 regional registries serve the world’s address alloca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gional registries are in the process of being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ssues continue to face the regist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P version 4 Address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46040" y="1981080"/>
            <a:ext cx="8342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 unsigned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values 0 - 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written as a “dotted quad of oct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8 bit values each having a range of 0-255 separated by “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202.12.28.129 can be written a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70080" y="4419720"/>
          <a:ext cx="8192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4419720"/>
                    <a:ext cx="8192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rnet Address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et of IPv4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one of an infinite number of subsets, albeit an importan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globally unique by the 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allocated by delegated authorities such as Internet service providers or regional regi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to be ro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ed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ost part that identifies a particular machine on a local or wide are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twork part that gives routers information how to get to the local or wide area network via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4568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rnet Address Structur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1981080"/>
            <a:ext cx="8418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, the architects of the Internet thought 256 networks would be more than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d a few very large (16,777,216 hosts)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wrong (in case you were wond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were partitioned a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 network part, 24 bit hos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77800" y="4572000"/>
          <a:ext cx="777240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4572000"/>
                    <a:ext cx="7772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full Address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38400" y="1371240"/>
            <a:ext cx="841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addressing plan too li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256 networks with many fewer hosts than 2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was to create addres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063880" y="3352680"/>
          <a:ext cx="594036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352680"/>
                    <a:ext cx="594036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608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6080" y="12952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 way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, the TCP/IP architects thought there wouldn’t be many networks, and each network would have many h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too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65536 host addresses is too many in mo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65534 hosts all responding to a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too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tes initially connecting to the Internet were large Universities, 256 was too small f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6T23:44:56Z</dcterms:created>
  <dc:creator>David Conrad</dc:creator>
  <dc:description/>
  <dc:language>en-US</dc:language>
  <cp:lastModifiedBy>gih</cp:lastModifiedBy>
  <cp:lastPrinted>1996-06-15T05:36:14Z</cp:lastPrinted>
  <dcterms:modified xsi:type="dcterms:W3CDTF">2000-07-14T00:42:46Z</dcterms:modified>
  <cp:revision>46</cp:revision>
  <dc:subject/>
  <dc:title>Training</dc:title>
</cp:coreProperties>
</file>