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76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4080" indent="-2282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1640" indent="-2293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9920" indent="-2293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9920" indent="-2293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9920" indent="-2293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3920" y="6516720"/>
            <a:ext cx="338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filtering using cisco acces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218280" y="6516720"/>
            <a:ext cx="338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ET97 / track 2  # </a:t>
            </a:r>
            <a:fld id="{CE9017CE-3E9B-4209-AF50-162C447E896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80" y="6480"/>
            <a:ext cx="9893160" cy="682920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9160" y="22856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cket filters using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sco access li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1560" y="3898800"/>
            <a:ext cx="6902280" cy="1749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 19 June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8080" y="6440400"/>
            <a:ext cx="1825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74400" y="1778040"/>
            <a:ext cx="6399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ss-list 1 permit 169.222.3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ss-list 1 permit 169.222.30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ss-list 1 permit 169.222.3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ss-list 1 permit 169.222.3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ss-list 1 permit 169.222.30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ss-list 1 permit 169.222.3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05200" y="214200"/>
            <a:ext cx="4090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sco wildcard m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2600" y="888840"/>
            <a:ext cx="8095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access-lists must match long list of IP addres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uch work to type them all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2960" y="4317840"/>
            <a:ext cx="8164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wildcard mask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indicates that the corresponding bit in the address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the ru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dicates “don’t ca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760" y="5811840"/>
            <a:ext cx="76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ss-list 1 permit 169.222.30.8 0.0.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H="1">
            <a:off x="2552400" y="1344600"/>
            <a:ext cx="3825720" cy="57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0280" y="1074600"/>
            <a:ext cx="436680" cy="39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552760" y="1344600"/>
            <a:ext cx="5176800" cy="84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4960" y="1074600"/>
            <a:ext cx="436680" cy="392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4760" y="1039680"/>
            <a:ext cx="76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cess-list 1 permit 169.222.30.8 0.0.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4760" y="1695600"/>
            <a:ext cx="1827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9160" y="245916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5120" y="2438280"/>
            <a:ext cx="87768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xxx                  therefo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69.222.30.8 0.0.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includes:          m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000   =  .8          169.222.3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001   =  .9          169.222.3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010   =  .10         169.222.30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011   =  .11         169.222.30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100   =  .12         169.222.30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101   =  .13         169.222.30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110   =  .14         169.222.3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000 1111   -  .15         169.222.3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419200"/>
            <a:ext cx="0" cy="390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1160" y="281160"/>
            <a:ext cx="6105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ldcard matching lists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82320" y="236520"/>
            <a:ext cx="7336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wildcard matching lists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0000" y="1427040"/>
            <a:ext cx="85939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69.222.30.0 0.0.0.255 matches 169.222.30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8.32.0.0 0.0.255.255. matches 128.32.0.0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.0.0.0 0.0.255.255.255 matches 10.0.0.0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0.0.0 255.255.255.255 matches 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69.222.31.42 0.0.0.0 matches 169.222.31.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449440" y="281160"/>
            <a:ext cx="500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ded access-list 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995400"/>
            <a:ext cx="78372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2920" y="928800"/>
            <a:ext cx="933120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access lists (100-199) use the source IP addr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IP address, protocol, destination 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mit proto scr-ip mask op src-prt dst-ip mask op dst-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ny   proto scr-ip mask op src-prt dst-ip mask op dst-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permit udp 169.222.30.8 0.0.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9.222.31.42 0.0.0.0 eq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permit tcp 169.222.30.8 0.0.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9.222.31.42 0.0.0.0 eq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deny ip 169.222.30.8 0.0.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9.222.31.42 0.0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permit any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cisco documentation c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:///cdrom/data/doc/software/11_1/rrout/4rip.htm#REF247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08000" y="281160"/>
            <a:ext cx="4291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sco access-list 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6440" y="995400"/>
            <a:ext cx="78372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1640" y="814320"/>
            <a:ext cx="933156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horthand notations can be u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p-addr mask&gt; = x.x.x.x 0.0.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n be written as “host x.x.x.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permit udp 169.222.30.8 0.0.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9.222.31.42 0.0.0.0 eq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permit udp 169.222.30.8 0.0.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st 169.222.31.42 eq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p-addr mask&gt; = x.x.x.x 255.255.255.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n be written as “an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permit ip 0.0.0.0 255.255.255.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.0.0.0 255.255.255.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permit ip any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6200" y="79200"/>
            <a:ext cx="4114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aging access 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3200" y="888840"/>
            <a:ext cx="894456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lists can become long; for example, more  tha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rules are evaluated in order, order is very important. It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necessary at times to change rules or re-ord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lists cannot be (gracefully) edited on the router it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way to modify an existing rule is to delete it and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ified rule back. But deleting and adding an existing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unexpected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we need to edit access lists off-line, on a Unix hos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. Later, we can copy it to the ro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390040" y="171360"/>
            <a:ext cx="51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List Exercise #1 (slide 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9520" y="1023840"/>
            <a:ext cx="886824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create a short access list to prevent telnet from a hos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lect a host in your row for the exercise. Make sur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the host’s IP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erify that the host can telnet to another host off the n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a bsdi PC in a different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elnet to the router and create the a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ter(config)#access-list 101 deny tcp ho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&lt;your-i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&lt;target-ip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q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ter(config)#access-list 101 permit ip any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ter(config)#^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55640" y="844560"/>
            <a:ext cx="87408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Check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ter#sho access-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Finally, apply the access-list to the router’s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on the row (e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ter(config-if)#access-group 101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erify that you can no longer telnet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To remove the a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ter(config-if)#no access-group 101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90040" y="237960"/>
            <a:ext cx="51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List Exercise #1 (slide 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161520" y="171360"/>
            <a:ext cx="358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List Exercis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240" y="909720"/>
            <a:ext cx="913320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create a short access list to prev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nets from a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erify that your host can telnet to another host off the n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a bsdi PC in a different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elnet to the router and create the a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deny tcp ho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&lt;your-i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y eq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01 permit tcp any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^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heck 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ink!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pply to the router’s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 the previous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erify that you can no longer telnet to the other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278840" y="5924520"/>
            <a:ext cx="198108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04840" y="3524400"/>
            <a:ext cx="457200" cy="19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35600" y="79200"/>
            <a:ext cx="5443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ore complicated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0200" y="717480"/>
            <a:ext cx="90090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access lists allow some additional tests; see th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cisco documentation cd (bottom of slide 1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“established” keyword tests whether the ACK or RS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t in the TCP header. The first packet in a TCP open will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680" y="322272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960" y="53942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657440" y="3600000"/>
            <a:ext cx="59040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04200" y="400356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50400" y="4689360"/>
            <a:ext cx="547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79600" y="3524400"/>
            <a:ext cx="459000" cy="19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8920" y="400356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05000" y="3505320"/>
            <a:ext cx="459000" cy="19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657600" y="3580920"/>
            <a:ext cx="59220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3240" y="3984480"/>
            <a:ext cx="655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2360" y="467028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07040" y="3524400"/>
            <a:ext cx="455400" cy="19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856040" y="3600000"/>
            <a:ext cx="59220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43120" y="4003560"/>
            <a:ext cx="655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52600" y="468936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3543480"/>
            <a:ext cx="457200" cy="19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267600" y="3619080"/>
            <a:ext cx="59040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52880" y="4022640"/>
            <a:ext cx="655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2000" y="470844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48400" y="3543480"/>
            <a:ext cx="457200" cy="19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001000" y="3619080"/>
            <a:ext cx="59040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85920" y="4022640"/>
            <a:ext cx="547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95760" y="4708440"/>
            <a:ext cx="547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67720" y="3524400"/>
            <a:ext cx="455760" cy="19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805240" y="4003560"/>
            <a:ext cx="54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0880" y="3321000"/>
            <a:ext cx="8292960" cy="2732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73160" y="5492880"/>
            <a:ext cx="8291520" cy="272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3086280"/>
            <a:ext cx="0" cy="3028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21600" y="3086280"/>
            <a:ext cx="0" cy="3028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71640" y="5924520"/>
            <a:ext cx="203976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05000" y="5924520"/>
            <a:ext cx="403704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3086280"/>
            <a:ext cx="0" cy="3028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8920" y="583236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34680" y="5832360"/>
            <a:ext cx="172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66080" y="5832360"/>
            <a:ext cx="90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371160" y="3086280"/>
            <a:ext cx="0" cy="3028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3320" y="1055520"/>
            <a:ext cx="8283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cket fil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set of rules that determine wh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cket gets through an interface, or gets dr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4880" y="1965240"/>
            <a:ext cx="35359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 &lt;test 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y   &lt;test 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y   &lt;test 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 &lt;test 4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ny &lt;everything els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6160" y="3981600"/>
            <a:ext cx="4951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are evaluated in ord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est is true, action is t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est is not true , go to nex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53000" y="5327640"/>
            <a:ext cx="5852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ilters are inherently paranoid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are denied if not explicitly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32680" y="163440"/>
            <a:ext cx="2883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cket 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390040" y="171360"/>
            <a:ext cx="51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List Exercise #3 (slide 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0920" y="909720"/>
            <a:ext cx="9325440" cy="58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create a short access list to prevent mail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berprom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11 permit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5.199.212.0 0.0.0.255 any eq 25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11 deny   tcp 205.199.212.0 0.0.0.255 any eq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11 permit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5.199.2.0 0.0.0.255 any eq 25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11 deny   tcp 205.199.2.0 0.0.0.255 any eq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11 permit ip any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ccess list 111 to in-bound packets on 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of your router. SMTP from cyberpromo is block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P to cyberpromo is not bloc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lly very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390040" y="171360"/>
            <a:ext cx="51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List Exercise #3 (slide 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4600" y="844560"/>
            <a:ext cx="932544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C with TFTP enabled, create a file in /tftp with thes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oose your own number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mit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5.199.212.0 0.0.0.255 any eq 25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ny   tcp 205.199.212.0 0.0.0.255 any eq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mit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5.199.2.0 0.0.0.255 any eq 25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eny   tcp 205.199.2.0 0.0.0.255 any eq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ermit ip any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your router,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 tftp r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the access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access list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w ip access-l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the access-list on the ro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ter(config-if)#ip access-group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552760" y="79200"/>
            <a:ext cx="4802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uses for access 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2000" y="1841400"/>
            <a:ext cx="7367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tricting route annou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tricting routes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rolling route redistribution between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 route-maps, for the above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1520" y="1193760"/>
            <a:ext cx="900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lists can be used for purposes other than packet filt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52880" y="1344600"/>
            <a:ext cx="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755800"/>
            <a:ext cx="0" cy="12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53000" y="2689200"/>
            <a:ext cx="901800" cy="80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526920" y="2755800"/>
            <a:ext cx="82548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3880" y="1082520"/>
            <a:ext cx="1638360" cy="592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2680" y="115884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57560" y="2090880"/>
            <a:ext cx="1790640" cy="79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2920" y="3368520"/>
            <a:ext cx="1714320" cy="592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e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93880" y="3348000"/>
            <a:ext cx="1366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3905280"/>
            <a:ext cx="1711440" cy="593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e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70320" y="3884760"/>
            <a:ext cx="1365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21320" y="3368520"/>
            <a:ext cx="1714680" cy="592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e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32640" y="3348000"/>
            <a:ext cx="1366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69920" y="1495440"/>
            <a:ext cx="2674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s work her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52880" y="1747440"/>
            <a:ext cx="1425600" cy="336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13000" y="3189240"/>
            <a:ext cx="198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and her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3720" y="2890800"/>
            <a:ext cx="3451320" cy="538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890800"/>
            <a:ext cx="2776680" cy="538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8360" y="2890800"/>
            <a:ext cx="1951200" cy="538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57560" y="5721480"/>
            <a:ext cx="1790640" cy="7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40200" y="531180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040360" y="5366880"/>
            <a:ext cx="0" cy="606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5041800"/>
            <a:ext cx="0" cy="67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4440" y="5124600"/>
            <a:ext cx="480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in each direction,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86080" y="5418000"/>
            <a:ext cx="33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2960" y="5418000"/>
            <a:ext cx="46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160" y="79200"/>
            <a:ext cx="4418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cket Filter L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33680" y="3097080"/>
            <a:ext cx="60336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1 =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ny any any any udp-port 6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it any any any an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y filter1 in interface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y filter1 out interface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35640" y="1273320"/>
            <a:ext cx="8228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it &lt;src-ip, src-port&gt; &lt;dst-ip, dst-por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ny   &lt;src-ip, src-port&gt; &lt;dst-ip, dst-por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1920" y="679320"/>
            <a:ext cx="45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cket filter rule looks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3640" y="2435400"/>
            <a:ext cx="329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lock TFTP pack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79200"/>
            <a:ext cx="122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47320" y="79200"/>
            <a:ext cx="272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IP St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5240" y="2097000"/>
            <a:ext cx="1746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2637000"/>
            <a:ext cx="1746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5240" y="3308400"/>
            <a:ext cx="1746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5240" y="3843360"/>
            <a:ext cx="174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twork Interf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76680" y="2286000"/>
            <a:ext cx="525240" cy="1816200"/>
            <a:chOff x="2776680" y="2286000"/>
            <a:chExt cx="525240" cy="1816200"/>
          </a:xfrm>
        </p:grpSpPr>
        <p:sp>
          <p:nvSpPr>
            <p:cNvPr id="87" name=""/>
            <p:cNvSpPr/>
            <p:nvPr/>
          </p:nvSpPr>
          <p:spPr>
            <a:xfrm>
              <a:off x="2776680" y="228600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76680" y="282564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76680" y="349740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6680" y="410220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027160" y="4368960"/>
            <a:ext cx="0" cy="33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4560" y="4368960"/>
            <a:ext cx="0" cy="33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51080" y="4705200"/>
            <a:ext cx="7353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11440" y="4719600"/>
            <a:ext cx="1746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twork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25240" y="4102200"/>
            <a:ext cx="749160" cy="120960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6680" y="5057640"/>
            <a:ext cx="152064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300" spc="-1" strike="noStrike">
                <a:solidFill>
                  <a:srgbClr val="618ffd"/>
                </a:solidFill>
                <a:latin typeface="Arial"/>
              </a:rPr>
              <a:t>Adjacent lay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803480" y="4505400"/>
            <a:ext cx="974520" cy="107640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51080" y="4438800"/>
            <a:ext cx="2552760" cy="114300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08440" y="5524560"/>
            <a:ext cx="17496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300" spc="-1" strike="noStrike">
                <a:solidFill>
                  <a:srgbClr val="618ffd"/>
                </a:solidFill>
                <a:latin typeface="Arial"/>
              </a:rPr>
              <a:t>Peer lay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5240" y="3295800"/>
            <a:ext cx="1322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87360" y="3778200"/>
            <a:ext cx="140184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87360" y="3174840"/>
            <a:ext cx="1401840" cy="57816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87360" y="2568600"/>
            <a:ext cx="1401840" cy="58104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7360" y="1962000"/>
            <a:ext cx="1401840" cy="581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62640" y="3295800"/>
            <a:ext cx="1322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5120" y="3778200"/>
            <a:ext cx="1401480" cy="57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5120" y="3174840"/>
            <a:ext cx="1401480" cy="57816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5120" y="2568600"/>
            <a:ext cx="1401480" cy="58104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5120" y="1962000"/>
            <a:ext cx="1401480" cy="581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03480" y="2286000"/>
            <a:ext cx="525240" cy="1816200"/>
            <a:chOff x="4803480" y="2286000"/>
            <a:chExt cx="525240" cy="1816200"/>
          </a:xfrm>
        </p:grpSpPr>
        <p:sp>
          <p:nvSpPr>
            <p:cNvPr id="111" name=""/>
            <p:cNvSpPr/>
            <p:nvPr/>
          </p:nvSpPr>
          <p:spPr>
            <a:xfrm flipH="1">
              <a:off x="4803480" y="228600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803480" y="282564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803480" y="349740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803480" y="410220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>
            <a:off x="525240" y="3429000"/>
            <a:ext cx="749160" cy="188280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89320" y="3894120"/>
            <a:ext cx="277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.00.0c.d6.d4.f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89680" y="3287880"/>
            <a:ext cx="216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9.222.31.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84640" y="2616120"/>
            <a:ext cx="185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CP port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89320" y="2077920"/>
            <a:ext cx="109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14720" y="3362400"/>
            <a:ext cx="36720" cy="73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87680" y="3362400"/>
            <a:ext cx="0" cy="67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4111560"/>
            <a:ext cx="227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1720" y="3038400"/>
            <a:ext cx="2111400" cy="51120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76600" y="3038400"/>
            <a:ext cx="3465360" cy="51120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9600" y="4079880"/>
            <a:ext cx="1650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c 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27080" y="1022400"/>
            <a:ext cx="1362240" cy="377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6840" y="1022400"/>
            <a:ext cx="4101840" cy="37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4480" y="14130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91640" y="14130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14480" y="2149560"/>
            <a:ext cx="607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78480" y="1017720"/>
            <a:ext cx="684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2720" y="1017720"/>
            <a:ext cx="1260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4760" y="3122640"/>
            <a:ext cx="178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9.222.3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1200" y="3038400"/>
            <a:ext cx="3052800" cy="51120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0400" y="3122640"/>
            <a:ext cx="1933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9.222.31.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48800" y="1413000"/>
            <a:ext cx="1127160" cy="16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1920" y="1413000"/>
            <a:ext cx="2776680" cy="16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80840" y="146160"/>
            <a:ext cx="4982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P Packet Encaps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54800" y="356220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35840" y="445284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c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9440" y="3562200"/>
            <a:ext cx="0" cy="4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61440" y="398160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08400" y="1015920"/>
            <a:ext cx="812880" cy="3906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9320" y="31082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64200" y="310824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7400" y="1413000"/>
            <a:ext cx="5029200" cy="161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29680" y="302580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7200" y="1631880"/>
            <a:ext cx="18972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53000" y="302580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3760" y="4991040"/>
            <a:ext cx="855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is delivered from &lt;src-ip, src-port&gt; to &lt;dst-ip, dst-por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4040" y="5416560"/>
            <a:ext cx="304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169.222.30.4 , 2034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11800" y="5416560"/>
            <a:ext cx="288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169.222.31.42 , 2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76800" y="5648400"/>
            <a:ext cx="10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53240" y="302580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flipH="1">
            <a:off x="4427280" y="32274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1882800"/>
            <a:ext cx="120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2532240"/>
            <a:ext cx="367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08160" y="2225520"/>
            <a:ext cx="1638360" cy="592200"/>
            <a:chOff x="1208160" y="2225520"/>
            <a:chExt cx="1638360" cy="592200"/>
          </a:xfrm>
        </p:grpSpPr>
        <p:sp>
          <p:nvSpPr>
            <p:cNvPr id="159" name=""/>
            <p:cNvSpPr/>
            <p:nvPr/>
          </p:nvSpPr>
          <p:spPr>
            <a:xfrm>
              <a:off x="1208160" y="2225520"/>
              <a:ext cx="1638360" cy="5922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9840" y="2301840"/>
              <a:ext cx="121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232080" y="1687680"/>
            <a:ext cx="1489320" cy="173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35680" y="1552680"/>
            <a:ext cx="1711080" cy="593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e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1531800"/>
            <a:ext cx="1366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2225520"/>
            <a:ext cx="1711080" cy="592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e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5680" y="2897280"/>
            <a:ext cx="1711080" cy="592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e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8640" y="824040"/>
            <a:ext cx="750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nbound packets with source IP addresses belonging to inside 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31000" y="1697040"/>
            <a:ext cx="21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1.A2.A3.A4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31000" y="2370240"/>
            <a:ext cx="21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1.B2.B3.B4/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31000" y="2975040"/>
            <a:ext cx="21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1.C2.C3.C4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70840" y="3646440"/>
            <a:ext cx="658224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ter2 =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ny A1.A2.A3.A4/24 any any an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ny B1.B2.B3.B4/29 any any an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ny C1.C2.C3.C4/24 any any an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it any any any an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y filter2 in interface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89680" y="146160"/>
            <a:ext cx="348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spoofing 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800000" y="2755800"/>
            <a:ext cx="1276200" cy="255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360" y="5311800"/>
            <a:ext cx="825480" cy="8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9000" y="2409840"/>
            <a:ext cx="136800" cy="257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 flipH="1">
            <a:off x="4427280" y="32958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27640" y="1949400"/>
            <a:ext cx="120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76440" y="2598840"/>
            <a:ext cx="367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08160" y="2292480"/>
            <a:ext cx="1638360" cy="591840"/>
            <a:chOff x="1208160" y="2292480"/>
            <a:chExt cx="1638360" cy="591840"/>
          </a:xfrm>
        </p:grpSpPr>
        <p:sp>
          <p:nvSpPr>
            <p:cNvPr id="179" name=""/>
            <p:cNvSpPr/>
            <p:nvPr/>
          </p:nvSpPr>
          <p:spPr>
            <a:xfrm>
              <a:off x="1208160" y="2292480"/>
              <a:ext cx="1638360" cy="59184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19840" y="2368440"/>
              <a:ext cx="1216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32080" y="1754280"/>
            <a:ext cx="1489320" cy="17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35680" y="1619280"/>
            <a:ext cx="1711080" cy="593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e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1598760"/>
            <a:ext cx="1366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35680" y="2292480"/>
            <a:ext cx="1711080" cy="5918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e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35680" y="2965320"/>
            <a:ext cx="1711080" cy="590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e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31000" y="1763640"/>
            <a:ext cx="21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1.A2.A3.A4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31000" y="2436840"/>
            <a:ext cx="21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1.B2.B3.B4/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31000" y="3043080"/>
            <a:ext cx="21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1.C2.C3.C4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59000" y="2476440"/>
            <a:ext cx="136800" cy="257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5120" y="689040"/>
            <a:ext cx="513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net A can attack net B or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8000" y="4452840"/>
            <a:ext cx="516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pply filters at al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59480" y="2476440"/>
            <a:ext cx="137880" cy="257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59480" y="1805040"/>
            <a:ext cx="137880" cy="255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9480" y="3165480"/>
            <a:ext cx="137880" cy="257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429000"/>
            <a:ext cx="1577880" cy="127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4080" y="470520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3840" y="2689200"/>
            <a:ext cx="1650960" cy="20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3840" y="2084400"/>
            <a:ext cx="1650960" cy="2620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8000" y="4991040"/>
            <a:ext cx="8125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leads to increased complexity of configuration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increased maintenance and greater prob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29800" y="-55440"/>
            <a:ext cx="4802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spoofing filter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68320" y="28116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ple access-list fi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5360" y="955800"/>
            <a:ext cx="8411040" cy="56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ccess lists (1-99) use only the source IP add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mit src-ip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ny   src-ip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 permit 169.222.30.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 permit 169.222.3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 permit 169.222.3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 permit 169.222.30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 permit 169.222.30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 permit 169.222.30.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 permit 169.222.30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 permit 169.222.30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cess-list 1 deny any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cisco documentation c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:///cdrom/data/doc/software/11_1/rrout/4rip.htm#REF307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3T23:11:02Z</dcterms:created>
  <dc:creator/>
  <dc:description/>
  <dc:language>en-US</dc:language>
  <cp:lastModifiedBy>g</cp:lastModifiedBy>
  <cp:lastPrinted>1997-06-19T04:37:32Z</cp:lastPrinted>
  <dcterms:modified xsi:type="dcterms:W3CDTF">2002-12-03T19:43:43Z</dcterms:modified>
  <cp:revision>22</cp:revision>
  <dc:subject/>
  <dc:title>packet filters using cisco access lists</dc:title>
</cp:coreProperties>
</file>