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0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390680" y="842760"/>
            <a:ext cx="4535280" cy="33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041440" y="373680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BD726B-18D2-4C0B-A40F-1AE93E896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3240" y="0"/>
            <a:ext cx="31719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43240" y="912024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ldImg"/>
          </p:nvPr>
        </p:nvSpPr>
        <p:spPr>
          <a:xfrm>
            <a:off x="1390680" y="843120"/>
            <a:ext cx="453528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43240" y="0"/>
            <a:ext cx="31719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3240" y="912024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390680" y="843120"/>
            <a:ext cx="453528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43240" y="0"/>
            <a:ext cx="31719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43240" y="912024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ldImg"/>
          </p:nvPr>
        </p:nvSpPr>
        <p:spPr>
          <a:xfrm>
            <a:off x="1390680" y="843120"/>
            <a:ext cx="453528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43240" y="0"/>
            <a:ext cx="31719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3240" y="9120240"/>
            <a:ext cx="31719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ldImg"/>
          </p:nvPr>
        </p:nvSpPr>
        <p:spPr>
          <a:xfrm>
            <a:off x="1390680" y="843120"/>
            <a:ext cx="4535280" cy="3398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ldImg"/>
          </p:nvPr>
        </p:nvSpPr>
        <p:spPr>
          <a:xfrm>
            <a:off x="949320" y="490680"/>
            <a:ext cx="5308560" cy="397800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3386160" y="9468000"/>
            <a:ext cx="2714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752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3640" y="2025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75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3640" y="4175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52320" y="2025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2160" y="202572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75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52320" y="4175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2160" y="41752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2025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3640" y="2025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6537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2025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75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640" y="2025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3640" y="41752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640" y="202572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7528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2025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03240" y="49402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572680" y="646416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63560" y="1409760"/>
            <a:ext cx="5956560" cy="4127400"/>
          </a:xfrm>
          <a:prstGeom prst="rect">
            <a:avLst/>
          </a:prstGeom>
          <a:gradFill rotWithShape="0">
            <a:gsLst>
              <a:gs pos="0">
                <a:srgbClr val="a2aeaf"/>
              </a:gs>
              <a:gs pos="100000">
                <a:srgbClr val="485f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3840" y="1117440"/>
            <a:ext cx="1703160" cy="1690920"/>
          </a:xfrm>
          <a:custGeom>
            <a:avLst/>
            <a:gdLst/>
            <a:ahLst/>
            <a:rect l="l" t="t" r="r" b="b"/>
            <a:pathLst>
              <a:path w="1073" h="1065">
                <a:moveTo>
                  <a:pt x="0" y="0"/>
                </a:moveTo>
                <a:lnTo>
                  <a:pt x="0" y="1064"/>
                </a:lnTo>
                <a:lnTo>
                  <a:pt x="1072" y="52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22560" y="2616120"/>
            <a:ext cx="3238560" cy="1803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>
            <a:noAutofit/>
          </a:bodyPr>
          <a:p>
            <a:pPr indent="0" algn="ctr">
              <a:lnSpc>
                <a:spcPts val="6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L Helvetica Condensed Light"/>
              </a:rPr>
              <a:t>OSP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74200" y="6566040"/>
            <a:ext cx="1904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73200" y="6303960"/>
            <a:ext cx="1981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87800" y="6303960"/>
            <a:ext cx="2894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1400" y="6303960"/>
            <a:ext cx="198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717960" y="3933360"/>
            <a:ext cx="501480" cy="56052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Hello Packe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120" y="3077640"/>
            <a:ext cx="3632040" cy="19558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6080" bIns="46080" anchor="ctr" anchorCtr="1">
            <a:normAutofit fontScale="95000"/>
          </a:bodyPr>
          <a:p>
            <a:pPr marL="280440" indent="-28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r dead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119560" y="3606840"/>
            <a:ext cx="708120" cy="79704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059440" y="3232080"/>
            <a:ext cx="1871640" cy="873360"/>
            <a:chOff x="5059440" y="3232080"/>
            <a:chExt cx="1871640" cy="873360"/>
          </a:xfrm>
        </p:grpSpPr>
        <p:grpSp>
          <p:nvGrpSpPr>
            <p:cNvPr id="187" name=""/>
            <p:cNvGrpSpPr/>
            <p:nvPr/>
          </p:nvGrpSpPr>
          <p:grpSpPr>
            <a:xfrm>
              <a:off x="5059440" y="3232080"/>
              <a:ext cx="1871640" cy="873360"/>
              <a:chOff x="5059440" y="3232080"/>
              <a:chExt cx="1871640" cy="873360"/>
            </a:xfrm>
          </p:grpSpPr>
          <p:sp>
            <p:nvSpPr>
              <p:cNvPr id="188" name=""/>
              <p:cNvSpPr/>
              <p:nvPr/>
            </p:nvSpPr>
            <p:spPr>
              <a:xfrm>
                <a:off x="5078520" y="3255840"/>
                <a:ext cx="1852560" cy="849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59440" y="3232080"/>
                <a:ext cx="1827000" cy="83016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6560" y="3314880"/>
                <a:ext cx="1671840" cy="66672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482800" y="3376440"/>
              <a:ext cx="1011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D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ual 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V="1">
            <a:off x="4851360" y="3871440"/>
            <a:ext cx="511200" cy="57780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34000" y="2600280"/>
            <a:ext cx="596880" cy="363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95120" y="261000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359240" y="4254480"/>
            <a:ext cx="1022400" cy="639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4529160" y="3723840"/>
            <a:ext cx="453960" cy="51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47120" y="3849840"/>
            <a:ext cx="596880" cy="36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07880" y="385596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789240" y="3759120"/>
            <a:ext cx="543240" cy="62568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2320" y="2566800"/>
            <a:ext cx="0" cy="63324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40440" y="2617560"/>
            <a:ext cx="0" cy="68076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442120" y="2013120"/>
            <a:ext cx="1022040" cy="639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810480" y="4251240"/>
            <a:ext cx="1022400" cy="639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821040" y="3832200"/>
            <a:ext cx="596880" cy="36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3600" y="3838680"/>
            <a:ext cx="67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049880" y="3672000"/>
            <a:ext cx="455400" cy="51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225840" y="2693880"/>
            <a:ext cx="4680" cy="462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812080" y="649116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901800"/>
            <a:ext cx="3035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OSP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371240" y="2425320"/>
            <a:ext cx="6629400" cy="3365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7000"/>
          </a:bodyPr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nce an adjacency is established, trad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information with your neighb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Topology information is packaged in a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"link state announcement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Announcements are sent ONCE, and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only updated if there's a 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2360">
              <a:lnSpc>
                <a:spcPts val="3600"/>
              </a:lnSpc>
              <a:spcBef>
                <a:spcPts val="300"/>
              </a:spcBef>
              <a:buClr>
                <a:srgbClr val="000000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(or every 45mins..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901800"/>
            <a:ext cx="3568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OSP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71600" y="2781000"/>
            <a:ext cx="5842080" cy="1955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3000"/>
          </a:bodyPr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Change occu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roadcast 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Run SPF algorith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stall output into forwarding 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901800"/>
            <a:ext cx="433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Neigh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371600" y="2781000"/>
            <a:ext cx="5842080" cy="1955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1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i-directional OSPF commun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Result of OSPF hello pac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ed not exchange routing 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901800"/>
            <a:ext cx="4330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Adjac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71600" y="2781000"/>
            <a:ext cx="5842080" cy="1955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59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etween OSPF neighb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change routing 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Point-to-point or Broadcast med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Point-to-point - neighbors are adjac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roadcast media - not all neighbors 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2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adjac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Broadcast Media -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371600" y="2552400"/>
            <a:ext cx="6616800" cy="241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91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 neighbors - order of N square adjac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ot opti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Wasted bandwid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Does not sca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Broadcast M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371600" y="2552400"/>
            <a:ext cx="6616800" cy="241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72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elect a neighbor - Designated Router(D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All routers become adjacent to D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change routing information with the D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DR updates all the neighb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c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ackup Designated Ro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73200" y="6303960"/>
            <a:ext cx="1981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87800" y="6303960"/>
            <a:ext cx="2894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1400" y="6303960"/>
            <a:ext cx="198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86400" y="3906720"/>
            <a:ext cx="884160" cy="536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612880" y="5418000"/>
            <a:ext cx="88452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505480" y="5418000"/>
            <a:ext cx="884160" cy="536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598840" y="3906720"/>
            <a:ext cx="884160" cy="5367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ighboring Stat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18680" y="1633320"/>
            <a:ext cx="6791400" cy="1863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6080" bIns="46080" anchor="ctr" anchorCtr="1">
            <a:normAutofit/>
          </a:bodyPr>
          <a:p>
            <a:pPr marL="295200" indent="-29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spcBef>
                <a:spcPts val="700"/>
              </a:spcBef>
              <a:buClr>
                <a:srgbClr val="ff555d"/>
              </a:buClr>
              <a:buFont typeface="Times New Roman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r sees itself in other Hello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spcBef>
                <a:spcPts val="700"/>
              </a:spcBef>
              <a:buClr>
                <a:srgbClr val="ff555d"/>
              </a:buClr>
              <a:buFont typeface="Times New Roman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 selected from neighbors in st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way or gre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576160" y="4940280"/>
            <a:ext cx="376236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6920" y="594828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05920" y="594828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91040" y="376092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032280" y="4411440"/>
            <a:ext cx="0" cy="102708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924520" y="4411440"/>
            <a:ext cx="0" cy="102708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67240" y="4168800"/>
            <a:ext cx="1823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888040" y="656748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73200" y="6303960"/>
            <a:ext cx="1981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87800" y="6303960"/>
            <a:ext cx="2894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1400" y="6303960"/>
            <a:ext cx="198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eighboring Stat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960" y="2787480"/>
            <a:ext cx="4586040" cy="2649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6080" bIns="46080" anchor="ctr" anchorCtr="1">
            <a:normAutofit/>
          </a:bodyPr>
          <a:p>
            <a:pPr marL="295200" indent="-29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spcBef>
                <a:spcPts val="499"/>
              </a:spcBef>
              <a:buClr>
                <a:srgbClr val="ff555d"/>
              </a:buClr>
              <a:buFont typeface="Times New Roman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rs are fully adja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spcBef>
                <a:spcPts val="499"/>
              </a:spcBef>
              <a:buClr>
                <a:srgbClr val="ff555d"/>
              </a:buClr>
              <a:buFont typeface="Times New Roman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s synchr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1120">
              <a:lnSpc>
                <a:spcPct val="90000"/>
              </a:lnSpc>
              <a:spcBef>
                <a:spcPts val="499"/>
              </a:spcBef>
              <a:buClr>
                <a:srgbClr val="ff555d"/>
              </a:buClr>
              <a:buFont typeface="Times New Roman"/>
              <a:buChar char="–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to DR and B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46320" y="3908520"/>
            <a:ext cx="376380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75280" y="491652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77520" y="491652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27800" y="414324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302080" y="3377880"/>
            <a:ext cx="0" cy="102852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196120" y="3377880"/>
            <a:ext cx="0" cy="102852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37400" y="4508640"/>
            <a:ext cx="182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835600" y="3481560"/>
            <a:ext cx="1825560" cy="855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835240" y="3481560"/>
            <a:ext cx="1825560" cy="855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07000" y="3394080"/>
            <a:ext cx="0" cy="942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15240" y="3394080"/>
            <a:ext cx="0" cy="942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758000" y="2874960"/>
            <a:ext cx="884520" cy="536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883040" y="4386240"/>
            <a:ext cx="884520" cy="536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7777080" y="4386240"/>
            <a:ext cx="884160" cy="536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883040" y="2874960"/>
            <a:ext cx="884520" cy="536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735760" y="656748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73200" y="6303960"/>
            <a:ext cx="1981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87800" y="6303960"/>
            <a:ext cx="2894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1400" y="6303960"/>
            <a:ext cx="1981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LSAs Propagate Along Adjacenc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2840" y="4979880"/>
            <a:ext cx="7924680" cy="11606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6080" bIns="46080" anchor="ctr" anchorCtr="1">
            <a:normAutofit/>
          </a:bodyPr>
          <a:p>
            <a:pPr marL="295200" indent="-29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As acknowledged along adjac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582640" y="3006720"/>
            <a:ext cx="3762360" cy="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433840" y="1973160"/>
            <a:ext cx="884520" cy="536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19360" y="3484440"/>
            <a:ext cx="884160" cy="536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510160" y="3484440"/>
            <a:ext cx="884160" cy="5367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2619360" y="1973160"/>
            <a:ext cx="884160" cy="536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811600" y="4014720"/>
            <a:ext cx="51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10600" y="4014720"/>
            <a:ext cx="67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036960" y="2493720"/>
            <a:ext cx="0" cy="102708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929200" y="2493720"/>
            <a:ext cx="0" cy="1027080"/>
          </a:xfrm>
          <a:prstGeom prst="line">
            <a:avLst/>
          </a:prstGeom>
          <a:ln w="25560">
            <a:solidFill>
              <a:srgbClr val="ff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71920" y="3606840"/>
            <a:ext cx="1824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570120" y="2579400"/>
            <a:ext cx="1824120" cy="855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569760" y="2579400"/>
            <a:ext cx="1824120" cy="85572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41520" y="2494080"/>
            <a:ext cx="0" cy="941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48320" y="2494080"/>
            <a:ext cx="0" cy="9414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888040" y="656748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901800"/>
            <a:ext cx="2476440" cy="622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 anchorCtr="1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Today's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323800"/>
            <a:ext cx="4648320" cy="2870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7000"/>
          </a:bodyPr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Distance Vector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Link State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SPF op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ighbor &amp; Adjac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SPF in broadcast networ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35400" y="656748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b6c7c9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2840" y="653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cisco Concep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72840" y="2025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run multiple routing protocols in the same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efix could be learnt via more than one routing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strative distance is used to discriminate between multipl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ed, Static and other dynam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64360" y="6643800"/>
            <a:ext cx="3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Exercise - 1: cisco 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371600" y="2552400"/>
            <a:ext cx="6616800" cy="366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conso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?’ for hel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command comple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how’ comma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how configuration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configuration’ comm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Exercise - 1: cisco 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295280" y="1942920"/>
            <a:ext cx="6616800" cy="366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rmAutofit fontScale="95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configure terminal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Different mo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ample ‘interface ethernet 1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040">
              <a:lnSpc>
                <a:spcPct val="100000"/>
              </a:lnSpc>
              <a:spcBef>
                <a:spcPts val="751"/>
              </a:spcBef>
              <a:buClr>
                <a:srgbClr val="b6c7c9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ip address x.x.x.x m.m.m.m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it’ to exit a m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how ip route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how ip route x.x.x.x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b6c7c9"/>
                </a:solidFill>
                <a:latin typeface="Times New Roman"/>
              </a:rPr>
              <a:t>Exercis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1473120"/>
            <a:ext cx="312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imple OSPF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371600" y="2552400"/>
            <a:ext cx="6616800" cy="366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>
            <a:normAutofit fontScale="95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show ip route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show ip ospf neighbor’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show ip ospf int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show ip protocol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show ip ospf database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many debug command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0" lang="en-US" sz="3000" spc="-1" strike="noStrike">
                <a:solidFill>
                  <a:srgbClr val="000000"/>
                </a:solidFill>
                <a:latin typeface="C Helvetica Condensed"/>
              </a:rPr>
              <a:t>debug ip ospf ?’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b6c7c9"/>
                </a:solidFill>
                <a:latin typeface="Times New Roman"/>
              </a:rPr>
              <a:t>Exercis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1473120"/>
            <a:ext cx="312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imple OSPF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371240" y="2247480"/>
            <a:ext cx="6769080" cy="3816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8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twork x.x.x.x m.m.m.m area &lt;area-id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m.m.m.m’ wildcard mas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0’ do not care 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1’ check 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0.0.0.0’ mask for exact mat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twork 203.167.177.10 0.0.0.0 area 0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twork 203.167.177.0 0.0.0.255 area 0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b6c7c9"/>
                </a:solidFill>
                <a:latin typeface="Times New Roman"/>
              </a:rPr>
              <a:t>Exercis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1473120"/>
            <a:ext cx="312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Simple OSPF 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371600" y="2552400"/>
            <a:ext cx="6616800" cy="241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5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ed to create OSPF routing proc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440">
              <a:lnSpc>
                <a:spcPct val="100000"/>
              </a:lnSpc>
              <a:spcBef>
                <a:spcPts val="751"/>
              </a:spcBef>
              <a:buClr>
                <a:srgbClr val="b6c7c9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router configuration comm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440">
              <a:lnSpc>
                <a:spcPct val="100000"/>
              </a:lnSpc>
              <a:spcBef>
                <a:spcPts val="751"/>
              </a:spcBef>
              <a:buClr>
                <a:srgbClr val="b6c7c9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router ospf &lt;process number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b6c7c9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C Helvetica Condensed"/>
              </a:rPr>
              <a:t> </a:t>
            </a:r>
            <a:r>
              <a:rPr b="0" lang="en-US" sz="3200" spc="-1" strike="noStrike">
                <a:solidFill>
                  <a:srgbClr val="b6c7c9"/>
                </a:solidFill>
                <a:latin typeface="C Helvetica Condensed"/>
              </a:rPr>
              <a:t>Specify the network running o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b6c7c9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C Helvetica Condensed"/>
              </a:rPr>
              <a:t> </a:t>
            </a:r>
            <a:r>
              <a:rPr b="0" lang="en-US" sz="3200" spc="-1" strike="noStrike">
                <a:solidFill>
                  <a:srgbClr val="b6c7c9"/>
                </a:solidFill>
                <a:latin typeface="C Helvetica Condensed"/>
              </a:rPr>
              <a:t>Should also specify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b6c7c9"/>
                </a:solidFill>
                <a:latin typeface="Times New Roman"/>
              </a:rPr>
              <a:t>Exercise1 Verif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510920" y="15685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Times New Roman"/>
              </a:rPr>
              <a:t>show ip o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Times New Roman"/>
              </a:rPr>
              <a:t>show ip ospf neighb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Times New Roman"/>
              </a:rPr>
              <a:t>show ip ro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Times New Roman"/>
              </a:rPr>
              <a:t>show ip route os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Times New Roman"/>
              </a:rPr>
              <a:t>show ip osp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b6c7c9"/>
                </a:solidFill>
                <a:latin typeface="Times New Roman"/>
              </a:rPr>
              <a:t>show ip ospf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Scaling 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371600" y="2552400"/>
            <a:ext cx="6616800" cy="2413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4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ach link transition causes a broadcast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and SPF r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SPF can group routers to appear a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one single ro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SPF are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3314880"/>
            <a:ext cx="217188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543480" y="4571640"/>
            <a:ext cx="17143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OSPF areas (befo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73120" y="2705040"/>
            <a:ext cx="2171880" cy="2552760"/>
            <a:chOff x="1473120" y="2705040"/>
            <a:chExt cx="2171880" cy="2552760"/>
          </a:xfrm>
        </p:grpSpPr>
        <p:sp>
          <p:nvSpPr>
            <p:cNvPr id="359" name=""/>
            <p:cNvSpPr/>
            <p:nvPr/>
          </p:nvSpPr>
          <p:spPr>
            <a:xfrm flipH="1">
              <a:off x="2057400" y="297180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3280" y="3657600"/>
              <a:ext cx="5713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057040" y="3314880"/>
              <a:ext cx="800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29080" y="2971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857320" y="3429000"/>
              <a:ext cx="114120" cy="57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73400" y="2705040"/>
              <a:ext cx="571320" cy="381240"/>
              <a:chOff x="2273400" y="2705040"/>
              <a:chExt cx="571320" cy="3812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2286000" y="2717640"/>
                <a:ext cx="558720" cy="368640"/>
                <a:chOff x="2286000" y="2717640"/>
                <a:chExt cx="558720" cy="3686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2286000" y="28447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98600" y="28447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298600" y="27176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73400" y="270504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0" name=""/>
            <p:cNvGrpSpPr/>
            <p:nvPr/>
          </p:nvGrpSpPr>
          <p:grpSpPr>
            <a:xfrm>
              <a:off x="1587600" y="3390840"/>
              <a:ext cx="571320" cy="381240"/>
              <a:chOff x="1587600" y="3390840"/>
              <a:chExt cx="571320" cy="3812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1600200" y="3403440"/>
                <a:ext cx="558720" cy="368640"/>
                <a:chOff x="1600200" y="3403440"/>
                <a:chExt cx="558720" cy="3686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600200" y="35305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12800" y="35305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612800" y="34034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87600" y="339084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"/>
            <p:cNvGrpSpPr/>
            <p:nvPr/>
          </p:nvGrpSpPr>
          <p:grpSpPr>
            <a:xfrm>
              <a:off x="2730600" y="3162240"/>
              <a:ext cx="571320" cy="381240"/>
              <a:chOff x="2730600" y="3162240"/>
              <a:chExt cx="571320" cy="3812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743200" y="3174840"/>
                <a:ext cx="558720" cy="368640"/>
                <a:chOff x="2743200" y="3174840"/>
                <a:chExt cx="558720" cy="3686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743200" y="33019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755800" y="33019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755800" y="31748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30600" y="316224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"/>
            <p:cNvGrpSpPr/>
            <p:nvPr/>
          </p:nvGrpSpPr>
          <p:grpSpPr>
            <a:xfrm>
              <a:off x="2502000" y="3962520"/>
              <a:ext cx="571320" cy="380880"/>
              <a:chOff x="2502000" y="3962520"/>
              <a:chExt cx="571320" cy="3808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2514600" y="3975120"/>
                <a:ext cx="558720" cy="368280"/>
                <a:chOff x="2514600" y="3975120"/>
                <a:chExt cx="558720" cy="3682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14600" y="4102200"/>
                  <a:ext cx="558720" cy="11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27200" y="410220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527200" y="397512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2000" y="396252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8" name=""/>
            <p:cNvSpPr/>
            <p:nvPr/>
          </p:nvSpPr>
          <p:spPr>
            <a:xfrm flipH="1">
              <a:off x="1828800" y="3657600"/>
              <a:ext cx="1144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2628720" y="4229280"/>
              <a:ext cx="11412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43280" y="4572000"/>
              <a:ext cx="5713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1473120" y="4305240"/>
              <a:ext cx="571680" cy="381240"/>
              <a:chOff x="1473120" y="4305240"/>
              <a:chExt cx="571680" cy="381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1486080" y="4317840"/>
                <a:ext cx="558720" cy="368640"/>
                <a:chOff x="1486080" y="4317840"/>
                <a:chExt cx="558720" cy="368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486080" y="44449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498680" y="44449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498680" y="43178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73120" y="430524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7" name=""/>
            <p:cNvSpPr/>
            <p:nvPr/>
          </p:nvSpPr>
          <p:spPr>
            <a:xfrm flipV="1">
              <a:off x="2743200" y="4800240"/>
              <a:ext cx="4572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073320" y="4533840"/>
              <a:ext cx="571680" cy="381240"/>
              <a:chOff x="3073320" y="4533840"/>
              <a:chExt cx="571680" cy="38124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3086280" y="4546440"/>
                <a:ext cx="558720" cy="368640"/>
                <a:chOff x="3086280" y="4546440"/>
                <a:chExt cx="558720" cy="3686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086280" y="46735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098880" y="46735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98880" y="45464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73320" y="453384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4" name=""/>
            <p:cNvGrpSpPr/>
            <p:nvPr/>
          </p:nvGrpSpPr>
          <p:grpSpPr>
            <a:xfrm>
              <a:off x="2273400" y="4876920"/>
              <a:ext cx="571320" cy="380880"/>
              <a:chOff x="2273400" y="4876920"/>
              <a:chExt cx="571320" cy="38088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286000" y="4889520"/>
                <a:ext cx="558720" cy="368280"/>
                <a:chOff x="2286000" y="4889520"/>
                <a:chExt cx="558720" cy="368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286000" y="5016600"/>
                  <a:ext cx="558720" cy="11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98600" y="501660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98600" y="488952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73400" y="487692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0" name=""/>
          <p:cNvGrpSpPr/>
          <p:nvPr/>
        </p:nvGrpSpPr>
        <p:grpSpPr>
          <a:xfrm>
            <a:off x="5245200" y="2705040"/>
            <a:ext cx="2171520" cy="2552760"/>
            <a:chOff x="5245200" y="2705040"/>
            <a:chExt cx="2171520" cy="2552760"/>
          </a:xfrm>
        </p:grpSpPr>
        <p:sp>
          <p:nvSpPr>
            <p:cNvPr id="411" name=""/>
            <p:cNvSpPr/>
            <p:nvPr/>
          </p:nvSpPr>
          <p:spPr>
            <a:xfrm flipH="1">
              <a:off x="5829480" y="297180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3657600"/>
              <a:ext cx="5716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829480" y="3314880"/>
              <a:ext cx="799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00800" y="2971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629400" y="3429000"/>
              <a:ext cx="114480" cy="57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045120" y="2705040"/>
              <a:ext cx="571680" cy="381240"/>
              <a:chOff x="6045120" y="2705040"/>
              <a:chExt cx="571680" cy="38124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6058080" y="2717640"/>
                <a:ext cx="558720" cy="368640"/>
                <a:chOff x="6058080" y="2717640"/>
                <a:chExt cx="558720" cy="3686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058080" y="28447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070680" y="28447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070680" y="27176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45120" y="270504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2" name=""/>
            <p:cNvGrpSpPr/>
            <p:nvPr/>
          </p:nvGrpSpPr>
          <p:grpSpPr>
            <a:xfrm>
              <a:off x="5359320" y="3390840"/>
              <a:ext cx="571680" cy="381240"/>
              <a:chOff x="5359320" y="3390840"/>
              <a:chExt cx="571680" cy="3812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5372280" y="3403440"/>
                <a:ext cx="558720" cy="368640"/>
                <a:chOff x="5372280" y="3403440"/>
                <a:chExt cx="558720" cy="3686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5372280" y="35305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384880" y="35305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84880" y="34034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59320" y="339084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8" name=""/>
            <p:cNvGrpSpPr/>
            <p:nvPr/>
          </p:nvGrpSpPr>
          <p:grpSpPr>
            <a:xfrm>
              <a:off x="6502320" y="3162240"/>
              <a:ext cx="571680" cy="381240"/>
              <a:chOff x="6502320" y="3162240"/>
              <a:chExt cx="571680" cy="381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6515280" y="3174840"/>
                <a:ext cx="558720" cy="368640"/>
                <a:chOff x="6515280" y="3174840"/>
                <a:chExt cx="558720" cy="3686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515280" y="33019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27880" y="33019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527880" y="31748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02320" y="316224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"/>
            <p:cNvGrpSpPr/>
            <p:nvPr/>
          </p:nvGrpSpPr>
          <p:grpSpPr>
            <a:xfrm>
              <a:off x="6273720" y="3962520"/>
              <a:ext cx="571680" cy="380880"/>
              <a:chOff x="6273720" y="3962520"/>
              <a:chExt cx="571680" cy="38088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6286680" y="3975120"/>
                <a:ext cx="558720" cy="368280"/>
                <a:chOff x="6286680" y="3975120"/>
                <a:chExt cx="558720" cy="3682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286680" y="4102200"/>
                  <a:ext cx="558720" cy="11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299280" y="410220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99280" y="397512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73720" y="396252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0" name=""/>
            <p:cNvSpPr/>
            <p:nvPr/>
          </p:nvSpPr>
          <p:spPr>
            <a:xfrm flipH="1">
              <a:off x="5600520" y="3657600"/>
              <a:ext cx="11412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400800" y="4229280"/>
              <a:ext cx="1144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15000" y="4572000"/>
              <a:ext cx="5716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5245200" y="4305240"/>
              <a:ext cx="571320" cy="381240"/>
              <a:chOff x="5245200" y="4305240"/>
              <a:chExt cx="571320" cy="3812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57800" y="4317840"/>
                <a:ext cx="558720" cy="368640"/>
                <a:chOff x="5257800" y="4317840"/>
                <a:chExt cx="558720" cy="3686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5257800" y="44449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270400" y="44449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270400" y="43178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4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45200" y="430524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9" name=""/>
            <p:cNvSpPr/>
            <p:nvPr/>
          </p:nvSpPr>
          <p:spPr>
            <a:xfrm flipV="1">
              <a:off x="6515280" y="4800240"/>
              <a:ext cx="4572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6845400" y="4533840"/>
              <a:ext cx="571320" cy="381240"/>
              <a:chOff x="6845400" y="4533840"/>
              <a:chExt cx="571320" cy="38124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6858000" y="4546440"/>
                <a:ext cx="558720" cy="368640"/>
                <a:chOff x="6858000" y="4546440"/>
                <a:chExt cx="558720" cy="368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6858000" y="4673520"/>
                  <a:ext cx="558720" cy="1144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870600" y="467352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870600" y="4546440"/>
                  <a:ext cx="546120" cy="24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45400" y="4533840"/>
                <a:ext cx="53316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6" name=""/>
            <p:cNvGrpSpPr/>
            <p:nvPr/>
          </p:nvGrpSpPr>
          <p:grpSpPr>
            <a:xfrm>
              <a:off x="6045120" y="4876920"/>
              <a:ext cx="571680" cy="380880"/>
              <a:chOff x="6045120" y="4876920"/>
              <a:chExt cx="571680" cy="38088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6058080" y="4889520"/>
                <a:ext cx="558720" cy="368280"/>
                <a:chOff x="6058080" y="4889520"/>
                <a:chExt cx="558720" cy="3682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058080" y="5016600"/>
                  <a:ext cx="558720" cy="11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70680" y="501660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070680" y="4889520"/>
                  <a:ext cx="546120" cy="241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6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45120" y="4876920"/>
                <a:ext cx="53352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359000" y="2120760"/>
            <a:ext cx="2984400" cy="3899160"/>
            <a:chOff x="1359000" y="2120760"/>
            <a:chExt cx="2984400" cy="3899160"/>
          </a:xfrm>
        </p:grpSpPr>
        <p:grpSp>
          <p:nvGrpSpPr>
            <p:cNvPr id="466" name=""/>
            <p:cNvGrpSpPr/>
            <p:nvPr/>
          </p:nvGrpSpPr>
          <p:grpSpPr>
            <a:xfrm>
              <a:off x="1397160" y="2260440"/>
              <a:ext cx="2946240" cy="3759480"/>
              <a:chOff x="1397160" y="2260440"/>
              <a:chExt cx="2946240" cy="3759480"/>
            </a:xfrm>
          </p:grpSpPr>
          <p:sp>
            <p:nvSpPr>
              <p:cNvPr id="467" name=""/>
              <p:cNvSpPr/>
              <p:nvPr/>
            </p:nvSpPr>
            <p:spPr>
              <a:xfrm>
                <a:off x="2413080" y="2260440"/>
                <a:ext cx="1257120" cy="1524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714680" y="2641680"/>
                <a:ext cx="939600" cy="1562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97160" y="3594240"/>
                <a:ext cx="647640" cy="1231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00200" y="4203720"/>
                <a:ext cx="965160" cy="1333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11560" y="4394160"/>
                <a:ext cx="1473120" cy="1625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51160" y="2679840"/>
                <a:ext cx="927000" cy="119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03440" y="3492360"/>
                <a:ext cx="939960" cy="1194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327480" y="3784680"/>
                <a:ext cx="901800" cy="194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30320" y="3162240"/>
                <a:ext cx="1905120" cy="1994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6" name="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2895480" cy="375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7" name=""/>
          <p:cNvGrpSpPr/>
          <p:nvPr/>
        </p:nvGrpSpPr>
        <p:grpSpPr>
          <a:xfrm>
            <a:off x="5016600" y="2235240"/>
            <a:ext cx="2984400" cy="3898800"/>
            <a:chOff x="5016600" y="2235240"/>
            <a:chExt cx="2984400" cy="3898800"/>
          </a:xfrm>
        </p:grpSpPr>
        <p:grpSp>
          <p:nvGrpSpPr>
            <p:cNvPr id="478" name=""/>
            <p:cNvGrpSpPr/>
            <p:nvPr/>
          </p:nvGrpSpPr>
          <p:grpSpPr>
            <a:xfrm>
              <a:off x="5054760" y="2374920"/>
              <a:ext cx="2946240" cy="3759120"/>
              <a:chOff x="5054760" y="2374920"/>
              <a:chExt cx="2946240" cy="3759120"/>
            </a:xfrm>
          </p:grpSpPr>
          <p:sp>
            <p:nvSpPr>
              <p:cNvPr id="479" name=""/>
              <p:cNvSpPr/>
              <p:nvPr/>
            </p:nvSpPr>
            <p:spPr>
              <a:xfrm>
                <a:off x="6070680" y="2374920"/>
                <a:ext cx="1257120" cy="1523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372280" y="2755800"/>
                <a:ext cx="939600" cy="1562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54760" y="3708360"/>
                <a:ext cx="647640" cy="1231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57800" y="4317840"/>
                <a:ext cx="965160" cy="1333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69160" y="4508640"/>
                <a:ext cx="1473120" cy="162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908760" y="2793960"/>
                <a:ext cx="927000" cy="119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61040" y="3606840"/>
                <a:ext cx="939960" cy="119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85080" y="3898800"/>
                <a:ext cx="901800" cy="1943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87920" y="3276720"/>
                <a:ext cx="1905120" cy="1993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3"/>
            <a:stretch/>
          </p:blipFill>
          <p:spPr>
            <a:xfrm>
              <a:off x="5016600" y="2235240"/>
              <a:ext cx="2895480" cy="375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OSPF areas (af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701720" y="2590920"/>
            <a:ext cx="5943600" cy="2552760"/>
            <a:chOff x="1701720" y="2590920"/>
            <a:chExt cx="5943600" cy="2552760"/>
          </a:xfrm>
        </p:grpSpPr>
        <p:sp>
          <p:nvSpPr>
            <p:cNvPr id="492" name=""/>
            <p:cNvSpPr/>
            <p:nvPr/>
          </p:nvSpPr>
          <p:spPr>
            <a:xfrm>
              <a:off x="3429000" y="3200400"/>
              <a:ext cx="217188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772080" y="4457520"/>
              <a:ext cx="1714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701720" y="2590920"/>
              <a:ext cx="2171880" cy="2552760"/>
              <a:chOff x="1701720" y="2590920"/>
              <a:chExt cx="2171880" cy="255276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2286000" y="285768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71880" y="3543480"/>
                <a:ext cx="57132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2285640" y="3200400"/>
                <a:ext cx="800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57680" y="285768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085920" y="3314880"/>
                <a:ext cx="114120" cy="57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2502000" y="2590920"/>
                <a:ext cx="571320" cy="380880"/>
                <a:chOff x="2502000" y="2590920"/>
                <a:chExt cx="571320" cy="38088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2514600" y="2603520"/>
                  <a:ext cx="558720" cy="368280"/>
                  <a:chOff x="2514600" y="2603520"/>
                  <a:chExt cx="558720" cy="36828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2514600" y="27306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527200" y="27306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527200" y="26035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0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2000" y="259092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6" name=""/>
              <p:cNvGrpSpPr/>
              <p:nvPr/>
            </p:nvGrpSpPr>
            <p:grpSpPr>
              <a:xfrm>
                <a:off x="1816200" y="3276720"/>
                <a:ext cx="571320" cy="380880"/>
                <a:chOff x="1816200" y="3276720"/>
                <a:chExt cx="571320" cy="380880"/>
              </a:xfrm>
            </p:grpSpPr>
            <p:grpSp>
              <p:nvGrpSpPr>
                <p:cNvPr id="507" name=""/>
                <p:cNvGrpSpPr/>
                <p:nvPr/>
              </p:nvGrpSpPr>
              <p:grpSpPr>
                <a:xfrm>
                  <a:off x="1828800" y="3289320"/>
                  <a:ext cx="558720" cy="368280"/>
                  <a:chOff x="1828800" y="3289320"/>
                  <a:chExt cx="558720" cy="36828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1828800" y="34164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841400" y="34164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841400" y="32893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16200" y="327672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2" name=""/>
              <p:cNvGrpSpPr/>
              <p:nvPr/>
            </p:nvGrpSpPr>
            <p:grpSpPr>
              <a:xfrm>
                <a:off x="2959200" y="3048120"/>
                <a:ext cx="571320" cy="380880"/>
                <a:chOff x="2959200" y="3048120"/>
                <a:chExt cx="571320" cy="38088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2971800" y="3060720"/>
                  <a:ext cx="558720" cy="368280"/>
                  <a:chOff x="2971800" y="3060720"/>
                  <a:chExt cx="558720" cy="36828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971800" y="31878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984400" y="31878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984400" y="30607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1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959200" y="304812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8" name=""/>
              <p:cNvGrpSpPr/>
              <p:nvPr/>
            </p:nvGrpSpPr>
            <p:grpSpPr>
              <a:xfrm>
                <a:off x="2730600" y="3848040"/>
                <a:ext cx="571320" cy="381240"/>
                <a:chOff x="2730600" y="3848040"/>
                <a:chExt cx="571320" cy="38124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2743200" y="3860640"/>
                  <a:ext cx="558720" cy="368640"/>
                  <a:chOff x="2743200" y="3860640"/>
                  <a:chExt cx="558720" cy="36864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2743200" y="3987720"/>
                    <a:ext cx="55872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755800" y="398772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755800" y="386064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30600" y="384804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24" name=""/>
              <p:cNvSpPr/>
              <p:nvPr/>
            </p:nvSpPr>
            <p:spPr>
              <a:xfrm flipH="1">
                <a:off x="2057400" y="3543480"/>
                <a:ext cx="11448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2857320" y="4114800"/>
                <a:ext cx="11412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171880" y="4457880"/>
                <a:ext cx="57132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1701720" y="4191120"/>
                <a:ext cx="571680" cy="380880"/>
                <a:chOff x="1701720" y="4191120"/>
                <a:chExt cx="571680" cy="38088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1714680" y="4203720"/>
                  <a:ext cx="558720" cy="368280"/>
                  <a:chOff x="1714680" y="4203720"/>
                  <a:chExt cx="558720" cy="3682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1714680" y="43308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1727280" y="43308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727280" y="42037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701720" y="419112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33" name=""/>
              <p:cNvSpPr/>
              <p:nvPr/>
            </p:nvSpPr>
            <p:spPr>
              <a:xfrm flipV="1">
                <a:off x="2971800" y="4686480"/>
                <a:ext cx="457200" cy="34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3301920" y="4419720"/>
                <a:ext cx="571680" cy="380880"/>
                <a:chOff x="3301920" y="4419720"/>
                <a:chExt cx="571680" cy="38088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3314880" y="4432320"/>
                  <a:ext cx="558720" cy="368280"/>
                  <a:chOff x="3314880" y="4432320"/>
                  <a:chExt cx="558720" cy="36828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3314880" y="45594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327480" y="45594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327480" y="44323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3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301920" y="441972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0" name=""/>
              <p:cNvGrpSpPr/>
              <p:nvPr/>
            </p:nvGrpSpPr>
            <p:grpSpPr>
              <a:xfrm>
                <a:off x="2502000" y="4762440"/>
                <a:ext cx="571320" cy="381240"/>
                <a:chOff x="2502000" y="4762440"/>
                <a:chExt cx="571320" cy="38124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2514600" y="4775040"/>
                  <a:ext cx="558720" cy="368640"/>
                  <a:chOff x="2514600" y="4775040"/>
                  <a:chExt cx="558720" cy="3686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2514600" y="4902120"/>
                    <a:ext cx="55872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527200" y="490212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527200" y="477504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4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502000" y="476244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46" name=""/>
            <p:cNvGrpSpPr/>
            <p:nvPr/>
          </p:nvGrpSpPr>
          <p:grpSpPr>
            <a:xfrm>
              <a:off x="5473800" y="2590920"/>
              <a:ext cx="2171520" cy="2552760"/>
              <a:chOff x="5473800" y="2590920"/>
              <a:chExt cx="2171520" cy="25527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6058080" y="285768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43600" y="3543480"/>
                <a:ext cx="5716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058080" y="3200400"/>
                <a:ext cx="799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629400" y="285768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858000" y="3314880"/>
                <a:ext cx="114480" cy="571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6273720" y="2590920"/>
                <a:ext cx="571680" cy="380880"/>
                <a:chOff x="6273720" y="2590920"/>
                <a:chExt cx="571680" cy="38088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6286680" y="2603520"/>
                  <a:ext cx="558720" cy="368280"/>
                  <a:chOff x="6286680" y="2603520"/>
                  <a:chExt cx="558720" cy="3682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6286680" y="27306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299280" y="27306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299280" y="26035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5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273720" y="259092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8" name=""/>
              <p:cNvGrpSpPr/>
              <p:nvPr/>
            </p:nvGrpSpPr>
            <p:grpSpPr>
              <a:xfrm>
                <a:off x="5587920" y="3276720"/>
                <a:ext cx="571680" cy="380880"/>
                <a:chOff x="5587920" y="3276720"/>
                <a:chExt cx="571680" cy="380880"/>
              </a:xfrm>
            </p:grpSpPr>
            <p:grpSp>
              <p:nvGrpSpPr>
                <p:cNvPr id="559" name=""/>
                <p:cNvGrpSpPr/>
                <p:nvPr/>
              </p:nvGrpSpPr>
              <p:grpSpPr>
                <a:xfrm>
                  <a:off x="5600880" y="3289320"/>
                  <a:ext cx="558720" cy="368280"/>
                  <a:chOff x="5600880" y="3289320"/>
                  <a:chExt cx="558720" cy="36828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5600880" y="34164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613480" y="34164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613480" y="32893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87920" y="327672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64" name=""/>
              <p:cNvGrpSpPr/>
              <p:nvPr/>
            </p:nvGrpSpPr>
            <p:grpSpPr>
              <a:xfrm>
                <a:off x="6730920" y="3048120"/>
                <a:ext cx="571680" cy="380880"/>
                <a:chOff x="6730920" y="3048120"/>
                <a:chExt cx="571680" cy="380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6743880" y="3060720"/>
                  <a:ext cx="558720" cy="368280"/>
                  <a:chOff x="6743880" y="3060720"/>
                  <a:chExt cx="558720" cy="3682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6743880" y="31878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756480" y="31878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756480" y="30607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730920" y="304812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0" name=""/>
              <p:cNvGrpSpPr/>
              <p:nvPr/>
            </p:nvGrpSpPr>
            <p:grpSpPr>
              <a:xfrm>
                <a:off x="6502320" y="3848040"/>
                <a:ext cx="571680" cy="381240"/>
                <a:chOff x="6502320" y="3848040"/>
                <a:chExt cx="571680" cy="38124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6515280" y="3860640"/>
                  <a:ext cx="558720" cy="368640"/>
                  <a:chOff x="6515280" y="3860640"/>
                  <a:chExt cx="558720" cy="36864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6515280" y="3987720"/>
                    <a:ext cx="55872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27880" y="398772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527880" y="386064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502320" y="384804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6" name=""/>
              <p:cNvSpPr/>
              <p:nvPr/>
            </p:nvSpPr>
            <p:spPr>
              <a:xfrm flipH="1">
                <a:off x="5829120" y="3543480"/>
                <a:ext cx="11412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629400" y="4114800"/>
                <a:ext cx="11448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43600" y="4457880"/>
                <a:ext cx="5716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5473800" y="4191120"/>
                <a:ext cx="571320" cy="380880"/>
                <a:chOff x="5473800" y="4191120"/>
                <a:chExt cx="571320" cy="38088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5486400" y="4203720"/>
                  <a:ext cx="558720" cy="368280"/>
                  <a:chOff x="5486400" y="4203720"/>
                  <a:chExt cx="558720" cy="36828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5486400" y="43308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499000" y="43308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499000" y="42037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8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73800" y="419112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5" name=""/>
              <p:cNvSpPr/>
              <p:nvPr/>
            </p:nvSpPr>
            <p:spPr>
              <a:xfrm flipV="1">
                <a:off x="6743880" y="4686480"/>
                <a:ext cx="457200" cy="34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7074000" y="4419720"/>
                <a:ext cx="571320" cy="380880"/>
                <a:chOff x="7074000" y="4419720"/>
                <a:chExt cx="571320" cy="38088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7086600" y="4432320"/>
                  <a:ext cx="558720" cy="368280"/>
                  <a:chOff x="7086600" y="4432320"/>
                  <a:chExt cx="558720" cy="36828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7086600" y="4559400"/>
                    <a:ext cx="558720" cy="114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099200" y="455940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099200" y="4432320"/>
                    <a:ext cx="546120" cy="241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074000" y="4419720"/>
                  <a:ext cx="53316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2" name=""/>
              <p:cNvGrpSpPr/>
              <p:nvPr/>
            </p:nvGrpSpPr>
            <p:grpSpPr>
              <a:xfrm>
                <a:off x="6273720" y="4762440"/>
                <a:ext cx="571680" cy="381240"/>
                <a:chOff x="6273720" y="4762440"/>
                <a:chExt cx="571680" cy="38124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6286680" y="4775040"/>
                  <a:ext cx="558720" cy="368640"/>
                  <a:chOff x="6286680" y="4775040"/>
                  <a:chExt cx="558720" cy="368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6286680" y="4902120"/>
                    <a:ext cx="558720" cy="11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299280" y="490212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299280" y="4775040"/>
                    <a:ext cx="546120" cy="241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6273720" y="4762440"/>
                  <a:ext cx="533520" cy="33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901800"/>
            <a:ext cx="2425680" cy="622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ctr" anchorCtr="1">
            <a:noAutofit/>
          </a:bodyPr>
          <a:p>
            <a:pPr indent="0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Today’s Talk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2711520"/>
            <a:ext cx="4483080" cy="3047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76000"/>
          </a:bodyPr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ercise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9160">
              <a:lnSpc>
                <a:spcPct val="100000"/>
              </a:lnSpc>
              <a:spcBef>
                <a:spcPts val="700"/>
              </a:spcBef>
              <a:buClr>
                <a:srgbClr val="b6c7c9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b6c7c9"/>
                </a:solidFill>
                <a:latin typeface="C Helvetica Condensed"/>
              </a:rPr>
              <a:t> </a:t>
            </a:r>
            <a:r>
              <a:rPr b="1" lang="en-US" sz="2800" spc="-1" strike="noStrike">
                <a:solidFill>
                  <a:srgbClr val="b6c7c9"/>
                </a:solidFill>
                <a:latin typeface="C Helvetica Condensed"/>
              </a:rPr>
              <a:t>simple OSP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b6c7c9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b6c7c9"/>
                </a:solidFill>
                <a:latin typeface="C Helvetica Condensed"/>
              </a:rPr>
              <a:t>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ercise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9160">
              <a:lnSpc>
                <a:spcPct val="100000"/>
              </a:lnSpc>
              <a:spcBef>
                <a:spcPts val="700"/>
              </a:spcBef>
              <a:buClr>
                <a:srgbClr val="b6c7c9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b6c7c9"/>
                </a:solidFill>
                <a:latin typeface="C Helvetica Condensed"/>
              </a:rPr>
              <a:t>multiple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Redistrib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xercise-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9160">
              <a:lnSpc>
                <a:spcPct val="100000"/>
              </a:lnSpc>
              <a:spcBef>
                <a:spcPts val="700"/>
              </a:spcBef>
              <a:buClr>
                <a:srgbClr val="b6c7c9"/>
              </a:buClr>
              <a:buFont typeface="C Helvetica Condensed"/>
              <a:buChar char="–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b6c7c9"/>
                </a:solidFill>
                <a:latin typeface="C Helvetica Condensed"/>
              </a:rPr>
              <a:t>redistribution of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737560" y="6642000"/>
            <a:ext cx="1904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Scaling 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371240" y="2095560"/>
            <a:ext cx="6426360" cy="4044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8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Rule of thumb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no more than 150 routers/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Reality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no more than 500 routers/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ackbone "area" is an 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Always ‘area 0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Proper use of areas reduce bandwidth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&amp; CPU util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901800"/>
            <a:ext cx="5143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Scaling OS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371240" y="2095560"/>
            <a:ext cx="6426360" cy="25970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7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Route could be summarized are 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bound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stability is limited within each 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Divide and conqu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71600" y="901800"/>
            <a:ext cx="5321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Exercise - 2: OSPF with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371240" y="2323800"/>
            <a:ext cx="6769080" cy="366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7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Use ‘network ... area &lt;area-id&gt; comm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ach interface only in 1 are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Multiple areas per rou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f more than on area, the router should 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 area 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‘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area 0’ used for inter-area traff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901800"/>
            <a:ext cx="5321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Re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371240" y="2323800"/>
            <a:ext cx="6769080" cy="3663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jecting route from other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ften useful during tran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ed to be careful about feedb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Need to set metr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3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882720"/>
            <a:ext cx="501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71600" y="2323800"/>
            <a:ext cx="6515280" cy="2870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94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Open Shortest First Path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Preferred IG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The myth : OSPF is hard to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volved from IS-IS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Link state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37560" y="6578640"/>
            <a:ext cx="1904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882720"/>
            <a:ext cx="501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Distance Vector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71600" y="2323800"/>
            <a:ext cx="6515280" cy="2870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3000"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Listen to neighboring rou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stall routes in table, lowest distanc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w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Advertise all routes in 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Very si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Very stup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37560" y="6578640"/>
            <a:ext cx="1904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901800"/>
            <a:ext cx="48639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Distance Vector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37560" y="6578640"/>
            <a:ext cx="1904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90840" y="2793960"/>
            <a:ext cx="3200400" cy="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222640"/>
            <a:ext cx="685800" cy="4572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33720" y="2793600"/>
            <a:ext cx="1257120" cy="2286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05040" y="2793960"/>
            <a:ext cx="685800" cy="9144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477120" y="1994040"/>
            <a:ext cx="914400" cy="79992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793960"/>
            <a:ext cx="1143000" cy="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2793960"/>
            <a:ext cx="799920" cy="80028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0440" y="199404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78040" y="285768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87520" y="361944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1752480"/>
            <a:ext cx="584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58280" y="2603520"/>
            <a:ext cx="571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27800" y="3441600"/>
            <a:ext cx="546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233676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908440"/>
            <a:ext cx="1485720" cy="6858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991040" y="2793960"/>
            <a:ext cx="1486080" cy="80028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73320" y="2590920"/>
            <a:ext cx="571680" cy="380880"/>
            <a:chOff x="3073320" y="2590920"/>
            <a:chExt cx="571680" cy="380880"/>
          </a:xfrm>
        </p:grpSpPr>
        <p:grpSp>
          <p:nvGrpSpPr>
            <p:cNvPr id="94" name=""/>
            <p:cNvGrpSpPr/>
            <p:nvPr/>
          </p:nvGrpSpPr>
          <p:grpSpPr>
            <a:xfrm>
              <a:off x="3086280" y="2603520"/>
              <a:ext cx="558720" cy="368280"/>
              <a:chOff x="3086280" y="2603520"/>
              <a:chExt cx="558720" cy="368280"/>
            </a:xfrm>
          </p:grpSpPr>
          <p:sp>
            <p:nvSpPr>
              <p:cNvPr id="95" name=""/>
              <p:cNvSpPr/>
              <p:nvPr/>
            </p:nvSpPr>
            <p:spPr>
              <a:xfrm>
                <a:off x="3086280" y="2730600"/>
                <a:ext cx="558720" cy="114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98880" y="273060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98880" y="260352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3073320" y="2590920"/>
              <a:ext cx="53352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4673520" y="3505320"/>
            <a:ext cx="571680" cy="380880"/>
            <a:chOff x="4673520" y="3505320"/>
            <a:chExt cx="571680" cy="380880"/>
          </a:xfrm>
        </p:grpSpPr>
        <p:grpSp>
          <p:nvGrpSpPr>
            <p:cNvPr id="100" name=""/>
            <p:cNvGrpSpPr/>
            <p:nvPr/>
          </p:nvGrpSpPr>
          <p:grpSpPr>
            <a:xfrm>
              <a:off x="4686480" y="3517920"/>
              <a:ext cx="558720" cy="368280"/>
              <a:chOff x="4686480" y="3517920"/>
              <a:chExt cx="55872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4686480" y="3645000"/>
                <a:ext cx="558720" cy="114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99080" y="364500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99080" y="351792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4673520" y="3505320"/>
              <a:ext cx="53352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6159600" y="2590920"/>
            <a:ext cx="571320" cy="380880"/>
            <a:chOff x="6159600" y="2590920"/>
            <a:chExt cx="571320" cy="380880"/>
          </a:xfrm>
        </p:grpSpPr>
        <p:grpSp>
          <p:nvGrpSpPr>
            <p:cNvPr id="106" name=""/>
            <p:cNvGrpSpPr/>
            <p:nvPr/>
          </p:nvGrpSpPr>
          <p:grpSpPr>
            <a:xfrm>
              <a:off x="6172200" y="2603520"/>
              <a:ext cx="558720" cy="368280"/>
              <a:chOff x="6172200" y="2603520"/>
              <a:chExt cx="558720" cy="368280"/>
            </a:xfrm>
          </p:grpSpPr>
          <p:sp>
            <p:nvSpPr>
              <p:cNvPr id="107" name=""/>
              <p:cNvSpPr/>
              <p:nvPr/>
            </p:nvSpPr>
            <p:spPr>
              <a:xfrm>
                <a:off x="6172200" y="2730600"/>
                <a:ext cx="558720" cy="114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84800" y="273060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84800" y="260352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159600" y="2590920"/>
              <a:ext cx="53316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3860640" y="322596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65760" y="3314880"/>
            <a:ext cx="520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7040" y="3606840"/>
            <a:ext cx="15112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 s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6640" y="3200400"/>
            <a:ext cx="11304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s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62240" y="3594240"/>
            <a:ext cx="800280" cy="1485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4040" y="3251160"/>
            <a:ext cx="8002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8040" y="26798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48440" y="267984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901800"/>
            <a:ext cx="5473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Link State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71600" y="2095200"/>
            <a:ext cx="6616800" cy="33274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80000"/>
          </a:bodyPr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information about adjacencies sent to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all rou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ach router builds a topology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a "shortest path" algorithm is used to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find best ro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converge as quickly as databases ca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be upd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901800"/>
            <a:ext cx="37209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Link State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793960"/>
            <a:ext cx="3200400" cy="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5040" y="2222640"/>
            <a:ext cx="685800" cy="4572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247840" y="2793600"/>
            <a:ext cx="1257480" cy="2286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19520" y="2793960"/>
            <a:ext cx="685800" cy="91440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591240" y="1994040"/>
            <a:ext cx="914400" cy="79992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1240" y="2793960"/>
            <a:ext cx="1143000" cy="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91240" y="2793960"/>
            <a:ext cx="800280" cy="80028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4920" y="199404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92160" y="285768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2000" y="361944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93040" y="1752480"/>
            <a:ext cx="584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2603520"/>
            <a:ext cx="571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42280" y="3441600"/>
            <a:ext cx="546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10160" y="233676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67160" y="2146320"/>
            <a:ext cx="571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2120760"/>
            <a:ext cx="5716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98800" y="5448240"/>
            <a:ext cx="2882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- 1 - G - 2 -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2793960"/>
            <a:ext cx="1714320" cy="80028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19280" y="2908440"/>
            <a:ext cx="1257480" cy="571320"/>
          </a:xfrm>
          <a:prstGeom prst="line">
            <a:avLst/>
          </a:prstGeom>
          <a:ln w="25560">
            <a:solidFill>
              <a:srgbClr val="ffc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87800" y="2590920"/>
            <a:ext cx="571320" cy="380880"/>
            <a:chOff x="3187800" y="2590920"/>
            <a:chExt cx="571320" cy="380880"/>
          </a:xfrm>
        </p:grpSpPr>
        <p:grpSp>
          <p:nvGrpSpPr>
            <p:cNvPr id="150" name=""/>
            <p:cNvGrpSpPr/>
            <p:nvPr/>
          </p:nvGrpSpPr>
          <p:grpSpPr>
            <a:xfrm>
              <a:off x="3200400" y="2603520"/>
              <a:ext cx="558720" cy="368280"/>
              <a:chOff x="3200400" y="2603520"/>
              <a:chExt cx="55872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3200400" y="2730600"/>
                <a:ext cx="558720" cy="114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13000" y="273060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13000" y="260352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187800" y="2590920"/>
              <a:ext cx="53316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4902120" y="3390840"/>
            <a:ext cx="571680" cy="381240"/>
            <a:chOff x="4902120" y="3390840"/>
            <a:chExt cx="571680" cy="381240"/>
          </a:xfrm>
        </p:grpSpPr>
        <p:grpSp>
          <p:nvGrpSpPr>
            <p:cNvPr id="156" name=""/>
            <p:cNvGrpSpPr/>
            <p:nvPr/>
          </p:nvGrpSpPr>
          <p:grpSpPr>
            <a:xfrm>
              <a:off x="4915080" y="3403440"/>
              <a:ext cx="558720" cy="368640"/>
              <a:chOff x="4915080" y="3403440"/>
              <a:chExt cx="558720" cy="368640"/>
            </a:xfrm>
          </p:grpSpPr>
          <p:sp>
            <p:nvSpPr>
              <p:cNvPr id="157" name=""/>
              <p:cNvSpPr/>
              <p:nvPr/>
            </p:nvSpPr>
            <p:spPr>
              <a:xfrm>
                <a:off x="4915080" y="3530520"/>
                <a:ext cx="558720" cy="11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27680" y="3530520"/>
                <a:ext cx="546120" cy="241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27680" y="3403440"/>
                <a:ext cx="546120" cy="241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902120" y="3390840"/>
              <a:ext cx="53352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6273720" y="2590920"/>
            <a:ext cx="571680" cy="380880"/>
            <a:chOff x="6273720" y="2590920"/>
            <a:chExt cx="571680" cy="380880"/>
          </a:xfrm>
        </p:grpSpPr>
        <p:grpSp>
          <p:nvGrpSpPr>
            <p:cNvPr id="162" name=""/>
            <p:cNvGrpSpPr/>
            <p:nvPr/>
          </p:nvGrpSpPr>
          <p:grpSpPr>
            <a:xfrm>
              <a:off x="6286680" y="2603520"/>
              <a:ext cx="558720" cy="368280"/>
              <a:chOff x="6286680" y="2603520"/>
              <a:chExt cx="5587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6286680" y="2730600"/>
                <a:ext cx="558720" cy="114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99280" y="273060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99280" y="2603520"/>
                <a:ext cx="546120" cy="241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6273720" y="2590920"/>
              <a:ext cx="53352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/>
          <p:nvPr/>
        </p:nvSpPr>
        <p:spPr>
          <a:xfrm>
            <a:off x="4241880" y="3225960"/>
            <a:ext cx="584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276720"/>
            <a:ext cx="520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009960"/>
            <a:ext cx="571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97080" y="4330800"/>
            <a:ext cx="1384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rou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A, B, C, G,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35360" y="4280040"/>
            <a:ext cx="1003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rout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H,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78640" y="433080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rout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 Helvetica Condensed"/>
              </a:rPr>
              <a:t>D, E, F, G,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8920" y="5854680"/>
            <a:ext cx="914400" cy="469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368280"/>
            <a:ext cx="1066680" cy="6222960"/>
          </a:xfrm>
          <a:prstGeom prst="rect">
            <a:avLst/>
          </a:prstGeom>
          <a:gradFill rotWithShape="0">
            <a:gsLst>
              <a:gs pos="0">
                <a:srgbClr val="bcc7c9"/>
              </a:gs>
              <a:gs pos="100000">
                <a:srgbClr val="5a77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723960"/>
            <a:ext cx="801720" cy="788760"/>
          </a:xfrm>
          <a:custGeom>
            <a:avLst/>
            <a:gdLst/>
            <a:ahLst/>
            <a:rect l="l" t="t" r="r" b="b"/>
            <a:pathLst>
              <a:path w="505" h="497">
                <a:moveTo>
                  <a:pt x="0" y="0"/>
                </a:moveTo>
                <a:lnTo>
                  <a:pt x="0" y="496"/>
                </a:lnTo>
                <a:lnTo>
                  <a:pt x="504" y="240"/>
                </a:lnTo>
                <a:lnTo>
                  <a:pt x="0" y="0"/>
                </a:lnTo>
              </a:path>
            </a:pathLst>
          </a:custGeom>
          <a:solidFill>
            <a:srgbClr val="d5000a"/>
          </a:solidFill>
          <a:ln w="0">
            <a:noFill/>
          </a:ln>
          <a:effectLst>
            <a:outerShdw dist="71785" dir="2700000" blurRad="0" rotWithShape="0">
              <a:srgbClr val="485f6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901800"/>
            <a:ext cx="3187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L Helvetica Condensed Light"/>
              </a:rPr>
              <a:t>OSPF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600" y="2095200"/>
            <a:ext cx="6603840" cy="3784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27000" bIns="27000" anchor="t" anchorCtr="1">
            <a:normAutofit fontScale="90000"/>
          </a:bodyPr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Every OSPF router sends out 'hello'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pac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Hello packets used to determine if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neighbor is 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Hello packets are small easy to proces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pack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buClr>
                <a:srgbClr val="000000"/>
              </a:buClr>
              <a:buFont typeface="C Helvetica Condensed"/>
              <a:buChar char="•"/>
              <a:tabLst>
                <a:tab algn="l" pos="457200"/>
                <a:tab algn="l" pos="914400"/>
                <a:tab algn="l" pos="13716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Hello packets are sent periodically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 Helvetica Condensed"/>
              </a:rPr>
              <a:t>  (usually short interv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99400" y="657864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 Helvetica Condensed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6T01:53:44Z</dcterms:created>
  <dc:creator>Cisco Systems</dc:creator>
  <dc:description/>
  <dc:language>en-US</dc:language>
  <cp:lastModifiedBy>g</cp:lastModifiedBy>
  <cp:lastPrinted>1997-06-16T08:35:54Z</cp:lastPrinted>
  <dcterms:modified xsi:type="dcterms:W3CDTF">2002-12-03T19:42:20Z</dcterms:modified>
  <cp:revision>22</cp:revision>
  <dc:subject/>
  <dc:title>Routing &amp;  Protocols</dc:title>
</cp:coreProperties>
</file>