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2B42-84DC-4C07-A047-8CE86053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53DA-4094-4FDF-9D5E-1128CBFF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5591-AC15-498C-8351-F2E9D6CE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C0ED-882D-455C-8696-989FC262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F9AE-60C3-40B2-B854-542F6DA2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06A2-625E-495F-8600-A3B381A2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B7FC-6DA2-41CD-B406-CE7A607D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09B0-FEE5-4039-B8EC-9003FB63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2B9B-4698-43D2-855B-38D62036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2736-388C-4A3F-9C99-D08A9C9A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E64A-BF1B-4D64-97CC-457BB439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3B29-BC65-48E9-9ACB-B2A10C49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B5DE-C124-4050-B924-7E7D0EEE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BF88-1449-46DF-88A0-C901E659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D6F1-5886-442E-9FF8-6D7CD797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407C-0A29-4F73-99E5-C1D74D1E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F01A-4102-415E-B5FD-5D3482ED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43CA-5D94-4EB7-BF58-EFCE6326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C3C2-8CA7-4052-A8EB-1A9EBA89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0650-E419-4C2D-9DCC-C17B247D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C120-8B74-45FF-85B4-D2357B34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828B-4E40-472F-B8FC-BCEFFA44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AA5D-21CF-4331-9E03-944D169E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7305-E1A9-4DED-B763-06C029E9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3312-DBC2-46C4-AF95-EC2E664C80D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0E89-4879-4E4A-A596-B2F93F6F3AF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araguay Network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rack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ARGET MARKE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rporat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Educationa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Government agenci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rivate sector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NGO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dividual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arket surve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Visited ISP sites in Brazi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Visited ISP sites in Paragua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Visited ISP sites in Argentin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Visited ISP sites in Costa Ric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iscussed with Service group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araguay: Some economic factors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opulation : 12M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apital city population : 6M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High economic growth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4 GIG fibre optic cable installe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ew ISPs exis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rporate user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Banks and Financial Institution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Oil compani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ultinational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Other large private sector enterpris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ducationa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Higher institution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ary school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rimary school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Government agenci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arastatal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rporation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Research Institution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GO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rofessional bodi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ssociation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operativ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ndividual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Hom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Offic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Service categor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Basic servic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dvanced servic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anaged servic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Value added servic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Basic servic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ial-Up acces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ngineering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Advanced servic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edicated leased lin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Bandwith:64K-2*NMbp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National Backbon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Wireless optio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anaged servic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ink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Equipmen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echnical suppor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Value added servic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Business solutions (E-Commerce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Virtual hosting of websit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Homepag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ultimedia application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istance learning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E-mai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TP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Basic service (dial-up): US$10-US$50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rporat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Governmen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Research Institution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NGO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Anticipated Dialup Client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923760" y="2292480"/>
          <a:ext cx="7729560" cy="391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2292480"/>
                    <a:ext cx="7729560" cy="39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anaged service : US$1,000-US$2,000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rporat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Oil compani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ultinational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Bank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Universiti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Anticipated Corporate Client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217520" y="2082960"/>
          <a:ext cx="7761240" cy="40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2082960"/>
                    <a:ext cx="776124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Advanced service( leased line): US$100-US$1,800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rporat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chool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Governmen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NGO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Anticipated Client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380960" y="2133720"/>
          <a:ext cx="7732800" cy="391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0960" y="2133720"/>
                    <a:ext cx="7732800" cy="39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Value added servic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Business solution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Virtual web hosting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Voice over IP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ax over IP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PTv servic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etc……….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Approach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Use Telco services initially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urchase cable IRUs in year 3 - 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ngle capital city POP in year 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expand to regional centres in response to competitive pressur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Anticipated Client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39920" y="2046240"/>
          <a:ext cx="7461360" cy="40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9920" y="2046240"/>
                    <a:ext cx="7461360" cy="40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Service Reach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hase I:  Capital and big provincial citi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hase II: Rural are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181480" y="3432240"/>
            <a:ext cx="381024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ethod of connectivit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adio acces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Dial-up: This depend on country’s telco system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950080" y="2044800"/>
            <a:ext cx="227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arketing strategi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219320" y="2716200"/>
            <a:ext cx="3809880" cy="27702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181480" y="2044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V advertise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adio advertise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ewspaper advertise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alesme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minar/Exhibi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rojected Revenue in $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219320" y="2082960"/>
          <a:ext cx="777240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82960"/>
                    <a:ext cx="77724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rojected expenditure for the first year in $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219320" y="2082960"/>
          <a:ext cx="777240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82960"/>
                    <a:ext cx="77724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ccffff"/>
                </a:solidFill>
                <a:latin typeface="Impact"/>
              </a:rPr>
              <a:t>Services</a:t>
            </a:r>
            <a:endParaRPr b="0" lang="en-US" sz="10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Wawa Anthony Ngeng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Vakhtang Svanidz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Konstantin A. Arsienko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Zakaria Ould Ama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Paisal Kiattananan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arget Customer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Other ISP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rporate customer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dividual Dial-up customer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ype of acces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ial-up acces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Wireless acces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High speed Internet acces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able modem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xDS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ISD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Leased lin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Services for Individual Customers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Email servic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MTP serve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OP3/IMAP4 for mail retrieva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Web cach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Architectur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3276720"/>
            <a:ext cx="838080" cy="144756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2438280"/>
            <a:ext cx="685800" cy="76212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3505320"/>
            <a:ext cx="76176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3276720"/>
            <a:ext cx="381240" cy="533160"/>
          </a:xfrm>
          <a:prstGeom prst="rect">
            <a:avLst/>
          </a:prstGeom>
          <a:solidFill>
            <a:srgbClr val="01b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03840" y="50706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61080" y="4842000"/>
            <a:ext cx="196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ss ro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al ser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342900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581280" y="2895480"/>
            <a:ext cx="11430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3505320"/>
            <a:ext cx="16002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61600" y="3851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4876920"/>
            <a:ext cx="457200" cy="30456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5029200"/>
            <a:ext cx="457200" cy="304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181480"/>
            <a:ext cx="457200" cy="304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5334120"/>
            <a:ext cx="457200" cy="30456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5486400"/>
            <a:ext cx="457200" cy="304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32640" y="560376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581280" y="373356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581280" y="3809520"/>
            <a:ext cx="15264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3580920" y="3886200"/>
            <a:ext cx="38124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581280" y="3809880"/>
            <a:ext cx="53352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580920" y="3809520"/>
            <a:ext cx="76212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181480" y="1447560"/>
            <a:ext cx="198144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1371600"/>
            <a:ext cx="60948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12440" y="18288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P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Other Services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Usene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TP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ternet fax servic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GSM messaging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Radio paging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ternet Telephon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Other Services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raining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dvertisemen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ree servic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ree personal homepag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ree emai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Services for Corporate Customer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mprehensive service mod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DNS services - Primary, Secondary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ary MX server (mail relay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ailing lis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eb hosting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eb development and desig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echnical suppor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Virtual Private Network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Services for ISP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Bandwidth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Let other ISPs resell our bandwidth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Roaming servic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Let the customers of other (smaller) ISPs use our modem bank in other cities where that ISP has no POP (Point of Presence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143000" y="685800"/>
            <a:ext cx="685800" cy="7621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705720" y="990360"/>
            <a:ext cx="914400" cy="685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67480" y="457200"/>
            <a:ext cx="914400" cy="914400"/>
          </a:xfrm>
          <a:prstGeom prst="ellipse">
            <a:avLst/>
          </a:prstGeom>
          <a:solidFill>
            <a:srgbClr val="d963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5880" y="2971800"/>
            <a:ext cx="1219320" cy="838080"/>
          </a:xfrm>
          <a:prstGeom prst="rect">
            <a:avLst/>
          </a:prstGeom>
          <a:solidFill>
            <a:srgbClr val="ccf7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5880" y="4267080"/>
            <a:ext cx="1219320" cy="838440"/>
          </a:xfrm>
          <a:prstGeom prst="rect">
            <a:avLst/>
          </a:prstGeom>
          <a:solidFill>
            <a:srgbClr val="6df97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86400" y="198108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86400" y="4724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86400" y="34290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19810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3276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57600" y="2819520"/>
            <a:ext cx="1219320" cy="838080"/>
          </a:xfrm>
          <a:prstGeom prst="rect">
            <a:avLst/>
          </a:prstGeom>
          <a:solidFill>
            <a:srgbClr val="6feaf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57400" y="685800"/>
            <a:ext cx="685800" cy="7621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685800"/>
            <a:ext cx="685800" cy="7621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685800"/>
            <a:ext cx="685800" cy="7621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685800"/>
            <a:ext cx="685800" cy="7621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76920" y="685800"/>
            <a:ext cx="685800" cy="7621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1981080"/>
            <a:ext cx="4876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447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23880" y="1447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43400" y="1447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81480" y="1447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1447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1447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6200" y="19810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5880" y="1676520"/>
            <a:ext cx="1219320" cy="838080"/>
          </a:xfrm>
          <a:prstGeom prst="rect">
            <a:avLst/>
          </a:prstGeom>
          <a:solidFill>
            <a:srgbClr val="6feaf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28195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28195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28195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76520" y="28195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33720" y="28195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90920" y="28195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28195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3352680"/>
            <a:ext cx="327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3124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3124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3124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8800" y="3124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0" y="3124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24080" y="3124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23880" y="4724280"/>
            <a:ext cx="609840" cy="609840"/>
          </a:xfrm>
          <a:prstGeom prst="ellipse">
            <a:avLst/>
          </a:prstGeom>
          <a:solidFill>
            <a:srgbClr val="eaf2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4600" y="4724280"/>
            <a:ext cx="609480" cy="609840"/>
          </a:xfrm>
          <a:prstGeom prst="ellipse">
            <a:avLst/>
          </a:prstGeom>
          <a:solidFill>
            <a:srgbClr val="eaf2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49568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114800" y="36576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828800" y="4495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819520" y="4495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66560" y="380988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ess Rou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42160" y="5105520"/>
            <a:ext cx="154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.90 Mod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n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66560" y="2514600"/>
            <a:ext cx="18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ateway Rou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65320" y="137160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 provi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15200" y="3200400"/>
            <a:ext cx="53352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15200" y="3581280"/>
            <a:ext cx="53352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831800" y="2967120"/>
            <a:ext cx="129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ther IS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39720" y="3352680"/>
            <a:ext cx="127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rpora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stom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15200" y="44197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315200" y="4572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15200" y="47242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315200" y="48769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315200" y="50292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5360" y="4419720"/>
            <a:ext cx="127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al-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stom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6360" y="3505320"/>
            <a:ext cx="25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nal office 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59360" y="240984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taff  P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9680" y="2811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281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W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058840" y="28116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049560" y="304920"/>
            <a:ext cx="6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6560" y="3049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0492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056320" y="1981080"/>
            <a:ext cx="15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rvice pla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41160" y="53341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65600" y="5257800"/>
            <a:ext cx="137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oun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5334120"/>
            <a:ext cx="1219320" cy="838080"/>
          </a:xfrm>
          <a:prstGeom prst="rect">
            <a:avLst/>
          </a:prstGeom>
          <a:solidFill>
            <a:srgbClr val="d963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81480" y="61722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181480" y="655308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05520" y="3276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68360" y="626760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PO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28280" y="624852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ess Rou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09880" y="228600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l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98040" y="4114800"/>
            <a:ext cx="21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agement pla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486400" y="61722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486400" y="64008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Business Pla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araguai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Actual situa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ere are  around 1 350 000 phone lines in the capital;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600 elsewhere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10% make simultaneous international calls, using 1/2 the capacity of booked capacity to US(4Mb)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e other 2 ISPs only provide email access, covering 0.5% of the telepopulation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he new ISP - objectiv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t will follow a business philosophy of growth and sal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but…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s it has government seed money, it will have to provide reduced rates for governmental departments and school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arget marke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e ultimate objective is to connect to Internet  20% of the lines in 5 Year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s our business plan is written for 3 years, the population to cover is 5%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arket strateg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here are already 2 ISP with little initiative;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here is a lot of money floating around but very little internet awareness;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ere will be a strong campaign for reputation and brand identification. For that purpose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25% of the budget will be allocated;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he rate of customers/modem will be 5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Desig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re router - 4500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OP switch - catalys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OP access routers - 7500 - high densit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3600 access server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PE model (1000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C linux server platform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UPS - AC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2133720" y="380880"/>
          <a:ext cx="5943600" cy="62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80880"/>
                    <a:ext cx="59436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arketing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Question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marginal capital cost per customer?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4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Initial capital requirement?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4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Initial comms (telco) T1 - M  US $25,000 p.m.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4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Provision for regional Points of Presence?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4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Security - ethernet switch?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4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Spares inv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4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Inventory?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4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Build time? 2months!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4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Staff?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4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Poperational Management framework?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arketing Group Nam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uke Lawrence Ogbokor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enis Onyekwelu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ophie Mgaiw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lisher Aminov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unkhbold Udva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ssa Simbar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Juma Okech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arketing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o prepare a plan of the target market sector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9T16:30:09Z</dcterms:created>
  <dc:creator>gih</dc:creator>
  <dc:description/>
  <dc:language>en-US</dc:language>
  <cp:lastModifiedBy>gih</cp:lastModifiedBy>
  <dcterms:modified xsi:type="dcterms:W3CDTF">1999-06-19T20:06:08Z</dcterms:modified>
  <cp:revision>4</cp:revision>
  <dc:subject/>
  <dc:title>Maraguay Network</dc:title>
</cp:coreProperties>
</file>