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7AAE-C4A6-46E7-9D4A-AD7A1D46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722A-1FB5-4713-844B-BC681DB4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C9A3-B2A8-46AC-97DB-A103D733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3BEC-1593-4678-A6F2-1F651F97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3D4F-BDA4-4C78-8BC0-97DBEEEA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B388-B4AD-4069-923D-B32817D6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B286-C0D6-4998-B53D-9FEAC730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ECD2-CAE9-4D2B-A719-BB1688B6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F50D-05D1-4BD1-9A21-3EE6C9D2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F526-0C7F-4B92-9877-5BE348BB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DF4D-E0B1-479A-B5C4-AE0EEFBF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81FD-48BC-468A-8AFA-208B8343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5946-F58A-49AB-8E0E-8B5049C0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B6F0-0EC9-43C5-AB67-8CAEA3D9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02A0-714F-4D6E-8A98-AC730622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E782-9FB9-4140-840F-B6C0EC0D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A767-EBAA-4FDF-A4C6-51674907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6559-6FAE-452F-907A-76DE4946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CA3B-56E8-479A-97DC-0BD4BC47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8B85-A84E-4578-8C50-6FAB54E8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1451-9C74-4A62-99AA-D097A01F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0EE6-740C-4C05-B946-F5F8A6D9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B5A3-52C6-44C2-B10F-15A2FAC2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0B28-A163-4DC8-9D96-2015A19E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A1B9-F11A-4568-B1DE-72A4A91CF3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1C06-2F68-41C3-B7D1-7F99403478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 to IP Rou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eoff Hust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"/>
          <p:cNvGrpSpPr/>
          <p:nvPr/>
        </p:nvGrpSpPr>
        <p:grpSpPr>
          <a:xfrm>
            <a:off x="533520" y="2157480"/>
            <a:ext cx="7664040" cy="3404880"/>
            <a:chOff x="533520" y="2157480"/>
            <a:chExt cx="7664040" cy="3404880"/>
          </a:xfrm>
        </p:grpSpPr>
        <p:sp>
          <p:nvSpPr>
            <p:cNvPr id="435" name=""/>
            <p:cNvSpPr/>
            <p:nvPr/>
          </p:nvSpPr>
          <p:spPr>
            <a:xfrm flipV="1">
              <a:off x="5715000" y="3293640"/>
              <a:ext cx="814320" cy="220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600200" y="2828880"/>
              <a:ext cx="1258920" cy="100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676520" y="2752560"/>
              <a:ext cx="3485880" cy="809640"/>
            </a:xfrm>
            <a:prstGeom prst="line">
              <a:avLst/>
            </a:prstGeom>
            <a:ln w="2844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97160" y="2867040"/>
              <a:ext cx="1558800" cy="2046240"/>
            </a:xfrm>
            <a:prstGeom prst="line">
              <a:avLst/>
            </a:prstGeom>
            <a:ln w="2844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57600" y="5191200"/>
              <a:ext cx="477720" cy="115920"/>
            </a:xfrm>
            <a:prstGeom prst="line">
              <a:avLst/>
            </a:prstGeom>
            <a:ln w="2844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711680" y="4648320"/>
              <a:ext cx="2040120" cy="682560"/>
            </a:xfrm>
            <a:prstGeom prst="line">
              <a:avLst/>
            </a:prstGeom>
            <a:ln w="38160">
              <a:solidFill>
                <a:srgbClr val="a9a9a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914400" y="2371680"/>
              <a:ext cx="782640" cy="510840"/>
              <a:chOff x="914400" y="2371680"/>
              <a:chExt cx="782640" cy="510840"/>
            </a:xfrm>
          </p:grpSpPr>
          <p:sp>
            <p:nvSpPr>
              <p:cNvPr id="442" name=""/>
              <p:cNvSpPr/>
              <p:nvPr/>
            </p:nvSpPr>
            <p:spPr>
              <a:xfrm>
                <a:off x="915120" y="2519640"/>
                <a:ext cx="778680" cy="362880"/>
              </a:xfrm>
              <a:prstGeom prst="ellipse">
                <a:avLst/>
              </a:prstGeom>
              <a:gradFill rotWithShape="0">
                <a:gsLst>
                  <a:gs pos="0">
                    <a:srgbClr val="413c36"/>
                  </a:gs>
                  <a:gs pos="50000">
                    <a:srgbClr val="5e574e"/>
                  </a:gs>
                  <a:gs pos="100000">
                    <a:srgbClr val="413c36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916200" y="2564280"/>
                <a:ext cx="779760" cy="139680"/>
              </a:xfrm>
              <a:prstGeom prst="rect">
                <a:avLst/>
              </a:prstGeom>
              <a:gradFill rotWithShape="0">
                <a:gsLst>
                  <a:gs pos="0">
                    <a:srgbClr val="3d3933"/>
                  </a:gs>
                  <a:gs pos="50000">
                    <a:srgbClr val="5e574e"/>
                  </a:gs>
                  <a:gs pos="100000">
                    <a:srgbClr val="3d39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915120" y="2371680"/>
                <a:ext cx="778680" cy="363960"/>
              </a:xfrm>
              <a:prstGeom prst="ellipse">
                <a:avLst/>
              </a:prstGeom>
              <a:solidFill>
                <a:srgbClr val="5e574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942480" y="2452680"/>
                <a:ext cx="312120" cy="178200"/>
              </a:xfrm>
              <a:custGeom>
                <a:avLst/>
                <a:gdLst/>
                <a:ahLst/>
                <a:rect l="l" t="t" r="r" b="b"/>
                <a:pathLst>
                  <a:path w="328" h="176">
                    <a:moveTo>
                      <a:pt x="8" y="48"/>
                    </a:moveTo>
                    <a:lnTo>
                      <a:pt x="208" y="48"/>
                    </a:lnTo>
                    <a:lnTo>
                      <a:pt x="216" y="0"/>
                    </a:lnTo>
                    <a:lnTo>
                      <a:pt x="327" y="88"/>
                    </a:lnTo>
                    <a:lnTo>
                      <a:pt x="192" y="175"/>
                    </a:lnTo>
                    <a:lnTo>
                      <a:pt x="192" y="135"/>
                    </a:lnTo>
                    <a:lnTo>
                      <a:pt x="0" y="135"/>
                    </a:lnTo>
                    <a:lnTo>
                      <a:pt x="0" y="88"/>
                    </a:lnTo>
                    <a:lnTo>
                      <a:pt x="8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345320" y="2458800"/>
                <a:ext cx="333360" cy="178200"/>
              </a:xfrm>
              <a:custGeom>
                <a:avLst/>
                <a:gdLst/>
                <a:ahLst/>
                <a:rect l="l" t="t" r="r" b="b"/>
                <a:pathLst>
                  <a:path w="328" h="176">
                    <a:moveTo>
                      <a:pt x="312" y="48"/>
                    </a:moveTo>
                    <a:lnTo>
                      <a:pt x="120" y="48"/>
                    </a:lnTo>
                    <a:lnTo>
                      <a:pt x="112" y="0"/>
                    </a:lnTo>
                    <a:lnTo>
                      <a:pt x="0" y="88"/>
                    </a:lnTo>
                    <a:lnTo>
                      <a:pt x="136" y="175"/>
                    </a:lnTo>
                    <a:lnTo>
                      <a:pt x="128" y="127"/>
                    </a:lnTo>
                    <a:lnTo>
                      <a:pt x="327" y="127"/>
                    </a:lnTo>
                    <a:lnTo>
                      <a:pt x="312" y="40"/>
                    </a:lnTo>
                    <a:lnTo>
                      <a:pt x="312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90520" y="2574360"/>
                <a:ext cx="236880" cy="146880"/>
              </a:xfrm>
              <a:custGeom>
                <a:avLst/>
                <a:gdLst/>
                <a:ahLst/>
                <a:rect l="l" t="t" r="r" b="b"/>
                <a:pathLst>
                  <a:path w="233" h="145">
                    <a:moveTo>
                      <a:pt x="80" y="0"/>
                    </a:moveTo>
                    <a:lnTo>
                      <a:pt x="80" y="72"/>
                    </a:lnTo>
                    <a:lnTo>
                      <a:pt x="0" y="72"/>
                    </a:lnTo>
                    <a:lnTo>
                      <a:pt x="112" y="144"/>
                    </a:lnTo>
                    <a:lnTo>
                      <a:pt x="232" y="72"/>
                    </a:lnTo>
                    <a:lnTo>
                      <a:pt x="152" y="72"/>
                    </a:lnTo>
                    <a:lnTo>
                      <a:pt x="152" y="0"/>
                    </a:lnTo>
                    <a:lnTo>
                      <a:pt x="120" y="0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90520" y="2376720"/>
                <a:ext cx="236880" cy="155160"/>
              </a:xfrm>
              <a:custGeom>
                <a:avLst/>
                <a:gdLst/>
                <a:ahLst/>
                <a:rect l="l" t="t" r="r" b="b"/>
                <a:pathLst>
                  <a:path w="233" h="153">
                    <a:moveTo>
                      <a:pt x="152" y="152"/>
                    </a:moveTo>
                    <a:lnTo>
                      <a:pt x="152" y="72"/>
                    </a:lnTo>
                    <a:lnTo>
                      <a:pt x="232" y="72"/>
                    </a:lnTo>
                    <a:lnTo>
                      <a:pt x="112" y="0"/>
                    </a:lnTo>
                    <a:lnTo>
                      <a:pt x="0" y="72"/>
                    </a:lnTo>
                    <a:lnTo>
                      <a:pt x="72" y="72"/>
                    </a:lnTo>
                    <a:lnTo>
                      <a:pt x="72" y="152"/>
                    </a:lnTo>
                    <a:lnTo>
                      <a:pt x="112" y="152"/>
                    </a:lnTo>
                    <a:lnTo>
                      <a:pt x="152" y="15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914400" y="2549160"/>
                <a:ext cx="0" cy="14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697040" y="2554200"/>
                <a:ext cx="0" cy="14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5156280" y="3400560"/>
              <a:ext cx="541080" cy="370800"/>
              <a:chOff x="5156280" y="3400560"/>
              <a:chExt cx="541080" cy="370800"/>
            </a:xfrm>
          </p:grpSpPr>
          <p:sp>
            <p:nvSpPr>
              <p:cNvPr id="452" name=""/>
              <p:cNvSpPr/>
              <p:nvPr/>
            </p:nvSpPr>
            <p:spPr>
              <a:xfrm>
                <a:off x="5156640" y="3507840"/>
                <a:ext cx="538560" cy="263520"/>
              </a:xfrm>
              <a:prstGeom prst="ellipse">
                <a:avLst/>
              </a:prstGeom>
              <a:gradFill rotWithShape="0">
                <a:gsLst>
                  <a:gs pos="0">
                    <a:srgbClr val="413c36"/>
                  </a:gs>
                  <a:gs pos="50000">
                    <a:srgbClr val="5e574e"/>
                  </a:gs>
                  <a:gs pos="100000">
                    <a:srgbClr val="413c36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157360" y="3540240"/>
                <a:ext cx="539280" cy="101520"/>
              </a:xfrm>
              <a:prstGeom prst="rect">
                <a:avLst/>
              </a:prstGeom>
              <a:gradFill rotWithShape="0">
                <a:gsLst>
                  <a:gs pos="0">
                    <a:srgbClr val="3d3933"/>
                  </a:gs>
                  <a:gs pos="50000">
                    <a:srgbClr val="5e574e"/>
                  </a:gs>
                  <a:gs pos="100000">
                    <a:srgbClr val="3d39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156640" y="3400560"/>
                <a:ext cx="538560" cy="264240"/>
              </a:xfrm>
              <a:prstGeom prst="ellipse">
                <a:avLst/>
              </a:prstGeom>
              <a:solidFill>
                <a:srgbClr val="5e574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175720" y="3459240"/>
                <a:ext cx="215640" cy="129600"/>
              </a:xfrm>
              <a:custGeom>
                <a:avLst/>
                <a:gdLst/>
                <a:ahLst/>
                <a:rect l="l" t="t" r="r" b="b"/>
                <a:pathLst>
                  <a:path w="328" h="176">
                    <a:moveTo>
                      <a:pt x="8" y="48"/>
                    </a:moveTo>
                    <a:lnTo>
                      <a:pt x="208" y="48"/>
                    </a:lnTo>
                    <a:lnTo>
                      <a:pt x="216" y="0"/>
                    </a:lnTo>
                    <a:lnTo>
                      <a:pt x="327" y="88"/>
                    </a:lnTo>
                    <a:lnTo>
                      <a:pt x="192" y="175"/>
                    </a:lnTo>
                    <a:lnTo>
                      <a:pt x="192" y="135"/>
                    </a:lnTo>
                    <a:lnTo>
                      <a:pt x="0" y="135"/>
                    </a:lnTo>
                    <a:lnTo>
                      <a:pt x="0" y="88"/>
                    </a:lnTo>
                    <a:lnTo>
                      <a:pt x="8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454000" y="3463560"/>
                <a:ext cx="230400" cy="129600"/>
              </a:xfrm>
              <a:custGeom>
                <a:avLst/>
                <a:gdLst/>
                <a:ahLst/>
                <a:rect l="l" t="t" r="r" b="b"/>
                <a:pathLst>
                  <a:path w="328" h="176">
                    <a:moveTo>
                      <a:pt x="312" y="48"/>
                    </a:moveTo>
                    <a:lnTo>
                      <a:pt x="120" y="48"/>
                    </a:lnTo>
                    <a:lnTo>
                      <a:pt x="112" y="0"/>
                    </a:lnTo>
                    <a:lnTo>
                      <a:pt x="0" y="88"/>
                    </a:lnTo>
                    <a:lnTo>
                      <a:pt x="136" y="175"/>
                    </a:lnTo>
                    <a:lnTo>
                      <a:pt x="128" y="127"/>
                    </a:lnTo>
                    <a:lnTo>
                      <a:pt x="327" y="127"/>
                    </a:lnTo>
                    <a:lnTo>
                      <a:pt x="312" y="40"/>
                    </a:lnTo>
                    <a:lnTo>
                      <a:pt x="312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47440" y="3547800"/>
                <a:ext cx="163800" cy="106560"/>
              </a:xfrm>
              <a:custGeom>
                <a:avLst/>
                <a:gdLst/>
                <a:ahLst/>
                <a:rect l="l" t="t" r="r" b="b"/>
                <a:pathLst>
                  <a:path w="233" h="145">
                    <a:moveTo>
                      <a:pt x="80" y="0"/>
                    </a:moveTo>
                    <a:lnTo>
                      <a:pt x="80" y="72"/>
                    </a:lnTo>
                    <a:lnTo>
                      <a:pt x="0" y="72"/>
                    </a:lnTo>
                    <a:lnTo>
                      <a:pt x="112" y="144"/>
                    </a:lnTo>
                    <a:lnTo>
                      <a:pt x="232" y="72"/>
                    </a:lnTo>
                    <a:lnTo>
                      <a:pt x="152" y="72"/>
                    </a:lnTo>
                    <a:lnTo>
                      <a:pt x="152" y="0"/>
                    </a:lnTo>
                    <a:lnTo>
                      <a:pt x="120" y="0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47440" y="3404160"/>
                <a:ext cx="163800" cy="112680"/>
              </a:xfrm>
              <a:custGeom>
                <a:avLst/>
                <a:gdLst/>
                <a:ahLst/>
                <a:rect l="l" t="t" r="r" b="b"/>
                <a:pathLst>
                  <a:path w="233" h="153">
                    <a:moveTo>
                      <a:pt x="152" y="152"/>
                    </a:moveTo>
                    <a:lnTo>
                      <a:pt x="152" y="72"/>
                    </a:lnTo>
                    <a:lnTo>
                      <a:pt x="232" y="72"/>
                    </a:lnTo>
                    <a:lnTo>
                      <a:pt x="112" y="0"/>
                    </a:lnTo>
                    <a:lnTo>
                      <a:pt x="0" y="72"/>
                    </a:lnTo>
                    <a:lnTo>
                      <a:pt x="72" y="72"/>
                    </a:lnTo>
                    <a:lnTo>
                      <a:pt x="72" y="152"/>
                    </a:lnTo>
                    <a:lnTo>
                      <a:pt x="112" y="152"/>
                    </a:lnTo>
                    <a:lnTo>
                      <a:pt x="152" y="15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156280" y="3529440"/>
                <a:ext cx="0" cy="10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697360" y="3533040"/>
                <a:ext cx="0" cy="10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857680" y="4886280"/>
              <a:ext cx="782280" cy="510840"/>
              <a:chOff x="2857680" y="4886280"/>
              <a:chExt cx="782280" cy="510840"/>
            </a:xfrm>
          </p:grpSpPr>
          <p:sp>
            <p:nvSpPr>
              <p:cNvPr id="462" name=""/>
              <p:cNvSpPr/>
              <p:nvPr/>
            </p:nvSpPr>
            <p:spPr>
              <a:xfrm>
                <a:off x="2858400" y="5034240"/>
                <a:ext cx="778320" cy="362880"/>
              </a:xfrm>
              <a:prstGeom prst="ellipse">
                <a:avLst/>
              </a:prstGeom>
              <a:gradFill rotWithShape="0">
                <a:gsLst>
                  <a:gs pos="0">
                    <a:srgbClr val="413c36"/>
                  </a:gs>
                  <a:gs pos="50000">
                    <a:srgbClr val="5e574e"/>
                  </a:gs>
                  <a:gs pos="100000">
                    <a:srgbClr val="413c36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859480" y="5078880"/>
                <a:ext cx="779400" cy="139680"/>
              </a:xfrm>
              <a:prstGeom prst="rect">
                <a:avLst/>
              </a:prstGeom>
              <a:gradFill rotWithShape="0">
                <a:gsLst>
                  <a:gs pos="0">
                    <a:srgbClr val="3d3933"/>
                  </a:gs>
                  <a:gs pos="50000">
                    <a:srgbClr val="5e574e"/>
                  </a:gs>
                  <a:gs pos="100000">
                    <a:srgbClr val="3d39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858400" y="4886280"/>
                <a:ext cx="778320" cy="363960"/>
              </a:xfrm>
              <a:prstGeom prst="ellipse">
                <a:avLst/>
              </a:prstGeom>
              <a:solidFill>
                <a:srgbClr val="5e574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885760" y="4967280"/>
                <a:ext cx="311760" cy="178200"/>
              </a:xfrm>
              <a:custGeom>
                <a:avLst/>
                <a:gdLst/>
                <a:ahLst/>
                <a:rect l="l" t="t" r="r" b="b"/>
                <a:pathLst>
                  <a:path w="328" h="176">
                    <a:moveTo>
                      <a:pt x="8" y="48"/>
                    </a:moveTo>
                    <a:lnTo>
                      <a:pt x="208" y="48"/>
                    </a:lnTo>
                    <a:lnTo>
                      <a:pt x="216" y="0"/>
                    </a:lnTo>
                    <a:lnTo>
                      <a:pt x="327" y="88"/>
                    </a:lnTo>
                    <a:lnTo>
                      <a:pt x="192" y="175"/>
                    </a:lnTo>
                    <a:lnTo>
                      <a:pt x="192" y="135"/>
                    </a:lnTo>
                    <a:lnTo>
                      <a:pt x="0" y="135"/>
                    </a:lnTo>
                    <a:lnTo>
                      <a:pt x="0" y="88"/>
                    </a:lnTo>
                    <a:lnTo>
                      <a:pt x="8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288240" y="4973400"/>
                <a:ext cx="333360" cy="178200"/>
              </a:xfrm>
              <a:custGeom>
                <a:avLst/>
                <a:gdLst/>
                <a:ahLst/>
                <a:rect l="l" t="t" r="r" b="b"/>
                <a:pathLst>
                  <a:path w="328" h="176">
                    <a:moveTo>
                      <a:pt x="312" y="48"/>
                    </a:moveTo>
                    <a:lnTo>
                      <a:pt x="120" y="48"/>
                    </a:lnTo>
                    <a:lnTo>
                      <a:pt x="112" y="0"/>
                    </a:lnTo>
                    <a:lnTo>
                      <a:pt x="0" y="88"/>
                    </a:lnTo>
                    <a:lnTo>
                      <a:pt x="136" y="175"/>
                    </a:lnTo>
                    <a:lnTo>
                      <a:pt x="128" y="127"/>
                    </a:lnTo>
                    <a:lnTo>
                      <a:pt x="327" y="127"/>
                    </a:lnTo>
                    <a:lnTo>
                      <a:pt x="312" y="40"/>
                    </a:lnTo>
                    <a:lnTo>
                      <a:pt x="312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33800" y="5088960"/>
                <a:ext cx="236880" cy="146880"/>
              </a:xfrm>
              <a:custGeom>
                <a:avLst/>
                <a:gdLst/>
                <a:ahLst/>
                <a:rect l="l" t="t" r="r" b="b"/>
                <a:pathLst>
                  <a:path w="233" h="145">
                    <a:moveTo>
                      <a:pt x="80" y="0"/>
                    </a:moveTo>
                    <a:lnTo>
                      <a:pt x="80" y="72"/>
                    </a:lnTo>
                    <a:lnTo>
                      <a:pt x="0" y="72"/>
                    </a:lnTo>
                    <a:lnTo>
                      <a:pt x="112" y="144"/>
                    </a:lnTo>
                    <a:lnTo>
                      <a:pt x="232" y="72"/>
                    </a:lnTo>
                    <a:lnTo>
                      <a:pt x="152" y="72"/>
                    </a:lnTo>
                    <a:lnTo>
                      <a:pt x="152" y="0"/>
                    </a:lnTo>
                    <a:lnTo>
                      <a:pt x="120" y="0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133800" y="4891320"/>
                <a:ext cx="236880" cy="155160"/>
              </a:xfrm>
              <a:custGeom>
                <a:avLst/>
                <a:gdLst/>
                <a:ahLst/>
                <a:rect l="l" t="t" r="r" b="b"/>
                <a:pathLst>
                  <a:path w="233" h="153">
                    <a:moveTo>
                      <a:pt x="152" y="152"/>
                    </a:moveTo>
                    <a:lnTo>
                      <a:pt x="152" y="72"/>
                    </a:lnTo>
                    <a:lnTo>
                      <a:pt x="232" y="72"/>
                    </a:lnTo>
                    <a:lnTo>
                      <a:pt x="112" y="0"/>
                    </a:lnTo>
                    <a:lnTo>
                      <a:pt x="0" y="72"/>
                    </a:lnTo>
                    <a:lnTo>
                      <a:pt x="72" y="72"/>
                    </a:lnTo>
                    <a:lnTo>
                      <a:pt x="72" y="152"/>
                    </a:lnTo>
                    <a:lnTo>
                      <a:pt x="112" y="152"/>
                    </a:lnTo>
                    <a:lnTo>
                      <a:pt x="152" y="15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857680" y="5063760"/>
                <a:ext cx="0" cy="14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639960" y="5068800"/>
                <a:ext cx="0" cy="14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4140360" y="5178240"/>
              <a:ext cx="579240" cy="384120"/>
              <a:chOff x="4140360" y="5178240"/>
              <a:chExt cx="579240" cy="384120"/>
            </a:xfrm>
          </p:grpSpPr>
          <p:sp>
            <p:nvSpPr>
              <p:cNvPr id="472" name=""/>
              <p:cNvSpPr/>
              <p:nvPr/>
            </p:nvSpPr>
            <p:spPr>
              <a:xfrm>
                <a:off x="4140720" y="5289480"/>
                <a:ext cx="576360" cy="272880"/>
              </a:xfrm>
              <a:prstGeom prst="ellipse">
                <a:avLst/>
              </a:prstGeom>
              <a:gradFill rotWithShape="0">
                <a:gsLst>
                  <a:gs pos="0">
                    <a:srgbClr val="413c36"/>
                  </a:gs>
                  <a:gs pos="50000">
                    <a:srgbClr val="5e574e"/>
                  </a:gs>
                  <a:gs pos="100000">
                    <a:srgbClr val="413c36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141440" y="5322960"/>
                <a:ext cx="577080" cy="105120"/>
              </a:xfrm>
              <a:prstGeom prst="rect">
                <a:avLst/>
              </a:prstGeom>
              <a:gradFill rotWithShape="0">
                <a:gsLst>
                  <a:gs pos="0">
                    <a:srgbClr val="3d3933"/>
                  </a:gs>
                  <a:gs pos="50000">
                    <a:srgbClr val="5e574e"/>
                  </a:gs>
                  <a:gs pos="100000">
                    <a:srgbClr val="3d39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140720" y="5178240"/>
                <a:ext cx="576360" cy="273600"/>
              </a:xfrm>
              <a:prstGeom prst="ellipse">
                <a:avLst/>
              </a:prstGeom>
              <a:solidFill>
                <a:srgbClr val="5e574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161240" y="5239080"/>
                <a:ext cx="230760" cy="133920"/>
              </a:xfrm>
              <a:custGeom>
                <a:avLst/>
                <a:gdLst/>
                <a:ahLst/>
                <a:rect l="l" t="t" r="r" b="b"/>
                <a:pathLst>
                  <a:path w="328" h="176">
                    <a:moveTo>
                      <a:pt x="8" y="48"/>
                    </a:moveTo>
                    <a:lnTo>
                      <a:pt x="208" y="48"/>
                    </a:lnTo>
                    <a:lnTo>
                      <a:pt x="216" y="0"/>
                    </a:lnTo>
                    <a:lnTo>
                      <a:pt x="327" y="88"/>
                    </a:lnTo>
                    <a:lnTo>
                      <a:pt x="192" y="175"/>
                    </a:lnTo>
                    <a:lnTo>
                      <a:pt x="192" y="135"/>
                    </a:lnTo>
                    <a:lnTo>
                      <a:pt x="0" y="135"/>
                    </a:lnTo>
                    <a:lnTo>
                      <a:pt x="0" y="88"/>
                    </a:lnTo>
                    <a:lnTo>
                      <a:pt x="8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59320" y="5243760"/>
                <a:ext cx="246960" cy="133920"/>
              </a:xfrm>
              <a:custGeom>
                <a:avLst/>
                <a:gdLst/>
                <a:ahLst/>
                <a:rect l="l" t="t" r="r" b="b"/>
                <a:pathLst>
                  <a:path w="328" h="176">
                    <a:moveTo>
                      <a:pt x="312" y="48"/>
                    </a:moveTo>
                    <a:lnTo>
                      <a:pt x="120" y="48"/>
                    </a:lnTo>
                    <a:lnTo>
                      <a:pt x="112" y="0"/>
                    </a:lnTo>
                    <a:lnTo>
                      <a:pt x="0" y="88"/>
                    </a:lnTo>
                    <a:lnTo>
                      <a:pt x="136" y="175"/>
                    </a:lnTo>
                    <a:lnTo>
                      <a:pt x="128" y="127"/>
                    </a:lnTo>
                    <a:lnTo>
                      <a:pt x="327" y="127"/>
                    </a:lnTo>
                    <a:lnTo>
                      <a:pt x="312" y="40"/>
                    </a:lnTo>
                    <a:lnTo>
                      <a:pt x="312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344840" y="5330520"/>
                <a:ext cx="175320" cy="110520"/>
              </a:xfrm>
              <a:custGeom>
                <a:avLst/>
                <a:gdLst/>
                <a:ahLst/>
                <a:rect l="l" t="t" r="r" b="b"/>
                <a:pathLst>
                  <a:path w="233" h="145">
                    <a:moveTo>
                      <a:pt x="80" y="0"/>
                    </a:moveTo>
                    <a:lnTo>
                      <a:pt x="80" y="72"/>
                    </a:lnTo>
                    <a:lnTo>
                      <a:pt x="0" y="72"/>
                    </a:lnTo>
                    <a:lnTo>
                      <a:pt x="112" y="144"/>
                    </a:lnTo>
                    <a:lnTo>
                      <a:pt x="232" y="72"/>
                    </a:lnTo>
                    <a:lnTo>
                      <a:pt x="152" y="72"/>
                    </a:lnTo>
                    <a:lnTo>
                      <a:pt x="152" y="0"/>
                    </a:lnTo>
                    <a:lnTo>
                      <a:pt x="120" y="0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344840" y="5181840"/>
                <a:ext cx="175320" cy="116640"/>
              </a:xfrm>
              <a:custGeom>
                <a:avLst/>
                <a:gdLst/>
                <a:ahLst/>
                <a:rect l="l" t="t" r="r" b="b"/>
                <a:pathLst>
                  <a:path w="233" h="153">
                    <a:moveTo>
                      <a:pt x="152" y="152"/>
                    </a:moveTo>
                    <a:lnTo>
                      <a:pt x="152" y="72"/>
                    </a:lnTo>
                    <a:lnTo>
                      <a:pt x="232" y="72"/>
                    </a:lnTo>
                    <a:lnTo>
                      <a:pt x="112" y="0"/>
                    </a:lnTo>
                    <a:lnTo>
                      <a:pt x="0" y="72"/>
                    </a:lnTo>
                    <a:lnTo>
                      <a:pt x="72" y="72"/>
                    </a:lnTo>
                    <a:lnTo>
                      <a:pt x="72" y="152"/>
                    </a:lnTo>
                    <a:lnTo>
                      <a:pt x="112" y="152"/>
                    </a:lnTo>
                    <a:lnTo>
                      <a:pt x="152" y="15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140360" y="5311800"/>
                <a:ext cx="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719600" y="5315400"/>
                <a:ext cx="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6692760" y="4200480"/>
              <a:ext cx="782640" cy="510840"/>
              <a:chOff x="6692760" y="4200480"/>
              <a:chExt cx="782640" cy="510840"/>
            </a:xfrm>
          </p:grpSpPr>
          <p:sp>
            <p:nvSpPr>
              <p:cNvPr id="482" name=""/>
              <p:cNvSpPr/>
              <p:nvPr/>
            </p:nvSpPr>
            <p:spPr>
              <a:xfrm>
                <a:off x="6693480" y="4348440"/>
                <a:ext cx="778680" cy="362880"/>
              </a:xfrm>
              <a:prstGeom prst="ellipse">
                <a:avLst/>
              </a:prstGeom>
              <a:gradFill rotWithShape="0">
                <a:gsLst>
                  <a:gs pos="0">
                    <a:srgbClr val="413c36"/>
                  </a:gs>
                  <a:gs pos="50000">
                    <a:srgbClr val="5e574e"/>
                  </a:gs>
                  <a:gs pos="100000">
                    <a:srgbClr val="413c36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694560" y="4393080"/>
                <a:ext cx="779760" cy="139680"/>
              </a:xfrm>
              <a:prstGeom prst="rect">
                <a:avLst/>
              </a:prstGeom>
              <a:gradFill rotWithShape="0">
                <a:gsLst>
                  <a:gs pos="0">
                    <a:srgbClr val="3d3933"/>
                  </a:gs>
                  <a:gs pos="50000">
                    <a:srgbClr val="5e574e"/>
                  </a:gs>
                  <a:gs pos="100000">
                    <a:srgbClr val="3d39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693480" y="4200480"/>
                <a:ext cx="778680" cy="363960"/>
              </a:xfrm>
              <a:prstGeom prst="ellipse">
                <a:avLst/>
              </a:prstGeom>
              <a:solidFill>
                <a:srgbClr val="5e574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720840" y="4281480"/>
                <a:ext cx="312120" cy="178200"/>
              </a:xfrm>
              <a:custGeom>
                <a:avLst/>
                <a:gdLst/>
                <a:ahLst/>
                <a:rect l="l" t="t" r="r" b="b"/>
                <a:pathLst>
                  <a:path w="328" h="176">
                    <a:moveTo>
                      <a:pt x="8" y="48"/>
                    </a:moveTo>
                    <a:lnTo>
                      <a:pt x="208" y="48"/>
                    </a:lnTo>
                    <a:lnTo>
                      <a:pt x="216" y="0"/>
                    </a:lnTo>
                    <a:lnTo>
                      <a:pt x="327" y="88"/>
                    </a:lnTo>
                    <a:lnTo>
                      <a:pt x="192" y="175"/>
                    </a:lnTo>
                    <a:lnTo>
                      <a:pt x="192" y="135"/>
                    </a:lnTo>
                    <a:lnTo>
                      <a:pt x="0" y="135"/>
                    </a:lnTo>
                    <a:lnTo>
                      <a:pt x="0" y="88"/>
                    </a:lnTo>
                    <a:lnTo>
                      <a:pt x="8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123680" y="4287600"/>
                <a:ext cx="333360" cy="178200"/>
              </a:xfrm>
              <a:custGeom>
                <a:avLst/>
                <a:gdLst/>
                <a:ahLst/>
                <a:rect l="l" t="t" r="r" b="b"/>
                <a:pathLst>
                  <a:path w="328" h="176">
                    <a:moveTo>
                      <a:pt x="312" y="48"/>
                    </a:moveTo>
                    <a:lnTo>
                      <a:pt x="120" y="48"/>
                    </a:lnTo>
                    <a:lnTo>
                      <a:pt x="112" y="0"/>
                    </a:lnTo>
                    <a:lnTo>
                      <a:pt x="0" y="88"/>
                    </a:lnTo>
                    <a:lnTo>
                      <a:pt x="136" y="175"/>
                    </a:lnTo>
                    <a:lnTo>
                      <a:pt x="128" y="127"/>
                    </a:lnTo>
                    <a:lnTo>
                      <a:pt x="327" y="127"/>
                    </a:lnTo>
                    <a:lnTo>
                      <a:pt x="312" y="40"/>
                    </a:lnTo>
                    <a:lnTo>
                      <a:pt x="312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968880" y="4403160"/>
                <a:ext cx="236880" cy="146880"/>
              </a:xfrm>
              <a:custGeom>
                <a:avLst/>
                <a:gdLst/>
                <a:ahLst/>
                <a:rect l="l" t="t" r="r" b="b"/>
                <a:pathLst>
                  <a:path w="233" h="145">
                    <a:moveTo>
                      <a:pt x="80" y="0"/>
                    </a:moveTo>
                    <a:lnTo>
                      <a:pt x="80" y="72"/>
                    </a:lnTo>
                    <a:lnTo>
                      <a:pt x="0" y="72"/>
                    </a:lnTo>
                    <a:lnTo>
                      <a:pt x="112" y="144"/>
                    </a:lnTo>
                    <a:lnTo>
                      <a:pt x="232" y="72"/>
                    </a:lnTo>
                    <a:lnTo>
                      <a:pt x="152" y="72"/>
                    </a:lnTo>
                    <a:lnTo>
                      <a:pt x="152" y="0"/>
                    </a:lnTo>
                    <a:lnTo>
                      <a:pt x="120" y="0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968880" y="4205520"/>
                <a:ext cx="236880" cy="155160"/>
              </a:xfrm>
              <a:custGeom>
                <a:avLst/>
                <a:gdLst/>
                <a:ahLst/>
                <a:rect l="l" t="t" r="r" b="b"/>
                <a:pathLst>
                  <a:path w="233" h="153">
                    <a:moveTo>
                      <a:pt x="152" y="152"/>
                    </a:moveTo>
                    <a:lnTo>
                      <a:pt x="152" y="72"/>
                    </a:lnTo>
                    <a:lnTo>
                      <a:pt x="232" y="72"/>
                    </a:lnTo>
                    <a:lnTo>
                      <a:pt x="112" y="0"/>
                    </a:lnTo>
                    <a:lnTo>
                      <a:pt x="0" y="72"/>
                    </a:lnTo>
                    <a:lnTo>
                      <a:pt x="72" y="72"/>
                    </a:lnTo>
                    <a:lnTo>
                      <a:pt x="72" y="152"/>
                    </a:lnTo>
                    <a:lnTo>
                      <a:pt x="112" y="152"/>
                    </a:lnTo>
                    <a:lnTo>
                      <a:pt x="152" y="15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692760" y="4377960"/>
                <a:ext cx="0" cy="14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475400" y="4383000"/>
                <a:ext cx="0" cy="14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2755800" y="3794040"/>
              <a:ext cx="782640" cy="510840"/>
              <a:chOff x="2755800" y="3794040"/>
              <a:chExt cx="782640" cy="510840"/>
            </a:xfrm>
          </p:grpSpPr>
          <p:sp>
            <p:nvSpPr>
              <p:cNvPr id="492" name=""/>
              <p:cNvSpPr/>
              <p:nvPr/>
            </p:nvSpPr>
            <p:spPr>
              <a:xfrm>
                <a:off x="2756520" y="3942000"/>
                <a:ext cx="778680" cy="362880"/>
              </a:xfrm>
              <a:prstGeom prst="ellipse">
                <a:avLst/>
              </a:prstGeom>
              <a:gradFill rotWithShape="0">
                <a:gsLst>
                  <a:gs pos="0">
                    <a:srgbClr val="413c36"/>
                  </a:gs>
                  <a:gs pos="50000">
                    <a:srgbClr val="5e574e"/>
                  </a:gs>
                  <a:gs pos="100000">
                    <a:srgbClr val="413c36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757600" y="3986640"/>
                <a:ext cx="779760" cy="139680"/>
              </a:xfrm>
              <a:prstGeom prst="rect">
                <a:avLst/>
              </a:prstGeom>
              <a:gradFill rotWithShape="0">
                <a:gsLst>
                  <a:gs pos="0">
                    <a:srgbClr val="3d3933"/>
                  </a:gs>
                  <a:gs pos="50000">
                    <a:srgbClr val="5e574e"/>
                  </a:gs>
                  <a:gs pos="100000">
                    <a:srgbClr val="3d39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756520" y="3794040"/>
                <a:ext cx="778680" cy="363960"/>
              </a:xfrm>
              <a:prstGeom prst="ellipse">
                <a:avLst/>
              </a:prstGeom>
              <a:solidFill>
                <a:srgbClr val="5e574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783880" y="3875040"/>
                <a:ext cx="312120" cy="178200"/>
              </a:xfrm>
              <a:custGeom>
                <a:avLst/>
                <a:gdLst/>
                <a:ahLst/>
                <a:rect l="l" t="t" r="r" b="b"/>
                <a:pathLst>
                  <a:path w="328" h="176">
                    <a:moveTo>
                      <a:pt x="8" y="48"/>
                    </a:moveTo>
                    <a:lnTo>
                      <a:pt x="208" y="48"/>
                    </a:lnTo>
                    <a:lnTo>
                      <a:pt x="216" y="0"/>
                    </a:lnTo>
                    <a:lnTo>
                      <a:pt x="327" y="88"/>
                    </a:lnTo>
                    <a:lnTo>
                      <a:pt x="192" y="175"/>
                    </a:lnTo>
                    <a:lnTo>
                      <a:pt x="192" y="135"/>
                    </a:lnTo>
                    <a:lnTo>
                      <a:pt x="0" y="135"/>
                    </a:lnTo>
                    <a:lnTo>
                      <a:pt x="0" y="88"/>
                    </a:lnTo>
                    <a:lnTo>
                      <a:pt x="8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186720" y="3881160"/>
                <a:ext cx="333360" cy="178200"/>
              </a:xfrm>
              <a:custGeom>
                <a:avLst/>
                <a:gdLst/>
                <a:ahLst/>
                <a:rect l="l" t="t" r="r" b="b"/>
                <a:pathLst>
                  <a:path w="328" h="176">
                    <a:moveTo>
                      <a:pt x="312" y="48"/>
                    </a:moveTo>
                    <a:lnTo>
                      <a:pt x="120" y="48"/>
                    </a:lnTo>
                    <a:lnTo>
                      <a:pt x="112" y="0"/>
                    </a:lnTo>
                    <a:lnTo>
                      <a:pt x="0" y="88"/>
                    </a:lnTo>
                    <a:lnTo>
                      <a:pt x="136" y="175"/>
                    </a:lnTo>
                    <a:lnTo>
                      <a:pt x="128" y="127"/>
                    </a:lnTo>
                    <a:lnTo>
                      <a:pt x="327" y="127"/>
                    </a:lnTo>
                    <a:lnTo>
                      <a:pt x="312" y="40"/>
                    </a:lnTo>
                    <a:lnTo>
                      <a:pt x="312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031920" y="3996720"/>
                <a:ext cx="236880" cy="146880"/>
              </a:xfrm>
              <a:custGeom>
                <a:avLst/>
                <a:gdLst/>
                <a:ahLst/>
                <a:rect l="l" t="t" r="r" b="b"/>
                <a:pathLst>
                  <a:path w="233" h="145">
                    <a:moveTo>
                      <a:pt x="80" y="0"/>
                    </a:moveTo>
                    <a:lnTo>
                      <a:pt x="80" y="72"/>
                    </a:lnTo>
                    <a:lnTo>
                      <a:pt x="0" y="72"/>
                    </a:lnTo>
                    <a:lnTo>
                      <a:pt x="112" y="144"/>
                    </a:lnTo>
                    <a:lnTo>
                      <a:pt x="232" y="72"/>
                    </a:lnTo>
                    <a:lnTo>
                      <a:pt x="152" y="72"/>
                    </a:lnTo>
                    <a:lnTo>
                      <a:pt x="152" y="0"/>
                    </a:lnTo>
                    <a:lnTo>
                      <a:pt x="120" y="0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031920" y="3799080"/>
                <a:ext cx="236880" cy="155160"/>
              </a:xfrm>
              <a:custGeom>
                <a:avLst/>
                <a:gdLst/>
                <a:ahLst/>
                <a:rect l="l" t="t" r="r" b="b"/>
                <a:pathLst>
                  <a:path w="233" h="153">
                    <a:moveTo>
                      <a:pt x="152" y="152"/>
                    </a:moveTo>
                    <a:lnTo>
                      <a:pt x="152" y="72"/>
                    </a:lnTo>
                    <a:lnTo>
                      <a:pt x="232" y="72"/>
                    </a:lnTo>
                    <a:lnTo>
                      <a:pt x="112" y="0"/>
                    </a:lnTo>
                    <a:lnTo>
                      <a:pt x="0" y="72"/>
                    </a:lnTo>
                    <a:lnTo>
                      <a:pt x="72" y="72"/>
                    </a:lnTo>
                    <a:lnTo>
                      <a:pt x="72" y="152"/>
                    </a:lnTo>
                    <a:lnTo>
                      <a:pt x="112" y="152"/>
                    </a:lnTo>
                    <a:lnTo>
                      <a:pt x="152" y="15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755800" y="3971520"/>
                <a:ext cx="0" cy="14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538440" y="3976560"/>
                <a:ext cx="0" cy="14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6540480" y="2892240"/>
              <a:ext cx="782640" cy="510840"/>
              <a:chOff x="6540480" y="2892240"/>
              <a:chExt cx="782640" cy="510840"/>
            </a:xfrm>
          </p:grpSpPr>
          <p:sp>
            <p:nvSpPr>
              <p:cNvPr id="502" name=""/>
              <p:cNvSpPr/>
              <p:nvPr/>
            </p:nvSpPr>
            <p:spPr>
              <a:xfrm>
                <a:off x="6541200" y="3040200"/>
                <a:ext cx="778680" cy="362880"/>
              </a:xfrm>
              <a:prstGeom prst="ellipse">
                <a:avLst/>
              </a:prstGeom>
              <a:gradFill rotWithShape="0">
                <a:gsLst>
                  <a:gs pos="0">
                    <a:srgbClr val="413c36"/>
                  </a:gs>
                  <a:gs pos="50000">
                    <a:srgbClr val="5e574e"/>
                  </a:gs>
                  <a:gs pos="100000">
                    <a:srgbClr val="413c36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42280" y="3084840"/>
                <a:ext cx="779760" cy="139680"/>
              </a:xfrm>
              <a:prstGeom prst="rect">
                <a:avLst/>
              </a:prstGeom>
              <a:gradFill rotWithShape="0">
                <a:gsLst>
                  <a:gs pos="0">
                    <a:srgbClr val="3d3933"/>
                  </a:gs>
                  <a:gs pos="50000">
                    <a:srgbClr val="5e574e"/>
                  </a:gs>
                  <a:gs pos="100000">
                    <a:srgbClr val="3d39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541200" y="2892240"/>
                <a:ext cx="778680" cy="363960"/>
              </a:xfrm>
              <a:prstGeom prst="ellipse">
                <a:avLst/>
              </a:prstGeom>
              <a:solidFill>
                <a:srgbClr val="5e574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68560" y="2973240"/>
                <a:ext cx="312120" cy="178200"/>
              </a:xfrm>
              <a:custGeom>
                <a:avLst/>
                <a:gdLst/>
                <a:ahLst/>
                <a:rect l="l" t="t" r="r" b="b"/>
                <a:pathLst>
                  <a:path w="328" h="176">
                    <a:moveTo>
                      <a:pt x="8" y="48"/>
                    </a:moveTo>
                    <a:lnTo>
                      <a:pt x="208" y="48"/>
                    </a:lnTo>
                    <a:lnTo>
                      <a:pt x="216" y="0"/>
                    </a:lnTo>
                    <a:lnTo>
                      <a:pt x="327" y="88"/>
                    </a:lnTo>
                    <a:lnTo>
                      <a:pt x="192" y="175"/>
                    </a:lnTo>
                    <a:lnTo>
                      <a:pt x="192" y="135"/>
                    </a:lnTo>
                    <a:lnTo>
                      <a:pt x="0" y="135"/>
                    </a:lnTo>
                    <a:lnTo>
                      <a:pt x="0" y="88"/>
                    </a:lnTo>
                    <a:lnTo>
                      <a:pt x="8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971400" y="2979360"/>
                <a:ext cx="333360" cy="178200"/>
              </a:xfrm>
              <a:custGeom>
                <a:avLst/>
                <a:gdLst/>
                <a:ahLst/>
                <a:rect l="l" t="t" r="r" b="b"/>
                <a:pathLst>
                  <a:path w="328" h="176">
                    <a:moveTo>
                      <a:pt x="312" y="48"/>
                    </a:moveTo>
                    <a:lnTo>
                      <a:pt x="120" y="48"/>
                    </a:lnTo>
                    <a:lnTo>
                      <a:pt x="112" y="0"/>
                    </a:lnTo>
                    <a:lnTo>
                      <a:pt x="0" y="88"/>
                    </a:lnTo>
                    <a:lnTo>
                      <a:pt x="136" y="175"/>
                    </a:lnTo>
                    <a:lnTo>
                      <a:pt x="128" y="127"/>
                    </a:lnTo>
                    <a:lnTo>
                      <a:pt x="327" y="127"/>
                    </a:lnTo>
                    <a:lnTo>
                      <a:pt x="312" y="40"/>
                    </a:lnTo>
                    <a:lnTo>
                      <a:pt x="312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816600" y="3094920"/>
                <a:ext cx="236880" cy="146880"/>
              </a:xfrm>
              <a:custGeom>
                <a:avLst/>
                <a:gdLst/>
                <a:ahLst/>
                <a:rect l="l" t="t" r="r" b="b"/>
                <a:pathLst>
                  <a:path w="233" h="145">
                    <a:moveTo>
                      <a:pt x="80" y="0"/>
                    </a:moveTo>
                    <a:lnTo>
                      <a:pt x="80" y="72"/>
                    </a:lnTo>
                    <a:lnTo>
                      <a:pt x="0" y="72"/>
                    </a:lnTo>
                    <a:lnTo>
                      <a:pt x="112" y="144"/>
                    </a:lnTo>
                    <a:lnTo>
                      <a:pt x="232" y="72"/>
                    </a:lnTo>
                    <a:lnTo>
                      <a:pt x="152" y="72"/>
                    </a:lnTo>
                    <a:lnTo>
                      <a:pt x="152" y="0"/>
                    </a:lnTo>
                    <a:lnTo>
                      <a:pt x="120" y="0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816600" y="2897280"/>
                <a:ext cx="236880" cy="155160"/>
              </a:xfrm>
              <a:custGeom>
                <a:avLst/>
                <a:gdLst/>
                <a:ahLst/>
                <a:rect l="l" t="t" r="r" b="b"/>
                <a:pathLst>
                  <a:path w="233" h="153">
                    <a:moveTo>
                      <a:pt x="152" y="152"/>
                    </a:moveTo>
                    <a:lnTo>
                      <a:pt x="152" y="72"/>
                    </a:lnTo>
                    <a:lnTo>
                      <a:pt x="232" y="72"/>
                    </a:lnTo>
                    <a:lnTo>
                      <a:pt x="112" y="0"/>
                    </a:lnTo>
                    <a:lnTo>
                      <a:pt x="0" y="72"/>
                    </a:lnTo>
                    <a:lnTo>
                      <a:pt x="72" y="72"/>
                    </a:lnTo>
                    <a:lnTo>
                      <a:pt x="72" y="152"/>
                    </a:lnTo>
                    <a:lnTo>
                      <a:pt x="112" y="152"/>
                    </a:lnTo>
                    <a:lnTo>
                      <a:pt x="152" y="15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540480" y="3069720"/>
                <a:ext cx="0" cy="14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323120" y="3074760"/>
                <a:ext cx="0" cy="14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548280" y="3654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533520" y="3209760"/>
              <a:ext cx="456840" cy="526320"/>
              <a:chOff x="533520" y="3209760"/>
              <a:chExt cx="456840" cy="526320"/>
            </a:xfrm>
          </p:grpSpPr>
          <p:sp>
            <p:nvSpPr>
              <p:cNvPr id="513" name=""/>
              <p:cNvSpPr/>
              <p:nvPr/>
            </p:nvSpPr>
            <p:spPr>
              <a:xfrm>
                <a:off x="533520" y="3572280"/>
                <a:ext cx="456840" cy="16380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33520" y="3209760"/>
                <a:ext cx="456840" cy="32868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67720" y="3237120"/>
                <a:ext cx="365040" cy="25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90760" y="3260880"/>
                <a:ext cx="60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86800" y="3260880"/>
                <a:ext cx="0" cy="3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 flipV="1">
              <a:off x="990720" y="2828520"/>
              <a:ext cx="22860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747800" y="3514680"/>
              <a:ext cx="31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92040" y="3203640"/>
              <a:ext cx="31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22720" y="44226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325760" y="3889440"/>
              <a:ext cx="31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01880" y="2822400"/>
              <a:ext cx="31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70360" y="503244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04080" y="312732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75320" y="3895560"/>
              <a:ext cx="31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49640" y="4956120"/>
              <a:ext cx="31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76400" y="299232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7740720" y="2935080"/>
              <a:ext cx="456840" cy="526320"/>
              <a:chOff x="7740720" y="2935080"/>
              <a:chExt cx="456840" cy="526320"/>
            </a:xfrm>
          </p:grpSpPr>
          <p:sp>
            <p:nvSpPr>
              <p:cNvPr id="530" name=""/>
              <p:cNvSpPr/>
              <p:nvPr/>
            </p:nvSpPr>
            <p:spPr>
              <a:xfrm>
                <a:off x="7740720" y="3297600"/>
                <a:ext cx="456840" cy="16380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740720" y="2935080"/>
                <a:ext cx="456840" cy="328680"/>
              </a:xfrm>
              <a:prstGeom prst="rect">
                <a:avLst/>
              </a:prstGeom>
              <a:solidFill>
                <a:srgbClr val="dede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774920" y="2962440"/>
                <a:ext cx="365040" cy="25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797960" y="2986200"/>
                <a:ext cx="60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794000" y="2986200"/>
                <a:ext cx="0" cy="3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7793280" y="3573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3876840" y="2397240"/>
              <a:ext cx="579240" cy="384120"/>
              <a:chOff x="3876840" y="2397240"/>
              <a:chExt cx="579240" cy="384120"/>
            </a:xfrm>
          </p:grpSpPr>
          <p:sp>
            <p:nvSpPr>
              <p:cNvPr id="537" name=""/>
              <p:cNvSpPr/>
              <p:nvPr/>
            </p:nvSpPr>
            <p:spPr>
              <a:xfrm>
                <a:off x="3877200" y="2508480"/>
                <a:ext cx="576360" cy="272880"/>
              </a:xfrm>
              <a:prstGeom prst="ellipse">
                <a:avLst/>
              </a:prstGeom>
              <a:gradFill rotWithShape="0">
                <a:gsLst>
                  <a:gs pos="0">
                    <a:srgbClr val="413c36"/>
                  </a:gs>
                  <a:gs pos="50000">
                    <a:srgbClr val="5e574e"/>
                  </a:gs>
                  <a:gs pos="100000">
                    <a:srgbClr val="413c36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877920" y="2541960"/>
                <a:ext cx="577080" cy="104760"/>
              </a:xfrm>
              <a:prstGeom prst="rect">
                <a:avLst/>
              </a:prstGeom>
              <a:gradFill rotWithShape="0">
                <a:gsLst>
                  <a:gs pos="0">
                    <a:srgbClr val="3d3933"/>
                  </a:gs>
                  <a:gs pos="50000">
                    <a:srgbClr val="5e574e"/>
                  </a:gs>
                  <a:gs pos="100000">
                    <a:srgbClr val="3d39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877200" y="2397240"/>
                <a:ext cx="576360" cy="273600"/>
              </a:xfrm>
              <a:prstGeom prst="ellipse">
                <a:avLst/>
              </a:prstGeom>
              <a:solidFill>
                <a:srgbClr val="5e574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897720" y="2458080"/>
                <a:ext cx="230760" cy="133920"/>
              </a:xfrm>
              <a:custGeom>
                <a:avLst/>
                <a:gdLst/>
                <a:ahLst/>
                <a:rect l="l" t="t" r="r" b="b"/>
                <a:pathLst>
                  <a:path w="328" h="176">
                    <a:moveTo>
                      <a:pt x="8" y="48"/>
                    </a:moveTo>
                    <a:lnTo>
                      <a:pt x="208" y="48"/>
                    </a:lnTo>
                    <a:lnTo>
                      <a:pt x="216" y="0"/>
                    </a:lnTo>
                    <a:lnTo>
                      <a:pt x="327" y="88"/>
                    </a:lnTo>
                    <a:lnTo>
                      <a:pt x="192" y="175"/>
                    </a:lnTo>
                    <a:lnTo>
                      <a:pt x="192" y="135"/>
                    </a:lnTo>
                    <a:lnTo>
                      <a:pt x="0" y="135"/>
                    </a:lnTo>
                    <a:lnTo>
                      <a:pt x="0" y="88"/>
                    </a:lnTo>
                    <a:lnTo>
                      <a:pt x="8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195800" y="2462760"/>
                <a:ext cx="246960" cy="133920"/>
              </a:xfrm>
              <a:custGeom>
                <a:avLst/>
                <a:gdLst/>
                <a:ahLst/>
                <a:rect l="l" t="t" r="r" b="b"/>
                <a:pathLst>
                  <a:path w="328" h="176">
                    <a:moveTo>
                      <a:pt x="312" y="48"/>
                    </a:moveTo>
                    <a:lnTo>
                      <a:pt x="120" y="48"/>
                    </a:lnTo>
                    <a:lnTo>
                      <a:pt x="112" y="0"/>
                    </a:lnTo>
                    <a:lnTo>
                      <a:pt x="0" y="88"/>
                    </a:lnTo>
                    <a:lnTo>
                      <a:pt x="136" y="175"/>
                    </a:lnTo>
                    <a:lnTo>
                      <a:pt x="128" y="127"/>
                    </a:lnTo>
                    <a:lnTo>
                      <a:pt x="327" y="127"/>
                    </a:lnTo>
                    <a:lnTo>
                      <a:pt x="312" y="40"/>
                    </a:lnTo>
                    <a:lnTo>
                      <a:pt x="312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081320" y="2549520"/>
                <a:ext cx="175320" cy="110160"/>
              </a:xfrm>
              <a:custGeom>
                <a:avLst/>
                <a:gdLst/>
                <a:ahLst/>
                <a:rect l="l" t="t" r="r" b="b"/>
                <a:pathLst>
                  <a:path w="233" h="145">
                    <a:moveTo>
                      <a:pt x="80" y="0"/>
                    </a:moveTo>
                    <a:lnTo>
                      <a:pt x="80" y="72"/>
                    </a:lnTo>
                    <a:lnTo>
                      <a:pt x="0" y="72"/>
                    </a:lnTo>
                    <a:lnTo>
                      <a:pt x="112" y="144"/>
                    </a:lnTo>
                    <a:lnTo>
                      <a:pt x="232" y="72"/>
                    </a:lnTo>
                    <a:lnTo>
                      <a:pt x="152" y="72"/>
                    </a:lnTo>
                    <a:lnTo>
                      <a:pt x="152" y="0"/>
                    </a:lnTo>
                    <a:lnTo>
                      <a:pt x="120" y="0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081320" y="2400840"/>
                <a:ext cx="175320" cy="116640"/>
              </a:xfrm>
              <a:custGeom>
                <a:avLst/>
                <a:gdLst/>
                <a:ahLst/>
                <a:rect l="l" t="t" r="r" b="b"/>
                <a:pathLst>
                  <a:path w="233" h="153">
                    <a:moveTo>
                      <a:pt x="152" y="152"/>
                    </a:moveTo>
                    <a:lnTo>
                      <a:pt x="152" y="72"/>
                    </a:lnTo>
                    <a:lnTo>
                      <a:pt x="232" y="72"/>
                    </a:lnTo>
                    <a:lnTo>
                      <a:pt x="112" y="0"/>
                    </a:lnTo>
                    <a:lnTo>
                      <a:pt x="0" y="72"/>
                    </a:lnTo>
                    <a:lnTo>
                      <a:pt x="72" y="72"/>
                    </a:lnTo>
                    <a:lnTo>
                      <a:pt x="72" y="152"/>
                    </a:lnTo>
                    <a:lnTo>
                      <a:pt x="112" y="152"/>
                    </a:lnTo>
                    <a:lnTo>
                      <a:pt x="152" y="15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876840" y="2530440"/>
                <a:ext cx="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456080" y="2534400"/>
                <a:ext cx="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7296120" y="3205080"/>
              <a:ext cx="414360" cy="157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372440" y="305280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 flipV="1">
              <a:off x="1689120" y="2596680"/>
              <a:ext cx="2216160" cy="41400"/>
            </a:xfrm>
            <a:prstGeom prst="line">
              <a:avLst/>
            </a:prstGeom>
            <a:ln w="38160">
              <a:solidFill>
                <a:srgbClr val="92929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flipV="1">
              <a:off x="4405320" y="2703600"/>
              <a:ext cx="760320" cy="790560"/>
            </a:xfrm>
            <a:prstGeom prst="line">
              <a:avLst/>
            </a:prstGeom>
            <a:ln w="2844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25800" y="2408040"/>
              <a:ext cx="24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732200" y="2917800"/>
              <a:ext cx="31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4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4648320" y="3391920"/>
              <a:ext cx="2158920" cy="1862280"/>
            </a:xfrm>
            <a:prstGeom prst="line">
              <a:avLst/>
            </a:prstGeom>
            <a:ln w="57240">
              <a:solidFill>
                <a:srgbClr val="929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55960" y="215748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08600" y="218736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76840" y="357336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89320" y="467352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94520" y="318132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27760" y="260820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87960" y="489276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88240" y="397512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311800" y="4376520"/>
              <a:ext cx="473040" cy="300240"/>
            </a:xfrm>
            <a:prstGeom prst="irregularSeal2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581280" y="3971880"/>
              <a:ext cx="3110040" cy="40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59000" y="4330800"/>
              <a:ext cx="47880" cy="536400"/>
            </a:xfrm>
            <a:prstGeom prst="line">
              <a:avLst/>
            </a:prstGeom>
            <a:ln w="57240">
              <a:solidFill>
                <a:srgbClr val="a9a9a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697360" y="3690720"/>
              <a:ext cx="1125720" cy="565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ynamic Path Adjust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6" name=""/>
          <p:cNvSpPr/>
          <p:nvPr/>
        </p:nvSpPr>
        <p:spPr>
          <a:xfrm>
            <a:off x="1248120" y="5987880"/>
            <a:ext cx="72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5 – R7 breaks, minimum cost path from A to B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46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ior Routing Protoco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the current network topolo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protocols distribut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reach address prefix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protocols function through ei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mputing model (distance v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llel computing model (link st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ance Vector Routing Protoc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ode sends its routing table (dest, distance) to all neighbors every 30 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distances are updated with the neighbor as next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not sc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not resolve routing loops quick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P is the main off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 State Routing Protoc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ink, the connected nodes and the metric is flooded to all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ink up/down status change is incrementally floo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outer re-computes the routing table in parallel using the common link state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 is the main protocol in use to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gges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st engineering a physical link does not ensure that  traffic wil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system somewhere must provide routing information about how to reach the newly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ing backup circuits is easy, making the routing work may not 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gges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a clear understanding of how the client networks want their traffic to flow before you can start making routing configuratio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ior and Exterior Routing Protoco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85800" y="2057400"/>
            <a:ext cx="2514600" cy="1294920"/>
            <a:chOff x="685800" y="2057400"/>
            <a:chExt cx="2514600" cy="1294920"/>
          </a:xfrm>
        </p:grpSpPr>
        <p:grpSp>
          <p:nvGrpSpPr>
            <p:cNvPr id="579" name=""/>
            <p:cNvGrpSpPr/>
            <p:nvPr/>
          </p:nvGrpSpPr>
          <p:grpSpPr>
            <a:xfrm>
              <a:off x="685800" y="2057400"/>
              <a:ext cx="2514600" cy="1294920"/>
              <a:chOff x="685800" y="2057400"/>
              <a:chExt cx="2514600" cy="1294920"/>
            </a:xfrm>
          </p:grpSpPr>
          <p:sp>
            <p:nvSpPr>
              <p:cNvPr id="580" name=""/>
              <p:cNvSpPr/>
              <p:nvPr/>
            </p:nvSpPr>
            <p:spPr>
              <a:xfrm>
                <a:off x="685800" y="228564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219320" y="205740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914400" y="25905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447920" y="251424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752480" y="21333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81080" y="228564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1143000" y="2514600"/>
              <a:ext cx="1219320" cy="45720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371600" y="4419720"/>
            <a:ext cx="2514600" cy="1294920"/>
            <a:chOff x="1371600" y="4419720"/>
            <a:chExt cx="2514600" cy="1294920"/>
          </a:xfrm>
        </p:grpSpPr>
        <p:grpSp>
          <p:nvGrpSpPr>
            <p:cNvPr id="588" name=""/>
            <p:cNvGrpSpPr/>
            <p:nvPr/>
          </p:nvGrpSpPr>
          <p:grpSpPr>
            <a:xfrm>
              <a:off x="1371600" y="4419720"/>
              <a:ext cx="2514600" cy="1294920"/>
              <a:chOff x="1371600" y="4419720"/>
              <a:chExt cx="2514600" cy="1294920"/>
            </a:xfrm>
          </p:grpSpPr>
          <p:sp>
            <p:nvSpPr>
              <p:cNvPr id="589" name=""/>
              <p:cNvSpPr/>
              <p:nvPr/>
            </p:nvSpPr>
            <p:spPr>
              <a:xfrm>
                <a:off x="1371600" y="46479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905120" y="441972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600200" y="49528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133720" y="487656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438280" y="44956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666880" y="46479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1828800" y="4876920"/>
              <a:ext cx="1219320" cy="45720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3657600" y="1905120"/>
            <a:ext cx="2514600" cy="1294920"/>
            <a:chOff x="3657600" y="1905120"/>
            <a:chExt cx="2514600" cy="1294920"/>
          </a:xfrm>
        </p:grpSpPr>
        <p:grpSp>
          <p:nvGrpSpPr>
            <p:cNvPr id="597" name=""/>
            <p:cNvGrpSpPr/>
            <p:nvPr/>
          </p:nvGrpSpPr>
          <p:grpSpPr>
            <a:xfrm>
              <a:off x="3657600" y="1905120"/>
              <a:ext cx="2514600" cy="1294920"/>
              <a:chOff x="3657600" y="1905120"/>
              <a:chExt cx="2514600" cy="1294920"/>
            </a:xfrm>
          </p:grpSpPr>
          <p:sp>
            <p:nvSpPr>
              <p:cNvPr id="598" name=""/>
              <p:cNvSpPr/>
              <p:nvPr/>
            </p:nvSpPr>
            <p:spPr>
              <a:xfrm>
                <a:off x="3657600" y="21333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191120" y="190512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886200" y="24382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419720" y="236196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724280" y="19810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952880" y="21333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4114800" y="2362320"/>
              <a:ext cx="1219320" cy="45720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5486400" y="5105520"/>
            <a:ext cx="2514600" cy="1294920"/>
            <a:chOff x="5486400" y="5105520"/>
            <a:chExt cx="2514600" cy="1294920"/>
          </a:xfrm>
        </p:grpSpPr>
        <p:grpSp>
          <p:nvGrpSpPr>
            <p:cNvPr id="606" name=""/>
            <p:cNvGrpSpPr/>
            <p:nvPr/>
          </p:nvGrpSpPr>
          <p:grpSpPr>
            <a:xfrm>
              <a:off x="5486400" y="5105520"/>
              <a:ext cx="2514600" cy="1294920"/>
              <a:chOff x="5486400" y="5105520"/>
              <a:chExt cx="2514600" cy="1294920"/>
            </a:xfrm>
          </p:grpSpPr>
          <p:sp>
            <p:nvSpPr>
              <p:cNvPr id="607" name=""/>
              <p:cNvSpPr/>
              <p:nvPr/>
            </p:nvSpPr>
            <p:spPr>
              <a:xfrm>
                <a:off x="5486400" y="53337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019920" y="510552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715000" y="56386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48520" y="556236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553080" y="51814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781680" y="53337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5943600" y="5562720"/>
              <a:ext cx="1219320" cy="45720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6095880" y="3048120"/>
            <a:ext cx="2514600" cy="1294920"/>
            <a:chOff x="6095880" y="3048120"/>
            <a:chExt cx="2514600" cy="1294920"/>
          </a:xfrm>
        </p:grpSpPr>
        <p:grpSp>
          <p:nvGrpSpPr>
            <p:cNvPr id="615" name=""/>
            <p:cNvGrpSpPr/>
            <p:nvPr/>
          </p:nvGrpSpPr>
          <p:grpSpPr>
            <a:xfrm>
              <a:off x="6095880" y="3048120"/>
              <a:ext cx="2514600" cy="1294920"/>
              <a:chOff x="6095880" y="3048120"/>
              <a:chExt cx="2514600" cy="1294920"/>
            </a:xfrm>
          </p:grpSpPr>
          <p:sp>
            <p:nvSpPr>
              <p:cNvPr id="616" name=""/>
              <p:cNvSpPr/>
              <p:nvPr/>
            </p:nvSpPr>
            <p:spPr>
              <a:xfrm>
                <a:off x="6095880" y="32763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629400" y="304812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324480" y="35812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858000" y="350496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162560" y="31240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391160" y="32763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>
              <a:off x="6553080" y="3505320"/>
              <a:ext cx="1219320" cy="45720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2594880" y="3733920"/>
            <a:ext cx="33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ior Rout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357200" y="2246400"/>
            <a:ext cx="96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01640" y="4572000"/>
            <a:ext cx="96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039920" y="2057400"/>
            <a:ext cx="96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78200" y="3276720"/>
            <a:ext cx="96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40080" y="5256360"/>
            <a:ext cx="96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2133720" y="2666520"/>
            <a:ext cx="1676160" cy="6858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133720" y="3429000"/>
            <a:ext cx="228600" cy="9907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2362320" y="2666880"/>
            <a:ext cx="1371600" cy="17528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5181480"/>
            <a:ext cx="1523880" cy="3812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867280" y="2895480"/>
            <a:ext cx="381240" cy="5335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3962160" y="4419720"/>
            <a:ext cx="2971800" cy="6858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6781680" y="4419720"/>
            <a:ext cx="152640" cy="7617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424960" y="24019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880160" y="23623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12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518200" y="48769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24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394760" y="35053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35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921720" y="545004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terior Routing Protoco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tell me all the address prefixes you can reach, but don’t tell me the path you use to get t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’ll tell you the s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ything changes, please let me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tell me an address I’ll send you traffic destined to that addr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 tell you an address I will accept traffic destined to tha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terior Routing Protoco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rder Gateway Protocol version 4 (BGP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interior route collection is described by an Autonomous System (AS) num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al topology is hid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es are announced with associated AS val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39.130.0.0/16 + AS 12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GP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800280" y="3076560"/>
            <a:ext cx="2514600" cy="1294920"/>
            <a:chOff x="800280" y="3076560"/>
            <a:chExt cx="2514600" cy="1294920"/>
          </a:xfrm>
        </p:grpSpPr>
        <p:grpSp>
          <p:nvGrpSpPr>
            <p:cNvPr id="647" name=""/>
            <p:cNvGrpSpPr/>
            <p:nvPr/>
          </p:nvGrpSpPr>
          <p:grpSpPr>
            <a:xfrm>
              <a:off x="800280" y="3076560"/>
              <a:ext cx="2514600" cy="1294920"/>
              <a:chOff x="800280" y="3076560"/>
              <a:chExt cx="2514600" cy="1294920"/>
            </a:xfrm>
          </p:grpSpPr>
          <p:sp>
            <p:nvSpPr>
              <p:cNvPr id="648" name=""/>
              <p:cNvSpPr/>
              <p:nvPr/>
            </p:nvSpPr>
            <p:spPr>
              <a:xfrm>
                <a:off x="800280" y="330480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33800" y="307656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028880" y="360972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562400" y="353340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866960" y="315252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095560" y="330480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1257480" y="3533760"/>
              <a:ext cx="1219320" cy="45720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095880" y="3048120"/>
            <a:ext cx="2514600" cy="1294920"/>
            <a:chOff x="6095880" y="3048120"/>
            <a:chExt cx="2514600" cy="1294920"/>
          </a:xfrm>
        </p:grpSpPr>
        <p:grpSp>
          <p:nvGrpSpPr>
            <p:cNvPr id="656" name=""/>
            <p:cNvGrpSpPr/>
            <p:nvPr/>
          </p:nvGrpSpPr>
          <p:grpSpPr>
            <a:xfrm>
              <a:off x="6095880" y="3048120"/>
              <a:ext cx="2514600" cy="1294920"/>
              <a:chOff x="6095880" y="3048120"/>
              <a:chExt cx="2514600" cy="1294920"/>
            </a:xfrm>
          </p:grpSpPr>
          <p:sp>
            <p:nvSpPr>
              <p:cNvPr id="657" name=""/>
              <p:cNvSpPr/>
              <p:nvPr/>
            </p:nvSpPr>
            <p:spPr>
              <a:xfrm>
                <a:off x="6095880" y="32763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629400" y="304812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324480" y="35812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58000" y="350496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162560" y="31240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391160" y="32763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6553080" y="3505320"/>
              <a:ext cx="1219320" cy="45720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1431360" y="32288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12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651000" y="32749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35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3009960" y="3785760"/>
            <a:ext cx="3209760" cy="281160"/>
          </a:xfrm>
          <a:prstGeom prst="line">
            <a:avLst/>
          </a:prstGeom>
          <a:ln w="5724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54480" y="4444920"/>
            <a:ext cx="297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9.130.0.0/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3.10.60.0/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8.10.0.0/16 35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.192.36.0/24 35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2.23.45.0/23 35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3800520" y="4143240"/>
            <a:ext cx="2357280" cy="4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212160" y="4573440"/>
            <a:ext cx="297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8.10.0.0/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.192.36.0/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2.23.45.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9.130.0.0/16 12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3.10.60.0/24 12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 flipV="1">
            <a:off x="3871800" y="4257720"/>
            <a:ext cx="2486160" cy="44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flipV="1">
            <a:off x="5486400" y="4419360"/>
            <a:ext cx="25146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914400" y="4267080"/>
            <a:ext cx="2514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packets get from A to B in the Interne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548280" y="4800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33520" y="4356000"/>
            <a:ext cx="456840" cy="526320"/>
            <a:chOff x="533520" y="4356000"/>
            <a:chExt cx="456840" cy="526320"/>
          </a:xfrm>
        </p:grpSpPr>
        <p:sp>
          <p:nvSpPr>
            <p:cNvPr id="92" name=""/>
            <p:cNvSpPr/>
            <p:nvPr/>
          </p:nvSpPr>
          <p:spPr>
            <a:xfrm>
              <a:off x="533520" y="4718520"/>
              <a:ext cx="456840" cy="163800"/>
            </a:xfrm>
            <a:prstGeom prst="rect">
              <a:avLst/>
            </a:prstGeom>
            <a:solidFill>
              <a:srgbClr val="dede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3520" y="4356000"/>
              <a:ext cx="456840" cy="328680"/>
            </a:xfrm>
            <a:prstGeom prst="rect">
              <a:avLst/>
            </a:prstGeom>
            <a:solidFill>
              <a:srgbClr val="dede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7720" y="4383360"/>
              <a:ext cx="365040" cy="25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0760" y="4407120"/>
              <a:ext cx="60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800" y="4407120"/>
              <a:ext cx="0" cy="34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740720" y="4081320"/>
            <a:ext cx="456840" cy="526320"/>
            <a:chOff x="7740720" y="4081320"/>
            <a:chExt cx="456840" cy="526320"/>
          </a:xfrm>
        </p:grpSpPr>
        <p:sp>
          <p:nvSpPr>
            <p:cNvPr id="98" name=""/>
            <p:cNvSpPr/>
            <p:nvPr/>
          </p:nvSpPr>
          <p:spPr>
            <a:xfrm>
              <a:off x="7740720" y="4443840"/>
              <a:ext cx="456840" cy="163800"/>
            </a:xfrm>
            <a:prstGeom prst="rect">
              <a:avLst/>
            </a:prstGeom>
            <a:solidFill>
              <a:srgbClr val="dede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40720" y="4081320"/>
              <a:ext cx="456840" cy="328680"/>
            </a:xfrm>
            <a:prstGeom prst="rect">
              <a:avLst/>
            </a:prstGeom>
            <a:solidFill>
              <a:srgbClr val="dede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74920" y="4108680"/>
              <a:ext cx="365040" cy="25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97960" y="4132440"/>
              <a:ext cx="60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94000" y="4132440"/>
              <a:ext cx="0" cy="34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7793280" y="4719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057400" y="3429000"/>
            <a:ext cx="4419720" cy="2057400"/>
            <a:chOff x="2057400" y="3429000"/>
            <a:chExt cx="4419720" cy="2057400"/>
          </a:xfrm>
        </p:grpSpPr>
        <p:sp>
          <p:nvSpPr>
            <p:cNvPr id="105" name=""/>
            <p:cNvSpPr/>
            <p:nvPr/>
          </p:nvSpPr>
          <p:spPr>
            <a:xfrm>
              <a:off x="2057400" y="3962520"/>
              <a:ext cx="1981080" cy="10666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90920" y="3429000"/>
              <a:ext cx="1981080" cy="10666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09680" y="4343400"/>
              <a:ext cx="1981440" cy="10666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43200" y="4114800"/>
              <a:ext cx="1981080" cy="10666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4419720"/>
              <a:ext cx="1981080" cy="10666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29000" y="3581280"/>
              <a:ext cx="1981080" cy="106704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14800" y="3733920"/>
              <a:ext cx="1981080" cy="10666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43400" y="4191120"/>
              <a:ext cx="1981080" cy="10666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95680" y="3962520"/>
              <a:ext cx="1981440" cy="106668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990720" y="3733920"/>
            <a:ext cx="6553080" cy="533160"/>
          </a:xfrm>
          <a:custGeom>
            <a:avLst/>
            <a:gdLst/>
            <a:ahLst/>
            <a:rect l="l" t="t" r="r" b="b"/>
            <a:pathLst>
              <a:path w="4128" h="336">
                <a:moveTo>
                  <a:pt x="0" y="336"/>
                </a:moveTo>
                <a:cubicBezTo>
                  <a:pt x="472" y="168"/>
                  <a:pt x="944" y="0"/>
                  <a:pt x="1632" y="0"/>
                </a:cubicBezTo>
                <a:cubicBezTo>
                  <a:pt x="2320" y="0"/>
                  <a:pt x="3224" y="168"/>
                  <a:pt x="4128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80680" y="435924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GP Example of TRANSI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428760" y="1762200"/>
            <a:ext cx="2514600" cy="1294920"/>
            <a:chOff x="428760" y="1762200"/>
            <a:chExt cx="2514600" cy="1294920"/>
          </a:xfrm>
        </p:grpSpPr>
        <p:grpSp>
          <p:nvGrpSpPr>
            <p:cNvPr id="673" name=""/>
            <p:cNvGrpSpPr/>
            <p:nvPr/>
          </p:nvGrpSpPr>
          <p:grpSpPr>
            <a:xfrm>
              <a:off x="428760" y="1762200"/>
              <a:ext cx="2514600" cy="1294920"/>
              <a:chOff x="428760" y="1762200"/>
              <a:chExt cx="2514600" cy="1294920"/>
            </a:xfrm>
          </p:grpSpPr>
          <p:sp>
            <p:nvSpPr>
              <p:cNvPr id="674" name=""/>
              <p:cNvSpPr/>
              <p:nvPr/>
            </p:nvSpPr>
            <p:spPr>
              <a:xfrm>
                <a:off x="428760" y="199044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962280" y="176220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57360" y="22953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190880" y="221904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495440" y="18381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724040" y="199044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885960" y="2219400"/>
              <a:ext cx="1219320" cy="45720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710160" y="1790640"/>
            <a:ext cx="2514600" cy="1294920"/>
            <a:chOff x="3710160" y="1790640"/>
            <a:chExt cx="2514600" cy="1294920"/>
          </a:xfrm>
        </p:grpSpPr>
        <p:grpSp>
          <p:nvGrpSpPr>
            <p:cNvPr id="682" name=""/>
            <p:cNvGrpSpPr/>
            <p:nvPr/>
          </p:nvGrpSpPr>
          <p:grpSpPr>
            <a:xfrm>
              <a:off x="3710160" y="1790640"/>
              <a:ext cx="2514600" cy="1294920"/>
              <a:chOff x="3710160" y="1790640"/>
              <a:chExt cx="2514600" cy="1294920"/>
            </a:xfrm>
          </p:grpSpPr>
          <p:sp>
            <p:nvSpPr>
              <p:cNvPr id="683" name=""/>
              <p:cNvSpPr/>
              <p:nvPr/>
            </p:nvSpPr>
            <p:spPr>
              <a:xfrm>
                <a:off x="3710160" y="20188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243680" y="179064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938760" y="232380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472280" y="224748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776840" y="186660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005440" y="20188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4167360" y="2247840"/>
              <a:ext cx="1219320" cy="45720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1117080" y="22431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12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264920" y="20178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35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2924280" y="2343240"/>
            <a:ext cx="852480" cy="95040"/>
          </a:xfrm>
          <a:prstGeom prst="line">
            <a:avLst/>
          </a:prstGeom>
          <a:ln w="5724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44120" y="3197160"/>
            <a:ext cx="21664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9.130.0.0/16  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3.10.60.0/24  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8.10.0.0/16 35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.192.36.0/24 35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.23.45.0/23 35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0.10.0.0/16 3561,57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9.1.0.0/16 3561,57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11440" y="3098880"/>
            <a:ext cx="2041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8.10.0.0/16 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.192.36.0/24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.23.45.0/23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0.10.0.0/16 57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.1.0.0/16   57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9.130.0.0/16 12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3.10.60.0/24 12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6019920" y="3200400"/>
            <a:ext cx="2514600" cy="1294920"/>
            <a:chOff x="6019920" y="3200400"/>
            <a:chExt cx="2514600" cy="1294920"/>
          </a:xfrm>
        </p:grpSpPr>
        <p:grpSp>
          <p:nvGrpSpPr>
            <p:cNvPr id="696" name=""/>
            <p:cNvGrpSpPr/>
            <p:nvPr/>
          </p:nvGrpSpPr>
          <p:grpSpPr>
            <a:xfrm>
              <a:off x="6019920" y="3200400"/>
              <a:ext cx="2514600" cy="1294920"/>
              <a:chOff x="6019920" y="3200400"/>
              <a:chExt cx="2514600" cy="1294920"/>
            </a:xfrm>
          </p:grpSpPr>
          <p:sp>
            <p:nvSpPr>
              <p:cNvPr id="697" name=""/>
              <p:cNvSpPr/>
              <p:nvPr/>
            </p:nvSpPr>
            <p:spPr>
              <a:xfrm>
                <a:off x="6019920" y="342864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553440" y="320040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248520" y="37335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782040" y="365724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86600" y="32763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315200" y="342864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6477120" y="3657600"/>
              <a:ext cx="1219320" cy="45720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6574680" y="34275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57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492960" y="4551480"/>
            <a:ext cx="2549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0.10.0.0/16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.1.0.0/16  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8.10.0.0/16 35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.192.36.0/24 35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.23.45.0/23 35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9.130.0.0/16 3561,12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3.10.60.0/24 3561,12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6072120" y="2695320"/>
            <a:ext cx="876240" cy="623880"/>
          </a:xfrm>
          <a:prstGeom prst="line">
            <a:avLst/>
          </a:prstGeom>
          <a:ln w="5724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terior Routing Protoco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al transit paths use I-BG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2681280" y="2519280"/>
            <a:ext cx="2514600" cy="1294920"/>
            <a:chOff x="2681280" y="2519280"/>
            <a:chExt cx="2514600" cy="1294920"/>
          </a:xfrm>
        </p:grpSpPr>
        <p:grpSp>
          <p:nvGrpSpPr>
            <p:cNvPr id="710" name=""/>
            <p:cNvGrpSpPr/>
            <p:nvPr/>
          </p:nvGrpSpPr>
          <p:grpSpPr>
            <a:xfrm>
              <a:off x="2681280" y="2519280"/>
              <a:ext cx="2514600" cy="1294920"/>
              <a:chOff x="2681280" y="2519280"/>
              <a:chExt cx="2514600" cy="1294920"/>
            </a:xfrm>
          </p:grpSpPr>
          <p:sp>
            <p:nvSpPr>
              <p:cNvPr id="711" name=""/>
              <p:cNvSpPr/>
              <p:nvPr/>
            </p:nvSpPr>
            <p:spPr>
              <a:xfrm>
                <a:off x="2681280" y="274752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214800" y="251928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909880" y="305244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443400" y="297612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747960" y="259524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976560" y="274752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7" name=""/>
            <p:cNvSpPr/>
            <p:nvPr/>
          </p:nvSpPr>
          <p:spPr>
            <a:xfrm>
              <a:off x="3138480" y="2976480"/>
              <a:ext cx="1219320" cy="45720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 flipV="1">
            <a:off x="1895400" y="3071880"/>
            <a:ext cx="852480" cy="95040"/>
          </a:xfrm>
          <a:prstGeom prst="line">
            <a:avLst/>
          </a:prstGeom>
          <a:ln w="5724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5043600" y="3423960"/>
            <a:ext cx="876240" cy="623880"/>
          </a:xfrm>
          <a:prstGeom prst="line">
            <a:avLst/>
          </a:prstGeom>
          <a:ln w="5724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436200" y="26319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35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771640" y="3086280"/>
            <a:ext cx="2257560" cy="2998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710720" y="321804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12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677560" y="342756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57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4300200" y="2357280"/>
            <a:ext cx="170028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552760" y="2616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996080" y="308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71840" y="4384800"/>
            <a:ext cx="56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: How does router A tell router B about AS1221 address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: Router A sets un an INTERIOR BGP session with router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terior Routing Protoco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685800" y="2057400"/>
            <a:ext cx="2514600" cy="1294920"/>
            <a:chOff x="685800" y="2057400"/>
            <a:chExt cx="2514600" cy="1294920"/>
          </a:xfrm>
        </p:grpSpPr>
        <p:grpSp>
          <p:nvGrpSpPr>
            <p:cNvPr id="730" name=""/>
            <p:cNvGrpSpPr/>
            <p:nvPr/>
          </p:nvGrpSpPr>
          <p:grpSpPr>
            <a:xfrm>
              <a:off x="685800" y="2057400"/>
              <a:ext cx="2514600" cy="1294920"/>
              <a:chOff x="685800" y="2057400"/>
              <a:chExt cx="2514600" cy="1294920"/>
            </a:xfrm>
          </p:grpSpPr>
          <p:sp>
            <p:nvSpPr>
              <p:cNvPr id="731" name=""/>
              <p:cNvSpPr/>
              <p:nvPr/>
            </p:nvSpPr>
            <p:spPr>
              <a:xfrm>
                <a:off x="685800" y="228564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219320" y="205740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914400" y="25905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447920" y="251424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752480" y="21333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981080" y="228564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1143000" y="2514600"/>
              <a:ext cx="1219320" cy="45720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1371600" y="4419720"/>
            <a:ext cx="2514600" cy="1294920"/>
            <a:chOff x="1371600" y="4419720"/>
            <a:chExt cx="2514600" cy="1294920"/>
          </a:xfrm>
        </p:grpSpPr>
        <p:grpSp>
          <p:nvGrpSpPr>
            <p:cNvPr id="739" name=""/>
            <p:cNvGrpSpPr/>
            <p:nvPr/>
          </p:nvGrpSpPr>
          <p:grpSpPr>
            <a:xfrm>
              <a:off x="1371600" y="4419720"/>
              <a:ext cx="2514600" cy="1294920"/>
              <a:chOff x="1371600" y="4419720"/>
              <a:chExt cx="2514600" cy="1294920"/>
            </a:xfrm>
          </p:grpSpPr>
          <p:sp>
            <p:nvSpPr>
              <p:cNvPr id="740" name=""/>
              <p:cNvSpPr/>
              <p:nvPr/>
            </p:nvSpPr>
            <p:spPr>
              <a:xfrm>
                <a:off x="1371600" y="46479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905120" y="441972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600200" y="49528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133720" y="487656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438280" y="44956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666880" y="46479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6" name=""/>
            <p:cNvSpPr/>
            <p:nvPr/>
          </p:nvSpPr>
          <p:spPr>
            <a:xfrm>
              <a:off x="1828800" y="4876920"/>
              <a:ext cx="1219320" cy="45720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3657600" y="1905120"/>
            <a:ext cx="2514600" cy="1294920"/>
            <a:chOff x="3657600" y="1905120"/>
            <a:chExt cx="2514600" cy="1294920"/>
          </a:xfrm>
        </p:grpSpPr>
        <p:grpSp>
          <p:nvGrpSpPr>
            <p:cNvPr id="748" name=""/>
            <p:cNvGrpSpPr/>
            <p:nvPr/>
          </p:nvGrpSpPr>
          <p:grpSpPr>
            <a:xfrm>
              <a:off x="3657600" y="1905120"/>
              <a:ext cx="2514600" cy="1294920"/>
              <a:chOff x="3657600" y="1905120"/>
              <a:chExt cx="2514600" cy="1294920"/>
            </a:xfrm>
          </p:grpSpPr>
          <p:sp>
            <p:nvSpPr>
              <p:cNvPr id="749" name=""/>
              <p:cNvSpPr/>
              <p:nvPr/>
            </p:nvSpPr>
            <p:spPr>
              <a:xfrm>
                <a:off x="3657600" y="21333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191120" y="190512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886200" y="24382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419720" y="236196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724280" y="19810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952880" y="21333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" name=""/>
            <p:cNvSpPr/>
            <p:nvPr/>
          </p:nvSpPr>
          <p:spPr>
            <a:xfrm>
              <a:off x="4114800" y="2362320"/>
              <a:ext cx="1219320" cy="45720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5486400" y="5105520"/>
            <a:ext cx="2514600" cy="1294920"/>
            <a:chOff x="5486400" y="5105520"/>
            <a:chExt cx="2514600" cy="1294920"/>
          </a:xfrm>
        </p:grpSpPr>
        <p:grpSp>
          <p:nvGrpSpPr>
            <p:cNvPr id="757" name=""/>
            <p:cNvGrpSpPr/>
            <p:nvPr/>
          </p:nvGrpSpPr>
          <p:grpSpPr>
            <a:xfrm>
              <a:off x="5486400" y="5105520"/>
              <a:ext cx="2514600" cy="1294920"/>
              <a:chOff x="5486400" y="5105520"/>
              <a:chExt cx="2514600" cy="1294920"/>
            </a:xfrm>
          </p:grpSpPr>
          <p:sp>
            <p:nvSpPr>
              <p:cNvPr id="758" name=""/>
              <p:cNvSpPr/>
              <p:nvPr/>
            </p:nvSpPr>
            <p:spPr>
              <a:xfrm>
                <a:off x="5486400" y="53337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019920" y="510552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715000" y="56386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248520" y="556236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553080" y="51814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781680" y="53337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>
              <a:off x="5943600" y="5562720"/>
              <a:ext cx="1219320" cy="45720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6095880" y="3048120"/>
            <a:ext cx="2514600" cy="1294920"/>
            <a:chOff x="6095880" y="3048120"/>
            <a:chExt cx="2514600" cy="1294920"/>
          </a:xfrm>
        </p:grpSpPr>
        <p:grpSp>
          <p:nvGrpSpPr>
            <p:cNvPr id="766" name=""/>
            <p:cNvGrpSpPr/>
            <p:nvPr/>
          </p:nvGrpSpPr>
          <p:grpSpPr>
            <a:xfrm>
              <a:off x="6095880" y="3048120"/>
              <a:ext cx="2514600" cy="1294920"/>
              <a:chOff x="6095880" y="3048120"/>
              <a:chExt cx="2514600" cy="1294920"/>
            </a:xfrm>
          </p:grpSpPr>
          <p:sp>
            <p:nvSpPr>
              <p:cNvPr id="767" name=""/>
              <p:cNvSpPr/>
              <p:nvPr/>
            </p:nvSpPr>
            <p:spPr>
              <a:xfrm>
                <a:off x="6095880" y="32763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629400" y="304812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324480" y="35812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858000" y="350496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162560" y="31240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391160" y="32763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6553080" y="3505320"/>
              <a:ext cx="1219320" cy="45720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1357560" y="22464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983600" y="48769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2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288680" y="2057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12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51360" y="327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35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174720" y="54864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7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2286000" y="2971800"/>
            <a:ext cx="457200" cy="1447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2743200" y="2666520"/>
            <a:ext cx="990720" cy="3812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2286000" y="2666880"/>
            <a:ext cx="1447920" cy="16765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5181480"/>
            <a:ext cx="1523880" cy="3812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867280" y="2895480"/>
            <a:ext cx="381240" cy="5335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962160" y="4419720"/>
            <a:ext cx="2971800" cy="6858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6781680" y="4419720"/>
            <a:ext cx="152640" cy="7617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809880" y="2666880"/>
            <a:ext cx="1981440" cy="2286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248520" y="3429000"/>
            <a:ext cx="685800" cy="9144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5562720" y="5181120"/>
            <a:ext cx="1143000" cy="3812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86000" y="4419720"/>
            <a:ext cx="1600200" cy="7617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406760" y="242244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-BG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796200" y="326088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E-BG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terior Routing Protoco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ally chose minimal AS path leng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2084400" y="3487680"/>
            <a:ext cx="43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3.10.60.0/24 701,3561,12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3.10.60.0/24 5727,12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00280" y="4071960"/>
            <a:ext cx="121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54840" y="4616280"/>
            <a:ext cx="719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path is via peer session to AS 5727 a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1 AS shorter that the other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terior POLIC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I share the traffic load between 2 or moreexterior provider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I create a backup link to support my main exterior lin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can bias minimal path selection by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 path filter lis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munity attribut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pre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terior Routing Protocols plus Polic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685800" y="2057400"/>
            <a:ext cx="2514600" cy="1294920"/>
            <a:chOff x="685800" y="2057400"/>
            <a:chExt cx="2514600" cy="1294920"/>
          </a:xfrm>
        </p:grpSpPr>
        <p:grpSp>
          <p:nvGrpSpPr>
            <p:cNvPr id="801" name=""/>
            <p:cNvGrpSpPr/>
            <p:nvPr/>
          </p:nvGrpSpPr>
          <p:grpSpPr>
            <a:xfrm>
              <a:off x="685800" y="2057400"/>
              <a:ext cx="2514600" cy="1294920"/>
              <a:chOff x="685800" y="2057400"/>
              <a:chExt cx="2514600" cy="1294920"/>
            </a:xfrm>
          </p:grpSpPr>
          <p:sp>
            <p:nvSpPr>
              <p:cNvPr id="802" name=""/>
              <p:cNvSpPr/>
              <p:nvPr/>
            </p:nvSpPr>
            <p:spPr>
              <a:xfrm>
                <a:off x="685800" y="228564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219320" y="205740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914400" y="25905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447920" y="251424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752480" y="21333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981080" y="228564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8" name=""/>
            <p:cNvSpPr/>
            <p:nvPr/>
          </p:nvSpPr>
          <p:spPr>
            <a:xfrm>
              <a:off x="1143000" y="2514600"/>
              <a:ext cx="1219320" cy="45720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1371600" y="4419720"/>
            <a:ext cx="2514600" cy="1294920"/>
            <a:chOff x="1371600" y="4419720"/>
            <a:chExt cx="2514600" cy="1294920"/>
          </a:xfrm>
        </p:grpSpPr>
        <p:grpSp>
          <p:nvGrpSpPr>
            <p:cNvPr id="810" name=""/>
            <p:cNvGrpSpPr/>
            <p:nvPr/>
          </p:nvGrpSpPr>
          <p:grpSpPr>
            <a:xfrm>
              <a:off x="1371600" y="4419720"/>
              <a:ext cx="2514600" cy="1294920"/>
              <a:chOff x="1371600" y="4419720"/>
              <a:chExt cx="2514600" cy="1294920"/>
            </a:xfrm>
          </p:grpSpPr>
          <p:sp>
            <p:nvSpPr>
              <p:cNvPr id="811" name=""/>
              <p:cNvSpPr/>
              <p:nvPr/>
            </p:nvSpPr>
            <p:spPr>
              <a:xfrm>
                <a:off x="1371600" y="46479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905120" y="441972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600200" y="49528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133720" y="487656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438280" y="44956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666880" y="46479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1828800" y="4876920"/>
              <a:ext cx="1219320" cy="45720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3657600" y="1905120"/>
            <a:ext cx="2514600" cy="1294920"/>
            <a:chOff x="3657600" y="1905120"/>
            <a:chExt cx="2514600" cy="1294920"/>
          </a:xfrm>
        </p:grpSpPr>
        <p:grpSp>
          <p:nvGrpSpPr>
            <p:cNvPr id="819" name=""/>
            <p:cNvGrpSpPr/>
            <p:nvPr/>
          </p:nvGrpSpPr>
          <p:grpSpPr>
            <a:xfrm>
              <a:off x="3657600" y="1905120"/>
              <a:ext cx="2514600" cy="1294920"/>
              <a:chOff x="3657600" y="1905120"/>
              <a:chExt cx="2514600" cy="1294920"/>
            </a:xfrm>
          </p:grpSpPr>
          <p:sp>
            <p:nvSpPr>
              <p:cNvPr id="820" name=""/>
              <p:cNvSpPr/>
              <p:nvPr/>
            </p:nvSpPr>
            <p:spPr>
              <a:xfrm>
                <a:off x="3657600" y="21333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191120" y="190512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886200" y="24382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419720" y="236196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724280" y="19810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952880" y="21333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>
              <a:off x="4114800" y="2362320"/>
              <a:ext cx="1219320" cy="45720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5486400" y="5105520"/>
            <a:ext cx="2514600" cy="1294920"/>
            <a:chOff x="5486400" y="5105520"/>
            <a:chExt cx="2514600" cy="1294920"/>
          </a:xfrm>
        </p:grpSpPr>
        <p:grpSp>
          <p:nvGrpSpPr>
            <p:cNvPr id="828" name=""/>
            <p:cNvGrpSpPr/>
            <p:nvPr/>
          </p:nvGrpSpPr>
          <p:grpSpPr>
            <a:xfrm>
              <a:off x="5486400" y="5105520"/>
              <a:ext cx="2514600" cy="1294920"/>
              <a:chOff x="5486400" y="5105520"/>
              <a:chExt cx="2514600" cy="1294920"/>
            </a:xfrm>
          </p:grpSpPr>
          <p:sp>
            <p:nvSpPr>
              <p:cNvPr id="829" name=""/>
              <p:cNvSpPr/>
              <p:nvPr/>
            </p:nvSpPr>
            <p:spPr>
              <a:xfrm>
                <a:off x="5486400" y="53337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019920" y="510552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715000" y="56386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248520" y="556236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553080" y="51814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781680" y="53337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5943600" y="5562720"/>
              <a:ext cx="1219320" cy="45720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6095880" y="3048120"/>
            <a:ext cx="2514600" cy="1294920"/>
            <a:chOff x="6095880" y="3048120"/>
            <a:chExt cx="2514600" cy="1294920"/>
          </a:xfrm>
        </p:grpSpPr>
        <p:grpSp>
          <p:nvGrpSpPr>
            <p:cNvPr id="837" name=""/>
            <p:cNvGrpSpPr/>
            <p:nvPr/>
          </p:nvGrpSpPr>
          <p:grpSpPr>
            <a:xfrm>
              <a:off x="6095880" y="3048120"/>
              <a:ext cx="2514600" cy="1294920"/>
              <a:chOff x="6095880" y="3048120"/>
              <a:chExt cx="2514600" cy="1294920"/>
            </a:xfrm>
          </p:grpSpPr>
          <p:sp>
            <p:nvSpPr>
              <p:cNvPr id="838" name=""/>
              <p:cNvSpPr/>
              <p:nvPr/>
            </p:nvSpPr>
            <p:spPr>
              <a:xfrm>
                <a:off x="6095880" y="32763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629400" y="304812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324480" y="35812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858000" y="3504960"/>
                <a:ext cx="121896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162560" y="312408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391160" y="3276360"/>
                <a:ext cx="1219320" cy="761760"/>
              </a:xfrm>
              <a:prstGeom prst="ellipse">
                <a:avLst/>
              </a:prstGeom>
              <a:solidFill>
                <a:srgbClr val="0066ff"/>
              </a:solidFill>
              <a:ln w="0">
                <a:noFill/>
              </a:ln>
              <a:effectLst>
                <a:outerShdw dist="107932" dir="2700000" blurRad="0" rotWithShape="0">
                  <a:srgbClr val="5e57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>
              <a:off x="6553080" y="3505320"/>
              <a:ext cx="1219320" cy="45720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1357560" y="22464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845720" y="49561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2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288680" y="2057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12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651000" y="32749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35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041520" y="52563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7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76640" y="4467240"/>
            <a:ext cx="3209760" cy="109548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867280" y="2895480"/>
            <a:ext cx="381240" cy="5335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3962160" y="4419720"/>
            <a:ext cx="2971800" cy="685800"/>
          </a:xfrm>
          <a:prstGeom prst="line">
            <a:avLst/>
          </a:prstGeom>
          <a:ln w="57240">
            <a:solidFill>
              <a:srgbClr val="bdb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6781680" y="4419720"/>
            <a:ext cx="152640" cy="761760"/>
          </a:xfrm>
          <a:prstGeom prst="line">
            <a:avLst/>
          </a:prstGeom>
          <a:ln w="57240">
            <a:solidFill>
              <a:srgbClr val="bdb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87960" y="2590920"/>
            <a:ext cx="1995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ccept AS p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21,35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02,7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2286000" y="2971800"/>
            <a:ext cx="457200" cy="1447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2743200" y="2666520"/>
            <a:ext cx="990720" cy="3812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2286000" y="2666880"/>
            <a:ext cx="1447920" cy="1676520"/>
          </a:xfrm>
          <a:prstGeom prst="line">
            <a:avLst/>
          </a:prstGeom>
          <a:ln w="57240">
            <a:solidFill>
              <a:srgbClr val="bdb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 flipV="1">
            <a:off x="3686040" y="2638440"/>
            <a:ext cx="2262240" cy="2808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terior Routing Protocols plus Polic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icy settings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you advertise to your immediate pe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you accept from your immediate pe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transits you will accept (send traffi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 path of received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y of transit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nectionless Forwar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router (switch) makes a LOCAL decision to forward the packet toward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4657680"/>
            <a:ext cx="3110040" cy="405000"/>
          </a:xfrm>
          <a:prstGeom prst="line">
            <a:avLst/>
          </a:prstGeom>
          <a:ln w="381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5038560"/>
            <a:ext cx="47520" cy="536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3514680"/>
            <a:ext cx="1258920" cy="1004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438360"/>
            <a:ext cx="3485880" cy="809640"/>
          </a:xfrm>
          <a:prstGeom prst="line">
            <a:avLst/>
          </a:prstGeom>
          <a:ln w="381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97160" y="3552840"/>
            <a:ext cx="1558800" cy="2046240"/>
          </a:xfrm>
          <a:prstGeom prst="line">
            <a:avLst/>
          </a:prstGeom>
          <a:ln w="381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5877000"/>
            <a:ext cx="477720" cy="115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1680" y="5334120"/>
            <a:ext cx="2040120" cy="682560"/>
          </a:xfrm>
          <a:prstGeom prst="line">
            <a:avLst/>
          </a:prstGeom>
          <a:ln w="381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97360" y="4376880"/>
            <a:ext cx="1125720" cy="564840"/>
          </a:xfrm>
          <a:prstGeom prst="line">
            <a:avLst/>
          </a:prstGeom>
          <a:ln w="381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14400" y="3057480"/>
            <a:ext cx="782640" cy="510840"/>
            <a:chOff x="914400" y="3057480"/>
            <a:chExt cx="782640" cy="510840"/>
          </a:xfrm>
        </p:grpSpPr>
        <p:sp>
          <p:nvSpPr>
            <p:cNvPr id="127" name=""/>
            <p:cNvSpPr/>
            <p:nvPr/>
          </p:nvSpPr>
          <p:spPr>
            <a:xfrm>
              <a:off x="915120" y="3205440"/>
              <a:ext cx="778680" cy="362880"/>
            </a:xfrm>
            <a:prstGeom prst="ellipse">
              <a:avLst/>
            </a:prstGeom>
            <a:gradFill rotWithShape="0">
              <a:gsLst>
                <a:gs pos="0">
                  <a:srgbClr val="413c36"/>
                </a:gs>
                <a:gs pos="50000">
                  <a:srgbClr val="5e574e"/>
                </a:gs>
                <a:gs pos="100000">
                  <a:srgbClr val="413c3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16200" y="3250080"/>
              <a:ext cx="779760" cy="139680"/>
            </a:xfrm>
            <a:prstGeom prst="rect">
              <a:avLst/>
            </a:prstGeom>
            <a:gradFill rotWithShape="0">
              <a:gsLst>
                <a:gs pos="0">
                  <a:srgbClr val="3d3933"/>
                </a:gs>
                <a:gs pos="50000">
                  <a:srgbClr val="5e574e"/>
                </a:gs>
                <a:gs pos="100000">
                  <a:srgbClr val="3d3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15120" y="3057480"/>
              <a:ext cx="778680" cy="363960"/>
            </a:xfrm>
            <a:prstGeom prst="ellipse">
              <a:avLst/>
            </a:prstGeom>
            <a:solidFill>
              <a:srgbClr val="5e574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42480" y="3138480"/>
              <a:ext cx="312120" cy="1782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45320" y="3144600"/>
              <a:ext cx="333360" cy="1782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90520" y="3260160"/>
              <a:ext cx="236880" cy="14688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90520" y="3062520"/>
              <a:ext cx="236880" cy="15516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14400" y="323496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97040" y="324000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156280" y="4086360"/>
            <a:ext cx="541080" cy="371520"/>
            <a:chOff x="5156280" y="4086360"/>
            <a:chExt cx="541080" cy="371520"/>
          </a:xfrm>
        </p:grpSpPr>
        <p:sp>
          <p:nvSpPr>
            <p:cNvPr id="137" name=""/>
            <p:cNvSpPr/>
            <p:nvPr/>
          </p:nvSpPr>
          <p:spPr>
            <a:xfrm>
              <a:off x="5156640" y="4194000"/>
              <a:ext cx="538560" cy="263880"/>
            </a:xfrm>
            <a:prstGeom prst="ellipse">
              <a:avLst/>
            </a:prstGeom>
            <a:gradFill rotWithShape="0">
              <a:gsLst>
                <a:gs pos="0">
                  <a:srgbClr val="413c36"/>
                </a:gs>
                <a:gs pos="50000">
                  <a:srgbClr val="5e574e"/>
                </a:gs>
                <a:gs pos="100000">
                  <a:srgbClr val="413c3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57360" y="4226400"/>
              <a:ext cx="539280" cy="101520"/>
            </a:xfrm>
            <a:prstGeom prst="rect">
              <a:avLst/>
            </a:prstGeom>
            <a:gradFill rotWithShape="0">
              <a:gsLst>
                <a:gs pos="0">
                  <a:srgbClr val="3d3933"/>
                </a:gs>
                <a:gs pos="50000">
                  <a:srgbClr val="5e574e"/>
                </a:gs>
                <a:gs pos="100000">
                  <a:srgbClr val="3d3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56640" y="4086360"/>
              <a:ext cx="538560" cy="264600"/>
            </a:xfrm>
            <a:prstGeom prst="ellipse">
              <a:avLst/>
            </a:prstGeom>
            <a:solidFill>
              <a:srgbClr val="5e574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75720" y="4145040"/>
              <a:ext cx="215640" cy="1296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000" y="4149720"/>
              <a:ext cx="230400" cy="1296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47440" y="4233600"/>
              <a:ext cx="163800" cy="10656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47440" y="4089960"/>
              <a:ext cx="163800" cy="11268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56280" y="4215240"/>
              <a:ext cx="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97360" y="4218840"/>
              <a:ext cx="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857680" y="5572080"/>
            <a:ext cx="782280" cy="510840"/>
            <a:chOff x="2857680" y="5572080"/>
            <a:chExt cx="782280" cy="510840"/>
          </a:xfrm>
        </p:grpSpPr>
        <p:sp>
          <p:nvSpPr>
            <p:cNvPr id="147" name=""/>
            <p:cNvSpPr/>
            <p:nvPr/>
          </p:nvSpPr>
          <p:spPr>
            <a:xfrm>
              <a:off x="2858400" y="5720040"/>
              <a:ext cx="778320" cy="362880"/>
            </a:xfrm>
            <a:prstGeom prst="ellipse">
              <a:avLst/>
            </a:prstGeom>
            <a:gradFill rotWithShape="0">
              <a:gsLst>
                <a:gs pos="0">
                  <a:srgbClr val="413c36"/>
                </a:gs>
                <a:gs pos="50000">
                  <a:srgbClr val="5e574e"/>
                </a:gs>
                <a:gs pos="100000">
                  <a:srgbClr val="413c3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59480" y="5764680"/>
              <a:ext cx="779400" cy="139680"/>
            </a:xfrm>
            <a:prstGeom prst="rect">
              <a:avLst/>
            </a:prstGeom>
            <a:gradFill rotWithShape="0">
              <a:gsLst>
                <a:gs pos="0">
                  <a:srgbClr val="3d3933"/>
                </a:gs>
                <a:gs pos="50000">
                  <a:srgbClr val="5e574e"/>
                </a:gs>
                <a:gs pos="100000">
                  <a:srgbClr val="3d3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58400" y="5572080"/>
              <a:ext cx="778320" cy="363960"/>
            </a:xfrm>
            <a:prstGeom prst="ellipse">
              <a:avLst/>
            </a:prstGeom>
            <a:solidFill>
              <a:srgbClr val="5e574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85760" y="5653080"/>
              <a:ext cx="311760" cy="1782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88240" y="5659200"/>
              <a:ext cx="333360" cy="1782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33800" y="5774760"/>
              <a:ext cx="236880" cy="14688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3800" y="5577120"/>
              <a:ext cx="236880" cy="15516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57680" y="574956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39960" y="575460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140360" y="5864400"/>
            <a:ext cx="579240" cy="384120"/>
            <a:chOff x="4140360" y="5864400"/>
            <a:chExt cx="579240" cy="384120"/>
          </a:xfrm>
        </p:grpSpPr>
        <p:sp>
          <p:nvSpPr>
            <p:cNvPr id="157" name=""/>
            <p:cNvSpPr/>
            <p:nvPr/>
          </p:nvSpPr>
          <p:spPr>
            <a:xfrm>
              <a:off x="4140720" y="5975640"/>
              <a:ext cx="576360" cy="272880"/>
            </a:xfrm>
            <a:prstGeom prst="ellipse">
              <a:avLst/>
            </a:prstGeom>
            <a:gradFill rotWithShape="0">
              <a:gsLst>
                <a:gs pos="0">
                  <a:srgbClr val="413c36"/>
                </a:gs>
                <a:gs pos="50000">
                  <a:srgbClr val="5e574e"/>
                </a:gs>
                <a:gs pos="100000">
                  <a:srgbClr val="413c3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41440" y="6009120"/>
              <a:ext cx="577080" cy="104760"/>
            </a:xfrm>
            <a:prstGeom prst="rect">
              <a:avLst/>
            </a:prstGeom>
            <a:gradFill rotWithShape="0">
              <a:gsLst>
                <a:gs pos="0">
                  <a:srgbClr val="3d3933"/>
                </a:gs>
                <a:gs pos="50000">
                  <a:srgbClr val="5e574e"/>
                </a:gs>
                <a:gs pos="100000">
                  <a:srgbClr val="3d3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40720" y="5864400"/>
              <a:ext cx="576360" cy="273600"/>
            </a:xfrm>
            <a:prstGeom prst="ellipse">
              <a:avLst/>
            </a:prstGeom>
            <a:solidFill>
              <a:srgbClr val="5e574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61240" y="5925240"/>
              <a:ext cx="230760" cy="13392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59320" y="5929920"/>
              <a:ext cx="246960" cy="13392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44840" y="6016680"/>
              <a:ext cx="175320" cy="11016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44840" y="5868000"/>
              <a:ext cx="175320" cy="11664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40360" y="5997600"/>
              <a:ext cx="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19600" y="6001560"/>
              <a:ext cx="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692760" y="4886280"/>
            <a:ext cx="782640" cy="510840"/>
            <a:chOff x="6692760" y="4886280"/>
            <a:chExt cx="782640" cy="510840"/>
          </a:xfrm>
        </p:grpSpPr>
        <p:sp>
          <p:nvSpPr>
            <p:cNvPr id="167" name=""/>
            <p:cNvSpPr/>
            <p:nvPr/>
          </p:nvSpPr>
          <p:spPr>
            <a:xfrm>
              <a:off x="6693480" y="5034240"/>
              <a:ext cx="778680" cy="362880"/>
            </a:xfrm>
            <a:prstGeom prst="ellipse">
              <a:avLst/>
            </a:prstGeom>
            <a:gradFill rotWithShape="0">
              <a:gsLst>
                <a:gs pos="0">
                  <a:srgbClr val="413c36"/>
                </a:gs>
                <a:gs pos="50000">
                  <a:srgbClr val="5e574e"/>
                </a:gs>
                <a:gs pos="100000">
                  <a:srgbClr val="413c3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94560" y="5078880"/>
              <a:ext cx="779760" cy="139680"/>
            </a:xfrm>
            <a:prstGeom prst="rect">
              <a:avLst/>
            </a:prstGeom>
            <a:gradFill rotWithShape="0">
              <a:gsLst>
                <a:gs pos="0">
                  <a:srgbClr val="3d3933"/>
                </a:gs>
                <a:gs pos="50000">
                  <a:srgbClr val="5e574e"/>
                </a:gs>
                <a:gs pos="100000">
                  <a:srgbClr val="3d3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93480" y="4886280"/>
              <a:ext cx="778680" cy="363960"/>
            </a:xfrm>
            <a:prstGeom prst="ellipse">
              <a:avLst/>
            </a:prstGeom>
            <a:solidFill>
              <a:srgbClr val="5e574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20840" y="4967280"/>
              <a:ext cx="312120" cy="1782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23680" y="4973400"/>
              <a:ext cx="333360" cy="1782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68880" y="5088960"/>
              <a:ext cx="236880" cy="14688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68880" y="4891320"/>
              <a:ext cx="236880" cy="15516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92760" y="506376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75400" y="506880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755800" y="4479840"/>
            <a:ext cx="782640" cy="510840"/>
            <a:chOff x="2755800" y="4479840"/>
            <a:chExt cx="782640" cy="510840"/>
          </a:xfrm>
        </p:grpSpPr>
        <p:sp>
          <p:nvSpPr>
            <p:cNvPr id="177" name=""/>
            <p:cNvSpPr/>
            <p:nvPr/>
          </p:nvSpPr>
          <p:spPr>
            <a:xfrm>
              <a:off x="2756520" y="4627800"/>
              <a:ext cx="778680" cy="362880"/>
            </a:xfrm>
            <a:prstGeom prst="ellipse">
              <a:avLst/>
            </a:prstGeom>
            <a:gradFill rotWithShape="0">
              <a:gsLst>
                <a:gs pos="0">
                  <a:srgbClr val="413c36"/>
                </a:gs>
                <a:gs pos="50000">
                  <a:srgbClr val="5e574e"/>
                </a:gs>
                <a:gs pos="100000">
                  <a:srgbClr val="413c3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57600" y="4672440"/>
              <a:ext cx="779760" cy="139680"/>
            </a:xfrm>
            <a:prstGeom prst="rect">
              <a:avLst/>
            </a:prstGeom>
            <a:gradFill rotWithShape="0">
              <a:gsLst>
                <a:gs pos="0">
                  <a:srgbClr val="3d3933"/>
                </a:gs>
                <a:gs pos="50000">
                  <a:srgbClr val="5e574e"/>
                </a:gs>
                <a:gs pos="100000">
                  <a:srgbClr val="3d3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56520" y="4479840"/>
              <a:ext cx="778680" cy="363960"/>
            </a:xfrm>
            <a:prstGeom prst="ellipse">
              <a:avLst/>
            </a:prstGeom>
            <a:solidFill>
              <a:srgbClr val="5e574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83880" y="4560840"/>
              <a:ext cx="312120" cy="1782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86720" y="4566960"/>
              <a:ext cx="333360" cy="1782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31920" y="4682520"/>
              <a:ext cx="236880" cy="14688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31920" y="4484880"/>
              <a:ext cx="236880" cy="15516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55800" y="465732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38440" y="466236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540480" y="3578400"/>
            <a:ext cx="782640" cy="510840"/>
            <a:chOff x="6540480" y="3578400"/>
            <a:chExt cx="782640" cy="510840"/>
          </a:xfrm>
        </p:grpSpPr>
        <p:sp>
          <p:nvSpPr>
            <p:cNvPr id="187" name=""/>
            <p:cNvSpPr/>
            <p:nvPr/>
          </p:nvSpPr>
          <p:spPr>
            <a:xfrm>
              <a:off x="6541200" y="3726360"/>
              <a:ext cx="778680" cy="362880"/>
            </a:xfrm>
            <a:prstGeom prst="ellipse">
              <a:avLst/>
            </a:prstGeom>
            <a:gradFill rotWithShape="0">
              <a:gsLst>
                <a:gs pos="0">
                  <a:srgbClr val="413c36"/>
                </a:gs>
                <a:gs pos="50000">
                  <a:srgbClr val="5e574e"/>
                </a:gs>
                <a:gs pos="100000">
                  <a:srgbClr val="413c3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42280" y="3771000"/>
              <a:ext cx="779760" cy="139680"/>
            </a:xfrm>
            <a:prstGeom prst="rect">
              <a:avLst/>
            </a:prstGeom>
            <a:gradFill rotWithShape="0">
              <a:gsLst>
                <a:gs pos="0">
                  <a:srgbClr val="3d3933"/>
                </a:gs>
                <a:gs pos="50000">
                  <a:srgbClr val="5e574e"/>
                </a:gs>
                <a:gs pos="100000">
                  <a:srgbClr val="3d3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41200" y="3578400"/>
              <a:ext cx="778680" cy="363600"/>
            </a:xfrm>
            <a:prstGeom prst="ellipse">
              <a:avLst/>
            </a:prstGeom>
            <a:solidFill>
              <a:srgbClr val="5e574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68560" y="3659400"/>
              <a:ext cx="312120" cy="1782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71400" y="3665160"/>
              <a:ext cx="333360" cy="1782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16600" y="3781080"/>
              <a:ext cx="236880" cy="14652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16600" y="3583440"/>
              <a:ext cx="236880" cy="15480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40480" y="375552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23120" y="376056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48280" y="4340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33520" y="3895560"/>
            <a:ext cx="456840" cy="526320"/>
            <a:chOff x="533520" y="3895560"/>
            <a:chExt cx="456840" cy="526320"/>
          </a:xfrm>
        </p:grpSpPr>
        <p:sp>
          <p:nvSpPr>
            <p:cNvPr id="198" name=""/>
            <p:cNvSpPr/>
            <p:nvPr/>
          </p:nvSpPr>
          <p:spPr>
            <a:xfrm>
              <a:off x="533520" y="4258080"/>
              <a:ext cx="456840" cy="163800"/>
            </a:xfrm>
            <a:prstGeom prst="rect">
              <a:avLst/>
            </a:prstGeom>
            <a:solidFill>
              <a:srgbClr val="dede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3520" y="3895560"/>
              <a:ext cx="456840" cy="328680"/>
            </a:xfrm>
            <a:prstGeom prst="rect">
              <a:avLst/>
            </a:prstGeom>
            <a:solidFill>
              <a:srgbClr val="dede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7720" y="3922920"/>
              <a:ext cx="365040" cy="25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0760" y="3946680"/>
              <a:ext cx="60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6800" y="3946680"/>
              <a:ext cx="0" cy="34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 flipV="1">
            <a:off x="990720" y="3514320"/>
            <a:ext cx="2286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740720" y="3621240"/>
            <a:ext cx="456840" cy="526320"/>
            <a:chOff x="7740720" y="3621240"/>
            <a:chExt cx="456840" cy="526320"/>
          </a:xfrm>
        </p:grpSpPr>
        <p:sp>
          <p:nvSpPr>
            <p:cNvPr id="205" name=""/>
            <p:cNvSpPr/>
            <p:nvPr/>
          </p:nvSpPr>
          <p:spPr>
            <a:xfrm>
              <a:off x="7740720" y="3983760"/>
              <a:ext cx="456840" cy="163800"/>
            </a:xfrm>
            <a:prstGeom prst="rect">
              <a:avLst/>
            </a:prstGeom>
            <a:solidFill>
              <a:srgbClr val="dede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40720" y="3621240"/>
              <a:ext cx="456840" cy="328680"/>
            </a:xfrm>
            <a:prstGeom prst="rect">
              <a:avLst/>
            </a:prstGeom>
            <a:solidFill>
              <a:srgbClr val="dede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74920" y="3648600"/>
              <a:ext cx="365040" cy="25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97960" y="3672360"/>
              <a:ext cx="60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94000" y="3672360"/>
              <a:ext cx="0" cy="34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7793280" y="4259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876840" y="3083040"/>
            <a:ext cx="579240" cy="384120"/>
            <a:chOff x="3876840" y="3083040"/>
            <a:chExt cx="579240" cy="384120"/>
          </a:xfrm>
        </p:grpSpPr>
        <p:sp>
          <p:nvSpPr>
            <p:cNvPr id="212" name=""/>
            <p:cNvSpPr/>
            <p:nvPr/>
          </p:nvSpPr>
          <p:spPr>
            <a:xfrm>
              <a:off x="3877200" y="3194280"/>
              <a:ext cx="576360" cy="272880"/>
            </a:xfrm>
            <a:prstGeom prst="ellipse">
              <a:avLst/>
            </a:prstGeom>
            <a:gradFill rotWithShape="0">
              <a:gsLst>
                <a:gs pos="0">
                  <a:srgbClr val="413c36"/>
                </a:gs>
                <a:gs pos="50000">
                  <a:srgbClr val="5e574e"/>
                </a:gs>
                <a:gs pos="100000">
                  <a:srgbClr val="413c3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77920" y="3227760"/>
              <a:ext cx="577080" cy="104760"/>
            </a:xfrm>
            <a:prstGeom prst="rect">
              <a:avLst/>
            </a:prstGeom>
            <a:gradFill rotWithShape="0">
              <a:gsLst>
                <a:gs pos="0">
                  <a:srgbClr val="3d3933"/>
                </a:gs>
                <a:gs pos="50000">
                  <a:srgbClr val="5e574e"/>
                </a:gs>
                <a:gs pos="100000">
                  <a:srgbClr val="3d3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77200" y="3083040"/>
              <a:ext cx="576360" cy="273600"/>
            </a:xfrm>
            <a:prstGeom prst="ellipse">
              <a:avLst/>
            </a:prstGeom>
            <a:solidFill>
              <a:srgbClr val="5e574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97720" y="3143880"/>
              <a:ext cx="230760" cy="13392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95800" y="3148560"/>
              <a:ext cx="246960" cy="13392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81320" y="3235320"/>
              <a:ext cx="175320" cy="11016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81320" y="3086640"/>
              <a:ext cx="175320" cy="11664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76840" y="3216240"/>
              <a:ext cx="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56080" y="3220200"/>
              <a:ext cx="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7296120" y="3890880"/>
            <a:ext cx="414360" cy="157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1689120" y="3282480"/>
            <a:ext cx="2216160" cy="41400"/>
          </a:xfrm>
          <a:prstGeom prst="line">
            <a:avLst/>
          </a:prstGeom>
          <a:ln w="381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405320" y="3389400"/>
            <a:ext cx="760320" cy="790560"/>
          </a:xfrm>
          <a:prstGeom prst="line">
            <a:avLst/>
          </a:prstGeom>
          <a:ln w="381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648320" y="4078440"/>
            <a:ext cx="2158920" cy="1861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55960" y="284328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08600" y="287352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6840" y="425916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89320" y="535932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94520" y="386712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27760" y="32940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87960" y="557856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88240" y="466092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nectionless Forwar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term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stination-based connectionless forwar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each router kn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rre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ocal forwarding decision for any possible destination addres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 knowledge of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pology st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knowledge is maintain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 the knowledge of the curr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ology sta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the network to all rou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knowledge is used by each router to generat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warding tab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which contains the local switching decision for each known destination add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 operation of the routing state of a network is essential for the management of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qu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etwork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of the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adjustment of the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ching aggregate traffic flow to network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019400" y="3427560"/>
            <a:ext cx="4924440" cy="419040"/>
          </a:xfrm>
          <a:prstGeom prst="rect">
            <a:avLst/>
          </a:prstGeom>
          <a:solidFill>
            <a:srgbClr val="e4e4e4"/>
          </a:solidFill>
          <a:ln w="0">
            <a:noFill/>
          </a:ln>
          <a:effectLst>
            <a:outerShdw dist="17819" dir="2700000" blurRad="0" rotWithShape="0">
              <a:srgbClr val="8888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ior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SP Routing Tas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er / upstr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4019400" y="4027320"/>
            <a:ext cx="4924440" cy="1149480"/>
          </a:xfrm>
          <a:prstGeom prst="rect">
            <a:avLst/>
          </a:prstGeom>
          <a:solidFill>
            <a:srgbClr val="e4e4e4"/>
          </a:solidFill>
          <a:ln w="0">
            <a:noFill/>
          </a:ln>
          <a:effectLst>
            <a:outerShdw dist="17819" dir="2700000" blurRad="0" rotWithShape="0">
              <a:srgbClr val="8888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19400" y="5565600"/>
            <a:ext cx="4924440" cy="419400"/>
          </a:xfrm>
          <a:prstGeom prst="rect">
            <a:avLst/>
          </a:prstGeom>
          <a:solidFill>
            <a:srgbClr val="e4e4e4"/>
          </a:solidFill>
          <a:ln w="0">
            <a:noFill/>
          </a:ln>
          <a:effectLst>
            <a:outerShdw dist="17819" dir="2700000" blurRad="0" rotWithShape="0">
              <a:srgbClr val="8888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19680" y="3021120"/>
            <a:ext cx="1011240" cy="163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865480" y="3124080"/>
            <a:ext cx="987480" cy="138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794640" y="2938320"/>
            <a:ext cx="185760" cy="19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08480" y="5111640"/>
            <a:ext cx="1162080" cy="9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610240" y="4600440"/>
            <a:ext cx="801720" cy="169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6597360" y="4971960"/>
            <a:ext cx="788760" cy="125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076800" y="2655720"/>
            <a:ext cx="1597320" cy="815760"/>
            <a:chOff x="6076800" y="2655720"/>
            <a:chExt cx="1597320" cy="815760"/>
          </a:xfrm>
        </p:grpSpPr>
        <p:sp>
          <p:nvSpPr>
            <p:cNvPr id="251" name=""/>
            <p:cNvSpPr/>
            <p:nvPr/>
          </p:nvSpPr>
          <p:spPr>
            <a:xfrm>
              <a:off x="6076800" y="2867400"/>
              <a:ext cx="716040" cy="423000"/>
            </a:xfrm>
            <a:prstGeom prst="ellipse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69400" y="2655720"/>
              <a:ext cx="716040" cy="423000"/>
            </a:xfrm>
            <a:prstGeom prst="ellipse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31520" y="3018240"/>
              <a:ext cx="716040" cy="423000"/>
            </a:xfrm>
            <a:prstGeom prst="ellipse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24480" y="2927520"/>
              <a:ext cx="716040" cy="423000"/>
            </a:xfrm>
            <a:prstGeom prst="ellipse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72520" y="3048480"/>
              <a:ext cx="716040" cy="423000"/>
            </a:xfrm>
            <a:prstGeom prst="ellipse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72520" y="2715840"/>
              <a:ext cx="716040" cy="423360"/>
            </a:xfrm>
            <a:prstGeom prst="ellipse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20200" y="2776680"/>
              <a:ext cx="716040" cy="423000"/>
            </a:xfrm>
            <a:prstGeom prst="ellipse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03000" y="2957760"/>
              <a:ext cx="716040" cy="423000"/>
            </a:xfrm>
            <a:prstGeom prst="ellipse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58080" y="2867400"/>
              <a:ext cx="716040" cy="423000"/>
            </a:xfrm>
            <a:prstGeom prst="ellipse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371840" y="2690640"/>
            <a:ext cx="1597320" cy="815760"/>
            <a:chOff x="4371840" y="2690640"/>
            <a:chExt cx="1597320" cy="815760"/>
          </a:xfrm>
        </p:grpSpPr>
        <p:sp>
          <p:nvSpPr>
            <p:cNvPr id="261" name=""/>
            <p:cNvSpPr/>
            <p:nvPr/>
          </p:nvSpPr>
          <p:spPr>
            <a:xfrm>
              <a:off x="4371840" y="2902320"/>
              <a:ext cx="716040" cy="423000"/>
            </a:xfrm>
            <a:prstGeom prst="ellipse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64440" y="2690640"/>
              <a:ext cx="716040" cy="423000"/>
            </a:xfrm>
            <a:prstGeom prst="ellipse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26560" y="3053160"/>
              <a:ext cx="716040" cy="423000"/>
            </a:xfrm>
            <a:prstGeom prst="ellipse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19520" y="2962440"/>
              <a:ext cx="716040" cy="423000"/>
            </a:xfrm>
            <a:prstGeom prst="ellipse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67560" y="3083400"/>
              <a:ext cx="716040" cy="423000"/>
            </a:xfrm>
            <a:prstGeom prst="ellipse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67560" y="2750760"/>
              <a:ext cx="716040" cy="423360"/>
            </a:xfrm>
            <a:prstGeom prst="ellipse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5240" y="2811600"/>
              <a:ext cx="716040" cy="423000"/>
            </a:xfrm>
            <a:prstGeom prst="ellipse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98040" y="2992680"/>
              <a:ext cx="716040" cy="423000"/>
            </a:xfrm>
            <a:prstGeom prst="ellipse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3120" y="2902320"/>
              <a:ext cx="716040" cy="423000"/>
            </a:xfrm>
            <a:prstGeom prst="ellipse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346640" y="3798720"/>
            <a:ext cx="3350880" cy="1917360"/>
            <a:chOff x="4346640" y="3798720"/>
            <a:chExt cx="3350880" cy="1917360"/>
          </a:xfrm>
        </p:grpSpPr>
        <p:sp>
          <p:nvSpPr>
            <p:cNvPr id="271" name=""/>
            <p:cNvSpPr/>
            <p:nvPr/>
          </p:nvSpPr>
          <p:spPr>
            <a:xfrm>
              <a:off x="4346640" y="4295880"/>
              <a:ext cx="1501920" cy="99396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50920" y="3798720"/>
              <a:ext cx="1501920" cy="99396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61840" y="4650840"/>
              <a:ext cx="1502280" cy="99396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66480" y="4437720"/>
              <a:ext cx="1501920" cy="99396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6320" y="4722120"/>
              <a:ext cx="1501920" cy="99396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86320" y="3940560"/>
              <a:ext cx="1501920" cy="99432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06520" y="4082760"/>
              <a:ext cx="1501920" cy="99396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79680" y="4509000"/>
              <a:ext cx="1501920" cy="99396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95240" y="4295880"/>
              <a:ext cx="1502280" cy="993960"/>
            </a:xfrm>
            <a:prstGeom prst="ellipse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516640" y="6056280"/>
            <a:ext cx="456840" cy="526320"/>
            <a:chOff x="5516640" y="6056280"/>
            <a:chExt cx="456840" cy="526320"/>
          </a:xfrm>
        </p:grpSpPr>
        <p:sp>
          <p:nvSpPr>
            <p:cNvPr id="281" name=""/>
            <p:cNvSpPr/>
            <p:nvPr/>
          </p:nvSpPr>
          <p:spPr>
            <a:xfrm>
              <a:off x="5516640" y="6418800"/>
              <a:ext cx="456840" cy="163800"/>
            </a:xfrm>
            <a:prstGeom prst="rect">
              <a:avLst/>
            </a:prstGeom>
            <a:solidFill>
              <a:srgbClr val="dede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16640" y="6056280"/>
              <a:ext cx="456840" cy="328680"/>
            </a:xfrm>
            <a:prstGeom prst="rect">
              <a:avLst/>
            </a:prstGeom>
            <a:solidFill>
              <a:srgbClr val="dede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50840" y="6083640"/>
              <a:ext cx="365040" cy="25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73880" y="6107400"/>
              <a:ext cx="60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69920" y="6107400"/>
              <a:ext cx="0" cy="34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019400" y="6033960"/>
            <a:ext cx="456840" cy="526320"/>
            <a:chOff x="4019400" y="6033960"/>
            <a:chExt cx="456840" cy="526320"/>
          </a:xfrm>
        </p:grpSpPr>
        <p:sp>
          <p:nvSpPr>
            <p:cNvPr id="287" name=""/>
            <p:cNvSpPr/>
            <p:nvPr/>
          </p:nvSpPr>
          <p:spPr>
            <a:xfrm>
              <a:off x="4019400" y="6396480"/>
              <a:ext cx="456840" cy="163800"/>
            </a:xfrm>
            <a:prstGeom prst="rect">
              <a:avLst/>
            </a:prstGeom>
            <a:solidFill>
              <a:srgbClr val="dede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19400" y="6033960"/>
              <a:ext cx="456840" cy="328680"/>
            </a:xfrm>
            <a:prstGeom prst="rect">
              <a:avLst/>
            </a:prstGeom>
            <a:solidFill>
              <a:srgbClr val="dede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53600" y="6061320"/>
              <a:ext cx="365040" cy="25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76640" y="6085080"/>
              <a:ext cx="60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72680" y="6085080"/>
              <a:ext cx="0" cy="34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074000" y="6022800"/>
            <a:ext cx="456840" cy="527040"/>
            <a:chOff x="7074000" y="6022800"/>
            <a:chExt cx="456840" cy="527040"/>
          </a:xfrm>
        </p:grpSpPr>
        <p:sp>
          <p:nvSpPr>
            <p:cNvPr id="293" name=""/>
            <p:cNvSpPr/>
            <p:nvPr/>
          </p:nvSpPr>
          <p:spPr>
            <a:xfrm>
              <a:off x="7074000" y="6385680"/>
              <a:ext cx="456840" cy="164160"/>
            </a:xfrm>
            <a:prstGeom prst="rect">
              <a:avLst/>
            </a:prstGeom>
            <a:solidFill>
              <a:srgbClr val="dede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74000" y="6022800"/>
              <a:ext cx="456840" cy="328680"/>
            </a:xfrm>
            <a:prstGeom prst="rect">
              <a:avLst/>
            </a:prstGeom>
            <a:solidFill>
              <a:srgbClr val="dede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08200" y="6050160"/>
              <a:ext cx="365040" cy="256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131240" y="6073920"/>
              <a:ext cx="60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127280" y="6073920"/>
              <a:ext cx="0" cy="3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531480" y="425916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or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71840" y="554832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ior Rou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overs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a network through the operation of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stributed routing protoc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 flipV="1">
            <a:off x="5715000" y="3141360"/>
            <a:ext cx="814320" cy="220680"/>
          </a:xfrm>
          <a:prstGeom prst="line">
            <a:avLst/>
          </a:prstGeom>
          <a:ln w="38160">
            <a:solidFill>
              <a:srgbClr val="9292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3819600"/>
            <a:ext cx="3110040" cy="404640"/>
          </a:xfrm>
          <a:prstGeom prst="line">
            <a:avLst/>
          </a:prstGeom>
          <a:ln w="2844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00400" y="4200480"/>
            <a:ext cx="47520" cy="536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00200" y="2676600"/>
            <a:ext cx="1258920" cy="1004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76520" y="2600280"/>
            <a:ext cx="3485880" cy="809640"/>
          </a:xfrm>
          <a:prstGeom prst="line">
            <a:avLst/>
          </a:prstGeom>
          <a:ln w="2844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97160" y="2714760"/>
            <a:ext cx="1558800" cy="2046240"/>
          </a:xfrm>
          <a:prstGeom prst="line">
            <a:avLst/>
          </a:prstGeom>
          <a:ln w="2844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5038560"/>
            <a:ext cx="477720" cy="115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711680" y="4495320"/>
            <a:ext cx="2040120" cy="682920"/>
          </a:xfrm>
          <a:prstGeom prst="line">
            <a:avLst/>
          </a:prstGeom>
          <a:ln w="38160">
            <a:solidFill>
              <a:srgbClr val="92929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697360" y="3538440"/>
            <a:ext cx="1125720" cy="565200"/>
          </a:xfrm>
          <a:prstGeom prst="line">
            <a:avLst/>
          </a:prstGeom>
          <a:ln w="2844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914400" y="2219400"/>
            <a:ext cx="782640" cy="510840"/>
            <a:chOff x="914400" y="2219400"/>
            <a:chExt cx="782640" cy="510840"/>
          </a:xfrm>
        </p:grpSpPr>
        <p:sp>
          <p:nvSpPr>
            <p:cNvPr id="312" name=""/>
            <p:cNvSpPr/>
            <p:nvPr/>
          </p:nvSpPr>
          <p:spPr>
            <a:xfrm>
              <a:off x="915120" y="2367360"/>
              <a:ext cx="778680" cy="362880"/>
            </a:xfrm>
            <a:prstGeom prst="ellipse">
              <a:avLst/>
            </a:prstGeom>
            <a:gradFill rotWithShape="0">
              <a:gsLst>
                <a:gs pos="0">
                  <a:srgbClr val="413c36"/>
                </a:gs>
                <a:gs pos="50000">
                  <a:srgbClr val="5e574e"/>
                </a:gs>
                <a:gs pos="100000">
                  <a:srgbClr val="413c3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16200" y="2412000"/>
              <a:ext cx="779760" cy="139680"/>
            </a:xfrm>
            <a:prstGeom prst="rect">
              <a:avLst/>
            </a:prstGeom>
            <a:gradFill rotWithShape="0">
              <a:gsLst>
                <a:gs pos="0">
                  <a:srgbClr val="3d3933"/>
                </a:gs>
                <a:gs pos="50000">
                  <a:srgbClr val="5e574e"/>
                </a:gs>
                <a:gs pos="100000">
                  <a:srgbClr val="3d3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15120" y="2219400"/>
              <a:ext cx="778680" cy="363960"/>
            </a:xfrm>
            <a:prstGeom prst="ellipse">
              <a:avLst/>
            </a:prstGeom>
            <a:solidFill>
              <a:srgbClr val="5e574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42480" y="2300400"/>
              <a:ext cx="312120" cy="1782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45320" y="2306520"/>
              <a:ext cx="333360" cy="1782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90520" y="2422080"/>
              <a:ext cx="236880" cy="14688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90520" y="2224440"/>
              <a:ext cx="236880" cy="15516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14400" y="239688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697040" y="240192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56280" y="3247920"/>
            <a:ext cx="541080" cy="371520"/>
            <a:chOff x="5156280" y="3247920"/>
            <a:chExt cx="541080" cy="371520"/>
          </a:xfrm>
        </p:grpSpPr>
        <p:sp>
          <p:nvSpPr>
            <p:cNvPr id="322" name=""/>
            <p:cNvSpPr/>
            <p:nvPr/>
          </p:nvSpPr>
          <p:spPr>
            <a:xfrm>
              <a:off x="5156640" y="3355560"/>
              <a:ext cx="538560" cy="263880"/>
            </a:xfrm>
            <a:prstGeom prst="ellipse">
              <a:avLst/>
            </a:prstGeom>
            <a:gradFill rotWithShape="0">
              <a:gsLst>
                <a:gs pos="0">
                  <a:srgbClr val="413c36"/>
                </a:gs>
                <a:gs pos="50000">
                  <a:srgbClr val="5e574e"/>
                </a:gs>
                <a:gs pos="100000">
                  <a:srgbClr val="413c3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57360" y="3387960"/>
              <a:ext cx="539280" cy="101520"/>
            </a:xfrm>
            <a:prstGeom prst="rect">
              <a:avLst/>
            </a:prstGeom>
            <a:gradFill rotWithShape="0">
              <a:gsLst>
                <a:gs pos="0">
                  <a:srgbClr val="3d3933"/>
                </a:gs>
                <a:gs pos="50000">
                  <a:srgbClr val="5e574e"/>
                </a:gs>
                <a:gs pos="100000">
                  <a:srgbClr val="3d3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56640" y="3247920"/>
              <a:ext cx="538560" cy="264600"/>
            </a:xfrm>
            <a:prstGeom prst="ellipse">
              <a:avLst/>
            </a:prstGeom>
            <a:solidFill>
              <a:srgbClr val="5e574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75720" y="3306600"/>
              <a:ext cx="215640" cy="1296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54000" y="3311280"/>
              <a:ext cx="230400" cy="1296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47440" y="3395160"/>
              <a:ext cx="163800" cy="10656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47440" y="3251520"/>
              <a:ext cx="163800" cy="11268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56280" y="3376800"/>
              <a:ext cx="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97360" y="3380400"/>
              <a:ext cx="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857680" y="4734000"/>
            <a:ext cx="782280" cy="510840"/>
            <a:chOff x="2857680" y="4734000"/>
            <a:chExt cx="782280" cy="510840"/>
          </a:xfrm>
        </p:grpSpPr>
        <p:sp>
          <p:nvSpPr>
            <p:cNvPr id="332" name=""/>
            <p:cNvSpPr/>
            <p:nvPr/>
          </p:nvSpPr>
          <p:spPr>
            <a:xfrm>
              <a:off x="2858400" y="4881960"/>
              <a:ext cx="778320" cy="362880"/>
            </a:xfrm>
            <a:prstGeom prst="ellipse">
              <a:avLst/>
            </a:prstGeom>
            <a:gradFill rotWithShape="0">
              <a:gsLst>
                <a:gs pos="0">
                  <a:srgbClr val="413c36"/>
                </a:gs>
                <a:gs pos="50000">
                  <a:srgbClr val="5e574e"/>
                </a:gs>
                <a:gs pos="100000">
                  <a:srgbClr val="413c3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59480" y="4926600"/>
              <a:ext cx="779400" cy="139680"/>
            </a:xfrm>
            <a:prstGeom prst="rect">
              <a:avLst/>
            </a:prstGeom>
            <a:gradFill rotWithShape="0">
              <a:gsLst>
                <a:gs pos="0">
                  <a:srgbClr val="3d3933"/>
                </a:gs>
                <a:gs pos="50000">
                  <a:srgbClr val="5e574e"/>
                </a:gs>
                <a:gs pos="100000">
                  <a:srgbClr val="3d3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58400" y="4734000"/>
              <a:ext cx="778320" cy="363960"/>
            </a:xfrm>
            <a:prstGeom prst="ellipse">
              <a:avLst/>
            </a:prstGeom>
            <a:solidFill>
              <a:srgbClr val="5e574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85760" y="4815000"/>
              <a:ext cx="311760" cy="1782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88240" y="4821120"/>
              <a:ext cx="333360" cy="1782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33800" y="4936680"/>
              <a:ext cx="236880" cy="14688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33800" y="4739040"/>
              <a:ext cx="236880" cy="15516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57680" y="491148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39960" y="491652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140360" y="5025960"/>
            <a:ext cx="579240" cy="384120"/>
            <a:chOff x="4140360" y="5025960"/>
            <a:chExt cx="579240" cy="384120"/>
          </a:xfrm>
        </p:grpSpPr>
        <p:sp>
          <p:nvSpPr>
            <p:cNvPr id="342" name=""/>
            <p:cNvSpPr/>
            <p:nvPr/>
          </p:nvSpPr>
          <p:spPr>
            <a:xfrm>
              <a:off x="4140720" y="5137200"/>
              <a:ext cx="576360" cy="272880"/>
            </a:xfrm>
            <a:prstGeom prst="ellipse">
              <a:avLst/>
            </a:prstGeom>
            <a:gradFill rotWithShape="0">
              <a:gsLst>
                <a:gs pos="0">
                  <a:srgbClr val="413c36"/>
                </a:gs>
                <a:gs pos="50000">
                  <a:srgbClr val="5e574e"/>
                </a:gs>
                <a:gs pos="100000">
                  <a:srgbClr val="413c3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41440" y="5170680"/>
              <a:ext cx="577080" cy="104760"/>
            </a:xfrm>
            <a:prstGeom prst="rect">
              <a:avLst/>
            </a:prstGeom>
            <a:gradFill rotWithShape="0">
              <a:gsLst>
                <a:gs pos="0">
                  <a:srgbClr val="3d3933"/>
                </a:gs>
                <a:gs pos="50000">
                  <a:srgbClr val="5e574e"/>
                </a:gs>
                <a:gs pos="100000">
                  <a:srgbClr val="3d3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40720" y="5025960"/>
              <a:ext cx="576360" cy="273600"/>
            </a:xfrm>
            <a:prstGeom prst="ellipse">
              <a:avLst/>
            </a:prstGeom>
            <a:solidFill>
              <a:srgbClr val="5e574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61240" y="5086800"/>
              <a:ext cx="230760" cy="13392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59320" y="5091480"/>
              <a:ext cx="246960" cy="13392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44840" y="5178240"/>
              <a:ext cx="175320" cy="11016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44840" y="5029560"/>
              <a:ext cx="175320" cy="11664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40360" y="5159160"/>
              <a:ext cx="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19600" y="5163120"/>
              <a:ext cx="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692760" y="4048200"/>
            <a:ext cx="782640" cy="510840"/>
            <a:chOff x="6692760" y="4048200"/>
            <a:chExt cx="782640" cy="510840"/>
          </a:xfrm>
        </p:grpSpPr>
        <p:sp>
          <p:nvSpPr>
            <p:cNvPr id="352" name=""/>
            <p:cNvSpPr/>
            <p:nvPr/>
          </p:nvSpPr>
          <p:spPr>
            <a:xfrm>
              <a:off x="6693480" y="4196160"/>
              <a:ext cx="778680" cy="362880"/>
            </a:xfrm>
            <a:prstGeom prst="ellipse">
              <a:avLst/>
            </a:prstGeom>
            <a:gradFill rotWithShape="0">
              <a:gsLst>
                <a:gs pos="0">
                  <a:srgbClr val="413c36"/>
                </a:gs>
                <a:gs pos="50000">
                  <a:srgbClr val="5e574e"/>
                </a:gs>
                <a:gs pos="100000">
                  <a:srgbClr val="413c3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94560" y="4240800"/>
              <a:ext cx="779760" cy="139680"/>
            </a:xfrm>
            <a:prstGeom prst="rect">
              <a:avLst/>
            </a:prstGeom>
            <a:gradFill rotWithShape="0">
              <a:gsLst>
                <a:gs pos="0">
                  <a:srgbClr val="3d3933"/>
                </a:gs>
                <a:gs pos="50000">
                  <a:srgbClr val="5e574e"/>
                </a:gs>
                <a:gs pos="100000">
                  <a:srgbClr val="3d3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693480" y="4048200"/>
              <a:ext cx="778680" cy="363960"/>
            </a:xfrm>
            <a:prstGeom prst="ellipse">
              <a:avLst/>
            </a:prstGeom>
            <a:solidFill>
              <a:srgbClr val="5e574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720840" y="4129200"/>
              <a:ext cx="312120" cy="1782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23680" y="4135320"/>
              <a:ext cx="333360" cy="1782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68880" y="4250880"/>
              <a:ext cx="236880" cy="14688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68880" y="4053240"/>
              <a:ext cx="236880" cy="15516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92760" y="422568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75400" y="423072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755800" y="3641760"/>
            <a:ext cx="782640" cy="510840"/>
            <a:chOff x="2755800" y="3641760"/>
            <a:chExt cx="782640" cy="510840"/>
          </a:xfrm>
        </p:grpSpPr>
        <p:sp>
          <p:nvSpPr>
            <p:cNvPr id="362" name=""/>
            <p:cNvSpPr/>
            <p:nvPr/>
          </p:nvSpPr>
          <p:spPr>
            <a:xfrm>
              <a:off x="2756520" y="3789720"/>
              <a:ext cx="778680" cy="362880"/>
            </a:xfrm>
            <a:prstGeom prst="ellipse">
              <a:avLst/>
            </a:prstGeom>
            <a:gradFill rotWithShape="0">
              <a:gsLst>
                <a:gs pos="0">
                  <a:srgbClr val="413c36"/>
                </a:gs>
                <a:gs pos="50000">
                  <a:srgbClr val="5e574e"/>
                </a:gs>
                <a:gs pos="100000">
                  <a:srgbClr val="413c3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57600" y="3834360"/>
              <a:ext cx="779760" cy="139680"/>
            </a:xfrm>
            <a:prstGeom prst="rect">
              <a:avLst/>
            </a:prstGeom>
            <a:gradFill rotWithShape="0">
              <a:gsLst>
                <a:gs pos="0">
                  <a:srgbClr val="3d3933"/>
                </a:gs>
                <a:gs pos="50000">
                  <a:srgbClr val="5e574e"/>
                </a:gs>
                <a:gs pos="100000">
                  <a:srgbClr val="3d3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56520" y="3641760"/>
              <a:ext cx="778680" cy="363960"/>
            </a:xfrm>
            <a:prstGeom prst="ellipse">
              <a:avLst/>
            </a:prstGeom>
            <a:solidFill>
              <a:srgbClr val="5e574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83880" y="3722760"/>
              <a:ext cx="312120" cy="1782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186720" y="3728880"/>
              <a:ext cx="333360" cy="1782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031920" y="3844440"/>
              <a:ext cx="236880" cy="14688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31920" y="3646800"/>
              <a:ext cx="236880" cy="15516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755800" y="381924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38440" y="382428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6540480" y="2739960"/>
            <a:ext cx="782640" cy="510840"/>
            <a:chOff x="6540480" y="2739960"/>
            <a:chExt cx="782640" cy="510840"/>
          </a:xfrm>
        </p:grpSpPr>
        <p:sp>
          <p:nvSpPr>
            <p:cNvPr id="372" name=""/>
            <p:cNvSpPr/>
            <p:nvPr/>
          </p:nvSpPr>
          <p:spPr>
            <a:xfrm>
              <a:off x="6541200" y="2887920"/>
              <a:ext cx="778680" cy="362880"/>
            </a:xfrm>
            <a:prstGeom prst="ellipse">
              <a:avLst/>
            </a:prstGeom>
            <a:gradFill rotWithShape="0">
              <a:gsLst>
                <a:gs pos="0">
                  <a:srgbClr val="413c36"/>
                </a:gs>
                <a:gs pos="50000">
                  <a:srgbClr val="5e574e"/>
                </a:gs>
                <a:gs pos="100000">
                  <a:srgbClr val="413c3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42280" y="2932560"/>
              <a:ext cx="779760" cy="139680"/>
            </a:xfrm>
            <a:prstGeom prst="rect">
              <a:avLst/>
            </a:prstGeom>
            <a:gradFill rotWithShape="0">
              <a:gsLst>
                <a:gs pos="0">
                  <a:srgbClr val="3d3933"/>
                </a:gs>
                <a:gs pos="50000">
                  <a:srgbClr val="5e574e"/>
                </a:gs>
                <a:gs pos="100000">
                  <a:srgbClr val="3d3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41200" y="2739960"/>
              <a:ext cx="778680" cy="363960"/>
            </a:xfrm>
            <a:prstGeom prst="ellipse">
              <a:avLst/>
            </a:prstGeom>
            <a:solidFill>
              <a:srgbClr val="5e574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68560" y="2820960"/>
              <a:ext cx="312120" cy="1782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71400" y="2827080"/>
              <a:ext cx="333360" cy="17820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16600" y="2942640"/>
              <a:ext cx="236880" cy="14688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16600" y="2745000"/>
              <a:ext cx="236880" cy="15516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40480" y="291744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3120" y="2922480"/>
              <a:ext cx="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548280" y="3502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33520" y="3057480"/>
            <a:ext cx="456840" cy="526320"/>
            <a:chOff x="533520" y="3057480"/>
            <a:chExt cx="456840" cy="526320"/>
          </a:xfrm>
        </p:grpSpPr>
        <p:sp>
          <p:nvSpPr>
            <p:cNvPr id="383" name=""/>
            <p:cNvSpPr/>
            <p:nvPr/>
          </p:nvSpPr>
          <p:spPr>
            <a:xfrm>
              <a:off x="533520" y="3420000"/>
              <a:ext cx="456840" cy="163800"/>
            </a:xfrm>
            <a:prstGeom prst="rect">
              <a:avLst/>
            </a:prstGeom>
            <a:solidFill>
              <a:srgbClr val="dede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3520" y="3057480"/>
              <a:ext cx="456840" cy="328680"/>
            </a:xfrm>
            <a:prstGeom prst="rect">
              <a:avLst/>
            </a:prstGeom>
            <a:solidFill>
              <a:srgbClr val="dede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7720" y="3084840"/>
              <a:ext cx="365040" cy="25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0760" y="3108600"/>
              <a:ext cx="60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6800" y="3108600"/>
              <a:ext cx="0" cy="34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 flipV="1">
            <a:off x="990720" y="2676600"/>
            <a:ext cx="2286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47800" y="3362400"/>
            <a:ext cx="31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92040" y="3051000"/>
            <a:ext cx="31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22720" y="4270320"/>
            <a:ext cx="246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25760" y="3736800"/>
            <a:ext cx="31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01880" y="2670120"/>
            <a:ext cx="31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03760" y="4869000"/>
            <a:ext cx="246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04080" y="2975040"/>
            <a:ext cx="246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68760" y="4276800"/>
            <a:ext cx="31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75320" y="3743280"/>
            <a:ext cx="31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49640" y="4803840"/>
            <a:ext cx="31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76400" y="2840040"/>
            <a:ext cx="246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7740720" y="2782800"/>
            <a:ext cx="456840" cy="526320"/>
            <a:chOff x="7740720" y="2782800"/>
            <a:chExt cx="456840" cy="526320"/>
          </a:xfrm>
        </p:grpSpPr>
        <p:sp>
          <p:nvSpPr>
            <p:cNvPr id="401" name=""/>
            <p:cNvSpPr/>
            <p:nvPr/>
          </p:nvSpPr>
          <p:spPr>
            <a:xfrm>
              <a:off x="7740720" y="3145320"/>
              <a:ext cx="456840" cy="163800"/>
            </a:xfrm>
            <a:prstGeom prst="rect">
              <a:avLst/>
            </a:prstGeom>
            <a:solidFill>
              <a:srgbClr val="dede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40720" y="2782800"/>
              <a:ext cx="456840" cy="328680"/>
            </a:xfrm>
            <a:prstGeom prst="rect">
              <a:avLst/>
            </a:prstGeom>
            <a:solidFill>
              <a:srgbClr val="dede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74920" y="2810160"/>
              <a:ext cx="365040" cy="25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97960" y="2833920"/>
              <a:ext cx="60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794000" y="2833920"/>
              <a:ext cx="0" cy="34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7793280" y="342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876840" y="2244600"/>
            <a:ext cx="579240" cy="384120"/>
            <a:chOff x="3876840" y="2244600"/>
            <a:chExt cx="579240" cy="384120"/>
          </a:xfrm>
        </p:grpSpPr>
        <p:sp>
          <p:nvSpPr>
            <p:cNvPr id="408" name=""/>
            <p:cNvSpPr/>
            <p:nvPr/>
          </p:nvSpPr>
          <p:spPr>
            <a:xfrm>
              <a:off x="3877200" y="2355840"/>
              <a:ext cx="576360" cy="272880"/>
            </a:xfrm>
            <a:prstGeom prst="ellipse">
              <a:avLst/>
            </a:prstGeom>
            <a:gradFill rotWithShape="0">
              <a:gsLst>
                <a:gs pos="0">
                  <a:srgbClr val="413c36"/>
                </a:gs>
                <a:gs pos="50000">
                  <a:srgbClr val="5e574e"/>
                </a:gs>
                <a:gs pos="100000">
                  <a:srgbClr val="413c36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77920" y="2389320"/>
              <a:ext cx="577080" cy="105120"/>
            </a:xfrm>
            <a:prstGeom prst="rect">
              <a:avLst/>
            </a:prstGeom>
            <a:gradFill rotWithShape="0">
              <a:gsLst>
                <a:gs pos="0">
                  <a:srgbClr val="3d3933"/>
                </a:gs>
                <a:gs pos="50000">
                  <a:srgbClr val="5e574e"/>
                </a:gs>
                <a:gs pos="100000">
                  <a:srgbClr val="3d3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877200" y="2244600"/>
              <a:ext cx="576360" cy="273600"/>
            </a:xfrm>
            <a:prstGeom prst="ellipse">
              <a:avLst/>
            </a:prstGeom>
            <a:solidFill>
              <a:srgbClr val="5e574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97720" y="2305440"/>
              <a:ext cx="230760" cy="13392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8" y="48"/>
                  </a:moveTo>
                  <a:lnTo>
                    <a:pt x="208" y="48"/>
                  </a:lnTo>
                  <a:lnTo>
                    <a:pt x="216" y="0"/>
                  </a:lnTo>
                  <a:lnTo>
                    <a:pt x="327" y="88"/>
                  </a:lnTo>
                  <a:lnTo>
                    <a:pt x="192" y="175"/>
                  </a:lnTo>
                  <a:lnTo>
                    <a:pt x="192" y="135"/>
                  </a:lnTo>
                  <a:lnTo>
                    <a:pt x="0" y="135"/>
                  </a:lnTo>
                  <a:lnTo>
                    <a:pt x="0" y="88"/>
                  </a:lnTo>
                  <a:lnTo>
                    <a:pt x="8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95800" y="2310120"/>
              <a:ext cx="246960" cy="133920"/>
            </a:xfrm>
            <a:custGeom>
              <a:avLst/>
              <a:gdLst/>
              <a:ahLst/>
              <a:rect l="l" t="t" r="r" b="b"/>
              <a:pathLst>
                <a:path w="328" h="176">
                  <a:moveTo>
                    <a:pt x="312" y="48"/>
                  </a:moveTo>
                  <a:lnTo>
                    <a:pt x="120" y="48"/>
                  </a:lnTo>
                  <a:lnTo>
                    <a:pt x="112" y="0"/>
                  </a:lnTo>
                  <a:lnTo>
                    <a:pt x="0" y="88"/>
                  </a:lnTo>
                  <a:lnTo>
                    <a:pt x="136" y="175"/>
                  </a:lnTo>
                  <a:lnTo>
                    <a:pt x="128" y="127"/>
                  </a:lnTo>
                  <a:lnTo>
                    <a:pt x="327" y="127"/>
                  </a:lnTo>
                  <a:lnTo>
                    <a:pt x="312" y="40"/>
                  </a:lnTo>
                  <a:lnTo>
                    <a:pt x="312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081320" y="2396880"/>
              <a:ext cx="175320" cy="110520"/>
            </a:xfrm>
            <a:custGeom>
              <a:avLst/>
              <a:gdLst/>
              <a:ahLst/>
              <a:rect l="l" t="t" r="r" b="b"/>
              <a:pathLst>
                <a:path w="233" h="145">
                  <a:moveTo>
                    <a:pt x="80" y="0"/>
                  </a:moveTo>
                  <a:lnTo>
                    <a:pt x="80" y="72"/>
                  </a:lnTo>
                  <a:lnTo>
                    <a:pt x="0" y="72"/>
                  </a:lnTo>
                  <a:lnTo>
                    <a:pt x="112" y="144"/>
                  </a:lnTo>
                  <a:lnTo>
                    <a:pt x="232" y="72"/>
                  </a:lnTo>
                  <a:lnTo>
                    <a:pt x="152" y="72"/>
                  </a:lnTo>
                  <a:lnTo>
                    <a:pt x="152" y="0"/>
                  </a:lnTo>
                  <a:lnTo>
                    <a:pt x="120" y="0"/>
                  </a:lnTo>
                  <a:lnTo>
                    <a:pt x="8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81320" y="2248200"/>
              <a:ext cx="175320" cy="116640"/>
            </a:xfrm>
            <a:custGeom>
              <a:avLst/>
              <a:gdLst/>
              <a:ahLst/>
              <a:rect l="l" t="t" r="r" b="b"/>
              <a:pathLst>
                <a:path w="233" h="153">
                  <a:moveTo>
                    <a:pt x="152" y="152"/>
                  </a:moveTo>
                  <a:lnTo>
                    <a:pt x="152" y="72"/>
                  </a:lnTo>
                  <a:lnTo>
                    <a:pt x="232" y="72"/>
                  </a:lnTo>
                  <a:lnTo>
                    <a:pt x="112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152"/>
                  </a:lnTo>
                  <a:lnTo>
                    <a:pt x="112" y="152"/>
                  </a:lnTo>
                  <a:lnTo>
                    <a:pt x="152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76840" y="2378160"/>
              <a:ext cx="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56080" y="2381760"/>
              <a:ext cx="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7296120" y="3052800"/>
            <a:ext cx="414360" cy="156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383600" y="2911320"/>
            <a:ext cx="246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1689120" y="2444400"/>
            <a:ext cx="2216160" cy="41400"/>
          </a:xfrm>
          <a:prstGeom prst="line">
            <a:avLst/>
          </a:prstGeom>
          <a:ln w="38160">
            <a:solidFill>
              <a:srgbClr val="9292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4405320" y="2550960"/>
            <a:ext cx="760320" cy="790560"/>
          </a:xfrm>
          <a:prstGeom prst="line">
            <a:avLst/>
          </a:prstGeom>
          <a:ln w="2844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25800" y="2255760"/>
            <a:ext cx="246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732200" y="2765520"/>
            <a:ext cx="31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4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4648320" y="3239640"/>
            <a:ext cx="2158920" cy="186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55960" y="200484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08600" y="203508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76840" y="342108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89320" y="452124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94520" y="302904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27760" y="245592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287960" y="474012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88240" y="382284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th Sele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"/>
          <p:cNvSpPr/>
          <p:nvPr/>
        </p:nvSpPr>
        <p:spPr>
          <a:xfrm>
            <a:off x="764280" y="5673600"/>
            <a:ext cx="51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cost from A to B is 39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0T14:49:39Z</dcterms:created>
  <dc:creator>geoff</dc:creator>
  <dc:description/>
  <dc:language>en-US</dc:language>
  <cp:lastModifiedBy>g</cp:lastModifiedBy>
  <dcterms:modified xsi:type="dcterms:W3CDTF">2002-12-03T18:30:24Z</dcterms:modified>
  <cp:revision>31</cp:revision>
  <dc:subject/>
  <dc:title>Introduction to IP Rou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my documents\isocwk98\t4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