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1920" y="22860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8915400" cy="265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360" y="4200840"/>
            <a:ext cx="8915400" cy="265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1920" y="22860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4350600" cy="265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68040" y="1295280"/>
            <a:ext cx="4350600" cy="265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360" y="4200840"/>
            <a:ext cx="4350600" cy="265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68040" y="4200840"/>
            <a:ext cx="4350600" cy="265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1920" y="22860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2870640" cy="265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14280" y="1295280"/>
            <a:ext cx="2870640" cy="265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8920" y="1295280"/>
            <a:ext cx="2870640" cy="265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360" y="4200840"/>
            <a:ext cx="2870640" cy="265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14280" y="4200840"/>
            <a:ext cx="2870640" cy="265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8920" y="4200840"/>
            <a:ext cx="2870640" cy="265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1920" y="22860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360" y="1295280"/>
            <a:ext cx="89154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1920" y="22860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8915400" cy="55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1920" y="22860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4350600" cy="55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68040" y="1295280"/>
            <a:ext cx="4350600" cy="55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1920" y="22860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51920" y="22860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1920" y="22860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4350600" cy="265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68040" y="1295280"/>
            <a:ext cx="4350600" cy="55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360" y="4200840"/>
            <a:ext cx="4350600" cy="265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1920" y="22860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4350600" cy="55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68040" y="1295280"/>
            <a:ext cx="4350600" cy="265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68040" y="4200840"/>
            <a:ext cx="4350600" cy="265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1920" y="22860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4350600" cy="265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68040" y="1295280"/>
            <a:ext cx="4350600" cy="265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360" y="4200840"/>
            <a:ext cx="8915400" cy="265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1920" y="22860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360" y="1295280"/>
            <a:ext cx="8915400" cy="55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-196560" y="6524640"/>
            <a:ext cx="1649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net man - </a:t>
            </a:r>
            <a:fld id="{BDCDB739-E077-456E-BED2-DEA80D163ED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320" y="1143000"/>
            <a:ext cx="8915400" cy="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964920" y="6583320"/>
            <a:ext cx="217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pyright © 2000 Scott Bradn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.wmf"/><Relationship Id="rId6" Type="http://schemas.openxmlformats.org/officeDocument/2006/relationships/image" Target="../media/image3.wmf"/><Relationship Id="rId7" Type="http://schemas.openxmlformats.org/officeDocument/2006/relationships/image" Target="../media/image3.wmf"/><Relationship Id="rId8" Type="http://schemas.openxmlformats.org/officeDocument/2006/relationships/image" Target="../media/image4.wmf"/><Relationship Id="rId9" Type="http://schemas.openxmlformats.org/officeDocument/2006/relationships/image" Target="../media/image4.wmf"/><Relationship Id="rId10" Type="http://schemas.openxmlformats.org/officeDocument/2006/relationships/image" Target="../media/image4.wmf"/><Relationship Id="rId11" Type="http://schemas.openxmlformats.org/officeDocument/2006/relationships/image" Target="../media/image4.wmf"/><Relationship Id="rId12" Type="http://schemas.openxmlformats.org/officeDocument/2006/relationships/image" Target="../media/image5.wmf"/><Relationship Id="rId13" Type="http://schemas.openxmlformats.org/officeDocument/2006/relationships/image" Target="../media/image5.wmf"/><Relationship Id="rId14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1920" y="22860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8915400" cy="55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Times New Roman"/>
              </a:rPr>
              <a:t>Network Management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o's the bos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You or the network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1920" y="22860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nfiguration and Name Managemen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8915400" cy="55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twork state inform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twork topolog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peration status of network elem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cluding resourc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twork element configur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trol network elem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art/sto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dification of network attribut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ddition of new featu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figuration modific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ocation and addition of network resour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configuration if dictated by link outag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1920" y="22860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nfig. Mgmt. - Network State Info.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8915400" cy="55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.g. SNMP driven displa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298600" y="2171880"/>
            <a:ext cx="203400" cy="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298600" y="2476440"/>
            <a:ext cx="203400" cy="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298600" y="2781360"/>
            <a:ext cx="203400" cy="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298600" y="3086280"/>
            <a:ext cx="203400" cy="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298600" y="3390840"/>
            <a:ext cx="203400" cy="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298600" y="3695760"/>
            <a:ext cx="203400" cy="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2513160" y="1994040"/>
            <a:ext cx="1440" cy="249048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2550600" y="1994040"/>
            <a:ext cx="1800" cy="249048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 flipV="1">
            <a:off x="2549520" y="2920680"/>
            <a:ext cx="574560" cy="324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3741840" y="2927520"/>
            <a:ext cx="588960" cy="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4341960" y="1994040"/>
            <a:ext cx="1440" cy="339408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4379400" y="1994040"/>
            <a:ext cx="1800" cy="340344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994040" y="4219560"/>
            <a:ext cx="507960" cy="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1022400" y="4218120"/>
            <a:ext cx="349200" cy="144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19040" y="4049640"/>
            <a:ext cx="584280" cy="355680"/>
          </a:xfrm>
          <a:prstGeom prst="rect">
            <a:avLst/>
          </a:prstGeom>
          <a:solidFill>
            <a:srgbClr val="66ff6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21200" y="4097160"/>
            <a:ext cx="5990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nhv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737240" y="1994040"/>
            <a:ext cx="888840" cy="203040"/>
          </a:xfrm>
          <a:prstGeom prst="rect">
            <a:avLst/>
          </a:prstGeom>
          <a:solidFill>
            <a:srgbClr val="66ff6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854240" y="1965240"/>
            <a:ext cx="5900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sc6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 flipV="1">
            <a:off x="4389480" y="2090520"/>
            <a:ext cx="334800" cy="468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737240" y="2374920"/>
            <a:ext cx="888840" cy="203040"/>
          </a:xfrm>
          <a:prstGeom prst="rect">
            <a:avLst/>
          </a:prstGeom>
          <a:solidFill>
            <a:srgbClr val="66ff6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854240" y="2346480"/>
            <a:ext cx="6994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rvar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4389480" y="2471400"/>
            <a:ext cx="334800" cy="468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4389480" y="3533760"/>
            <a:ext cx="334800" cy="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5331960" y="3533760"/>
            <a:ext cx="335160" cy="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737240" y="3355920"/>
            <a:ext cx="583920" cy="355680"/>
          </a:xfrm>
          <a:prstGeom prst="rect">
            <a:avLst/>
          </a:prstGeom>
          <a:solidFill>
            <a:srgbClr val="66ff6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78280" y="3403440"/>
            <a:ext cx="437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4389480" y="4600440"/>
            <a:ext cx="334800" cy="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737240" y="4422600"/>
            <a:ext cx="583920" cy="355680"/>
          </a:xfrm>
          <a:prstGeom prst="rect">
            <a:avLst/>
          </a:prstGeom>
          <a:solidFill>
            <a:srgbClr val="66ff6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710960" y="4470480"/>
            <a:ext cx="6235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itgw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137040" y="1974960"/>
            <a:ext cx="583920" cy="355320"/>
          </a:xfrm>
          <a:prstGeom prst="rect">
            <a:avLst/>
          </a:prstGeom>
          <a:solidFill>
            <a:srgbClr val="66ff6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100320" y="2022480"/>
            <a:ext cx="6735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ghgw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429000" y="2365200"/>
            <a:ext cx="0" cy="35568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 flipV="1">
            <a:off x="5339880" y="4610160"/>
            <a:ext cx="1530360" cy="144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880320" y="4422600"/>
            <a:ext cx="584280" cy="355680"/>
          </a:xfrm>
          <a:prstGeom prst="rect">
            <a:avLst/>
          </a:prstGeom>
          <a:solidFill>
            <a:srgbClr val="66ff6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844320" y="4470480"/>
            <a:ext cx="7088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hgw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6553080" y="5499000"/>
            <a:ext cx="457200" cy="58428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162920" y="5499000"/>
            <a:ext cx="0" cy="58428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27800" y="5499000"/>
            <a:ext cx="584280" cy="58428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7191360" y="4791240"/>
            <a:ext cx="0" cy="30456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37040" y="2746440"/>
            <a:ext cx="583920" cy="355680"/>
          </a:xfrm>
          <a:prstGeom prst="rect">
            <a:avLst/>
          </a:prstGeom>
          <a:solidFill>
            <a:srgbClr val="66ff6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101400" y="2793960"/>
            <a:ext cx="6904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jhgw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384200" y="2070000"/>
            <a:ext cx="889200" cy="203400"/>
          </a:xfrm>
          <a:prstGeom prst="rect">
            <a:avLst/>
          </a:prstGeom>
          <a:solidFill>
            <a:srgbClr val="66ff6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501200" y="2041560"/>
            <a:ext cx="580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jh1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84200" y="2374920"/>
            <a:ext cx="889200" cy="203040"/>
          </a:xfrm>
          <a:prstGeom prst="rect">
            <a:avLst/>
          </a:prstGeom>
          <a:solidFill>
            <a:srgbClr val="66ff6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424160" y="2346480"/>
            <a:ext cx="725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li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384200" y="2679840"/>
            <a:ext cx="889200" cy="203040"/>
          </a:xfrm>
          <a:prstGeom prst="rect">
            <a:avLst/>
          </a:prstGeom>
          <a:solidFill>
            <a:srgbClr val="66ff6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502280" y="2651040"/>
            <a:ext cx="5900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lcot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384200" y="2984400"/>
            <a:ext cx="889200" cy="203400"/>
          </a:xfrm>
          <a:prstGeom prst="rect">
            <a:avLst/>
          </a:prstGeom>
          <a:solidFill>
            <a:srgbClr val="66ff6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02280" y="2955960"/>
            <a:ext cx="6386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rvis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384200" y="3289320"/>
            <a:ext cx="889200" cy="203040"/>
          </a:xfrm>
          <a:prstGeom prst="rect">
            <a:avLst/>
          </a:prstGeom>
          <a:solidFill>
            <a:srgbClr val="66ff6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23800" y="3260880"/>
            <a:ext cx="7513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eling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384200" y="3594240"/>
            <a:ext cx="889200" cy="203040"/>
          </a:xfrm>
          <a:prstGeom prst="rect">
            <a:avLst/>
          </a:prstGeom>
          <a:solidFill>
            <a:srgbClr val="66ff6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502280" y="3565440"/>
            <a:ext cx="6721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tiriu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384200" y="4041720"/>
            <a:ext cx="584280" cy="355680"/>
          </a:xfrm>
          <a:prstGeom prst="rect">
            <a:avLst/>
          </a:prstGeom>
          <a:solidFill>
            <a:srgbClr val="66ff6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406160" y="4089240"/>
            <a:ext cx="5472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ngw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880320" y="5108400"/>
            <a:ext cx="584280" cy="355680"/>
          </a:xfrm>
          <a:prstGeom prst="rect">
            <a:avLst/>
          </a:prstGeom>
          <a:solidFill>
            <a:srgbClr val="66ff6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845040" y="5156280"/>
            <a:ext cx="707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magw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118200" y="6099120"/>
            <a:ext cx="584280" cy="355680"/>
          </a:xfrm>
          <a:prstGeom prst="rect">
            <a:avLst/>
          </a:prstGeom>
          <a:solidFill>
            <a:srgbClr val="66ff6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159960" y="6146640"/>
            <a:ext cx="470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fc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880320" y="6099120"/>
            <a:ext cx="584280" cy="355680"/>
          </a:xfrm>
          <a:prstGeom prst="rect">
            <a:avLst/>
          </a:prstGeom>
          <a:solidFill>
            <a:srgbClr val="66ff6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998760" y="6146640"/>
            <a:ext cx="3855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c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642080" y="6099120"/>
            <a:ext cx="584280" cy="355680"/>
          </a:xfrm>
          <a:prstGeom prst="rect">
            <a:avLst/>
          </a:prstGeom>
          <a:solidFill>
            <a:srgbClr val="66ff6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760520" y="6146640"/>
            <a:ext cx="3855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c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1920" y="22860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NMP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8915400" cy="55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Network Management Protoco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stly a query - response syste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ttle network traffic initiated by ag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urrently only a primitive security syste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NMPv2 was to have real security but working group fragmented, SNMPv3 now read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es database defined in MIB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n have "enterprise" extensions to MIB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MI defines structure of MIB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MI defines data structure using ASN.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1920" y="22860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SN.1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8915400" cy="55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SO standar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pecification of Abstract Syntax Notation One (ASN.1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fines a language used to describe data typ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pecification of Basic Encoding Rules for Abstract Notation One (ASN.1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fines a method for unambiguous transmission of da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chine architecture independen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perating system independen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twork protocol independen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-360" y="1295280"/>
            <a:ext cx="8915400" cy="55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a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sn.1 data typ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eng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ength in octe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alu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alue of data ele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mat dependent on typ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151920" y="22860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NS.1 Data Encoding (TLV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966960" y="1728720"/>
            <a:ext cx="1963440" cy="696960"/>
          </a:xfrm>
          <a:prstGeom prst="rect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948040" y="1728720"/>
            <a:ext cx="1962000" cy="696960"/>
          </a:xfrm>
          <a:prstGeom prst="rect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929120" y="1728720"/>
            <a:ext cx="1962360" cy="696960"/>
          </a:xfrm>
          <a:prstGeom prst="rect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626120" y="1881360"/>
            <a:ext cx="57024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ag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493080" y="1881360"/>
            <a:ext cx="102132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ength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477040" y="1881360"/>
            <a:ext cx="85032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51920" y="22860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NS.1 Data encoding, length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8915400" cy="55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ata element length fiel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 element length &lt;= 126 octe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ctual tag value is in length octet with high bit = 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value 127 is reserv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 element length &gt; 127 octe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ength made up of chunks of 7 bits per octe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igh bit in all but the last octet = 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igh bit in the last octet = 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739880" y="1800360"/>
            <a:ext cx="1084320" cy="377640"/>
          </a:xfrm>
          <a:prstGeom prst="rect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822400" y="1800360"/>
            <a:ext cx="1082880" cy="377640"/>
          </a:xfrm>
          <a:prstGeom prst="rect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903840" y="1800360"/>
            <a:ext cx="1083960" cy="377640"/>
          </a:xfrm>
          <a:prstGeom prst="rect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034360" y="1863720"/>
            <a:ext cx="3949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081240" y="1863720"/>
            <a:ext cx="6415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ngth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195080" y="1863720"/>
            <a:ext cx="5472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417760" y="2809800"/>
            <a:ext cx="1892160" cy="378000"/>
          </a:xfrm>
          <a:prstGeom prst="rect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081240" y="2873520"/>
            <a:ext cx="6415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ngth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614680" y="2809800"/>
            <a:ext cx="0" cy="378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371680" y="2873520"/>
            <a:ext cx="2667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2404800" y="2305080"/>
            <a:ext cx="415800" cy="3906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932280" y="2305080"/>
            <a:ext cx="390600" cy="3906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51920" y="22860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SN.1, Object Identifier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8915400" cy="55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BJECT IDENTIFI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quence of integers that describe a pathway taken in traversing a tree of options, must be uniqu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.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.3.6.1.2.1.1.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so org dod internet mgmt mib system sysDesc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base of the tree is defined by ISO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tions are defined by other authorit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-360" y="1295280"/>
            <a:ext cx="8915400" cy="55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title"/>
          </p:nvPr>
        </p:nvSpPr>
        <p:spPr>
          <a:xfrm>
            <a:off x="151920" y="22860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NMP, MIBII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6072120" y="1395360"/>
            <a:ext cx="542880" cy="7365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6072120" y="1638360"/>
            <a:ext cx="542880" cy="4935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6071760" y="1898640"/>
            <a:ext cx="530280" cy="2286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6071760" y="2139840"/>
            <a:ext cx="53028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6071760" y="2139480"/>
            <a:ext cx="530280" cy="2430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H="1" flipV="1">
            <a:off x="6072120" y="2133360"/>
            <a:ext cx="542880" cy="5079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H="1" flipV="1">
            <a:off x="6072120" y="2133360"/>
            <a:ext cx="542880" cy="7506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5118120" y="2146320"/>
            <a:ext cx="544320" cy="13381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5111640" y="3274920"/>
            <a:ext cx="542880" cy="217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5111640" y="3505320"/>
            <a:ext cx="54288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H="1" flipV="1">
            <a:off x="5111640" y="3504960"/>
            <a:ext cx="542880" cy="253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H="1" flipV="1">
            <a:off x="5111640" y="3498840"/>
            <a:ext cx="555840" cy="5191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H="1" flipV="1">
            <a:off x="5111640" y="3498480"/>
            <a:ext cx="555840" cy="7621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H="1" flipV="1">
            <a:off x="5111640" y="3498840"/>
            <a:ext cx="555840" cy="10159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H="1" flipV="1">
            <a:off x="5118120" y="3498840"/>
            <a:ext cx="544320" cy="12463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H="1" flipV="1">
            <a:off x="5118120" y="3498840"/>
            <a:ext cx="544320" cy="15019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 flipV="1">
            <a:off x="5118120" y="3498480"/>
            <a:ext cx="544320" cy="17557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535640" y="3505320"/>
            <a:ext cx="2268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4695840" y="6002280"/>
            <a:ext cx="12528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3904920" y="3094200"/>
            <a:ext cx="299880" cy="8524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3898440" y="3511440"/>
            <a:ext cx="311400" cy="4478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898440" y="3960720"/>
            <a:ext cx="311400" cy="4730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 flipV="1">
            <a:off x="3905280" y="3960360"/>
            <a:ext cx="334800" cy="20336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3198960" y="3973680"/>
            <a:ext cx="288720" cy="7585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500200" y="3927600"/>
            <a:ext cx="401760" cy="8175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1863720" y="3174840"/>
            <a:ext cx="380880" cy="3686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1863360" y="3436920"/>
            <a:ext cx="368280" cy="1015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H="1" flipV="1">
            <a:off x="1863360" y="3551400"/>
            <a:ext cx="368280" cy="1267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H="1" flipV="1">
            <a:off x="1863720" y="3544920"/>
            <a:ext cx="380880" cy="3808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H="1">
            <a:off x="1325160" y="2932200"/>
            <a:ext cx="289080" cy="5983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319040" y="3544920"/>
            <a:ext cx="290520" cy="625320"/>
          </a:xfrm>
          <a:custGeom>
            <a:avLst/>
            <a:gdLst/>
            <a:ahLst/>
            <a:rect l="l" t="t" r="r" b="b"/>
            <a:pathLst>
              <a:path w="183" h="394">
                <a:moveTo>
                  <a:pt x="182" y="0"/>
                </a:moveTo>
                <a:lnTo>
                  <a:pt x="0" y="0"/>
                </a:lnTo>
                <a:lnTo>
                  <a:pt x="182" y="393"/>
                </a:ln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2487600" y="3511440"/>
            <a:ext cx="426960" cy="4017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>
            <a:off x="2487240" y="3772080"/>
            <a:ext cx="414360" cy="136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H="1" flipV="1">
            <a:off x="2487240" y="3921120"/>
            <a:ext cx="414360" cy="921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 flipV="1">
            <a:off x="2487600" y="3914640"/>
            <a:ext cx="426960" cy="3463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2487600" y="3914280"/>
            <a:ext cx="426960" cy="6001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5367240" y="5626080"/>
            <a:ext cx="287280" cy="3808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367240" y="5886360"/>
            <a:ext cx="274680" cy="1159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367240" y="6014880"/>
            <a:ext cx="274680" cy="1018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367240" y="6008760"/>
            <a:ext cx="287280" cy="3664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373720" y="6008760"/>
            <a:ext cx="276120" cy="5968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614600" y="3470400"/>
            <a:ext cx="241200" cy="147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569960" y="3441600"/>
            <a:ext cx="294120" cy="1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iso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614600" y="4094280"/>
            <a:ext cx="276120" cy="147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71760" y="4067280"/>
            <a:ext cx="343080" cy="1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joint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14600" y="2844720"/>
            <a:ext cx="195120" cy="149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70320" y="2817720"/>
            <a:ext cx="294120" cy="1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citt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610320" y="1308240"/>
            <a:ext cx="484200" cy="147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564960" y="1279440"/>
            <a:ext cx="544320" cy="1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ysDescr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610320" y="1550880"/>
            <a:ext cx="611280" cy="147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566400" y="1535040"/>
            <a:ext cx="681480" cy="1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ysObjec tID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610320" y="1805040"/>
            <a:ext cx="530280" cy="147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565320" y="1778040"/>
            <a:ext cx="621720" cy="1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ysUpTime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610320" y="2048040"/>
            <a:ext cx="530280" cy="147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565680" y="2031840"/>
            <a:ext cx="617400" cy="1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ysContact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610320" y="2301840"/>
            <a:ext cx="484200" cy="147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565320" y="2286000"/>
            <a:ext cx="548640" cy="1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ysName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610320" y="2556000"/>
            <a:ext cx="565200" cy="149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565680" y="2529000"/>
            <a:ext cx="646200" cy="1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ysLocation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610320" y="2798640"/>
            <a:ext cx="565200" cy="149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564960" y="2782800"/>
            <a:ext cx="652320" cy="1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ysServices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62440" y="2048040"/>
            <a:ext cx="401760" cy="147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610240" y="2031840"/>
            <a:ext cx="460440" cy="1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662440" y="3181320"/>
            <a:ext cx="482760" cy="147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612400" y="3152880"/>
            <a:ext cx="562320" cy="1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interfaces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668920" y="3430440"/>
            <a:ext cx="181080" cy="135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610600" y="3408480"/>
            <a:ext cx="254520" cy="1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at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668920" y="3684600"/>
            <a:ext cx="181080" cy="135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609880" y="3662280"/>
            <a:ext cx="250200" cy="1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ip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662440" y="3921120"/>
            <a:ext cx="274680" cy="147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610600" y="3905280"/>
            <a:ext cx="367200" cy="1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icmp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668920" y="4181400"/>
            <a:ext cx="181080" cy="135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610600" y="4159080"/>
            <a:ext cx="298800" cy="1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tcp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668920" y="4435560"/>
            <a:ext cx="227160" cy="136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610600" y="4413240"/>
            <a:ext cx="327600" cy="1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udp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668920" y="4678200"/>
            <a:ext cx="227160" cy="136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610600" y="4656240"/>
            <a:ext cx="327600" cy="1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egp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62440" y="4927680"/>
            <a:ext cx="609840" cy="147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612040" y="4911840"/>
            <a:ext cx="675360" cy="1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transmission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662440" y="5170320"/>
            <a:ext cx="320760" cy="147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611320" y="5154480"/>
            <a:ext cx="396360" cy="1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nmp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782960" y="3424320"/>
            <a:ext cx="322560" cy="147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738320" y="3408480"/>
            <a:ext cx="401040" cy="1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mib-2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205160" y="3424320"/>
            <a:ext cx="322560" cy="147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54760" y="3408480"/>
            <a:ext cx="401040" cy="1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mgmt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487680" y="3886200"/>
            <a:ext cx="403200" cy="147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46640" y="3859200"/>
            <a:ext cx="474120" cy="1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205160" y="3006720"/>
            <a:ext cx="449280" cy="149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154760" y="2990880"/>
            <a:ext cx="518400" cy="1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directory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205160" y="4336920"/>
            <a:ext cx="611280" cy="147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155120" y="4321080"/>
            <a:ext cx="684360" cy="1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experimental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240080" y="5921280"/>
            <a:ext cx="449280" cy="147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195440" y="5905440"/>
            <a:ext cx="444960" cy="1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829040" y="5921280"/>
            <a:ext cx="530280" cy="147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777560" y="5905440"/>
            <a:ext cx="615960" cy="1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enterprises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909880" y="4672080"/>
            <a:ext cx="276120" cy="149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864160" y="4645080"/>
            <a:ext cx="327600" cy="1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dod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239920" y="3597120"/>
            <a:ext cx="355680" cy="147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197080" y="3570120"/>
            <a:ext cx="425160" cy="1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memb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239920" y="3343320"/>
            <a:ext cx="274680" cy="147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196360" y="3314880"/>
            <a:ext cx="307800" cy="1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reg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239920" y="3087720"/>
            <a:ext cx="274680" cy="149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196000" y="3071880"/>
            <a:ext cx="298800" cy="1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td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239920" y="3840120"/>
            <a:ext cx="239760" cy="147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196360" y="3813120"/>
            <a:ext cx="307800" cy="1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org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909880" y="4429080"/>
            <a:ext cx="276120" cy="149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909880" y="4175280"/>
            <a:ext cx="276120" cy="147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909880" y="3921120"/>
            <a:ext cx="276120" cy="147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909880" y="3678120"/>
            <a:ext cx="276120" cy="147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909880" y="3424320"/>
            <a:ext cx="276120" cy="147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662440" y="5551560"/>
            <a:ext cx="528840" cy="147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610960" y="5535720"/>
            <a:ext cx="522720" cy="1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reserved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662440" y="5794200"/>
            <a:ext cx="401760" cy="147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10240" y="5778360"/>
            <a:ext cx="489240" cy="1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roteon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662440" y="6048360"/>
            <a:ext cx="274680" cy="147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609160" y="6032520"/>
            <a:ext cx="338400" cy="1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IBM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6302520"/>
            <a:ext cx="320760" cy="149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608800" y="6275520"/>
            <a:ext cx="382680" cy="1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CMU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62440" y="6545160"/>
            <a:ext cx="320760" cy="149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608440" y="6529320"/>
            <a:ext cx="393120" cy="1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UNIX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51920" y="22860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NMP, cont.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8915400" cy="55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fines three query messages to get information from an agent being monitor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fines a set message to be used in managing an ag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fines a response message for an agent to use in responding to a query or set messa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fines a set of trap messages by which an agent can send notification of a status change to a management st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fines an inform message for reliable communic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1920" y="22860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NMP: Query Messag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8915400" cy="55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GetReque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quest to an agent to return the current value of a specific MIB variable can take more than one variable in one reques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GetNextReque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quest to an agent to return the "next" MIB variable used to walk the tree in an ag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GetBulkReque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quest to an agent to return large blocks of da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1920" y="22860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arts of Network Managemen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8915400" cy="55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twork management is not just keeping bits mov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SI network management compon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ault manage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erformance manage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urity manage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figuration and name manage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ccounting manage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dd policy-based manage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port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51920" y="22860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NMP: Set Messag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8915400" cy="55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SetReque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quest to an agent to change the values of one or more MIB variables to specific new valu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f there is an error in the 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SetReques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and one or more variables cannot be set, none will be se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rror condi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/ one or more objects not available for set operation, given access contro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/ contents of value field does not correspond to defini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/ size of response message would be larger than local limit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4/ some other reason a value cannot be alter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51920" y="22860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NMP: Response Messag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8915400" cy="55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Respon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ssage from an agent to a NMS in response to a 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GetReques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a 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GetNextReques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or a 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SetReque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sed to return requested values or to indicate success or failure of set reque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cludes an error status and an error inde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1920" y="22860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NMP: Trap Messag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8915400" cy="55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rap messag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ssage from an agent to a NMS in response to a status change or event in the ag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rap condition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ldStar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armStar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nkDow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nkU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uthenticationFailu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gpNeighborLo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terpriseSpecifi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51920" y="22860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NMP: InformReques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8915400" cy="55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ke a “reliable trap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ed to be used between network management st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panding to other u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sent until acknowledg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51920" y="22860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NMP: Communiti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8915400" cy="55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s trivial secur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ke a passwor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munity name sent in clear over net with each messa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me agents have more than one community for different access mod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se are know as "views"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me agents can link access to community name and IP address of NM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51920" y="22860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NMPv3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8915400" cy="55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00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dd security to SNMPv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ure SET suppor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tect again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dification of informatio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squera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ssage stream modific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sclosu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oes not deal wit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nial of servi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raffic analys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51920" y="22860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NMPv3, contd.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8915400" cy="55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ree levels of secur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 authentication, no privac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uthentication, no privac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uthentication &amp; privac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n support more than one security mod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ser-based security model defin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urity based on “name” of a us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w message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add security infor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verview in RFC 226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51920" y="22860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ccounting Managemen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8915400" cy="55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do you account for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 you count packets s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t can inhibit anonymous ftp &amp; web sit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QoS differences in the futu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ant to charge "user" of servi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pplication dependent determination of "user"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51920" y="22860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ccounting, Cont.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8915400" cy="55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uld do settlements based in routing inform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ry to minimize size of routing tab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lco mod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veryone shares in revenu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ll an 800 number from a pay pho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800 destinations pays pay phone own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ceive a long distance call to your own swit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you get fee for local delive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51920" y="22860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getocte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8915400" cy="55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traffic stats collec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ron-driven shell procedu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get-octets router1 router2 router3 ..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gures out interface list for each rou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n get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InOctets, ifOutOctets, ifInUcastPkts, ifOutUcastPk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InNUcastPkts, ifOutNUcastPkts, system.sysUp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tp://conrad.harvard.edu/pub/SNMPoll/octets.ta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eds cmu snmp packa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1920" y="22860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ault Managemen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8915400" cy="55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tect network problem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ransient/persist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ailure/overlo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tect server problem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solating problem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porting mechanis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nk to help des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tify on-call personn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tup &amp; control alarm procedur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pair/recovery procedur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icket syste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51920" y="22860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getoctets, contd.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8915400" cy="55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s separate stats file for each interf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ample filename: 128.103.1.2.WJHgw1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1997,06,23,160,09,1,00,02,37,EDT,1764089502,1045789221,99138769,92200835,10,628226,75800681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1997,06,23,160,09,1,00,22,37,EDT,1766362487,1047093977,99151676,92213338,10,628281,75812683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1997,06,23,160,09,1,00,42,36,EDT,1768439726,1048266407,99163118,92224546,10,628342,758246748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cessing a bit har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ust deal with counter wrap &amp; router reboo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ample period must be &lt; 59 min for an Etherne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nk utilization calculation comple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ust include link encapsulation et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51920" y="22860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getoctets, process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8915400" cy="55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pDate routi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ug in 32 bit versions of perl (gives bad result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outpu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eek          millions of bits per second           millions of octets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ing      peak in  peak out  95% in  95% out     in       out     total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1997.06.01   5.0976   0.9330   1.3389   0.4104    18782    13752    32534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51920" y="22860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olicy Based Managemen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-76320" y="1295280"/>
            <a:ext cx="9296640" cy="55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ant to manage the network not just network elem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fine policy rules to tell network what to d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.g. network operations center gets  access to all rout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.g. accounting department gets priority last 3 days of mont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.g. max of 10% video on any lin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licy rule gets translated into changes in configurations of devic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51920" y="22860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arts of a Policy-Based Syste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8915400" cy="55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ceptual par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policy management too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sed to create policy ru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policy reposito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ore policy ru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policy consum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ushes policy rules (or translations) to policy targe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policy targe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unctional element effected by policy ru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51920" y="22860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xample Policy Syste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8915400" cy="55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10" name=""/>
          <p:cNvGraphicFramePr/>
          <p:nvPr/>
        </p:nvGraphicFramePr>
        <p:xfrm>
          <a:off x="1143000" y="1295280"/>
          <a:ext cx="1262160" cy="1140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295280"/>
                    <a:ext cx="1262160" cy="114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2" name=""/>
          <p:cNvSpPr/>
          <p:nvPr/>
        </p:nvSpPr>
        <p:spPr>
          <a:xfrm>
            <a:off x="2442600" y="1447920"/>
            <a:ext cx="395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licy management sta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13" name="" descr=""/>
          <p:cNvPicPr/>
          <p:nvPr/>
        </p:nvPicPr>
        <p:blipFill>
          <a:blip r:embed="rId3"/>
          <a:stretch/>
        </p:blipFill>
        <p:spPr>
          <a:xfrm>
            <a:off x="3733920" y="2590920"/>
            <a:ext cx="1258920" cy="1447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14" name=""/>
          <p:cNvGraphicFramePr/>
          <p:nvPr/>
        </p:nvGraphicFramePr>
        <p:xfrm>
          <a:off x="6553080" y="1295280"/>
          <a:ext cx="1262160" cy="1140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1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553080" y="1295280"/>
                    <a:ext cx="1262160" cy="114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6" name=""/>
          <p:cNvSpPr/>
          <p:nvPr/>
        </p:nvSpPr>
        <p:spPr>
          <a:xfrm>
            <a:off x="2514600" y="2286000"/>
            <a:ext cx="1066680" cy="304920"/>
          </a:xfrm>
          <a:prstGeom prst="line">
            <a:avLst/>
          </a:prstGeom>
          <a:ln w="316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H="1">
            <a:off x="5181120" y="2286000"/>
            <a:ext cx="1219320" cy="304920"/>
          </a:xfrm>
          <a:prstGeom prst="line">
            <a:avLst/>
          </a:prstGeom>
          <a:ln w="316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182200" y="2895480"/>
            <a:ext cx="238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licy reposito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6"/>
          <a:stretch/>
        </p:blipFill>
        <p:spPr>
          <a:xfrm>
            <a:off x="1981080" y="3962520"/>
            <a:ext cx="636840" cy="914400"/>
          </a:xfrm>
          <a:prstGeom prst="rect">
            <a:avLst/>
          </a:prstGeom>
          <a:ln w="0">
            <a:noFill/>
          </a:ln>
        </p:spPr>
      </p:pic>
      <p:pic>
        <p:nvPicPr>
          <p:cNvPr id="320" name="" descr=""/>
          <p:cNvPicPr/>
          <p:nvPr/>
        </p:nvPicPr>
        <p:blipFill>
          <a:blip r:embed="rId7"/>
          <a:stretch/>
        </p:blipFill>
        <p:spPr>
          <a:xfrm>
            <a:off x="6172200" y="4038480"/>
            <a:ext cx="636480" cy="91440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/>
          <p:nvPr/>
        </p:nvSpPr>
        <p:spPr>
          <a:xfrm>
            <a:off x="3052080" y="4343400"/>
            <a:ext cx="253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licy consum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H="1">
            <a:off x="2743200" y="3886200"/>
            <a:ext cx="838080" cy="304920"/>
          </a:xfrm>
          <a:prstGeom prst="line">
            <a:avLst/>
          </a:prstGeom>
          <a:ln w="316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105520" y="3962520"/>
            <a:ext cx="914400" cy="228600"/>
          </a:xfrm>
          <a:prstGeom prst="line">
            <a:avLst/>
          </a:prstGeom>
          <a:ln w="316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8"/>
          <a:stretch/>
        </p:blipFill>
        <p:spPr>
          <a:xfrm>
            <a:off x="609480" y="5486400"/>
            <a:ext cx="825480" cy="1028880"/>
          </a:xfrm>
          <a:prstGeom prst="rect">
            <a:avLst/>
          </a:prstGeom>
          <a:ln w="0">
            <a:noFill/>
          </a:ln>
        </p:spPr>
      </p:pic>
      <p:pic>
        <p:nvPicPr>
          <p:cNvPr id="325" name="" descr=""/>
          <p:cNvPicPr/>
          <p:nvPr/>
        </p:nvPicPr>
        <p:blipFill>
          <a:blip r:embed="rId9"/>
          <a:stretch/>
        </p:blipFill>
        <p:spPr>
          <a:xfrm>
            <a:off x="1828800" y="5486400"/>
            <a:ext cx="825480" cy="1028880"/>
          </a:xfrm>
          <a:prstGeom prst="rect">
            <a:avLst/>
          </a:prstGeom>
          <a:ln w="0">
            <a:noFill/>
          </a:ln>
        </p:spPr>
      </p:pic>
      <p:pic>
        <p:nvPicPr>
          <p:cNvPr id="326" name="" descr=""/>
          <p:cNvPicPr/>
          <p:nvPr/>
        </p:nvPicPr>
        <p:blipFill>
          <a:blip r:embed="rId10"/>
          <a:stretch/>
        </p:blipFill>
        <p:spPr>
          <a:xfrm>
            <a:off x="5029200" y="5486400"/>
            <a:ext cx="825480" cy="1028880"/>
          </a:xfrm>
          <a:prstGeom prst="rect">
            <a:avLst/>
          </a:prstGeom>
          <a:ln w="0">
            <a:noFill/>
          </a:ln>
        </p:spPr>
      </p:pic>
      <p:pic>
        <p:nvPicPr>
          <p:cNvPr id="327" name="" descr=""/>
          <p:cNvPicPr/>
          <p:nvPr/>
        </p:nvPicPr>
        <p:blipFill>
          <a:blip r:embed="rId11"/>
          <a:stretch/>
        </p:blipFill>
        <p:spPr>
          <a:xfrm>
            <a:off x="7924680" y="5524560"/>
            <a:ext cx="825480" cy="1028520"/>
          </a:xfrm>
          <a:prstGeom prst="rect">
            <a:avLst/>
          </a:prstGeom>
          <a:ln w="0">
            <a:noFill/>
          </a:ln>
        </p:spPr>
      </p:pic>
      <p:pic>
        <p:nvPicPr>
          <p:cNvPr id="328" name="" descr=""/>
          <p:cNvPicPr/>
          <p:nvPr/>
        </p:nvPicPr>
        <p:blipFill>
          <a:blip r:embed="rId12"/>
          <a:stretch/>
        </p:blipFill>
        <p:spPr>
          <a:xfrm>
            <a:off x="2895480" y="5715000"/>
            <a:ext cx="1295640" cy="306360"/>
          </a:xfrm>
          <a:prstGeom prst="rect">
            <a:avLst/>
          </a:prstGeom>
          <a:ln w="0">
            <a:noFill/>
          </a:ln>
        </p:spPr>
      </p:pic>
      <p:pic>
        <p:nvPicPr>
          <p:cNvPr id="329" name="" descr=""/>
          <p:cNvPicPr/>
          <p:nvPr/>
        </p:nvPicPr>
        <p:blipFill>
          <a:blip r:embed="rId13"/>
          <a:stretch/>
        </p:blipFill>
        <p:spPr>
          <a:xfrm>
            <a:off x="6172200" y="5791320"/>
            <a:ext cx="1295280" cy="30636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 flipH="1">
            <a:off x="1447560" y="4952880"/>
            <a:ext cx="609480" cy="381240"/>
          </a:xfrm>
          <a:prstGeom prst="line">
            <a:avLst/>
          </a:prstGeom>
          <a:ln w="316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362320" y="4952880"/>
            <a:ext cx="0" cy="457200"/>
          </a:xfrm>
          <a:prstGeom prst="line">
            <a:avLst/>
          </a:prstGeom>
          <a:ln w="316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666880" y="4952880"/>
            <a:ext cx="609840" cy="609840"/>
          </a:xfrm>
          <a:prstGeom prst="line">
            <a:avLst/>
          </a:prstGeom>
          <a:ln w="316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 flipH="1">
            <a:off x="5715000" y="4952880"/>
            <a:ext cx="380880" cy="457200"/>
          </a:xfrm>
          <a:prstGeom prst="line">
            <a:avLst/>
          </a:prstGeom>
          <a:ln w="316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553080" y="5029200"/>
            <a:ext cx="152640" cy="685800"/>
          </a:xfrm>
          <a:prstGeom prst="line">
            <a:avLst/>
          </a:prstGeom>
          <a:ln w="316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934320" y="4876920"/>
            <a:ext cx="914400" cy="685800"/>
          </a:xfrm>
          <a:prstGeom prst="line">
            <a:avLst/>
          </a:prstGeom>
          <a:ln w="316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898000" y="6172200"/>
            <a:ext cx="197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licy targe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51920" y="22860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olicy Sequenc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ule defin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eck for static conflic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ut in repository  ( could use LDAP 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trieved by policy consumers ( could use LDAP 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cessed to create configuration for policy targe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use conceptual rather than actual interfa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.g. “backbone interface”, “customer interface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have time compon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ushed to policy targe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sing COPS or SNMP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51920" y="22860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olicy Sequence, contd.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8915400" cy="55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licy targe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stalls configur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y have to translate conceptual to physical interfa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.g. “customer interface” -&gt; interfaces 1, 3 &amp; 8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.g. “backbone interface” -&gt;  interfaces 2 &amp; 7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51920" y="22860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anagement for Rea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8915400" cy="55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few basic too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cho reque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ing on I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unction in many protocols - IP, OSI, AppleTalk, X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ecks path &amp; basic node fun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return round trip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rmally not higher node fun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newdev&gt; ping noc.barrnet.ne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PING noc.barrnet.net (131.119.245.5): 56 data byt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64 bytes from 131.119.245.5: icmp_seq=0. time=83. m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64 bytes from 131.119.245.5: icmp_seq=1. time=83. m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64 bytes from 131.119.245.5: icmp_seq=2. time=83. m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^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----noc.barrnet.net PING Statistics----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3 packets transmitted, 3 packets received, 0% packet los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round-trip (ms)  min/avg/max = 83/83/8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51920" y="22860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anagement for Real, Cont.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8915400" cy="55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raceroute - finds path to node with delay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unction only in some protoco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ust have error returned on TTL exceed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golem&gt; traceroute gatekeeper.dec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raceroute to gatekeeper.dec.com (204.123.2.2), 30 hops max, 38 byte packe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    38.1.1.1 (38.1.1.1)  0 ms  0 ms  17 m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2    ipl-node17.camb.ma.cable.psi.net (38.127.88.1)  17 ms  0 ms  17 m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3    38.146.139.1 (38.146.139.1)  0 ms  17 ms  17 m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4    leaf.net121.psi.net (38.1.10.15)  50 ms  50 ms  33 m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5    38.1.2.16 (38.1.2.16)  101 ms  117 ms  133 m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6    San-Jose5.CA.ALTER.NET (137.39.29.1)  133 ms  283 ms  251 m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7    Palo-Alto1.CA.ALTER.NET (137.39.29.3)  133 ms  133 ms  100 m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8    Palo-Alto3.CA.ALTER.NET (137.39.47.7)  117 ms  100 ms  133 m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9    border-gwl.pa-x.dec.com (204.123.0.241)  117 ms  117 ms  100 m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0   gatekeeper.dec.com (204.123.2.2)  133 ms 117 ms  133 m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ile: pub/net/jacobson/traceroute.tar.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1920" y="22860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anagement for Real, Cont.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8915400" cy="55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twork monitors/analyz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ocal system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ake unit to proble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on't depend on working networ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ide range of cost &amp; fun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mote system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eave unit on problem or key networ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mote control &amp; viewing of infor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NMP standard from IETF RMON working grou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ivacy &amp; security issu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1920" y="22860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ault Management - Ticket Syste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8915400" cy="55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ystem provides for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hort term memory &amp; communic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cheduling and work assign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ferrals and dispatch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versigh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atistical analys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ng term accountabil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51920" y="22860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anagement for Real, Cont.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8915400" cy="55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nagement ag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NMP agents in all "gateway" devi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NMP agents in all serv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ed something that knows what it is looking at i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t all SNMP variables are the sa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51920" y="22860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onitor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8915400" cy="55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monitoring tools do 95% of tas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.g. 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ftp://conrad.harvard.edu/pub/SNMPol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nitor should be both poll &amp; trap based for        best reliabil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ut just polling will do better than just trap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d will work fine other than response latenc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, terse, messages on problem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51920" y="22860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xample SNMPoll Error Messag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8915400" cy="55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erf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e: Mon, 16 Jun 97 09:11 ED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SNMPoll@Conrad.Harvard.EDU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HDN-mail@Conrad.Harvard.EDU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FMD_175_No_Harva 128.103.245.1 dow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MD_175_No_Harva 128.103.245.1 down : Hamgw1 128.103.15.21 Eth 5 down at 09:11:0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ou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e: Fri, 13 Jun 97 17:17 ED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SNMPoll@Conrad.Harvard.EDU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HDN-mail@Conrad.Harvard.EDU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MEEIgw1 not respondin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EEIgw1 not responding : No Response from 204.166.68.1 at 17:17:37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51920" y="22860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NMPol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8915400" cy="55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mand to cause auto configur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eds 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config.se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tries if failed poll of rou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duce false error messag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nderstands hierarch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ries next step “back up” hierarchy if failed pol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query for many interfaces in same 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get_reque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inimize network traffic and router lo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51920" y="22860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ings to Look For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8915400" cy="55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up protocol addres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ery bad in AppleTalk and IP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twork/link loa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outer/brid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PU lo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rro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rops!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erface rese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llisions (if CSMA/CD network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51920" y="22860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ings to Do (Defensive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8915400" cy="55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l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l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l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/>
          </p:nvPr>
        </p:nvSpPr>
        <p:spPr>
          <a:xfrm>
            <a:off x="-360" y="1295280"/>
            <a:ext cx="8915400" cy="55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title"/>
          </p:nvPr>
        </p:nvSpPr>
        <p:spPr>
          <a:xfrm>
            <a:off x="151920" y="22860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oute Filter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162000" y="1135080"/>
            <a:ext cx="891540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720720" y="4791240"/>
            <a:ext cx="2379600" cy="1806480"/>
          </a:xfrm>
          <a:custGeom>
            <a:avLst/>
            <a:gdLst/>
            <a:ahLst/>
            <a:rect l="l" t="t" r="r" b="b"/>
            <a:pathLst>
              <a:path w="1499" h="1138">
                <a:moveTo>
                  <a:pt x="5" y="997"/>
                </a:moveTo>
                <a:lnTo>
                  <a:pt x="15" y="986"/>
                </a:lnTo>
                <a:lnTo>
                  <a:pt x="31" y="976"/>
                </a:lnTo>
                <a:lnTo>
                  <a:pt x="47" y="960"/>
                </a:lnTo>
                <a:lnTo>
                  <a:pt x="58" y="949"/>
                </a:lnTo>
                <a:lnTo>
                  <a:pt x="69" y="944"/>
                </a:lnTo>
                <a:lnTo>
                  <a:pt x="79" y="928"/>
                </a:lnTo>
                <a:lnTo>
                  <a:pt x="95" y="912"/>
                </a:lnTo>
                <a:lnTo>
                  <a:pt x="117" y="890"/>
                </a:lnTo>
                <a:lnTo>
                  <a:pt x="149" y="858"/>
                </a:lnTo>
                <a:lnTo>
                  <a:pt x="165" y="842"/>
                </a:lnTo>
                <a:lnTo>
                  <a:pt x="181" y="832"/>
                </a:lnTo>
                <a:lnTo>
                  <a:pt x="197" y="826"/>
                </a:lnTo>
                <a:lnTo>
                  <a:pt x="229" y="810"/>
                </a:lnTo>
                <a:lnTo>
                  <a:pt x="266" y="794"/>
                </a:lnTo>
                <a:lnTo>
                  <a:pt x="298" y="773"/>
                </a:lnTo>
                <a:lnTo>
                  <a:pt x="325" y="752"/>
                </a:lnTo>
                <a:lnTo>
                  <a:pt x="357" y="741"/>
                </a:lnTo>
                <a:lnTo>
                  <a:pt x="410" y="709"/>
                </a:lnTo>
                <a:lnTo>
                  <a:pt x="458" y="666"/>
                </a:lnTo>
                <a:lnTo>
                  <a:pt x="527" y="602"/>
                </a:lnTo>
                <a:lnTo>
                  <a:pt x="602" y="538"/>
                </a:lnTo>
                <a:lnTo>
                  <a:pt x="613" y="528"/>
                </a:lnTo>
                <a:lnTo>
                  <a:pt x="634" y="501"/>
                </a:lnTo>
                <a:lnTo>
                  <a:pt x="666" y="474"/>
                </a:lnTo>
                <a:lnTo>
                  <a:pt x="677" y="464"/>
                </a:lnTo>
                <a:lnTo>
                  <a:pt x="698" y="453"/>
                </a:lnTo>
                <a:lnTo>
                  <a:pt x="714" y="437"/>
                </a:lnTo>
                <a:lnTo>
                  <a:pt x="725" y="432"/>
                </a:lnTo>
                <a:lnTo>
                  <a:pt x="789" y="368"/>
                </a:lnTo>
                <a:lnTo>
                  <a:pt x="837" y="325"/>
                </a:lnTo>
                <a:lnTo>
                  <a:pt x="847" y="309"/>
                </a:lnTo>
                <a:lnTo>
                  <a:pt x="858" y="304"/>
                </a:lnTo>
                <a:lnTo>
                  <a:pt x="879" y="293"/>
                </a:lnTo>
                <a:lnTo>
                  <a:pt x="890" y="288"/>
                </a:lnTo>
                <a:lnTo>
                  <a:pt x="959" y="234"/>
                </a:lnTo>
                <a:lnTo>
                  <a:pt x="1013" y="186"/>
                </a:lnTo>
                <a:lnTo>
                  <a:pt x="1039" y="165"/>
                </a:lnTo>
                <a:lnTo>
                  <a:pt x="1066" y="138"/>
                </a:lnTo>
                <a:lnTo>
                  <a:pt x="1093" y="112"/>
                </a:lnTo>
                <a:lnTo>
                  <a:pt x="1114" y="90"/>
                </a:lnTo>
                <a:lnTo>
                  <a:pt x="1130" y="69"/>
                </a:lnTo>
                <a:lnTo>
                  <a:pt x="1141" y="74"/>
                </a:lnTo>
                <a:lnTo>
                  <a:pt x="1167" y="69"/>
                </a:lnTo>
                <a:lnTo>
                  <a:pt x="1189" y="64"/>
                </a:lnTo>
                <a:lnTo>
                  <a:pt x="1210" y="58"/>
                </a:lnTo>
                <a:lnTo>
                  <a:pt x="1221" y="58"/>
                </a:lnTo>
                <a:lnTo>
                  <a:pt x="1237" y="48"/>
                </a:lnTo>
                <a:lnTo>
                  <a:pt x="1247" y="37"/>
                </a:lnTo>
                <a:lnTo>
                  <a:pt x="1258" y="37"/>
                </a:lnTo>
                <a:lnTo>
                  <a:pt x="1269" y="37"/>
                </a:lnTo>
                <a:lnTo>
                  <a:pt x="1285" y="37"/>
                </a:lnTo>
                <a:lnTo>
                  <a:pt x="1301" y="37"/>
                </a:lnTo>
                <a:lnTo>
                  <a:pt x="1317" y="32"/>
                </a:lnTo>
                <a:lnTo>
                  <a:pt x="1330" y="35"/>
                </a:lnTo>
                <a:lnTo>
                  <a:pt x="1346" y="35"/>
                </a:lnTo>
                <a:lnTo>
                  <a:pt x="1374" y="41"/>
                </a:lnTo>
                <a:lnTo>
                  <a:pt x="1394" y="31"/>
                </a:lnTo>
                <a:lnTo>
                  <a:pt x="1402" y="33"/>
                </a:lnTo>
                <a:lnTo>
                  <a:pt x="1420" y="31"/>
                </a:lnTo>
                <a:lnTo>
                  <a:pt x="1438" y="27"/>
                </a:lnTo>
                <a:lnTo>
                  <a:pt x="1450" y="21"/>
                </a:lnTo>
                <a:lnTo>
                  <a:pt x="1462" y="17"/>
                </a:lnTo>
                <a:lnTo>
                  <a:pt x="1476" y="21"/>
                </a:lnTo>
                <a:lnTo>
                  <a:pt x="1480" y="25"/>
                </a:lnTo>
                <a:lnTo>
                  <a:pt x="1490" y="23"/>
                </a:lnTo>
                <a:lnTo>
                  <a:pt x="1493" y="0"/>
                </a:lnTo>
                <a:lnTo>
                  <a:pt x="1498" y="16"/>
                </a:lnTo>
                <a:lnTo>
                  <a:pt x="1498" y="32"/>
                </a:lnTo>
                <a:lnTo>
                  <a:pt x="1493" y="53"/>
                </a:lnTo>
                <a:lnTo>
                  <a:pt x="1482" y="74"/>
                </a:lnTo>
                <a:lnTo>
                  <a:pt x="1471" y="101"/>
                </a:lnTo>
                <a:lnTo>
                  <a:pt x="1471" y="117"/>
                </a:lnTo>
                <a:lnTo>
                  <a:pt x="1466" y="128"/>
                </a:lnTo>
                <a:lnTo>
                  <a:pt x="1450" y="160"/>
                </a:lnTo>
                <a:lnTo>
                  <a:pt x="1445" y="176"/>
                </a:lnTo>
                <a:lnTo>
                  <a:pt x="1434" y="197"/>
                </a:lnTo>
                <a:lnTo>
                  <a:pt x="1434" y="213"/>
                </a:lnTo>
                <a:lnTo>
                  <a:pt x="1429" y="224"/>
                </a:lnTo>
                <a:lnTo>
                  <a:pt x="1429" y="293"/>
                </a:lnTo>
                <a:lnTo>
                  <a:pt x="1429" y="304"/>
                </a:lnTo>
                <a:lnTo>
                  <a:pt x="1423" y="373"/>
                </a:lnTo>
                <a:lnTo>
                  <a:pt x="1423" y="384"/>
                </a:lnTo>
                <a:lnTo>
                  <a:pt x="1429" y="426"/>
                </a:lnTo>
                <a:lnTo>
                  <a:pt x="1423" y="437"/>
                </a:lnTo>
                <a:lnTo>
                  <a:pt x="1418" y="448"/>
                </a:lnTo>
                <a:lnTo>
                  <a:pt x="1413" y="464"/>
                </a:lnTo>
                <a:lnTo>
                  <a:pt x="1402" y="480"/>
                </a:lnTo>
                <a:lnTo>
                  <a:pt x="1386" y="517"/>
                </a:lnTo>
                <a:lnTo>
                  <a:pt x="1375" y="565"/>
                </a:lnTo>
                <a:lnTo>
                  <a:pt x="1365" y="613"/>
                </a:lnTo>
                <a:lnTo>
                  <a:pt x="1365" y="634"/>
                </a:lnTo>
                <a:lnTo>
                  <a:pt x="1354" y="656"/>
                </a:lnTo>
                <a:lnTo>
                  <a:pt x="1317" y="704"/>
                </a:lnTo>
                <a:lnTo>
                  <a:pt x="1285" y="746"/>
                </a:lnTo>
                <a:lnTo>
                  <a:pt x="1269" y="778"/>
                </a:lnTo>
                <a:lnTo>
                  <a:pt x="1258" y="794"/>
                </a:lnTo>
                <a:lnTo>
                  <a:pt x="1247" y="826"/>
                </a:lnTo>
                <a:lnTo>
                  <a:pt x="1242" y="842"/>
                </a:lnTo>
                <a:lnTo>
                  <a:pt x="1231" y="853"/>
                </a:lnTo>
                <a:lnTo>
                  <a:pt x="1231" y="864"/>
                </a:lnTo>
                <a:lnTo>
                  <a:pt x="1221" y="880"/>
                </a:lnTo>
                <a:lnTo>
                  <a:pt x="1210" y="896"/>
                </a:lnTo>
                <a:lnTo>
                  <a:pt x="1199" y="922"/>
                </a:lnTo>
                <a:lnTo>
                  <a:pt x="1194" y="944"/>
                </a:lnTo>
                <a:lnTo>
                  <a:pt x="1183" y="954"/>
                </a:lnTo>
                <a:lnTo>
                  <a:pt x="1178" y="965"/>
                </a:lnTo>
                <a:lnTo>
                  <a:pt x="1178" y="976"/>
                </a:lnTo>
                <a:lnTo>
                  <a:pt x="1173" y="992"/>
                </a:lnTo>
                <a:lnTo>
                  <a:pt x="1162" y="1002"/>
                </a:lnTo>
                <a:lnTo>
                  <a:pt x="1146" y="1013"/>
                </a:lnTo>
                <a:lnTo>
                  <a:pt x="1135" y="1018"/>
                </a:lnTo>
                <a:lnTo>
                  <a:pt x="1130" y="1029"/>
                </a:lnTo>
                <a:lnTo>
                  <a:pt x="1125" y="1040"/>
                </a:lnTo>
                <a:lnTo>
                  <a:pt x="1114" y="1050"/>
                </a:lnTo>
                <a:lnTo>
                  <a:pt x="1109" y="1061"/>
                </a:lnTo>
                <a:lnTo>
                  <a:pt x="1098" y="1066"/>
                </a:lnTo>
                <a:lnTo>
                  <a:pt x="1087" y="1072"/>
                </a:lnTo>
                <a:lnTo>
                  <a:pt x="1078" y="1089"/>
                </a:lnTo>
                <a:lnTo>
                  <a:pt x="1072" y="1103"/>
                </a:lnTo>
                <a:lnTo>
                  <a:pt x="1060" y="1111"/>
                </a:lnTo>
                <a:lnTo>
                  <a:pt x="1048" y="1131"/>
                </a:lnTo>
                <a:lnTo>
                  <a:pt x="1034" y="1131"/>
                </a:lnTo>
                <a:lnTo>
                  <a:pt x="1006" y="1129"/>
                </a:lnTo>
                <a:lnTo>
                  <a:pt x="986" y="1131"/>
                </a:lnTo>
                <a:lnTo>
                  <a:pt x="975" y="1125"/>
                </a:lnTo>
                <a:lnTo>
                  <a:pt x="959" y="1130"/>
                </a:lnTo>
                <a:lnTo>
                  <a:pt x="943" y="1130"/>
                </a:lnTo>
                <a:lnTo>
                  <a:pt x="928" y="1137"/>
                </a:lnTo>
                <a:lnTo>
                  <a:pt x="906" y="1130"/>
                </a:lnTo>
                <a:lnTo>
                  <a:pt x="895" y="1125"/>
                </a:lnTo>
                <a:lnTo>
                  <a:pt x="879" y="1120"/>
                </a:lnTo>
                <a:lnTo>
                  <a:pt x="863" y="1120"/>
                </a:lnTo>
                <a:lnTo>
                  <a:pt x="842" y="1114"/>
                </a:lnTo>
                <a:lnTo>
                  <a:pt x="821" y="1120"/>
                </a:lnTo>
                <a:lnTo>
                  <a:pt x="810" y="1114"/>
                </a:lnTo>
                <a:lnTo>
                  <a:pt x="799" y="1109"/>
                </a:lnTo>
                <a:lnTo>
                  <a:pt x="783" y="1109"/>
                </a:lnTo>
                <a:lnTo>
                  <a:pt x="764" y="1117"/>
                </a:lnTo>
                <a:lnTo>
                  <a:pt x="750" y="1117"/>
                </a:lnTo>
                <a:lnTo>
                  <a:pt x="736" y="1125"/>
                </a:lnTo>
                <a:lnTo>
                  <a:pt x="724" y="1115"/>
                </a:lnTo>
                <a:lnTo>
                  <a:pt x="706" y="1115"/>
                </a:lnTo>
                <a:lnTo>
                  <a:pt x="692" y="1111"/>
                </a:lnTo>
                <a:lnTo>
                  <a:pt x="678" y="1111"/>
                </a:lnTo>
                <a:lnTo>
                  <a:pt x="660" y="1111"/>
                </a:lnTo>
                <a:lnTo>
                  <a:pt x="650" y="1111"/>
                </a:lnTo>
                <a:lnTo>
                  <a:pt x="638" y="1107"/>
                </a:lnTo>
                <a:lnTo>
                  <a:pt x="620" y="1111"/>
                </a:lnTo>
                <a:lnTo>
                  <a:pt x="604" y="1109"/>
                </a:lnTo>
                <a:lnTo>
                  <a:pt x="572" y="1105"/>
                </a:lnTo>
                <a:lnTo>
                  <a:pt x="550" y="1103"/>
                </a:lnTo>
                <a:lnTo>
                  <a:pt x="536" y="1103"/>
                </a:lnTo>
                <a:lnTo>
                  <a:pt x="518" y="1103"/>
                </a:lnTo>
                <a:lnTo>
                  <a:pt x="501" y="1088"/>
                </a:lnTo>
                <a:lnTo>
                  <a:pt x="479" y="1093"/>
                </a:lnTo>
                <a:lnTo>
                  <a:pt x="463" y="1093"/>
                </a:lnTo>
                <a:lnTo>
                  <a:pt x="442" y="1093"/>
                </a:lnTo>
                <a:lnTo>
                  <a:pt x="431" y="1098"/>
                </a:lnTo>
                <a:lnTo>
                  <a:pt x="415" y="1098"/>
                </a:lnTo>
                <a:lnTo>
                  <a:pt x="399" y="1098"/>
                </a:lnTo>
                <a:lnTo>
                  <a:pt x="383" y="1093"/>
                </a:lnTo>
                <a:lnTo>
                  <a:pt x="367" y="1088"/>
                </a:lnTo>
                <a:lnTo>
                  <a:pt x="351" y="1093"/>
                </a:lnTo>
                <a:lnTo>
                  <a:pt x="346" y="1082"/>
                </a:lnTo>
                <a:lnTo>
                  <a:pt x="325" y="1088"/>
                </a:lnTo>
                <a:lnTo>
                  <a:pt x="272" y="1081"/>
                </a:lnTo>
                <a:lnTo>
                  <a:pt x="271" y="1069"/>
                </a:lnTo>
                <a:lnTo>
                  <a:pt x="306" y="1082"/>
                </a:lnTo>
                <a:lnTo>
                  <a:pt x="285" y="1074"/>
                </a:lnTo>
                <a:lnTo>
                  <a:pt x="293" y="1077"/>
                </a:lnTo>
                <a:lnTo>
                  <a:pt x="254" y="1069"/>
                </a:lnTo>
                <a:lnTo>
                  <a:pt x="247" y="1069"/>
                </a:lnTo>
                <a:lnTo>
                  <a:pt x="242" y="1074"/>
                </a:lnTo>
                <a:lnTo>
                  <a:pt x="239" y="1066"/>
                </a:lnTo>
                <a:lnTo>
                  <a:pt x="213" y="1069"/>
                </a:lnTo>
                <a:lnTo>
                  <a:pt x="205" y="1066"/>
                </a:lnTo>
                <a:lnTo>
                  <a:pt x="194" y="1069"/>
                </a:lnTo>
                <a:lnTo>
                  <a:pt x="191" y="1069"/>
                </a:lnTo>
                <a:lnTo>
                  <a:pt x="149" y="1061"/>
                </a:lnTo>
                <a:lnTo>
                  <a:pt x="135" y="1056"/>
                </a:lnTo>
                <a:lnTo>
                  <a:pt x="124" y="1061"/>
                </a:lnTo>
                <a:lnTo>
                  <a:pt x="109" y="1053"/>
                </a:lnTo>
                <a:lnTo>
                  <a:pt x="95" y="1056"/>
                </a:lnTo>
                <a:lnTo>
                  <a:pt x="79" y="1058"/>
                </a:lnTo>
                <a:lnTo>
                  <a:pt x="61" y="1053"/>
                </a:lnTo>
                <a:lnTo>
                  <a:pt x="47" y="1053"/>
                </a:lnTo>
                <a:lnTo>
                  <a:pt x="37" y="1048"/>
                </a:lnTo>
                <a:lnTo>
                  <a:pt x="28" y="1045"/>
                </a:lnTo>
                <a:lnTo>
                  <a:pt x="0" y="1025"/>
                </a:lnTo>
                <a:lnTo>
                  <a:pt x="10" y="1002"/>
                </a:lnTo>
                <a:lnTo>
                  <a:pt x="5" y="997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28600" y="1668600"/>
            <a:ext cx="2962440" cy="669960"/>
          </a:xfrm>
          <a:custGeom>
            <a:avLst/>
            <a:gdLst/>
            <a:ahLst/>
            <a:rect l="l" t="t" r="r" b="b"/>
            <a:pathLst>
              <a:path w="1866" h="422">
                <a:moveTo>
                  <a:pt x="0" y="379"/>
                </a:moveTo>
                <a:lnTo>
                  <a:pt x="0" y="323"/>
                </a:lnTo>
                <a:lnTo>
                  <a:pt x="21" y="281"/>
                </a:lnTo>
                <a:lnTo>
                  <a:pt x="42" y="253"/>
                </a:lnTo>
                <a:lnTo>
                  <a:pt x="63" y="232"/>
                </a:lnTo>
                <a:lnTo>
                  <a:pt x="126" y="211"/>
                </a:lnTo>
                <a:lnTo>
                  <a:pt x="175" y="169"/>
                </a:lnTo>
                <a:lnTo>
                  <a:pt x="224" y="134"/>
                </a:lnTo>
                <a:lnTo>
                  <a:pt x="273" y="99"/>
                </a:lnTo>
                <a:lnTo>
                  <a:pt x="337" y="78"/>
                </a:lnTo>
                <a:lnTo>
                  <a:pt x="400" y="49"/>
                </a:lnTo>
                <a:lnTo>
                  <a:pt x="463" y="28"/>
                </a:lnTo>
                <a:lnTo>
                  <a:pt x="519" y="14"/>
                </a:lnTo>
                <a:lnTo>
                  <a:pt x="589" y="14"/>
                </a:lnTo>
                <a:lnTo>
                  <a:pt x="638" y="7"/>
                </a:lnTo>
                <a:lnTo>
                  <a:pt x="680" y="0"/>
                </a:lnTo>
                <a:lnTo>
                  <a:pt x="778" y="14"/>
                </a:lnTo>
                <a:lnTo>
                  <a:pt x="820" y="14"/>
                </a:lnTo>
                <a:lnTo>
                  <a:pt x="862" y="14"/>
                </a:lnTo>
                <a:lnTo>
                  <a:pt x="904" y="21"/>
                </a:lnTo>
                <a:lnTo>
                  <a:pt x="953" y="28"/>
                </a:lnTo>
                <a:lnTo>
                  <a:pt x="1072" y="14"/>
                </a:lnTo>
                <a:lnTo>
                  <a:pt x="1178" y="7"/>
                </a:lnTo>
                <a:lnTo>
                  <a:pt x="1283" y="0"/>
                </a:lnTo>
                <a:lnTo>
                  <a:pt x="1402" y="28"/>
                </a:lnTo>
                <a:lnTo>
                  <a:pt x="1430" y="42"/>
                </a:lnTo>
                <a:lnTo>
                  <a:pt x="1465" y="71"/>
                </a:lnTo>
                <a:lnTo>
                  <a:pt x="1521" y="78"/>
                </a:lnTo>
                <a:lnTo>
                  <a:pt x="1549" y="78"/>
                </a:lnTo>
                <a:lnTo>
                  <a:pt x="1584" y="92"/>
                </a:lnTo>
                <a:lnTo>
                  <a:pt x="1626" y="120"/>
                </a:lnTo>
                <a:lnTo>
                  <a:pt x="1668" y="169"/>
                </a:lnTo>
                <a:lnTo>
                  <a:pt x="1682" y="197"/>
                </a:lnTo>
                <a:lnTo>
                  <a:pt x="1703" y="225"/>
                </a:lnTo>
                <a:lnTo>
                  <a:pt x="1717" y="260"/>
                </a:lnTo>
                <a:lnTo>
                  <a:pt x="1738" y="295"/>
                </a:lnTo>
                <a:lnTo>
                  <a:pt x="1794" y="358"/>
                </a:lnTo>
                <a:lnTo>
                  <a:pt x="1865" y="421"/>
                </a:lnTo>
              </a:path>
            </a:pathLst>
          </a:custGeom>
          <a:solidFill>
            <a:srgbClr val="f57b4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217440" y="2260440"/>
            <a:ext cx="3106800" cy="1525680"/>
          </a:xfrm>
          <a:custGeom>
            <a:avLst/>
            <a:gdLst/>
            <a:ahLst/>
            <a:rect l="l" t="t" r="r" b="b"/>
            <a:pathLst>
              <a:path w="1957" h="961">
                <a:moveTo>
                  <a:pt x="1872" y="42"/>
                </a:moveTo>
                <a:lnTo>
                  <a:pt x="1914" y="70"/>
                </a:lnTo>
                <a:lnTo>
                  <a:pt x="1935" y="84"/>
                </a:lnTo>
                <a:lnTo>
                  <a:pt x="1949" y="112"/>
                </a:lnTo>
                <a:lnTo>
                  <a:pt x="1956" y="133"/>
                </a:lnTo>
                <a:lnTo>
                  <a:pt x="1956" y="161"/>
                </a:lnTo>
                <a:lnTo>
                  <a:pt x="1956" y="224"/>
                </a:lnTo>
                <a:lnTo>
                  <a:pt x="1949" y="280"/>
                </a:lnTo>
                <a:lnTo>
                  <a:pt x="1949" y="343"/>
                </a:lnTo>
                <a:lnTo>
                  <a:pt x="1942" y="400"/>
                </a:lnTo>
                <a:lnTo>
                  <a:pt x="1928" y="463"/>
                </a:lnTo>
                <a:lnTo>
                  <a:pt x="1907" y="519"/>
                </a:lnTo>
                <a:lnTo>
                  <a:pt x="1893" y="547"/>
                </a:lnTo>
                <a:lnTo>
                  <a:pt x="1872" y="582"/>
                </a:lnTo>
                <a:lnTo>
                  <a:pt x="1822" y="610"/>
                </a:lnTo>
                <a:lnTo>
                  <a:pt x="1780" y="631"/>
                </a:lnTo>
                <a:lnTo>
                  <a:pt x="1675" y="659"/>
                </a:lnTo>
                <a:lnTo>
                  <a:pt x="1591" y="659"/>
                </a:lnTo>
                <a:lnTo>
                  <a:pt x="1528" y="659"/>
                </a:lnTo>
                <a:lnTo>
                  <a:pt x="1458" y="652"/>
                </a:lnTo>
                <a:lnTo>
                  <a:pt x="1381" y="659"/>
                </a:lnTo>
                <a:lnTo>
                  <a:pt x="1318" y="666"/>
                </a:lnTo>
                <a:lnTo>
                  <a:pt x="1290" y="673"/>
                </a:lnTo>
                <a:lnTo>
                  <a:pt x="1269" y="701"/>
                </a:lnTo>
                <a:lnTo>
                  <a:pt x="1248" y="743"/>
                </a:lnTo>
                <a:lnTo>
                  <a:pt x="1255" y="792"/>
                </a:lnTo>
                <a:lnTo>
                  <a:pt x="1255" y="841"/>
                </a:lnTo>
                <a:lnTo>
                  <a:pt x="1241" y="890"/>
                </a:lnTo>
                <a:lnTo>
                  <a:pt x="1206" y="911"/>
                </a:lnTo>
                <a:lnTo>
                  <a:pt x="1171" y="925"/>
                </a:lnTo>
                <a:lnTo>
                  <a:pt x="1086" y="946"/>
                </a:lnTo>
                <a:lnTo>
                  <a:pt x="1016" y="953"/>
                </a:lnTo>
                <a:lnTo>
                  <a:pt x="960" y="960"/>
                </a:lnTo>
                <a:lnTo>
                  <a:pt x="897" y="960"/>
                </a:lnTo>
                <a:lnTo>
                  <a:pt x="834" y="953"/>
                </a:lnTo>
                <a:lnTo>
                  <a:pt x="813" y="932"/>
                </a:lnTo>
                <a:lnTo>
                  <a:pt x="792" y="925"/>
                </a:lnTo>
                <a:lnTo>
                  <a:pt x="694" y="904"/>
                </a:lnTo>
                <a:lnTo>
                  <a:pt x="603" y="911"/>
                </a:lnTo>
                <a:lnTo>
                  <a:pt x="519" y="925"/>
                </a:lnTo>
                <a:lnTo>
                  <a:pt x="421" y="925"/>
                </a:lnTo>
                <a:lnTo>
                  <a:pt x="358" y="904"/>
                </a:lnTo>
                <a:lnTo>
                  <a:pt x="308" y="890"/>
                </a:lnTo>
                <a:lnTo>
                  <a:pt x="259" y="869"/>
                </a:lnTo>
                <a:lnTo>
                  <a:pt x="203" y="848"/>
                </a:lnTo>
                <a:lnTo>
                  <a:pt x="154" y="820"/>
                </a:lnTo>
                <a:lnTo>
                  <a:pt x="119" y="792"/>
                </a:lnTo>
                <a:lnTo>
                  <a:pt x="98" y="757"/>
                </a:lnTo>
                <a:lnTo>
                  <a:pt x="98" y="722"/>
                </a:lnTo>
                <a:lnTo>
                  <a:pt x="91" y="659"/>
                </a:lnTo>
                <a:lnTo>
                  <a:pt x="77" y="624"/>
                </a:lnTo>
                <a:lnTo>
                  <a:pt x="70" y="603"/>
                </a:lnTo>
                <a:lnTo>
                  <a:pt x="49" y="554"/>
                </a:lnTo>
                <a:lnTo>
                  <a:pt x="35" y="491"/>
                </a:lnTo>
                <a:lnTo>
                  <a:pt x="35" y="442"/>
                </a:lnTo>
                <a:lnTo>
                  <a:pt x="35" y="343"/>
                </a:lnTo>
                <a:lnTo>
                  <a:pt x="35" y="287"/>
                </a:lnTo>
                <a:lnTo>
                  <a:pt x="35" y="245"/>
                </a:lnTo>
                <a:lnTo>
                  <a:pt x="35" y="203"/>
                </a:lnTo>
                <a:lnTo>
                  <a:pt x="35" y="161"/>
                </a:lnTo>
                <a:lnTo>
                  <a:pt x="21" y="112"/>
                </a:lnTo>
                <a:lnTo>
                  <a:pt x="14" y="70"/>
                </a:lnTo>
                <a:lnTo>
                  <a:pt x="0" y="0"/>
                </a:lnTo>
              </a:path>
            </a:pathLst>
          </a:custGeom>
          <a:solidFill>
            <a:srgbClr val="f57b4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73160" y="4308480"/>
            <a:ext cx="2916000" cy="2138400"/>
          </a:xfrm>
          <a:custGeom>
            <a:avLst/>
            <a:gdLst/>
            <a:ahLst/>
            <a:rect l="l" t="t" r="r" b="b"/>
            <a:pathLst>
              <a:path w="1837" h="1347">
                <a:moveTo>
                  <a:pt x="1836" y="315"/>
                </a:moveTo>
                <a:lnTo>
                  <a:pt x="1787" y="315"/>
                </a:lnTo>
                <a:lnTo>
                  <a:pt x="1689" y="329"/>
                </a:lnTo>
                <a:lnTo>
                  <a:pt x="1626" y="315"/>
                </a:lnTo>
                <a:lnTo>
                  <a:pt x="1584" y="301"/>
                </a:lnTo>
                <a:lnTo>
                  <a:pt x="1535" y="259"/>
                </a:lnTo>
                <a:lnTo>
                  <a:pt x="1493" y="245"/>
                </a:lnTo>
                <a:lnTo>
                  <a:pt x="1444" y="210"/>
                </a:lnTo>
                <a:lnTo>
                  <a:pt x="1346" y="168"/>
                </a:lnTo>
                <a:lnTo>
                  <a:pt x="1283" y="140"/>
                </a:lnTo>
                <a:lnTo>
                  <a:pt x="1234" y="119"/>
                </a:lnTo>
                <a:lnTo>
                  <a:pt x="1136" y="91"/>
                </a:lnTo>
                <a:lnTo>
                  <a:pt x="1023" y="56"/>
                </a:lnTo>
                <a:lnTo>
                  <a:pt x="939" y="35"/>
                </a:lnTo>
                <a:lnTo>
                  <a:pt x="883" y="28"/>
                </a:lnTo>
                <a:lnTo>
                  <a:pt x="771" y="7"/>
                </a:lnTo>
                <a:lnTo>
                  <a:pt x="596" y="7"/>
                </a:lnTo>
                <a:lnTo>
                  <a:pt x="484" y="7"/>
                </a:lnTo>
                <a:lnTo>
                  <a:pt x="442" y="0"/>
                </a:lnTo>
                <a:lnTo>
                  <a:pt x="379" y="0"/>
                </a:lnTo>
                <a:lnTo>
                  <a:pt x="336" y="14"/>
                </a:lnTo>
                <a:lnTo>
                  <a:pt x="273" y="21"/>
                </a:lnTo>
                <a:lnTo>
                  <a:pt x="217" y="70"/>
                </a:lnTo>
                <a:lnTo>
                  <a:pt x="182" y="98"/>
                </a:lnTo>
                <a:lnTo>
                  <a:pt x="147" y="189"/>
                </a:lnTo>
                <a:lnTo>
                  <a:pt x="126" y="245"/>
                </a:lnTo>
                <a:lnTo>
                  <a:pt x="98" y="266"/>
                </a:lnTo>
                <a:lnTo>
                  <a:pt x="84" y="273"/>
                </a:lnTo>
                <a:lnTo>
                  <a:pt x="56" y="273"/>
                </a:lnTo>
                <a:lnTo>
                  <a:pt x="35" y="280"/>
                </a:lnTo>
                <a:lnTo>
                  <a:pt x="14" y="315"/>
                </a:lnTo>
                <a:lnTo>
                  <a:pt x="28" y="378"/>
                </a:lnTo>
                <a:lnTo>
                  <a:pt x="21" y="463"/>
                </a:lnTo>
                <a:lnTo>
                  <a:pt x="7" y="526"/>
                </a:lnTo>
                <a:lnTo>
                  <a:pt x="0" y="568"/>
                </a:lnTo>
                <a:lnTo>
                  <a:pt x="0" y="617"/>
                </a:lnTo>
                <a:lnTo>
                  <a:pt x="0" y="694"/>
                </a:lnTo>
                <a:lnTo>
                  <a:pt x="7" y="743"/>
                </a:lnTo>
                <a:lnTo>
                  <a:pt x="28" y="799"/>
                </a:lnTo>
                <a:lnTo>
                  <a:pt x="84" y="876"/>
                </a:lnTo>
                <a:lnTo>
                  <a:pt x="112" y="925"/>
                </a:lnTo>
                <a:lnTo>
                  <a:pt x="133" y="939"/>
                </a:lnTo>
                <a:lnTo>
                  <a:pt x="140" y="974"/>
                </a:lnTo>
                <a:lnTo>
                  <a:pt x="154" y="1016"/>
                </a:lnTo>
                <a:lnTo>
                  <a:pt x="140" y="1079"/>
                </a:lnTo>
                <a:lnTo>
                  <a:pt x="147" y="1121"/>
                </a:lnTo>
                <a:lnTo>
                  <a:pt x="168" y="1171"/>
                </a:lnTo>
                <a:lnTo>
                  <a:pt x="196" y="1241"/>
                </a:lnTo>
                <a:lnTo>
                  <a:pt x="266" y="1318"/>
                </a:lnTo>
                <a:lnTo>
                  <a:pt x="350" y="1346"/>
                </a:lnTo>
              </a:path>
            </a:pathLst>
          </a:custGeom>
          <a:solidFill>
            <a:srgbClr val="ff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387520" y="4707000"/>
            <a:ext cx="1158840" cy="1882800"/>
          </a:xfrm>
          <a:custGeom>
            <a:avLst/>
            <a:gdLst/>
            <a:ahLst/>
            <a:rect l="l" t="t" r="r" b="b"/>
            <a:pathLst>
              <a:path w="730" h="1186">
                <a:moveTo>
                  <a:pt x="0" y="1185"/>
                </a:moveTo>
                <a:lnTo>
                  <a:pt x="98" y="1178"/>
                </a:lnTo>
                <a:lnTo>
                  <a:pt x="161" y="1150"/>
                </a:lnTo>
                <a:lnTo>
                  <a:pt x="231" y="1122"/>
                </a:lnTo>
                <a:lnTo>
                  <a:pt x="301" y="1073"/>
                </a:lnTo>
                <a:lnTo>
                  <a:pt x="364" y="1024"/>
                </a:lnTo>
                <a:lnTo>
                  <a:pt x="378" y="996"/>
                </a:lnTo>
                <a:lnTo>
                  <a:pt x="392" y="975"/>
                </a:lnTo>
                <a:lnTo>
                  <a:pt x="427" y="926"/>
                </a:lnTo>
                <a:lnTo>
                  <a:pt x="448" y="898"/>
                </a:lnTo>
                <a:lnTo>
                  <a:pt x="469" y="876"/>
                </a:lnTo>
                <a:lnTo>
                  <a:pt x="512" y="841"/>
                </a:lnTo>
                <a:lnTo>
                  <a:pt x="547" y="785"/>
                </a:lnTo>
                <a:lnTo>
                  <a:pt x="575" y="736"/>
                </a:lnTo>
                <a:lnTo>
                  <a:pt x="596" y="687"/>
                </a:lnTo>
                <a:lnTo>
                  <a:pt x="638" y="638"/>
                </a:lnTo>
                <a:lnTo>
                  <a:pt x="659" y="610"/>
                </a:lnTo>
                <a:lnTo>
                  <a:pt x="680" y="589"/>
                </a:lnTo>
                <a:lnTo>
                  <a:pt x="701" y="526"/>
                </a:lnTo>
                <a:lnTo>
                  <a:pt x="708" y="470"/>
                </a:lnTo>
                <a:lnTo>
                  <a:pt x="715" y="414"/>
                </a:lnTo>
                <a:lnTo>
                  <a:pt x="722" y="358"/>
                </a:lnTo>
                <a:lnTo>
                  <a:pt x="729" y="253"/>
                </a:lnTo>
                <a:lnTo>
                  <a:pt x="729" y="211"/>
                </a:lnTo>
                <a:lnTo>
                  <a:pt x="722" y="161"/>
                </a:lnTo>
                <a:lnTo>
                  <a:pt x="687" y="77"/>
                </a:lnTo>
                <a:lnTo>
                  <a:pt x="666" y="42"/>
                </a:lnTo>
                <a:lnTo>
                  <a:pt x="631" y="21"/>
                </a:lnTo>
                <a:lnTo>
                  <a:pt x="589" y="7"/>
                </a:lnTo>
                <a:lnTo>
                  <a:pt x="554" y="0"/>
                </a:lnTo>
                <a:lnTo>
                  <a:pt x="483" y="28"/>
                </a:lnTo>
                <a:lnTo>
                  <a:pt x="455" y="42"/>
                </a:lnTo>
                <a:lnTo>
                  <a:pt x="434" y="63"/>
                </a:lnTo>
              </a:path>
            </a:pathLst>
          </a:custGeom>
          <a:solidFill>
            <a:srgbClr val="ff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711600" y="4041720"/>
            <a:ext cx="2971800" cy="2305080"/>
          </a:xfrm>
          <a:custGeom>
            <a:avLst/>
            <a:gdLst/>
            <a:ahLst/>
            <a:rect l="l" t="t" r="r" b="b"/>
            <a:pathLst>
              <a:path w="1872" h="1452">
                <a:moveTo>
                  <a:pt x="14" y="231"/>
                </a:moveTo>
                <a:lnTo>
                  <a:pt x="7" y="287"/>
                </a:lnTo>
                <a:lnTo>
                  <a:pt x="7" y="336"/>
                </a:lnTo>
                <a:lnTo>
                  <a:pt x="0" y="385"/>
                </a:lnTo>
                <a:lnTo>
                  <a:pt x="7" y="448"/>
                </a:lnTo>
                <a:lnTo>
                  <a:pt x="14" y="504"/>
                </a:lnTo>
                <a:lnTo>
                  <a:pt x="21" y="532"/>
                </a:lnTo>
                <a:lnTo>
                  <a:pt x="28" y="574"/>
                </a:lnTo>
                <a:lnTo>
                  <a:pt x="21" y="645"/>
                </a:lnTo>
                <a:lnTo>
                  <a:pt x="14" y="715"/>
                </a:lnTo>
                <a:lnTo>
                  <a:pt x="0" y="785"/>
                </a:lnTo>
                <a:lnTo>
                  <a:pt x="7" y="862"/>
                </a:lnTo>
                <a:lnTo>
                  <a:pt x="28" y="946"/>
                </a:lnTo>
                <a:lnTo>
                  <a:pt x="77" y="1037"/>
                </a:lnTo>
                <a:lnTo>
                  <a:pt x="112" y="1086"/>
                </a:lnTo>
                <a:lnTo>
                  <a:pt x="154" y="1128"/>
                </a:lnTo>
                <a:lnTo>
                  <a:pt x="245" y="1219"/>
                </a:lnTo>
                <a:lnTo>
                  <a:pt x="336" y="1282"/>
                </a:lnTo>
                <a:lnTo>
                  <a:pt x="442" y="1346"/>
                </a:lnTo>
                <a:lnTo>
                  <a:pt x="540" y="1381"/>
                </a:lnTo>
                <a:lnTo>
                  <a:pt x="645" y="1416"/>
                </a:lnTo>
                <a:lnTo>
                  <a:pt x="715" y="1430"/>
                </a:lnTo>
                <a:lnTo>
                  <a:pt x="792" y="1444"/>
                </a:lnTo>
                <a:lnTo>
                  <a:pt x="883" y="1444"/>
                </a:lnTo>
                <a:lnTo>
                  <a:pt x="974" y="1451"/>
                </a:lnTo>
                <a:lnTo>
                  <a:pt x="1030" y="1444"/>
                </a:lnTo>
                <a:lnTo>
                  <a:pt x="1086" y="1444"/>
                </a:lnTo>
                <a:lnTo>
                  <a:pt x="1206" y="1437"/>
                </a:lnTo>
                <a:lnTo>
                  <a:pt x="1304" y="1402"/>
                </a:lnTo>
                <a:lnTo>
                  <a:pt x="1402" y="1374"/>
                </a:lnTo>
                <a:lnTo>
                  <a:pt x="1472" y="1339"/>
                </a:lnTo>
                <a:lnTo>
                  <a:pt x="1542" y="1303"/>
                </a:lnTo>
                <a:lnTo>
                  <a:pt x="1598" y="1254"/>
                </a:lnTo>
                <a:lnTo>
                  <a:pt x="1661" y="1212"/>
                </a:lnTo>
                <a:lnTo>
                  <a:pt x="1703" y="1163"/>
                </a:lnTo>
                <a:lnTo>
                  <a:pt x="1745" y="1121"/>
                </a:lnTo>
                <a:lnTo>
                  <a:pt x="1766" y="1051"/>
                </a:lnTo>
                <a:lnTo>
                  <a:pt x="1773" y="988"/>
                </a:lnTo>
                <a:lnTo>
                  <a:pt x="1773" y="918"/>
                </a:lnTo>
                <a:lnTo>
                  <a:pt x="1780" y="855"/>
                </a:lnTo>
                <a:lnTo>
                  <a:pt x="1787" y="806"/>
                </a:lnTo>
                <a:lnTo>
                  <a:pt x="1787" y="764"/>
                </a:lnTo>
                <a:lnTo>
                  <a:pt x="1808" y="687"/>
                </a:lnTo>
                <a:lnTo>
                  <a:pt x="1822" y="645"/>
                </a:lnTo>
                <a:lnTo>
                  <a:pt x="1850" y="616"/>
                </a:lnTo>
                <a:lnTo>
                  <a:pt x="1864" y="588"/>
                </a:lnTo>
                <a:lnTo>
                  <a:pt x="1871" y="553"/>
                </a:lnTo>
                <a:lnTo>
                  <a:pt x="1850" y="497"/>
                </a:lnTo>
                <a:lnTo>
                  <a:pt x="1815" y="455"/>
                </a:lnTo>
                <a:lnTo>
                  <a:pt x="1766" y="427"/>
                </a:lnTo>
                <a:lnTo>
                  <a:pt x="1724" y="392"/>
                </a:lnTo>
                <a:lnTo>
                  <a:pt x="1696" y="364"/>
                </a:lnTo>
                <a:lnTo>
                  <a:pt x="1675" y="343"/>
                </a:lnTo>
                <a:lnTo>
                  <a:pt x="1626" y="308"/>
                </a:lnTo>
                <a:lnTo>
                  <a:pt x="1598" y="273"/>
                </a:lnTo>
                <a:lnTo>
                  <a:pt x="1591" y="224"/>
                </a:lnTo>
                <a:lnTo>
                  <a:pt x="1605" y="189"/>
                </a:lnTo>
                <a:lnTo>
                  <a:pt x="1612" y="154"/>
                </a:lnTo>
                <a:lnTo>
                  <a:pt x="1605" y="119"/>
                </a:lnTo>
                <a:lnTo>
                  <a:pt x="1577" y="77"/>
                </a:lnTo>
                <a:lnTo>
                  <a:pt x="1542" y="63"/>
                </a:lnTo>
                <a:lnTo>
                  <a:pt x="1493" y="49"/>
                </a:lnTo>
                <a:lnTo>
                  <a:pt x="1451" y="42"/>
                </a:lnTo>
                <a:lnTo>
                  <a:pt x="1367" y="49"/>
                </a:lnTo>
                <a:lnTo>
                  <a:pt x="1297" y="35"/>
                </a:lnTo>
                <a:lnTo>
                  <a:pt x="1227" y="35"/>
                </a:lnTo>
                <a:lnTo>
                  <a:pt x="1177" y="28"/>
                </a:lnTo>
                <a:lnTo>
                  <a:pt x="1135" y="35"/>
                </a:lnTo>
                <a:lnTo>
                  <a:pt x="1093" y="35"/>
                </a:lnTo>
                <a:lnTo>
                  <a:pt x="1051" y="35"/>
                </a:lnTo>
                <a:lnTo>
                  <a:pt x="1002" y="21"/>
                </a:lnTo>
                <a:lnTo>
                  <a:pt x="953" y="14"/>
                </a:lnTo>
                <a:lnTo>
                  <a:pt x="890" y="7"/>
                </a:lnTo>
                <a:lnTo>
                  <a:pt x="834" y="21"/>
                </a:lnTo>
                <a:lnTo>
                  <a:pt x="771" y="14"/>
                </a:lnTo>
                <a:lnTo>
                  <a:pt x="722" y="14"/>
                </a:lnTo>
                <a:lnTo>
                  <a:pt x="666" y="14"/>
                </a:lnTo>
                <a:lnTo>
                  <a:pt x="610" y="14"/>
                </a:lnTo>
                <a:lnTo>
                  <a:pt x="533" y="7"/>
                </a:lnTo>
                <a:lnTo>
                  <a:pt x="470" y="0"/>
                </a:lnTo>
                <a:lnTo>
                  <a:pt x="406" y="7"/>
                </a:lnTo>
                <a:lnTo>
                  <a:pt x="336" y="21"/>
                </a:lnTo>
                <a:lnTo>
                  <a:pt x="252" y="49"/>
                </a:lnTo>
                <a:lnTo>
                  <a:pt x="175" y="98"/>
                </a:lnTo>
                <a:lnTo>
                  <a:pt x="112" y="119"/>
                </a:lnTo>
                <a:lnTo>
                  <a:pt x="63" y="161"/>
                </a:lnTo>
                <a:lnTo>
                  <a:pt x="42" y="182"/>
                </a:lnTo>
                <a:lnTo>
                  <a:pt x="21" y="224"/>
                </a:lnTo>
              </a:path>
            </a:pathLst>
          </a:custGeom>
          <a:solidFill>
            <a:srgbClr val="00dfca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 flipH="1" flipV="1">
            <a:off x="2854080" y="3306600"/>
            <a:ext cx="468360" cy="6112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357720" y="3930480"/>
            <a:ext cx="441000" cy="37656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flipH="1">
            <a:off x="2665080" y="3930480"/>
            <a:ext cx="646200" cy="83196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071880" y="3679920"/>
            <a:ext cx="487440" cy="487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043800" y="3782880"/>
            <a:ext cx="57168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NAP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452600" y="2498760"/>
            <a:ext cx="62352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MCI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473120" y="5448240"/>
            <a:ext cx="977040" cy="3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PRINT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002200" y="5037120"/>
            <a:ext cx="530280" cy="3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PSI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422520" y="1636560"/>
            <a:ext cx="1158840" cy="1070280"/>
          </a:xfrm>
          <a:custGeom>
            <a:avLst/>
            <a:gdLst/>
            <a:ahLst/>
            <a:rect l="l" t="t" r="r" b="b"/>
            <a:pathLst>
              <a:path w="730" h="674">
                <a:moveTo>
                  <a:pt x="0" y="0"/>
                </a:moveTo>
                <a:lnTo>
                  <a:pt x="21" y="28"/>
                </a:lnTo>
                <a:lnTo>
                  <a:pt x="42" y="127"/>
                </a:lnTo>
                <a:lnTo>
                  <a:pt x="56" y="211"/>
                </a:lnTo>
                <a:lnTo>
                  <a:pt x="63" y="274"/>
                </a:lnTo>
                <a:lnTo>
                  <a:pt x="70" y="316"/>
                </a:lnTo>
                <a:lnTo>
                  <a:pt x="70" y="379"/>
                </a:lnTo>
                <a:lnTo>
                  <a:pt x="91" y="414"/>
                </a:lnTo>
                <a:lnTo>
                  <a:pt x="112" y="442"/>
                </a:lnTo>
                <a:lnTo>
                  <a:pt x="154" y="463"/>
                </a:lnTo>
                <a:lnTo>
                  <a:pt x="189" y="484"/>
                </a:lnTo>
                <a:lnTo>
                  <a:pt x="224" y="498"/>
                </a:lnTo>
                <a:lnTo>
                  <a:pt x="280" y="519"/>
                </a:lnTo>
                <a:lnTo>
                  <a:pt x="308" y="526"/>
                </a:lnTo>
                <a:lnTo>
                  <a:pt x="357" y="547"/>
                </a:lnTo>
                <a:lnTo>
                  <a:pt x="441" y="561"/>
                </a:lnTo>
                <a:lnTo>
                  <a:pt x="483" y="582"/>
                </a:lnTo>
                <a:lnTo>
                  <a:pt x="539" y="603"/>
                </a:lnTo>
                <a:lnTo>
                  <a:pt x="609" y="645"/>
                </a:lnTo>
                <a:lnTo>
                  <a:pt x="659" y="659"/>
                </a:lnTo>
                <a:lnTo>
                  <a:pt x="729" y="673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429000" y="1643040"/>
            <a:ext cx="20520" cy="42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433680" y="1214280"/>
            <a:ext cx="2449440" cy="1749600"/>
          </a:xfrm>
          <a:custGeom>
            <a:avLst/>
            <a:gdLst/>
            <a:ahLst/>
            <a:rect l="l" t="t" r="r" b="b"/>
            <a:pathLst>
              <a:path w="1543" h="1102">
                <a:moveTo>
                  <a:pt x="7" y="294"/>
                </a:moveTo>
                <a:lnTo>
                  <a:pt x="21" y="337"/>
                </a:lnTo>
                <a:lnTo>
                  <a:pt x="28" y="386"/>
                </a:lnTo>
                <a:lnTo>
                  <a:pt x="35" y="435"/>
                </a:lnTo>
                <a:lnTo>
                  <a:pt x="42" y="477"/>
                </a:lnTo>
                <a:lnTo>
                  <a:pt x="56" y="540"/>
                </a:lnTo>
                <a:lnTo>
                  <a:pt x="63" y="610"/>
                </a:lnTo>
                <a:lnTo>
                  <a:pt x="63" y="638"/>
                </a:lnTo>
                <a:lnTo>
                  <a:pt x="84" y="680"/>
                </a:lnTo>
                <a:lnTo>
                  <a:pt x="126" y="715"/>
                </a:lnTo>
                <a:lnTo>
                  <a:pt x="182" y="750"/>
                </a:lnTo>
                <a:lnTo>
                  <a:pt x="238" y="771"/>
                </a:lnTo>
                <a:lnTo>
                  <a:pt x="301" y="792"/>
                </a:lnTo>
                <a:lnTo>
                  <a:pt x="385" y="813"/>
                </a:lnTo>
                <a:lnTo>
                  <a:pt x="476" y="848"/>
                </a:lnTo>
                <a:lnTo>
                  <a:pt x="518" y="862"/>
                </a:lnTo>
                <a:lnTo>
                  <a:pt x="560" y="883"/>
                </a:lnTo>
                <a:lnTo>
                  <a:pt x="602" y="904"/>
                </a:lnTo>
                <a:lnTo>
                  <a:pt x="652" y="925"/>
                </a:lnTo>
                <a:lnTo>
                  <a:pt x="715" y="932"/>
                </a:lnTo>
                <a:lnTo>
                  <a:pt x="771" y="932"/>
                </a:lnTo>
                <a:lnTo>
                  <a:pt x="827" y="939"/>
                </a:lnTo>
                <a:lnTo>
                  <a:pt x="897" y="960"/>
                </a:lnTo>
                <a:lnTo>
                  <a:pt x="939" y="974"/>
                </a:lnTo>
                <a:lnTo>
                  <a:pt x="981" y="995"/>
                </a:lnTo>
                <a:lnTo>
                  <a:pt x="1065" y="1052"/>
                </a:lnTo>
                <a:lnTo>
                  <a:pt x="1093" y="1066"/>
                </a:lnTo>
                <a:lnTo>
                  <a:pt x="1128" y="1087"/>
                </a:lnTo>
                <a:lnTo>
                  <a:pt x="1226" y="1101"/>
                </a:lnTo>
                <a:lnTo>
                  <a:pt x="1331" y="1094"/>
                </a:lnTo>
                <a:lnTo>
                  <a:pt x="1381" y="1066"/>
                </a:lnTo>
                <a:lnTo>
                  <a:pt x="1416" y="1038"/>
                </a:lnTo>
                <a:lnTo>
                  <a:pt x="1479" y="960"/>
                </a:lnTo>
                <a:lnTo>
                  <a:pt x="1493" y="897"/>
                </a:lnTo>
                <a:lnTo>
                  <a:pt x="1486" y="834"/>
                </a:lnTo>
                <a:lnTo>
                  <a:pt x="1479" y="806"/>
                </a:lnTo>
                <a:lnTo>
                  <a:pt x="1479" y="792"/>
                </a:lnTo>
                <a:lnTo>
                  <a:pt x="1479" y="722"/>
                </a:lnTo>
                <a:lnTo>
                  <a:pt x="1493" y="666"/>
                </a:lnTo>
                <a:lnTo>
                  <a:pt x="1507" y="603"/>
                </a:lnTo>
                <a:lnTo>
                  <a:pt x="1521" y="547"/>
                </a:lnTo>
                <a:lnTo>
                  <a:pt x="1521" y="498"/>
                </a:lnTo>
                <a:lnTo>
                  <a:pt x="1521" y="456"/>
                </a:lnTo>
                <a:lnTo>
                  <a:pt x="1521" y="379"/>
                </a:lnTo>
                <a:lnTo>
                  <a:pt x="1528" y="308"/>
                </a:lnTo>
                <a:lnTo>
                  <a:pt x="1542" y="252"/>
                </a:lnTo>
                <a:lnTo>
                  <a:pt x="1542" y="196"/>
                </a:lnTo>
                <a:lnTo>
                  <a:pt x="1535" y="147"/>
                </a:lnTo>
                <a:lnTo>
                  <a:pt x="1514" y="112"/>
                </a:lnTo>
                <a:lnTo>
                  <a:pt x="1493" y="91"/>
                </a:lnTo>
                <a:lnTo>
                  <a:pt x="1437" y="70"/>
                </a:lnTo>
                <a:lnTo>
                  <a:pt x="1381" y="42"/>
                </a:lnTo>
                <a:lnTo>
                  <a:pt x="1324" y="35"/>
                </a:lnTo>
                <a:lnTo>
                  <a:pt x="1268" y="28"/>
                </a:lnTo>
                <a:lnTo>
                  <a:pt x="1212" y="28"/>
                </a:lnTo>
                <a:lnTo>
                  <a:pt x="1128" y="14"/>
                </a:lnTo>
                <a:lnTo>
                  <a:pt x="1051" y="7"/>
                </a:lnTo>
                <a:lnTo>
                  <a:pt x="981" y="7"/>
                </a:lnTo>
                <a:lnTo>
                  <a:pt x="897" y="14"/>
                </a:lnTo>
                <a:lnTo>
                  <a:pt x="729" y="0"/>
                </a:lnTo>
                <a:lnTo>
                  <a:pt x="567" y="0"/>
                </a:lnTo>
                <a:lnTo>
                  <a:pt x="497" y="0"/>
                </a:lnTo>
                <a:lnTo>
                  <a:pt x="441" y="0"/>
                </a:lnTo>
                <a:lnTo>
                  <a:pt x="399" y="0"/>
                </a:lnTo>
                <a:lnTo>
                  <a:pt x="392" y="0"/>
                </a:lnTo>
                <a:lnTo>
                  <a:pt x="378" y="7"/>
                </a:lnTo>
                <a:lnTo>
                  <a:pt x="343" y="28"/>
                </a:lnTo>
                <a:lnTo>
                  <a:pt x="259" y="84"/>
                </a:lnTo>
                <a:lnTo>
                  <a:pt x="196" y="105"/>
                </a:lnTo>
                <a:lnTo>
                  <a:pt x="140" y="133"/>
                </a:lnTo>
                <a:lnTo>
                  <a:pt x="70" y="168"/>
                </a:lnTo>
                <a:lnTo>
                  <a:pt x="35" y="196"/>
                </a:lnTo>
                <a:lnTo>
                  <a:pt x="14" y="231"/>
                </a:lnTo>
                <a:lnTo>
                  <a:pt x="7" y="245"/>
                </a:lnTo>
                <a:lnTo>
                  <a:pt x="0" y="273"/>
                </a:lnTo>
              </a:path>
            </a:pathLst>
          </a:custGeom>
          <a:solidFill>
            <a:srgbClr val="ffff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 flipH="1">
            <a:off x="3322800" y="2306520"/>
            <a:ext cx="255600" cy="1414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257720" y="1798560"/>
            <a:ext cx="142488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BBN Planet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6137280" y="1558800"/>
            <a:ext cx="179280" cy="525600"/>
          </a:xfrm>
          <a:custGeom>
            <a:avLst/>
            <a:gdLst/>
            <a:ahLst/>
            <a:rect l="l" t="t" r="r" b="b"/>
            <a:pathLst>
              <a:path w="113" h="331">
                <a:moveTo>
                  <a:pt x="112" y="0"/>
                </a:moveTo>
                <a:lnTo>
                  <a:pt x="84" y="49"/>
                </a:lnTo>
                <a:lnTo>
                  <a:pt x="56" y="98"/>
                </a:lnTo>
                <a:lnTo>
                  <a:pt x="35" y="148"/>
                </a:lnTo>
                <a:lnTo>
                  <a:pt x="21" y="211"/>
                </a:lnTo>
                <a:lnTo>
                  <a:pt x="7" y="274"/>
                </a:lnTo>
                <a:lnTo>
                  <a:pt x="0" y="33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6093000" y="1347840"/>
            <a:ext cx="1314360" cy="1469880"/>
          </a:xfrm>
          <a:custGeom>
            <a:avLst/>
            <a:gdLst/>
            <a:ahLst/>
            <a:rect l="l" t="t" r="r" b="b"/>
            <a:pathLst>
              <a:path w="828" h="926">
                <a:moveTo>
                  <a:pt x="28" y="463"/>
                </a:moveTo>
                <a:lnTo>
                  <a:pt x="21" y="519"/>
                </a:lnTo>
                <a:lnTo>
                  <a:pt x="21" y="596"/>
                </a:lnTo>
                <a:lnTo>
                  <a:pt x="14" y="652"/>
                </a:lnTo>
                <a:lnTo>
                  <a:pt x="7" y="708"/>
                </a:lnTo>
                <a:lnTo>
                  <a:pt x="0" y="757"/>
                </a:lnTo>
                <a:lnTo>
                  <a:pt x="21" y="820"/>
                </a:lnTo>
                <a:lnTo>
                  <a:pt x="56" y="869"/>
                </a:lnTo>
                <a:lnTo>
                  <a:pt x="119" y="911"/>
                </a:lnTo>
                <a:lnTo>
                  <a:pt x="168" y="918"/>
                </a:lnTo>
                <a:lnTo>
                  <a:pt x="224" y="918"/>
                </a:lnTo>
                <a:lnTo>
                  <a:pt x="273" y="911"/>
                </a:lnTo>
                <a:lnTo>
                  <a:pt x="336" y="918"/>
                </a:lnTo>
                <a:lnTo>
                  <a:pt x="392" y="918"/>
                </a:lnTo>
                <a:lnTo>
                  <a:pt x="448" y="925"/>
                </a:lnTo>
                <a:lnTo>
                  <a:pt x="519" y="911"/>
                </a:lnTo>
                <a:lnTo>
                  <a:pt x="582" y="883"/>
                </a:lnTo>
                <a:lnTo>
                  <a:pt x="603" y="848"/>
                </a:lnTo>
                <a:lnTo>
                  <a:pt x="617" y="820"/>
                </a:lnTo>
                <a:lnTo>
                  <a:pt x="631" y="792"/>
                </a:lnTo>
                <a:lnTo>
                  <a:pt x="652" y="764"/>
                </a:lnTo>
                <a:lnTo>
                  <a:pt x="673" y="736"/>
                </a:lnTo>
                <a:lnTo>
                  <a:pt x="701" y="715"/>
                </a:lnTo>
                <a:lnTo>
                  <a:pt x="729" y="694"/>
                </a:lnTo>
                <a:lnTo>
                  <a:pt x="750" y="673"/>
                </a:lnTo>
                <a:lnTo>
                  <a:pt x="764" y="624"/>
                </a:lnTo>
                <a:lnTo>
                  <a:pt x="764" y="582"/>
                </a:lnTo>
                <a:lnTo>
                  <a:pt x="764" y="540"/>
                </a:lnTo>
                <a:lnTo>
                  <a:pt x="778" y="505"/>
                </a:lnTo>
                <a:lnTo>
                  <a:pt x="799" y="463"/>
                </a:lnTo>
                <a:lnTo>
                  <a:pt x="820" y="435"/>
                </a:lnTo>
                <a:lnTo>
                  <a:pt x="827" y="379"/>
                </a:lnTo>
                <a:lnTo>
                  <a:pt x="827" y="323"/>
                </a:lnTo>
                <a:lnTo>
                  <a:pt x="820" y="203"/>
                </a:lnTo>
                <a:lnTo>
                  <a:pt x="813" y="147"/>
                </a:lnTo>
                <a:lnTo>
                  <a:pt x="785" y="105"/>
                </a:lnTo>
                <a:lnTo>
                  <a:pt x="757" y="84"/>
                </a:lnTo>
                <a:lnTo>
                  <a:pt x="736" y="77"/>
                </a:lnTo>
                <a:lnTo>
                  <a:pt x="673" y="70"/>
                </a:lnTo>
                <a:lnTo>
                  <a:pt x="610" y="49"/>
                </a:lnTo>
                <a:lnTo>
                  <a:pt x="547" y="35"/>
                </a:lnTo>
                <a:lnTo>
                  <a:pt x="491" y="21"/>
                </a:lnTo>
                <a:lnTo>
                  <a:pt x="427" y="21"/>
                </a:lnTo>
                <a:lnTo>
                  <a:pt x="322" y="0"/>
                </a:lnTo>
                <a:lnTo>
                  <a:pt x="273" y="7"/>
                </a:lnTo>
                <a:lnTo>
                  <a:pt x="224" y="28"/>
                </a:lnTo>
                <a:lnTo>
                  <a:pt x="189" y="42"/>
                </a:lnTo>
                <a:lnTo>
                  <a:pt x="175" y="70"/>
                </a:lnTo>
                <a:lnTo>
                  <a:pt x="161" y="98"/>
                </a:lnTo>
                <a:lnTo>
                  <a:pt x="140" y="140"/>
                </a:lnTo>
              </a:path>
            </a:pathLst>
          </a:custGeom>
          <a:solidFill>
            <a:srgbClr val="00ff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872320" y="2035080"/>
            <a:ext cx="239400" cy="792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426000" y="1909800"/>
            <a:ext cx="5976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 flipH="1" flipV="1">
            <a:off x="5308200" y="3406320"/>
            <a:ext cx="11160" cy="42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668840" y="3162240"/>
            <a:ext cx="635040" cy="257400"/>
          </a:xfrm>
          <a:custGeom>
            <a:avLst/>
            <a:gdLst/>
            <a:ahLst/>
            <a:rect l="l" t="t" r="r" b="b"/>
            <a:pathLst>
              <a:path w="400" h="162">
                <a:moveTo>
                  <a:pt x="399" y="161"/>
                </a:moveTo>
                <a:lnTo>
                  <a:pt x="385" y="112"/>
                </a:lnTo>
                <a:lnTo>
                  <a:pt x="371" y="84"/>
                </a:lnTo>
                <a:lnTo>
                  <a:pt x="336" y="49"/>
                </a:lnTo>
                <a:lnTo>
                  <a:pt x="301" y="35"/>
                </a:lnTo>
                <a:lnTo>
                  <a:pt x="224" y="28"/>
                </a:lnTo>
                <a:lnTo>
                  <a:pt x="161" y="14"/>
                </a:lnTo>
                <a:lnTo>
                  <a:pt x="112" y="0"/>
                </a:lnTo>
                <a:lnTo>
                  <a:pt x="56" y="0"/>
                </a:lnTo>
                <a:lnTo>
                  <a:pt x="0" y="14"/>
                </a:lnTo>
              </a:path>
            </a:pathLst>
          </a:custGeom>
          <a:solidFill>
            <a:srgbClr val="ff00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435560" y="3184560"/>
            <a:ext cx="890640" cy="679320"/>
          </a:xfrm>
          <a:custGeom>
            <a:avLst/>
            <a:gdLst/>
            <a:ahLst/>
            <a:rect l="l" t="t" r="r" b="b"/>
            <a:pathLst>
              <a:path w="561" h="428">
                <a:moveTo>
                  <a:pt x="147" y="0"/>
                </a:moveTo>
                <a:lnTo>
                  <a:pt x="91" y="7"/>
                </a:lnTo>
                <a:lnTo>
                  <a:pt x="70" y="21"/>
                </a:lnTo>
                <a:lnTo>
                  <a:pt x="49" y="42"/>
                </a:lnTo>
                <a:lnTo>
                  <a:pt x="21" y="84"/>
                </a:lnTo>
                <a:lnTo>
                  <a:pt x="7" y="126"/>
                </a:lnTo>
                <a:lnTo>
                  <a:pt x="0" y="175"/>
                </a:lnTo>
                <a:lnTo>
                  <a:pt x="14" y="231"/>
                </a:lnTo>
                <a:lnTo>
                  <a:pt x="42" y="273"/>
                </a:lnTo>
                <a:lnTo>
                  <a:pt x="98" y="315"/>
                </a:lnTo>
                <a:lnTo>
                  <a:pt x="161" y="350"/>
                </a:lnTo>
                <a:lnTo>
                  <a:pt x="238" y="385"/>
                </a:lnTo>
                <a:lnTo>
                  <a:pt x="308" y="406"/>
                </a:lnTo>
                <a:lnTo>
                  <a:pt x="385" y="427"/>
                </a:lnTo>
                <a:lnTo>
                  <a:pt x="448" y="420"/>
                </a:lnTo>
                <a:lnTo>
                  <a:pt x="511" y="399"/>
                </a:lnTo>
                <a:lnTo>
                  <a:pt x="532" y="364"/>
                </a:lnTo>
                <a:lnTo>
                  <a:pt x="546" y="329"/>
                </a:lnTo>
                <a:lnTo>
                  <a:pt x="560" y="252"/>
                </a:lnTo>
                <a:lnTo>
                  <a:pt x="553" y="189"/>
                </a:lnTo>
                <a:lnTo>
                  <a:pt x="546" y="140"/>
                </a:lnTo>
              </a:path>
            </a:pathLst>
          </a:custGeom>
          <a:solidFill>
            <a:srgbClr val="ff00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 flipH="1">
            <a:off x="4975200" y="3863880"/>
            <a:ext cx="22320" cy="18576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326200" y="3525840"/>
            <a:ext cx="564840" cy="6192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567680" y="3222720"/>
            <a:ext cx="60048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ial-up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566600" y="3367080"/>
            <a:ext cx="68724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provider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564080" y="3511440"/>
            <a:ext cx="65088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n FL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736560" y="6450120"/>
            <a:ext cx="1677960" cy="153720"/>
          </a:xfrm>
          <a:custGeom>
            <a:avLst/>
            <a:gdLst/>
            <a:ahLst/>
            <a:rect l="l" t="t" r="r" b="b"/>
            <a:pathLst>
              <a:path w="1057" h="97">
                <a:moveTo>
                  <a:pt x="0" y="0"/>
                </a:moveTo>
                <a:lnTo>
                  <a:pt x="10" y="11"/>
                </a:lnTo>
                <a:lnTo>
                  <a:pt x="76" y="16"/>
                </a:lnTo>
                <a:lnTo>
                  <a:pt x="88" y="16"/>
                </a:lnTo>
                <a:lnTo>
                  <a:pt x="106" y="16"/>
                </a:lnTo>
                <a:lnTo>
                  <a:pt x="119" y="21"/>
                </a:lnTo>
                <a:lnTo>
                  <a:pt x="131" y="26"/>
                </a:lnTo>
                <a:lnTo>
                  <a:pt x="143" y="26"/>
                </a:lnTo>
                <a:lnTo>
                  <a:pt x="155" y="26"/>
                </a:lnTo>
                <a:lnTo>
                  <a:pt x="167" y="26"/>
                </a:lnTo>
                <a:lnTo>
                  <a:pt x="178" y="26"/>
                </a:lnTo>
                <a:lnTo>
                  <a:pt x="190" y="31"/>
                </a:lnTo>
                <a:lnTo>
                  <a:pt x="202" y="31"/>
                </a:lnTo>
                <a:lnTo>
                  <a:pt x="214" y="31"/>
                </a:lnTo>
                <a:lnTo>
                  <a:pt x="227" y="31"/>
                </a:lnTo>
                <a:lnTo>
                  <a:pt x="245" y="36"/>
                </a:lnTo>
                <a:lnTo>
                  <a:pt x="257" y="41"/>
                </a:lnTo>
                <a:lnTo>
                  <a:pt x="269" y="46"/>
                </a:lnTo>
                <a:lnTo>
                  <a:pt x="281" y="46"/>
                </a:lnTo>
                <a:lnTo>
                  <a:pt x="293" y="51"/>
                </a:lnTo>
                <a:lnTo>
                  <a:pt x="304" y="56"/>
                </a:lnTo>
                <a:lnTo>
                  <a:pt x="317" y="56"/>
                </a:lnTo>
                <a:lnTo>
                  <a:pt x="329" y="56"/>
                </a:lnTo>
                <a:lnTo>
                  <a:pt x="341" y="56"/>
                </a:lnTo>
                <a:lnTo>
                  <a:pt x="353" y="61"/>
                </a:lnTo>
                <a:lnTo>
                  <a:pt x="365" y="61"/>
                </a:lnTo>
                <a:lnTo>
                  <a:pt x="377" y="66"/>
                </a:lnTo>
                <a:lnTo>
                  <a:pt x="412" y="71"/>
                </a:lnTo>
                <a:lnTo>
                  <a:pt x="449" y="71"/>
                </a:lnTo>
                <a:lnTo>
                  <a:pt x="497" y="81"/>
                </a:lnTo>
                <a:lnTo>
                  <a:pt x="551" y="81"/>
                </a:lnTo>
                <a:lnTo>
                  <a:pt x="744" y="91"/>
                </a:lnTo>
                <a:lnTo>
                  <a:pt x="785" y="91"/>
                </a:lnTo>
                <a:lnTo>
                  <a:pt x="803" y="86"/>
                </a:lnTo>
                <a:lnTo>
                  <a:pt x="822" y="81"/>
                </a:lnTo>
                <a:lnTo>
                  <a:pt x="834" y="81"/>
                </a:lnTo>
                <a:lnTo>
                  <a:pt x="846" y="81"/>
                </a:lnTo>
                <a:lnTo>
                  <a:pt x="858" y="86"/>
                </a:lnTo>
                <a:lnTo>
                  <a:pt x="870" y="86"/>
                </a:lnTo>
                <a:lnTo>
                  <a:pt x="881" y="91"/>
                </a:lnTo>
                <a:lnTo>
                  <a:pt x="893" y="91"/>
                </a:lnTo>
                <a:lnTo>
                  <a:pt x="905" y="91"/>
                </a:lnTo>
                <a:lnTo>
                  <a:pt x="924" y="96"/>
                </a:lnTo>
                <a:lnTo>
                  <a:pt x="936" y="96"/>
                </a:lnTo>
                <a:lnTo>
                  <a:pt x="948" y="96"/>
                </a:lnTo>
                <a:lnTo>
                  <a:pt x="960" y="96"/>
                </a:lnTo>
                <a:lnTo>
                  <a:pt x="972" y="96"/>
                </a:lnTo>
                <a:lnTo>
                  <a:pt x="984" y="96"/>
                </a:lnTo>
                <a:lnTo>
                  <a:pt x="996" y="96"/>
                </a:lnTo>
                <a:lnTo>
                  <a:pt x="1007" y="96"/>
                </a:lnTo>
                <a:lnTo>
                  <a:pt x="1020" y="96"/>
                </a:lnTo>
                <a:lnTo>
                  <a:pt x="1032" y="96"/>
                </a:lnTo>
                <a:lnTo>
                  <a:pt x="1044" y="91"/>
                </a:lnTo>
                <a:lnTo>
                  <a:pt x="1056" y="86"/>
                </a:lnTo>
              </a:path>
            </a:pathLst>
          </a:custGeom>
          <a:solidFill>
            <a:srgbClr val="ff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94" name=""/>
          <p:cNvGraphicFramePr/>
          <p:nvPr/>
        </p:nvGraphicFramePr>
        <p:xfrm>
          <a:off x="6526080" y="3909960"/>
          <a:ext cx="2475000" cy="1687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26080" y="3909960"/>
                    <a:ext cx="2475000" cy="168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6" name=""/>
          <p:cNvSpPr/>
          <p:nvPr/>
        </p:nvSpPr>
        <p:spPr>
          <a:xfrm>
            <a:off x="6980040" y="4809960"/>
            <a:ext cx="74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I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7629480" y="5059440"/>
            <a:ext cx="1285920" cy="2746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98" name=""/>
          <p:cNvGraphicFramePr/>
          <p:nvPr/>
        </p:nvGraphicFramePr>
        <p:xfrm>
          <a:off x="5770440" y="2949480"/>
          <a:ext cx="1074960" cy="1030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70440" y="2949480"/>
                    <a:ext cx="1074960" cy="10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51920" y="22860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roblem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8915400" cy="55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are early in the Internet management ga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re is still a lot to lear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ttle A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t NETVIE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ices still high for functional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ill guru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ata networks are not "plug and play" with large sca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farious peop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51920" y="22860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ore Problem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8915400" cy="55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t so good at providing simple, easy to understand, warning to non-guru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stly managing elem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licy-based management should hel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ut still monitoring elements - no “big picture”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eds to be usable by “normal” peop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eds to say when users will compla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1920" y="22860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ault Management - Ticket Usag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8915400" cy="55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reate a ticket on ALL cal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reate a ticket on ALL problem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reate a ticket for ALL scheduled ev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py of ticket mailed to reporter and mailing list(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l milestones in resolution of problem create a new ticket entry with reference to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1920" y="22860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ault Management - Ticket Exampl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8915400" cy="55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nearnet-ops-request@nic.near.net Fri Dec 14 13:12:56 199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Received: from nic.near.net by nic.near.net id aa22499; 14 De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ate:     Fri, 14 Dec 90 13:01:42 ES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From: ops@nic.near.ne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:  NEARnet Ticket #158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To: nearnet-ops@nic.near.net, nearnet-outages@nic.near.net,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tmurphy@athena.mit.edu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tatus: 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Ticket Number: 1582 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Ticket Status:   ope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Ticket Type:   unplanned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Ticket Source:   emai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Ticket Scope:  host 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ite/Line:       mi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Ticket Owner:  perfetti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oblem Fixer: 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Ticket Opened: 12/14/90 12:56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oblem Started: 12/14/90 11:2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oblem Description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User is experiencing difficulty in reaching a host located at Rutgers.  The host in question is quartz.rutgers.edu (128.6.4.8).  This problem is being investigated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For a complete history of this ticket, do "finger ticket-1582@nic.near.net"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1920" y="22860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erformance Managemen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8915400" cy="55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valuate the behavior of network elem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formation used in plann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terface sta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roughpu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rror ra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ftware sta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queu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ystem lo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sk sp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vailability per c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sponse 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1920" y="22860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ecurity Managemen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8915400" cy="55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urity required to operate network and protect managed objec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urity servi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erber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GP key serv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ur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urity too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ps - host configuration checker (www.cert.org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stribute security inform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ug repor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ug fix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ruder aler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1920" y="22860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ecurity Management, cont.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8915400" cy="55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porting procedure for security ev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.g. break-i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trol internal and external gateway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rol firewalls (external and internal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urity log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ivacy issues can be a conflic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22T01:11:19Z</dcterms:created>
  <dc:creator>Scott Bradner</dc:creator>
  <dc:description/>
  <dc:language>en-US</dc:language>
  <cp:lastModifiedBy>gih</cp:lastModifiedBy>
  <dcterms:modified xsi:type="dcterms:W3CDTF">2000-07-12T10:51:12Z</dcterms:modified>
  <cp:revision>30</cp:revision>
  <dc:subject/>
  <dc:title>No Slide Title</dc:title>
</cp:coreProperties>
</file>