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A2FF-314D-4BF9-A7D0-C9969356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7383-4B34-47E0-8CF9-12E82065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930E-97DB-4063-B6CA-8113EDB3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F86E-80B8-41E1-B596-B2C757D1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74DF-E6C6-41B2-A77C-E3A2F91C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A3FA-A6BA-406B-8BB8-296E1B23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AB86-FC76-4990-8AD1-8FACBF7D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A0C1-2CD7-4B22-9F56-CD64FE75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FAEB-F4EE-43EC-BB4C-687AD1E7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3EB2-3F81-4F8A-8A29-4318BFD7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B2B0-17A6-4A46-BAF9-41D06A12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FAF0-BA05-4245-9441-43D29926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B096-007C-40F3-9F38-B2A838BB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D338-A7C2-4A5E-A985-60E7AFFD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90EB-1429-4235-9BCA-F94BCFD3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BB86-5D2A-4ADE-9C35-8F16A6DF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396C-44C8-4DE6-B6A2-A1F32650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0ED6-3ED5-4F4C-B53A-982EDA83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7559-D6E0-452C-A9CD-D18FC769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157C-7873-4EC3-BD87-00FBEAB2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5E08-CE9D-4345-8DE0-C08235BD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5B2D-172B-4A31-A4AD-4536410A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FFEF-4AFB-414C-A23D-6C3B50BF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7303-1F51-48B8-B957-52B1C166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2F2C-4A19-415E-BDB9-CCAACD9C6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3911-1EE2-471E-ACF5-474267C5F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Your Exerci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k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gineer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n engineering design for the various stages of IP network roll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rvi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 to define the services to be offered to the network’s customers, where the services are to be housed, protected and ope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ead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CT management team meets on Saturday,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uly at 9:00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ill review presentations from each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or Powerpoint presentations are encoura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Sce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w competitive telco (NcT) is opening up for business in Austra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intend to provide cellular phone services and IP services as major elements of their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Sce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k4, an international consultancy company wishes to tender a bid to the NcT to build and operate the national IP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task is to prepare the b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Environ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 is a develope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any intends to operate in three c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dney – population of 4,000,000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bourne – population of 4,000,000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elaide – population of 1,000,000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Environ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any aims to be one of the leading providers of business IP services in these cities, hopefully gaining the #3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any is also interested in providing IP services to the residential market, as well as providing IP services to mobile phone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Your Tas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d response should factor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y relate to the IP servic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Your Tas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eam is to prepare a presentation on how they will undertake this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rket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target market sectors, service offerings to be constructed and competitive strategy, and potential acquisition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usin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 financial business plan, indicating how much seed capital will be required and in what time the operation will be financially self-su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4T22:18:05Z</dcterms:created>
  <dc:creator>gih</dc:creator>
  <dc:description/>
  <dc:language>en-US</dc:language>
  <cp:lastModifiedBy>gih</cp:lastModifiedBy>
  <dcterms:modified xsi:type="dcterms:W3CDTF">2000-07-12T10:57:07Z</dcterms:modified>
  <cp:revision>8</cp:revision>
  <dc:subject/>
  <dc:title>Your Exercise</dc:title>
</cp:coreProperties>
</file>