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902825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674640" y="736200"/>
            <a:ext cx="531648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2FB0-5065-43EF-9603-4C4C45468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C5A6-4557-4ABB-854A-0AAFA3D4E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674640" y="736560"/>
            <a:ext cx="5316480" cy="3683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45B-2DEB-4C0C-A14F-FCE34DC2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6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262-2E58-4B7D-967F-63C328A5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352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71A-9644-4E42-A9D5-10DDB697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9840" y="188568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4320" y="188568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9840" y="406476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4320" y="406476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E59-1B95-4DF7-9798-39A9BB84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FC30-E841-46E6-916D-25778AA8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142E-947F-4D0F-B345-7A938B12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EEF-220A-40A0-B361-88DF55A7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F497-9946-4F52-94AD-DFBA5087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857A-6391-4737-BE4B-3CAE40F8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41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314F-889F-47E9-843A-E13D6E4C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4C50-9C6A-4B2F-8B43-833F38D0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168-5171-443E-BAD4-30ACA169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352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CD8B-A55C-4664-9F91-312DB583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6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2580-A158-4ED2-824B-A325512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64760"/>
            <a:ext cx="8856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2BE3-F7A9-45DA-92A4-01660F39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352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3F29-15BA-4212-B4CD-5B8EF3E1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9840" y="188568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4320" y="188568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6476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9840" y="406476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4320" y="4064760"/>
            <a:ext cx="28515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877-565C-4140-979B-56B0AB7E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ED1-41F7-4480-99B7-DDEF87C8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308-2070-441F-A4D9-EF8DE8CF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E45-2C91-4F5E-AFF7-0DFB01A1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9200" y="228240"/>
            <a:ext cx="841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750-BBDC-477D-AE34-14FDEBFF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57F-6D38-4AC7-A6AF-91655BAB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3520" y="406476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C1A-7EE7-426A-96B8-5C38BE30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3520" y="1885680"/>
            <a:ext cx="43218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4064760"/>
            <a:ext cx="885672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DDB-A7C6-4708-B11F-AF536806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22944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294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9280" y="6229440"/>
            <a:ext cx="20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A408-5CAE-4599-929B-BBB290163E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90720" y="1314360"/>
            <a:ext cx="89121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69680" y="6229080"/>
            <a:ext cx="20905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11000" y="6229080"/>
            <a:ext cx="3079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51400" y="6229080"/>
            <a:ext cx="19810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DC6-A026-4A97-B4BF-FE7AAD1BFB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891216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Evolution of Internet Infra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116680" y="4722480"/>
            <a:ext cx="4620960" cy="17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Geoff Hust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NTW Track 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4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2 - the Grand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merging commitment to Internet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tional Academic and Research Internet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9200" y="-360"/>
            <a:ext cx="94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2 - the Grand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cademic and Research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university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government funding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non-commer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national age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no visible telco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8400" y="2282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2 - A &amp; R 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2920" y="1828800"/>
            <a:ext cx="742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Unix work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Cs (Linux, FreeBSD &amp; Windows 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ocal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ampus LANs with switched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2 - A &amp; R 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mmunications Service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va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igital Data transmissio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STN - dial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rivate microwave and radio where fea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2 - A &amp; R 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tional academic and research fac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overnment financial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mposed “Appropriate Use” guide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unding by consensus guidelines within A &amp;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trong content emphasi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library funding a strong driver in this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often provide core services to dial-based messag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2 - th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9105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caling pressures incr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essure to service A &amp; R fri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governmental bo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ommercial entities working in areas common with A &amp; R s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2 - th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572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funding and strong dynamic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outgrows its available funding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ures to commercialise to cross subsidise A &amp; R networking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3 - the Rush to Ri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ing commercial interests for commercial access to th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-up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ed line connectivity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560" y="228240"/>
            <a:ext cx="900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3 - Commerc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ervice Provi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rver plat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odem banks and access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4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3 - Commerc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mmunications Service Platfor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duced variety and increased 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igital Transmiss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685800"/>
          <a:ext cx="8686800" cy="58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6868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4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3 - Commerc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commercial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cost and high perceived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flow of skill set from A &amp; R s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sure to resell academic and research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A &amp; R funding demands by selling at higher margin to commercial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 of distinc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of control over the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arket per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3 - th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ariff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ppropriate Use Policies and Interconn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gional vs national vs international 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elco service platform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mall scale enterpr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sh flow small scale business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994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4 - Business Press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Internet as a bus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esidential d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ommercial market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ommodity market in acces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merging content and trading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nvestment press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tock floa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gulatory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4 - th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7440" y="2209680"/>
            <a:ext cx="83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mise of the Academic and Research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iff structures move to marketing dictated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connects and peering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come of interaction of a small number of large providers and a large number of small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4 - th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elco involvement now vi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ressure on market from large investment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reatened industry bases move into the Internet to secure any form of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rketing pressures become more aggres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teady stream of new ent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4 - th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rginalisation or expansion of existing commercial players as investment pressures are bought to be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no country is there yet     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 Black"/>
              </a:rPr>
              <a:t>Phase 5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04760" y="2340000"/>
            <a:ext cx="2508120" cy="82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68840" y="2301840"/>
            <a:ext cx="2608200" cy="820440"/>
          </a:xfrm>
          <a:prstGeom prst="rect">
            <a:avLst/>
          </a:prstGeom>
          <a:noFill/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2640" y="2286000"/>
            <a:ext cx="2351160" cy="820440"/>
          </a:xfrm>
          <a:prstGeom prst="rect">
            <a:avLst/>
          </a:prstGeom>
          <a:noFill/>
          <a:ln w="12600">
            <a:solidFill>
              <a:srgbClr val="037c03"/>
            </a:solidFill>
            <a:miter/>
          </a:ln>
          <a:effectLst>
            <a:outerShdw dist="17819" dir="2700000" blurRad="0" rotWithShape="0">
              <a:srgbClr val="014a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9400" y="3538440"/>
            <a:ext cx="2508120" cy="82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68840" y="3500280"/>
            <a:ext cx="2508120" cy="82044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89720" y="3481560"/>
            <a:ext cx="2265480" cy="82044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3680" y="4815000"/>
            <a:ext cx="250812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57760" y="4815000"/>
            <a:ext cx="2396880" cy="820440"/>
          </a:xfrm>
          <a:prstGeom prst="rect">
            <a:avLst/>
          </a:prstGeom>
          <a:noFill/>
          <a:ln w="12600">
            <a:solidFill>
              <a:srgbClr val="ff5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45440" y="4795920"/>
            <a:ext cx="2508120" cy="820440"/>
          </a:xfrm>
          <a:prstGeom prst="rect">
            <a:avLst/>
          </a:prstGeom>
          <a:noFill/>
          <a:ln w="12600">
            <a:solidFill>
              <a:srgbClr val="ff5008"/>
            </a:solidFill>
            <a:miter/>
          </a:ln>
          <a:effectLst>
            <a:outerShdw dist="17819" dir="2700000" blurRad="0" rotWithShape="0">
              <a:srgbClr val="982f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33560" y="2514600"/>
            <a:ext cx="754200" cy="306360"/>
          </a:xfrm>
          <a:custGeom>
            <a:avLst/>
            <a:gdLst/>
            <a:ahLst/>
            <a:rect l="l" t="t" r="r" b="b"/>
            <a:pathLst>
              <a:path w="439" h="193">
                <a:moveTo>
                  <a:pt x="279" y="45"/>
                </a:moveTo>
                <a:lnTo>
                  <a:pt x="0" y="45"/>
                </a:lnTo>
                <a:lnTo>
                  <a:pt x="0" y="147"/>
                </a:lnTo>
                <a:lnTo>
                  <a:pt x="286" y="147"/>
                </a:lnTo>
                <a:lnTo>
                  <a:pt x="286" y="192"/>
                </a:lnTo>
                <a:lnTo>
                  <a:pt x="438" y="98"/>
                </a:lnTo>
                <a:lnTo>
                  <a:pt x="279" y="0"/>
                </a:lnTo>
                <a:lnTo>
                  <a:pt x="279" y="45"/>
                </a:lnTo>
              </a:path>
            </a:pathLst>
          </a:cu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3720" y="2533680"/>
            <a:ext cx="753840" cy="306360"/>
          </a:xfrm>
          <a:custGeom>
            <a:avLst/>
            <a:gdLst/>
            <a:ahLst/>
            <a:rect l="l" t="t" r="r" b="b"/>
            <a:pathLst>
              <a:path w="439" h="193">
                <a:moveTo>
                  <a:pt x="279" y="45"/>
                </a:moveTo>
                <a:lnTo>
                  <a:pt x="0" y="45"/>
                </a:lnTo>
                <a:lnTo>
                  <a:pt x="0" y="147"/>
                </a:lnTo>
                <a:lnTo>
                  <a:pt x="286" y="147"/>
                </a:lnTo>
                <a:lnTo>
                  <a:pt x="286" y="192"/>
                </a:lnTo>
                <a:lnTo>
                  <a:pt x="438" y="98"/>
                </a:lnTo>
                <a:lnTo>
                  <a:pt x="279" y="0"/>
                </a:lnTo>
                <a:lnTo>
                  <a:pt x="279" y="45"/>
                </a:lnTo>
              </a:path>
            </a:pathLst>
          </a:cu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78200" y="3714840"/>
            <a:ext cx="753840" cy="306360"/>
          </a:xfrm>
          <a:custGeom>
            <a:avLst/>
            <a:gdLst/>
            <a:ahLst/>
            <a:rect l="l" t="t" r="r" b="b"/>
            <a:pathLst>
              <a:path w="439" h="193">
                <a:moveTo>
                  <a:pt x="279" y="45"/>
                </a:moveTo>
                <a:lnTo>
                  <a:pt x="0" y="45"/>
                </a:lnTo>
                <a:lnTo>
                  <a:pt x="0" y="147"/>
                </a:lnTo>
                <a:lnTo>
                  <a:pt x="286" y="147"/>
                </a:lnTo>
                <a:lnTo>
                  <a:pt x="286" y="192"/>
                </a:lnTo>
                <a:lnTo>
                  <a:pt x="438" y="98"/>
                </a:lnTo>
                <a:lnTo>
                  <a:pt x="279" y="0"/>
                </a:lnTo>
                <a:lnTo>
                  <a:pt x="279" y="45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22480" y="4915080"/>
            <a:ext cx="755640" cy="306360"/>
          </a:xfrm>
          <a:custGeom>
            <a:avLst/>
            <a:gdLst/>
            <a:ahLst/>
            <a:rect l="l" t="t" r="r" b="b"/>
            <a:pathLst>
              <a:path w="439" h="193">
                <a:moveTo>
                  <a:pt x="279" y="45"/>
                </a:moveTo>
                <a:lnTo>
                  <a:pt x="0" y="45"/>
                </a:lnTo>
                <a:lnTo>
                  <a:pt x="0" y="147"/>
                </a:lnTo>
                <a:lnTo>
                  <a:pt x="286" y="147"/>
                </a:lnTo>
                <a:lnTo>
                  <a:pt x="286" y="192"/>
                </a:lnTo>
                <a:lnTo>
                  <a:pt x="438" y="98"/>
                </a:lnTo>
                <a:lnTo>
                  <a:pt x="279" y="0"/>
                </a:lnTo>
                <a:lnTo>
                  <a:pt x="279" y="45"/>
                </a:lnTo>
              </a:path>
            </a:pathLst>
          </a:cu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54800" y="3619440"/>
            <a:ext cx="754200" cy="306360"/>
          </a:xfrm>
          <a:custGeom>
            <a:avLst/>
            <a:gdLst/>
            <a:ahLst/>
            <a:rect l="l" t="t" r="r" b="b"/>
            <a:pathLst>
              <a:path w="439" h="193">
                <a:moveTo>
                  <a:pt x="279" y="45"/>
                </a:moveTo>
                <a:lnTo>
                  <a:pt x="0" y="45"/>
                </a:lnTo>
                <a:lnTo>
                  <a:pt x="0" y="147"/>
                </a:lnTo>
                <a:lnTo>
                  <a:pt x="286" y="147"/>
                </a:lnTo>
                <a:lnTo>
                  <a:pt x="286" y="192"/>
                </a:lnTo>
                <a:lnTo>
                  <a:pt x="438" y="98"/>
                </a:lnTo>
                <a:lnTo>
                  <a:pt x="279" y="0"/>
                </a:lnTo>
                <a:lnTo>
                  <a:pt x="279" y="45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54800" y="5029200"/>
            <a:ext cx="754200" cy="306360"/>
          </a:xfrm>
          <a:custGeom>
            <a:avLst/>
            <a:gdLst/>
            <a:ahLst/>
            <a:rect l="l" t="t" r="r" b="b"/>
            <a:pathLst>
              <a:path w="439" h="193">
                <a:moveTo>
                  <a:pt x="279" y="45"/>
                </a:moveTo>
                <a:lnTo>
                  <a:pt x="0" y="45"/>
                </a:lnTo>
                <a:lnTo>
                  <a:pt x="0" y="147"/>
                </a:lnTo>
                <a:lnTo>
                  <a:pt x="286" y="147"/>
                </a:lnTo>
                <a:lnTo>
                  <a:pt x="286" y="192"/>
                </a:lnTo>
                <a:lnTo>
                  <a:pt x="438" y="98"/>
                </a:lnTo>
                <a:lnTo>
                  <a:pt x="279" y="0"/>
                </a:lnTo>
                <a:lnTo>
                  <a:pt x="279" y="45"/>
                </a:lnTo>
              </a:path>
            </a:pathLst>
          </a:custGeom>
          <a:solidFill>
            <a:srgbClr val="ff5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776240" y="5815080"/>
            <a:ext cx="23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1400" y="5815080"/>
            <a:ext cx="349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6240" y="5199120"/>
            <a:ext cx="5537160" cy="89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86240" y="4297320"/>
            <a:ext cx="5537160" cy="88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86240" y="3394080"/>
            <a:ext cx="5537160" cy="89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86240" y="2492280"/>
            <a:ext cx="5537160" cy="88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86240" y="1593720"/>
            <a:ext cx="5537160" cy="8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62520" y="159372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64560" y="6127920"/>
            <a:ext cx="611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Yea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59200" y="6127920"/>
            <a:ext cx="611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Year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44480" y="6127920"/>
            <a:ext cx="698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Yea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01040" y="6127920"/>
            <a:ext cx="698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Yea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51680" y="3265560"/>
            <a:ext cx="4878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49600" y="4164120"/>
            <a:ext cx="401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7880" y="5068800"/>
            <a:ext cx="3142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5300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236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0992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8784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56440" y="159372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044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1980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9736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67360" y="1582560"/>
            <a:ext cx="0" cy="449928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45320" y="159372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3256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516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6272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159372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000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9144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7404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48720" y="1593720"/>
            <a:ext cx="0" cy="4496040"/>
          </a:xfrm>
          <a:prstGeom prst="line">
            <a:avLst/>
          </a:prstGeom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51400" y="5000760"/>
            <a:ext cx="136440" cy="133200"/>
          </a:xfrm>
          <a:prstGeom prst="diamond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4160" y="1587600"/>
            <a:ext cx="552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94160" y="6095880"/>
            <a:ext cx="552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029880" y="1600200"/>
            <a:ext cx="0" cy="448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94160" y="5192640"/>
            <a:ext cx="552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94160" y="4290840"/>
            <a:ext cx="552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4160" y="3387600"/>
            <a:ext cx="552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4160" y="2486160"/>
            <a:ext cx="5521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8840" y="2611440"/>
            <a:ext cx="141480" cy="133200"/>
          </a:xfrm>
          <a:prstGeom prst="star5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5280" y="2746440"/>
            <a:ext cx="138240" cy="127080"/>
          </a:xfrm>
          <a:prstGeom prst="star5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39240" y="2529000"/>
            <a:ext cx="142920" cy="125280"/>
          </a:xfrm>
          <a:prstGeom prst="star5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31960" y="5905440"/>
            <a:ext cx="345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8760" y="3156120"/>
            <a:ext cx="98784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a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06760" y="2526840"/>
            <a:ext cx="5496120" cy="436680"/>
          </a:xfrm>
          <a:prstGeom prst="line">
            <a:avLst/>
          </a:prstGeom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04040" y="3216240"/>
            <a:ext cx="133200" cy="127080"/>
          </a:xfrm>
          <a:prstGeom prst="diamond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24320" y="3884760"/>
            <a:ext cx="135000" cy="129960"/>
          </a:xfrm>
          <a:prstGeom prst="diamond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53000" y="5772240"/>
            <a:ext cx="144360" cy="131760"/>
          </a:xfrm>
          <a:prstGeom prst="diamond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25640" y="1846440"/>
            <a:ext cx="1035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500" spc="-1" strike="noStrike">
                <a:solidFill>
                  <a:srgbClr val="037c03"/>
                </a:solidFill>
                <a:latin typeface="Arial"/>
              </a:rPr>
              <a:t>Telephon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97160" y="3124080"/>
            <a:ext cx="8719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7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184720" y="1935000"/>
            <a:ext cx="905040" cy="239256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10640" y="1751040"/>
            <a:ext cx="18849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28440" bIns="2844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28480"/>
                <a:tab algn="l" pos="1057320"/>
                <a:tab algn="l" pos="1585800"/>
                <a:tab algn="l" pos="2114640"/>
                <a:tab algn="l" pos="2643120"/>
                <a:tab algn="l" pos="3171960"/>
                <a:tab algn="l" pos="3700440"/>
                <a:tab algn="l" pos="4229280"/>
                <a:tab algn="l" pos="4757760"/>
                <a:tab algn="l" pos="5286240"/>
                <a:tab algn="l" pos="5815080"/>
                <a:tab algn="l" pos="6343560"/>
                <a:tab algn="l" pos="6872400"/>
                <a:tab algn="l" pos="7400880"/>
                <a:tab algn="l" pos="7929720"/>
                <a:tab algn="l" pos="8458200"/>
                <a:tab algn="l" pos="8986680"/>
                <a:tab algn="l" pos="9515520"/>
                <a:tab algn="l" pos="10044000"/>
                <a:tab algn="l" pos="10572840"/>
              </a:tabLst>
            </a:pPr>
            <a:r>
              <a:rPr b="0" lang="en-US" sz="1700" spc="-1" strike="noStrike">
                <a:solidFill>
                  <a:srgbClr val="ffcc00"/>
                </a:solidFill>
                <a:latin typeface="Arial"/>
              </a:rPr>
              <a:t>Anticipated Grow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75040" y="2216160"/>
            <a:ext cx="76680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76920" y="3429000"/>
            <a:ext cx="1003320" cy="81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V="1">
            <a:off x="3859200" y="4485960"/>
            <a:ext cx="1096920" cy="1353960"/>
          </a:xfrm>
          <a:prstGeom prst="line">
            <a:avLst/>
          </a:prstGeom>
          <a:ln w="507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006880" y="4276800"/>
            <a:ext cx="114480" cy="26352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21200" y="4443480"/>
            <a:ext cx="138240" cy="125280"/>
          </a:xfrm>
          <a:prstGeom prst="diamond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5280" y="4229280"/>
            <a:ext cx="138240" cy="126720"/>
          </a:xfrm>
          <a:prstGeom prst="diamond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13440" y="236232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5 - what’s nex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ill the Internet drive out the phone busines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n a telco survive a phone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an the diverse access market survive the telco investment pressure and telco inert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ill national infrastructure fall prey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ternational cable cartel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EO system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ternet incursions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 general the Internet has followed similar evolutionary steps in every country where it has been introduc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 some countries these steps have happened in very quick succession, in others there are discrete intervals of some years across each ste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5 - what’s next 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lobalisation and consoli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ragmentation and an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co involvement now very visible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sive growth pressure on the Internet from a very large investment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tened activity bases move into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lectronic markets open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communications market ope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5760" y="2141640"/>
            <a:ext cx="9132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otentially revolutionary communications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rchic administrativ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pid growth fati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ssed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herent utilit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7200" y="2244600"/>
            <a:ext cx="943452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58160" y="5384880"/>
            <a:ext cx="1352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06600" y="3301920"/>
            <a:ext cx="4143600" cy="1317600"/>
          </a:xfrm>
          <a:prstGeom prst="ellipse">
            <a:avLst/>
          </a:prstGeom>
          <a:solidFill>
            <a:srgbClr val="e8e8e8"/>
          </a:solidFill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538360" y="2884320"/>
          <a:ext cx="3643200" cy="20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2884320"/>
                    <a:ext cx="364320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day’s Enviro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982240" y="3513240"/>
            <a:ext cx="318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574e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5e574e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e574e"/>
                </a:solidFill>
                <a:latin typeface="Times New Roman"/>
              </a:rPr>
              <a:t>Intern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2440" y="2260440"/>
            <a:ext cx="3929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574e"/>
                </a:solidFill>
                <a:latin typeface="Times New Roman"/>
              </a:rPr>
              <a:t>Information</a:t>
            </a:r>
            <a:r>
              <a:rPr b="1" lang="en-US" sz="3200" spc="-1" strike="noStrike">
                <a:solidFill>
                  <a:srgbClr val="5e574e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5e574e"/>
                </a:solidFill>
                <a:latin typeface="Times New Roman"/>
              </a:rPr>
              <a:t>T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60" y="4902120"/>
            <a:ext cx="6177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574e"/>
                </a:solidFill>
                <a:latin typeface="Times New Roman"/>
              </a:rPr>
              <a:t>Public</a:t>
            </a:r>
            <a:r>
              <a:rPr b="0" lang="en-US" sz="4000" spc="-1" strike="noStrike">
                <a:solidFill>
                  <a:srgbClr val="5e574e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5e574e"/>
                </a:solidFill>
                <a:latin typeface="Times New Roman"/>
              </a:rPr>
              <a:t>Communications Ut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56040" y="2222640"/>
            <a:ext cx="2932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574e"/>
                </a:solidFill>
                <a:latin typeface="Times New Roman"/>
              </a:rPr>
              <a:t>Free</a:t>
            </a:r>
            <a:r>
              <a:rPr b="0" lang="en-US" sz="4000" spc="-1" strike="noStrike">
                <a:solidFill>
                  <a:srgbClr val="5e574e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5e574e"/>
                </a:solidFill>
                <a:latin typeface="Times New Roman"/>
              </a:rPr>
              <a:t>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04560" y="4797360"/>
            <a:ext cx="1876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e574e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343160" y="2824200"/>
          <a:ext cx="50472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3160" y="2824200"/>
                    <a:ext cx="504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7191360" y="2814480"/>
          <a:ext cx="47628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1360" y="2814480"/>
                    <a:ext cx="4762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320840" y="5799240"/>
          <a:ext cx="54936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20840" y="5799240"/>
                    <a:ext cx="549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82560" y="5921280"/>
          <a:ext cx="53676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2560" y="5921280"/>
                    <a:ext cx="53676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162920" y="5452920"/>
            <a:ext cx="0" cy="6620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56440" y="6121440"/>
            <a:ext cx="99684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55000" y="5492880"/>
            <a:ext cx="1049040" cy="6476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61040" y="4858920"/>
            <a:ext cx="202860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rrent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egulated Service Provider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entry price as an I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active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variability in pricing and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levels of consumer awar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volatility in the market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 poorly financially resour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regulatory structure initiated through consumer protection initiativ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rrent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43040" y="2108160"/>
            <a:ext cx="90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 “wholesaler” and Access “retailer”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change as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 providers enter the retail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lers band together to defend existing market sh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echnologies impact on PSTN dial access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che retail markets, opened through rapid market expansion, close as the expansion pace slakens off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rrent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demand exceeds capability of sup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or performance levels due to saturation of existing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of growth patterns for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supply systems are indicating signs of stres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demand will continue to outpace supply rates for the next 3 - 5 years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rrent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7240" y="2192400"/>
            <a:ext cx="912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and 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pay per view mark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advertising market which can survive “fast forward”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spamming jam email to the extent that public directories are withdra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ny moderating factor on behaviou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ertising models will evolve - the current match of the model to the medium is too poor to be eff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rrent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comme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’s the transa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’s the ban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’s my mone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pays the tax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the market grow faster than the regulators can regulate to save the current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03480" y="2403360"/>
            <a:ext cx="68180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0120" y="187020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 thinking in an Exponenti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476440"/>
            <a:ext cx="0" cy="3667320"/>
          </a:xfrm>
          <a:prstGeom prst="line">
            <a:avLst/>
          </a:prstGeom>
          <a:ln w="507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32080" y="2914560"/>
            <a:ext cx="4817880" cy="3230640"/>
          </a:xfrm>
          <a:custGeom>
            <a:avLst/>
            <a:gdLst/>
            <a:ahLst/>
            <a:rect l="l" t="t" r="r" b="b"/>
            <a:pathLst>
              <a:path w="2803" h="2035">
                <a:moveTo>
                  <a:pt x="2796" y="0"/>
                </a:moveTo>
                <a:lnTo>
                  <a:pt x="2802" y="36"/>
                </a:lnTo>
                <a:lnTo>
                  <a:pt x="2802" y="2022"/>
                </a:lnTo>
                <a:lnTo>
                  <a:pt x="0" y="2034"/>
                </a:lnTo>
                <a:lnTo>
                  <a:pt x="114" y="2010"/>
                </a:lnTo>
                <a:lnTo>
                  <a:pt x="420" y="1974"/>
                </a:lnTo>
                <a:lnTo>
                  <a:pt x="954" y="1866"/>
                </a:lnTo>
                <a:lnTo>
                  <a:pt x="1422" y="1698"/>
                </a:lnTo>
                <a:lnTo>
                  <a:pt x="1830" y="1482"/>
                </a:lnTo>
                <a:lnTo>
                  <a:pt x="2262" y="1152"/>
                </a:lnTo>
                <a:lnTo>
                  <a:pt x="2550" y="792"/>
                </a:lnTo>
                <a:lnTo>
                  <a:pt x="2712" y="456"/>
                </a:lnTo>
                <a:lnTo>
                  <a:pt x="2784" y="144"/>
                </a:lnTo>
              </a:path>
            </a:pathLst>
          </a:custGeom>
          <a:solidFill>
            <a:srgbClr val="c6423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60560" y="6143760"/>
            <a:ext cx="5586480" cy="0"/>
          </a:xfrm>
          <a:prstGeom prst="line">
            <a:avLst/>
          </a:prstGeom>
          <a:ln w="507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3198960" y="-349200"/>
            <a:ext cx="10350360" cy="647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03920" y="5878440"/>
            <a:ext cx="19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4840" y="622152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92160" y="617364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62400" y="5773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74200" y="26398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7960" y="33163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3495600"/>
            <a:ext cx="1208160" cy="114480"/>
          </a:xfrm>
          <a:prstGeom prst="line">
            <a:avLst/>
          </a:prstGeom>
          <a:ln w="12600">
            <a:solidFill>
              <a:srgbClr val="5e574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ach phase does entail increasingly sophisticated infrastructure within the country concer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se steps are meshed with the development of the national communications infrastructure as much as they are concerned with the evolution of the Internet infra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Fu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2340000"/>
            <a:ext cx="681840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3280" y="2476440"/>
            <a:ext cx="0" cy="3667320"/>
          </a:xfrm>
          <a:prstGeom prst="line">
            <a:avLst/>
          </a:prstGeom>
          <a:ln w="507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32080" y="2914560"/>
            <a:ext cx="4817880" cy="3230640"/>
          </a:xfrm>
          <a:custGeom>
            <a:avLst/>
            <a:gdLst/>
            <a:ahLst/>
            <a:rect l="l" t="t" r="r" b="b"/>
            <a:pathLst>
              <a:path w="2803" h="2035">
                <a:moveTo>
                  <a:pt x="2796" y="0"/>
                </a:moveTo>
                <a:lnTo>
                  <a:pt x="2802" y="36"/>
                </a:lnTo>
                <a:lnTo>
                  <a:pt x="2802" y="2022"/>
                </a:lnTo>
                <a:lnTo>
                  <a:pt x="0" y="2034"/>
                </a:lnTo>
                <a:lnTo>
                  <a:pt x="114" y="2010"/>
                </a:lnTo>
                <a:lnTo>
                  <a:pt x="420" y="1974"/>
                </a:lnTo>
                <a:lnTo>
                  <a:pt x="954" y="1866"/>
                </a:lnTo>
                <a:lnTo>
                  <a:pt x="1422" y="1698"/>
                </a:lnTo>
                <a:lnTo>
                  <a:pt x="1830" y="1482"/>
                </a:lnTo>
                <a:lnTo>
                  <a:pt x="2262" y="1152"/>
                </a:lnTo>
                <a:lnTo>
                  <a:pt x="2550" y="792"/>
                </a:lnTo>
                <a:lnTo>
                  <a:pt x="2712" y="456"/>
                </a:lnTo>
                <a:lnTo>
                  <a:pt x="2784" y="144"/>
                </a:lnTo>
              </a:path>
            </a:pathLst>
          </a:custGeom>
          <a:solidFill>
            <a:srgbClr val="c6423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60560" y="6143760"/>
            <a:ext cx="5586480" cy="0"/>
          </a:xfrm>
          <a:prstGeom prst="line">
            <a:avLst/>
          </a:prstGeom>
          <a:ln w="507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3198960" y="-349200"/>
            <a:ext cx="10350360" cy="647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03920" y="5878440"/>
            <a:ext cx="19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4840" y="622152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30400" y="623736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67840" y="472428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Times New Roman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5029200"/>
            <a:ext cx="896760" cy="380880"/>
          </a:xfrm>
          <a:prstGeom prst="line">
            <a:avLst/>
          </a:prstGeom>
          <a:ln w="12600">
            <a:solidFill>
              <a:srgbClr val="5e574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0800" y="4680360"/>
            <a:ext cx="6499080" cy="69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17" y="589"/>
                </a:moveTo>
                <a:arcTo wR="10800" hR="10800" stAng="-4259721" swAng="4259721"/>
                <a:lnTo>
                  <a:pt x="10800" y="10800"/>
                </a:lnTo>
                <a:close/>
              </a:path>
              <a:path fill="none" w="21600" h="21600">
                <a:moveTo>
                  <a:pt x="14317" y="589"/>
                </a:moveTo>
                <a:arcTo wR="10800" hR="10800" stAng="-4259721" swAng="4259721"/>
              </a:path>
            </a:pathLst>
          </a:custGeom>
          <a:noFill/>
          <a:ln cap="rnd" w="507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726480" y="4702320"/>
            <a:ext cx="11175480" cy="269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56" y="1592"/>
                </a:moveTo>
                <a:arcTo wR="10800" hR="10800" stAng="-7290193" swAng="1899666"/>
                <a:lnTo>
                  <a:pt x="10800" y="10800"/>
                </a:lnTo>
                <a:close/>
              </a:path>
              <a:path fill="none" w="21600" h="21600">
                <a:moveTo>
                  <a:pt x="5156" y="1592"/>
                </a:moveTo>
                <a:arcTo wR="10800" hR="10800" stAng="-7290193" swAng="1899666"/>
              </a:path>
            </a:pathLst>
          </a:custGeom>
          <a:noFill/>
          <a:ln cap="rnd" w="507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59600" y="5504040"/>
            <a:ext cx="196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et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59720" y="4344840"/>
            <a:ext cx="172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574e"/>
                </a:solidFill>
                <a:latin typeface="Times New Roman"/>
              </a:rPr>
              <a:t>Phon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ar Term Fu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ginalisation or expansion of existing commercial players as investment pressures are bought to b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sion rates open niche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arkets close down when growth rates stabilise, due to competitive price pres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there are 35,000 Internet Service Providers in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umber will eventually decr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Internet / Tel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the Internet drive out the telco voice busin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over the Internet is technically fea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widespread deployment a likely outco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service quality be a determinant fact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existing phone players survive if the squeeze happe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outcome is unlikely in the next 5 - 10 years. Longer term predictions are highly speculativ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Internet / Tel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 Internet market survive the telc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ment pres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value of existing as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asset holdings of communications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ly regulatory position of the Tel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re a single “killer application” for the Intern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is FAR more versatile than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bedding communications and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Internet chip” as a base of new consumer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market expansion based on expansion of consumer products which use digital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2680" y="2108160"/>
            <a:ext cx="901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he Internet survive massive consumerism in technology ter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ation in addres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ation in nam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ing pressures in the routing space surpass available sili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pressures surpass available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ervice quality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ation in connectivity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it look li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es, Screens, Keyboards and M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Assist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mp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munic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just smart, but highly communicative plastic money 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ly well connected and well informed coffee ma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4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formation Econom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force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lite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ll speci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61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formation Econom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 domestic communication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ucturing may be necessary to achieve maximal potential from the existing infrastructure inves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cally separate the provision of basic bit carriage from layered services of voice and data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 of public and private investment profiles may be necedssary to achieve effective infrastructure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10076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formation Econom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national infrastructure fall prey to international comms consorti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is a politically tenable / stable outco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r mileage will var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969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formation Econom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ive international communications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ea cable systems under stress due to Internet expa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pid expansion of cable rollout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restructuring of international communications agre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 - So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et will drive a process of social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 the basis of economic weal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 the flows of information within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he operational model of social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unrealistic to anticipate a smooth transition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1840" y="1523880"/>
            <a:ext cx="8251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enthusiasts - anything that can be made to work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heaply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885680"/>
            <a:ext cx="8856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ial-based store forward e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layered above modem  use of 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university and research  base - computing depar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Messaging services interfacing to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UU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ial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Red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1 - the enthusia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84280" y="1828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C plat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nux, FreeBSD &amp; Windows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od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oca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mall scale Ethernet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ervice Platform - PST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mited X.25 packet switche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200" y="2282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hase 1 - th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85672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oor funding (if any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mittent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pecialised knowledge and high enthusiasm required to operate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istributed expertise with no common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nnot scale easily beyond hundreds or low thousands of users within a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9T16:54:02Z</dcterms:created>
  <dc:creator>geoff</dc:creator>
  <dc:description/>
  <dc:language>en-US</dc:language>
  <cp:lastModifiedBy>gih</cp:lastModifiedBy>
  <cp:lastPrinted>1996-06-17T03:47:14Z</cp:lastPrinted>
  <dcterms:modified xsi:type="dcterms:W3CDTF">2000-07-12T10:05:12Z</dcterms:modified>
  <cp:revision>27</cp:revision>
  <dc:subject>Evolution of Internet Infrastructure</dc:subject>
  <dc:title>The Evolution of Internet Infrastructur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telstra.net/gih</vt:lpwstr>
  </property>
  <property fmtid="{D5CDD505-2E9C-101B-9397-08002B2CF9AE}" pid="9" name="LinkColor">
    <vt:r8>16711782</vt:r8>
  </property>
  <property fmtid="{D5CDD505-2E9C-101B-9397-08002B2CF9AE}" pid="10" name="MailAddress">
    <vt:lpwstr>gih@telstra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9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