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9.xml.rels" ContentType="application/vnd.openxmlformats-package.relationships+xml"/>
  <Override PartName="/ppt/notesSlides/_rels/notesSlide46.xml.rels" ContentType="application/vnd.openxmlformats-package.relationships+xml"/>
  <Override PartName="/ppt/notesSlides/notesSlide46.xml" ContentType="application/vnd.openxmlformats-officedocument.presentationml.notesSlide+xml"/>
  <Override PartName="/ppt/notesSlides/notesSlide4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58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116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103.xml.rels" ContentType="application/vnd.openxmlformats-package.relationships+xml"/>
  <Override PartName="/ppt/slides/_rels/slide65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70.xml" ContentType="application/vnd.openxmlformats-officedocument.presentationml.slide+xml"/>
  <Override PartName="/ppt/slides/slide115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79.xml" ContentType="application/vnd.openxmlformats-officedocument.presentationml.slide+xml"/>
  <Override PartName="/ppt/slides/slide104.xml" ContentType="application/vnd.openxmlformats-officedocument.presentationml.slide+xml"/>
  <Override PartName="/ppt/slides/slide96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98.xml" ContentType="application/vnd.openxmlformats-officedocument.presentationml.slide+xml"/>
  <Override PartName="/ppt/slides/slide106.xml" ContentType="application/vnd.openxmlformats-officedocument.presentationml.slide+xml"/>
  <Override PartName="/ppt/slides/slide61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97.xml" ContentType="application/vnd.openxmlformats-officedocument.presentationml.slide+xml"/>
  <Override PartName="/ppt/slides/slide105.xml" ContentType="application/vnd.openxmlformats-officedocument.presentationml.slide+xml"/>
  <Override PartName="/ppt/slides/slide60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</p:sldIdLst>
  <p:sldSz cx="10058400" cy="7772400"/>
  <p:notesSz cx="7002463" cy="92884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7002000" cy="928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968280" y="0"/>
            <a:ext cx="303372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245960" y="695160"/>
            <a:ext cx="4508280" cy="348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33120" y="4411440"/>
            <a:ext cx="5135400" cy="41814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824680"/>
            <a:ext cx="3033720" cy="4633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968280" y="8824680"/>
            <a:ext cx="3033720" cy="4633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02C4281E-15EB-42FD-A3F2-354ABDB261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ldImg"/>
          </p:nvPr>
        </p:nvSpPr>
        <p:spPr>
          <a:xfrm>
            <a:off x="1246320" y="695160"/>
            <a:ext cx="4510080" cy="3484800"/>
          </a:xfrm>
          <a:prstGeom prst="rect">
            <a:avLst/>
          </a:prstGeom>
          <a:ln w="0">
            <a:noFill/>
          </a:ln>
        </p:spPr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933120" y="4411440"/>
            <a:ext cx="5135400" cy="418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at this is the minimum set of requirements for a DNS resolver, which is a type of resolver called a stub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olvers can (and some resolvers have) done caching, for examp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sldImg"/>
          </p:nvPr>
        </p:nvSpPr>
        <p:spPr>
          <a:xfrm>
            <a:off x="1246320" y="695160"/>
            <a:ext cx="4510080" cy="3484800"/>
          </a:xfrm>
          <a:prstGeom prst="rect">
            <a:avLst/>
          </a:prstGeom>
          <a:ln w="0">
            <a:noFill/>
          </a:ln>
        </p:spPr>
      </p:sp>
      <p:sp>
        <p:nvSpPr>
          <p:cNvPr id="713" name="PlaceHolder 2"/>
          <p:cNvSpPr>
            <a:spLocks noGrp="1"/>
          </p:cNvSpPr>
          <p:nvPr>
            <p:ph type="body"/>
          </p:nvPr>
        </p:nvSpPr>
        <p:spPr>
          <a:xfrm>
            <a:off x="933120" y="4411440"/>
            <a:ext cx="5135400" cy="418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so, the caching resolver can insert data into the cache, and can "query" the cache and the database serv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9D9E5-48D3-48DC-8ADF-AA707E46C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8610480" cy="1036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8686800" cy="27259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280040"/>
            <a:ext cx="8686800" cy="27259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C5388-3CB6-4145-9FA3-915D35DFD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8610480" cy="1036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4239000" cy="27259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37200" y="1294920"/>
            <a:ext cx="4239000" cy="27259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280040"/>
            <a:ext cx="4239000" cy="27259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37200" y="4280040"/>
            <a:ext cx="4239000" cy="27259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D028E-6D90-46DC-AF35-99BFD6485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8610480" cy="1036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2796840" cy="27259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23040" y="1294920"/>
            <a:ext cx="2796840" cy="27259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59920" y="1294920"/>
            <a:ext cx="2796840" cy="27259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280040"/>
            <a:ext cx="2796840" cy="27259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23040" y="4280040"/>
            <a:ext cx="2796840" cy="27259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59920" y="4280040"/>
            <a:ext cx="2796840" cy="27259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0B4ED-9B14-4FE8-921E-F4C769D3A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8610480" cy="1036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294920"/>
            <a:ext cx="86868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B1F53-7E03-4B29-80DA-0B2043373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8610480" cy="1036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8686800" cy="57150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B82B2-5D7E-4269-B321-F06784E31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8610480" cy="1036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4239000" cy="57150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37200" y="1294920"/>
            <a:ext cx="4239000" cy="57150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F1AE5-2F39-4129-B07E-FA0600E6D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8610480" cy="1036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A49BA-B72B-4A9D-BA47-3CE9782BD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8610480" cy="480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5485F-531C-429C-8B00-B58D2A5F5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8610480" cy="1036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4239000" cy="27259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37200" y="1294920"/>
            <a:ext cx="4239000" cy="57150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280040"/>
            <a:ext cx="4239000" cy="27259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F6A89-8242-4111-9572-BA4173BD8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8610480" cy="1036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4239000" cy="57150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37200" y="1294920"/>
            <a:ext cx="4239000" cy="27259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37200" y="4280040"/>
            <a:ext cx="4239000" cy="27259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EEDCD-E4AA-43CA-B6AB-8B85D7042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8610480" cy="1036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4239000" cy="27259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37200" y="1294920"/>
            <a:ext cx="4239000" cy="27259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280040"/>
            <a:ext cx="8686800" cy="27259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C6688-87CD-4DEF-AAAB-1B8609FCB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8610480" cy="1036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4920"/>
            <a:ext cx="8686800" cy="57150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31716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273320" indent="-2541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782720" indent="-25380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292480" indent="-25416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292480" indent="-25416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292480" indent="-25416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97B38994-73BD-495B-9814-4838BE0FDA9E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429000" y="7245360"/>
            <a:ext cx="3160800" cy="3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1999 Acme Byte &amp; Wire LL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1999 Internet Software Consortiu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2120" y="25909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Domain Name System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523880" y="4419360"/>
            <a:ext cx="7010640" cy="19810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vid Conr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avid.Conrad@nominum.co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minum, Inc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8610480" cy="1036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Network Explod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8686800" cy="57150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round 1980, the ARPANET consisted of hundreds of hos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ARPANET changed networking protocols from NCP to TCP/I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810360" indent="-310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CP required hardware (IMP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0360" indent="-310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P/IP was implemented in soft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47760" indent="-24876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nd thanks to the U.S. government, the software was essentially fre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ANs became popula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810360" indent="-310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engineers figured out how to use ARPANET hosts as “routers” so that any host on the same LAN could use the ARPA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8610480" cy="1036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CAN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8686800" cy="57150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net Corporation for Assigned Names and Numb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3171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co” (the non-profit) described in the White Pa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rmed in Oct., 1998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osed of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3171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ard 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73320" indent="-25416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19 director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273320" indent="-25416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9 at-large directors elected by supporting organization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273320" indent="-25416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1 president/CEO (ex officio board member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3171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ecretari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3171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Supporting Organiz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73320" indent="-25416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ddress Supporting Organizatio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273320" indent="-25416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Domain Name Supporting Organizatio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273320" indent="-25416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Protocol Supporting Organizatio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8610480" cy="1036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NSO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8686800" cy="57150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DNSO “will advise the ICANN Board with respect to policy issues relating to the Domain Name System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osed of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317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Names Counc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317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General Assemb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317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rious Constituency Groups representing specific intere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73320" indent="-25416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urrently 7 are defined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3" marL="1782720" indent="-2538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 have been form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73320" indent="-25416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tituencies recognized by the ICANN board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8610480" cy="1036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NSO Names Counci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8686800" cy="57150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sists of 3 representatives from each constituenc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sponsible for the consensus building for DNS polici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olicies can be proposed by the GA or the any one of the Constituenci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cisions are made by 2/3’s consensu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C members nominated by the G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317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ple majority of NC members confirms appoin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8610480" cy="1036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NSO Constituenci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8686800" cy="57150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stituencies are self-organiz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3171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gnized by the ICANN board by a majority vo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itial Constituencies are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3171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cTLD regis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3171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ercial and business ent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3171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TLD regis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73320" indent="-25416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urrently only NSI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3171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P and connectivity provi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3171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-commercial domain name hol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73320" indent="-25416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e contentious on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3171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r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3171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demark, other intellectual property and anti-counterfeiting inter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8610480" cy="1036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un With ICAN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8839080" cy="57150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ny complaints about closed-n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3171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decisions made with no indication as to how the decision was reac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3171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sed meetings in which policy decisions were m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cerns about how the interim board was chos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3171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whom?  Under what condi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nhappiness with the decisions ma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3171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urrent board is “interim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owever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3171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other game in t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3171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CANN recognized by US Dept. of Commerce as “newco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8610480" cy="1036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ore Fun With ICAN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overnmental Advisory Committee (GAC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317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osed committee consisting of governmental appointe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73320" indent="-25416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rovides input to ICAN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317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are concerned about how binding that input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73320" indent="-25416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gument is that it is the GAC that gives ICANN its legitimac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317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AC as ejected some designated representatives from meet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73320" indent="-25416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dividuals were not governmental employe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3" marL="1782720" indent="-2538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d for US based DNS registrar handling the country’s T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8610480" cy="1036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ven More Fun with ICAN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8686800" cy="57150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n-commercial Domain Name Holders Constituenc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317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ing significant trouble self-organiz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73320" indent="-25416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OC in one camp, ACM in the oth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317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 issu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73320" indent="-25416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Exclusion of individuals in other constituenci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273320" indent="-25416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efinition of “non-commercial”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8610480" cy="1036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dividual Constituency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8686800" cy="57150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posal has been made for an 8th constituenc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317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d to “provide representation in the DNSO for all Domain Name Owners, who do not wish to be classified as non-commercial, nor wish to be represented by the Business   constituenc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317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ssion is “to be a voice for the Individual DN owners in the DNSO, to work for their interests and to provide representation for them on the Names Council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posal sent to the ICANN interim board at the Berlin Meeting (May, ‘99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8610480" cy="1036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at Does it All Mean?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8991720" cy="57150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Domain Name System is fundamentally brok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3171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NS solves a technical problem in a technical w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73320" indent="-25416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ocial/political issues were ignored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3171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CP/IP is designed to be decentraliz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3171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DNS requires centr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73320" indent="-25416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e roo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s centralization has attracted those interested in controlling the Intern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3171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ly amazing amounts of political machinations going 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CANN’s increasingly Byzantine structure is a result of those machin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3171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’t expect it to get better anytime soon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8610480" cy="1036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8686800" cy="57150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istor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ame space structu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echnical detai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dministrative detai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olitical detai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751"/>
              </a:spcBef>
              <a:buClr>
                <a:srgbClr val="3333cc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000" spc="-1" strike="noStrike">
                <a:solidFill>
                  <a:srgbClr val="3333cc"/>
                </a:solidFill>
                <a:latin typeface="Arial"/>
              </a:rPr>
              <a:t>Fu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8610480" cy="1036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Problems with </a:t>
            </a:r>
            <a:r>
              <a:rPr b="1" i="1" lang="en-US" sz="4000" spc="-1" strike="noStrike">
                <a:solidFill>
                  <a:srgbClr val="000000"/>
                </a:solidFill>
                <a:latin typeface="Courier New"/>
              </a:rPr>
              <a:t>HOSTS.TX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8686800" cy="57150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sistenc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3171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network changed more quickly than the file was upd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ame collis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3171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two hosts could have the same 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73320" indent="-25416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Good” names quickly exhausted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3171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was no good method to prevent duplicate na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73320" indent="-25416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Human intervention was required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raffic and lo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3171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raffic generated by downloading the file became signific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73320" indent="-25416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Download time sometimes longer than update period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model didn't scale we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8610480" cy="1036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utures (Technical)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8686800" cy="57150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DNS protocol suite continues to evolv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317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ture improvements will inclu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73320" indent="-25416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tronger DNS securit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3" marL="1782720" indent="-2538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NS could be the basis for a PK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73320" indent="-25416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upport for IPv6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3" marL="1782720" indent="-2538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uld that be necess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73320" indent="-25416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egration with directory service protocol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3" marL="1782720" indent="-2538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DAP, in particul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NS is being used for things far outside the original scop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317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all you have is a hammer, everything looks like a na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8610480" cy="1036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utures (Administrative)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8686800" cy="57150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olicies and procedures for TLD administration will chang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802080" indent="-307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inued migration of TLD administration to governmental bod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2080" indent="-307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earer definition of operational requirem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2080" indent="-307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/clearer policies and procedures will be required of the TLD administr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1160" indent="-3711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cTLDs have strong advantages in the intellectual properties aren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802080" indent="-307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is a non-controversial place to s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2080" indent="-307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migration (duplication) of current non-ccTLD names into the ccTLD spa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8610480" cy="1036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utures (Political)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8686800" cy="57150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CANN will stabil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317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lly is no other game in town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tinued political jockey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317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coming a player in the Internet has become a political pr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omain Names are seen as big money potenti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317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people want their c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317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bitrary fees in the gTLD space will likely push people to the stability of the ccTL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8610480" cy="1036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8686800" cy="57150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istor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ame space structu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echnical detai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dministrative detai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olitical detai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u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751"/>
              </a:spcBef>
              <a:buClr>
                <a:srgbClr val="3333cc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000" spc="-1" strike="noStrike">
                <a:solidFill>
                  <a:srgbClr val="3333cc"/>
                </a:solidFill>
                <a:latin typeface="Arial"/>
              </a:rPr>
              <a:t>Summar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8610480" cy="1036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8686800" cy="57150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Domain Name System provides human-friendly identifiers for Internet users to reference the sites they want to get t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DNS is a distributed, global name lookup system composed of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3171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namespace in which all names re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3171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olvers which are the clients in name looku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3171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vers which respond to queries from cli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Namespace is hierarchical with a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ingl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roo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3171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d for consist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3171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a handle for the politici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8610480" cy="1036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ummary (cont’d)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8686800" cy="3810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fter length “discussion” administration of the DNS has been vested in ICAN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317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 delegated by the US Gover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CANN still being form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317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im board is making poli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317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main Name constituencies being establish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317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ttle lines being dra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spcBef>
                <a:spcPts val="75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spcBef>
                <a:spcPts val="75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1752480" y="5378760"/>
            <a:ext cx="6019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’s in a name?  That which we call a ro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any other name smells as sweet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5025600" y="6170760"/>
            <a:ext cx="2785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lliam Shakespe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omeo and Juli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1752480" y="5410080"/>
            <a:ext cx="6096240" cy="160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8610480" cy="1036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ere to Get More Informat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8686800" cy="57150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ttp://www.rfc-editor.org/rfcsearch.htm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802080" indent="-307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FC 1032, 1033, 1034, 1035, 159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1160" indent="-3711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ttp://www.isc.org/bind.htm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71160" indent="-3711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NS and BIND, 3rd Edition”, Cricket Liu and Paul Albitz, O’Reilly &amp; Associa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71160" indent="-3711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ttp://www.iana.org/domain-names.htm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71160" indent="-3711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ttp://www.icann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71160" indent="-3711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ttp://www.dnso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71160" indent="-3711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ttp://www.ntia.doc.gov/ntiahome/domainname/domainhome.ht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71160" indent="-3711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ttp://www.networksolutions.co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8610480" cy="1036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olving the Problem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8686800" cy="57150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RPANET powers-that-were launched an investigation into replacement for HOSTS.TX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oal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317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solve the problems inherent in a monolithic host table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317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consistent naming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317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a generic solution that can be used for multiple purpo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8610480" cy="1036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New Naming System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8686800" cy="57150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quirement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317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entralized administ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73320" indent="-25416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With data updated locally, but available globall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317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erarchical name 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73320" indent="-25416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o guarantee unique nam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317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ssive scal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ssumption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317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base size will be proportional to the number of users, not ho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317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mes are long term persist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spcBef>
                <a:spcPts val="75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8610480" cy="1036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Advent of DN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8686800" cy="57150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ul Mockapetris, then of USC's Information Sciences Institute, designed the architecture of the new system, called the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Domain Name System,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D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initial DNS RFCs were released in 1984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810360" indent="-310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FC 882, “Domain Names - Concepts and Facilitie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0360" indent="-310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FC 883, “Domain Names - Implementation and Specification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transition plan was initially released in November, 1983, transition to be completed by May, 1984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8610480" cy="1036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DNS RFC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8686800" cy="57150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FCs 882 and 883 were superseded by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3171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FC 1032, “Domain Administrators Guid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3171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FC 1033, “Domain Administrators Operations Guid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3171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FC 1034, “Domain Names -- Concepts and Facilitie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3171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FC 1035, “Domain Names -- Implementation and Specification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ditional RFCs specifi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3171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“resource record” ty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3171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NS operational consi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3171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NS poli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NS continues to evolve to meet the changing demands of the Intern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8610480" cy="1036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8686800" cy="57150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istor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751"/>
              </a:spcBef>
              <a:buClr>
                <a:srgbClr val="3333cc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000" spc="-1" strike="noStrike">
                <a:solidFill>
                  <a:srgbClr val="3333cc"/>
                </a:solidFill>
                <a:latin typeface="Arial"/>
              </a:rPr>
              <a:t>Name space structu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echnical detai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dministrative detai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olitical detai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u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285920" y="3041640"/>
            <a:ext cx="8709120" cy="4835520"/>
          </a:xfrm>
          <a:prstGeom prst="roundRect">
            <a:avLst>
              <a:gd name="adj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8610480" cy="1036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Name Spac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8686800" cy="57150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2500" spc="-1" strike="noStrike">
                <a:solidFill>
                  <a:srgbClr val="000000"/>
                </a:solidFill>
                <a:latin typeface="Arial"/>
              </a:rPr>
              <a:t>name space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is the structure of the DNS databas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an inverted tree of nodes with the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root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at the top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Each node has a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lab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root node has a null label, written as “.”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2057400" y="3429000"/>
          <a:ext cx="5846760" cy="33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3429000"/>
                    <a:ext cx="5846760" cy="33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"/>
          <p:cNvGrpSpPr/>
          <p:nvPr/>
        </p:nvGrpSpPr>
        <p:grpSpPr>
          <a:xfrm>
            <a:off x="990720" y="5410080"/>
            <a:ext cx="4411080" cy="1828800"/>
            <a:chOff x="990720" y="5410080"/>
            <a:chExt cx="4411080" cy="1828800"/>
          </a:xfrm>
        </p:grpSpPr>
        <p:sp>
          <p:nvSpPr>
            <p:cNvPr id="87" name=""/>
            <p:cNvSpPr/>
            <p:nvPr/>
          </p:nvSpPr>
          <p:spPr>
            <a:xfrm>
              <a:off x="990720" y="5410080"/>
              <a:ext cx="2666880" cy="1828800"/>
            </a:xfrm>
            <a:custGeom>
              <a:avLst/>
              <a:gdLst/>
              <a:ahLst/>
              <a:rect l="l" t="t" r="r" b="b"/>
              <a:pathLst>
                <a:path w="1680" h="1152">
                  <a:moveTo>
                    <a:pt x="528" y="0"/>
                  </a:moveTo>
                  <a:lnTo>
                    <a:pt x="1056" y="0"/>
                  </a:lnTo>
                  <a:lnTo>
                    <a:pt x="1680" y="432"/>
                  </a:lnTo>
                  <a:lnTo>
                    <a:pt x="1680" y="1152"/>
                  </a:lnTo>
                  <a:lnTo>
                    <a:pt x="0" y="1152"/>
                  </a:lnTo>
                  <a:lnTo>
                    <a:pt x="0" y="384"/>
                  </a:lnTo>
                  <a:lnTo>
                    <a:pt x="528" y="0"/>
                  </a:lnTo>
                  <a:close/>
                </a:path>
              </a:pathLst>
            </a:custGeom>
            <a:solidFill>
              <a:srgbClr val="ccccff">
                <a:alpha val="5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880" rIns="101880" tIns="50760" bIns="50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298040" y="6553080"/>
              <a:ext cx="1103760" cy="50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880" rIns="101880" tIns="51120" bIns="5112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he domai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mebw.co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>
              <a:off x="3657240" y="678168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1880" rIns="101880" tIns="-50760" bIns="-50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8610480" cy="1036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omain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8991720" cy="57150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domai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is a node in the name space and all its descendan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317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at is, a subtree of the name 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domain’s domain name is the same as the name of the node at the root (top) of the subtre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1117440" y="4255920"/>
          <a:ext cx="8506080" cy="284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7440" y="4255920"/>
                    <a:ext cx="8506080" cy="284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4" name=""/>
          <p:cNvGrpSpPr/>
          <p:nvPr/>
        </p:nvGrpSpPr>
        <p:grpSpPr>
          <a:xfrm>
            <a:off x="945360" y="4419720"/>
            <a:ext cx="1188360" cy="990360"/>
            <a:chOff x="945360" y="4419720"/>
            <a:chExt cx="1188360" cy="990360"/>
          </a:xfrm>
        </p:grpSpPr>
        <p:sp>
          <p:nvSpPr>
            <p:cNvPr id="95" name=""/>
            <p:cNvSpPr/>
            <p:nvPr/>
          </p:nvSpPr>
          <p:spPr>
            <a:xfrm>
              <a:off x="945360" y="4419720"/>
              <a:ext cx="1103760" cy="50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880" rIns="101880" tIns="51120" bIns="5112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he nod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mebw.co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676520" y="4952880"/>
              <a:ext cx="4572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1880" rIns="101880" tIns="50760" bIns="50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8610480" cy="1036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ubdomain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8686800" cy="57150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e domain is a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subdomai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of another if its root node is a descendant of the other’s root nod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re simply, one domain is a subdomain of another if its domain name ends in the other’s domain nam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317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ales.acmebw.co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 subdomain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cmebw.co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73320" indent="-25416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lso of .</a:t>
            </a:r>
            <a:r>
              <a:rPr b="0" i="1" lang="en-US" sz="2500" spc="-1" strike="noStrike">
                <a:solidFill>
                  <a:srgbClr val="000000"/>
                </a:solidFill>
                <a:latin typeface="Arial"/>
              </a:rPr>
              <a:t>com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, but that isn’t usually stated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317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cmebw.co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 subdomain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8610480" cy="1036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8686800" cy="57150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istor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ame space structu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echnical detai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dministrative detai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olitical detai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u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8610480" cy="1036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Level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8686800" cy="57150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bove the top is the roo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eneath the root are the “Top Level Domains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317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.COM, .JP, .INT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eneath the Top Level Domains are “Second Level Domains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317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Nominum.COM, AD.JP, ITU.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eneath the Second Level Domains are “Third Level Domains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317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www.Nominum.COM, IIJ.AD.JP, www.ITU.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nd so on..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8610480" cy="1036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Roo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8915400" cy="57150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DNS provides a coherent, consistent namespace via a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y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rooted hierarchical tree 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3171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oot holds the definition of all top level domains that are guaranteed to be unique in that DNS tr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RE CAN ONLY BE ONE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3171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olation of this rule results in inconsistencies in the namesp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73320" indent="-25416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That is, a name can translate to different addresses depending on where you ask the questio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ue to protocol limitations there are 13 nameservers that serve the root zo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3171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-m.root-server.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73320" indent="-25416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a.root-server.net is the primary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root nameservers are provided in a configuration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3171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rol of this file is becoming an iss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8610480" cy="1036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LD Structur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8686800" cy="57150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1983 (RFC 881), the idea was to have TLDs correspond to network service provid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3171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, .ARPA, .DDN, .CSNET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73320" indent="-25416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Bad idea -- if your network changes, your email address chang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y October, 1984 (RFC 920), the concept of functional domains (e.g., .GOV for Government, .COM for commercial, .EDU for education, etc.) was establish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3171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motivation is to provide an organization name that is free of undesirable semantics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FC 920 also provide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3171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untry domai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3171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organization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73320" indent="-25416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large, composed of other (particularly international) organization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RFC 920 TLD structure remained stable until 1997 or s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3171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re on this later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8610480" cy="1036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.ARPA Hack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8686800" cy="57150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DNS provides obvious and elegant name to address mapp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reverse (address to name) is a bit less elega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10360" indent="-310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omain out of the dotted quad IP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0360" indent="-310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verse the ordering to allow for proper deleg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0360" indent="-310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“special” domain to hold the deleg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r Example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10360" indent="-310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10.8.128.in-addr.arpa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umd5.umd.ed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riginally, a IN-ADDR top level domain was us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10360" indent="-310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was felt inappropriate, so in-addr was moved under .AR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s technique has some problems when dealing with non 8-bit aligned IP address block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8610480" cy="1036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untry Domain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9067680" cy="57150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5000"/>
          </a:bodyPr>
          <a:p>
            <a:pPr marL="363240" indent="-363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RFC 920, the concept of domains delegated on the basis of nations was recogniz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63240" indent="-363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veniently, ISO has a list of “official” country code abbrevia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63240" indent="-363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IANA likes using lists others defi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85520" indent="-300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always blame someone else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3240" indent="-363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ISO 3166 list is officially available from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85520" indent="-300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http://www.din.de/gremien/nas/nabd/iso3166ma/codlstp1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240" indent="-363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IANA also uses International Postal Codes for country domai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63240" indent="-363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 either case, the IANA has no control over what is in those lis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8610480" cy="1036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untry Domains (cont’d)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9067680" cy="57150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ow each country top-level domain is organized is up to the count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02080" indent="-307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, like Australia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u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llow the functional defini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34800" indent="-24624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com.au,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edu.au,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etc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802080" indent="-307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s, like Great Britain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uk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Japan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jp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 the domain functionally but use their own abbrevi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34800" indent="-24624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c.uk, co.uk, ne.jp, ad.jp,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802080" indent="-307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few, like the United State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us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re largely geograph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34800" indent="-24624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co.us, md.us,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802080" indent="-307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ada uses organizational sco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34800" indent="-24624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bnr.ca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has national scope,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risq.qc.ca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has Quebec scop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802080" indent="-307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are flat, that is, no hierarc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34800" indent="-24624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nlnet.nl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univ-st-etienne.f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71160" indent="-37116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sidered a question of national sovereign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8610480" cy="1036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urrent TLDs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7200" y="1905120"/>
          <a:ext cx="9067680" cy="431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905120"/>
                    <a:ext cx="9067680" cy="431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285920" y="3041640"/>
            <a:ext cx="8709120" cy="4835520"/>
          </a:xfrm>
          <a:prstGeom prst="roundRect">
            <a:avLst>
              <a:gd name="adj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8610480" cy="1036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strictions on Label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9524880" cy="57150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null label is reserved for the root nod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31716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e terminal “.” can be left off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abels cannot exceed 63 charac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31716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Legal characters on the Internet are alpha-numeric and dash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ibling nodes must have unique label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1685880" y="3629160"/>
          <a:ext cx="6688080" cy="3378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85880" y="3629160"/>
                    <a:ext cx="6688080" cy="337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" name=""/>
          <p:cNvSpPr/>
          <p:nvPr/>
        </p:nvSpPr>
        <p:spPr>
          <a:xfrm>
            <a:off x="2743200" y="6095880"/>
            <a:ext cx="1066680" cy="1067040"/>
          </a:xfrm>
          <a:prstGeom prst="noSmoking">
            <a:avLst>
              <a:gd name="adj" fmla="val 12500"/>
            </a:avLst>
          </a:prstGeom>
          <a:solidFill>
            <a:srgbClr val="ff0000">
              <a:alpha val="50000"/>
            </a:srgbClr>
          </a:solidFill>
          <a:ln w="6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0760" bIns="50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282680" y="3041640"/>
            <a:ext cx="8383680" cy="4086360"/>
          </a:xfrm>
          <a:prstGeom prst="roundRect">
            <a:avLst>
              <a:gd name="adj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8610480" cy="1036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n Analogy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8686800" cy="57150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structure of the name space is similar to the many computer file systems, e.g., Unix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407880" y="3390840"/>
          <a:ext cx="9242640" cy="315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7880" y="3390840"/>
                    <a:ext cx="9242640" cy="315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"/>
          <p:cNvSpPr/>
          <p:nvPr/>
        </p:nvSpPr>
        <p:spPr>
          <a:xfrm>
            <a:off x="4724280" y="5943600"/>
            <a:ext cx="609840" cy="685800"/>
          </a:xfrm>
          <a:prstGeom prst="noSmoking">
            <a:avLst>
              <a:gd name="adj" fmla="val 12500"/>
            </a:avLst>
          </a:prstGeom>
          <a:solidFill>
            <a:srgbClr val="ff0000">
              <a:alpha val="50000"/>
            </a:srgbClr>
          </a:solidFill>
          <a:ln w="6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0760" bIns="50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8610480" cy="1036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omain Nam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9296640" cy="57150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domain nam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is the sequence of labels from a node to the root, separated by “.”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802080" indent="-307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label limited to 63 charac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2080" indent="-307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name limited to 255 charac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2080" indent="-307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ximum of 127 labels per n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1160" indent="-3711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node’s domain name identifies its position in the name spa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802080" indent="-307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 from right (least specific) to left (most specif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34800" indent="-24624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imilar to postal addresses in the U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3" marL="1729080" indent="-2458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building&gt; &lt;street&gt; &lt;city&gt; &lt;stat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2080" indent="-307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ch as a pathname uniquely identifies a file or directory in a file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8610480" cy="1036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8686800" cy="57150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or the Internet to operate, certain globally unique identifiers must exis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31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tocol numbers, port numbers, addresses, names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Administration of these identifiers is done by the Internet Assigned Numbers Authority (IANA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31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IANA delegates the administration of some of these resources to other ent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31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mes are by far the most contentio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8610480" cy="1036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ut What About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&lt;insert your script here&gt;?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8686800" cy="57150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FC 952 (circa 1985) defines the Internet Host Table format (HOSTS.TXT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802080" indent="-307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haracters allowed in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st nam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ere defined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2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&lt;name&gt; ::= &lt;let&gt;[*[&lt;let-or-digit-or-hyphen&gt;]&lt;let-or-digit&gt;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1160" indent="-3711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FC 1123 (circa 1989) relaxed legal host names to start with a number or a le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802080" indent="-307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FC 1123 is the “Host Requirements” RF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34800" indent="-24624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 standard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71160" indent="-3711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ny (legacy) applications assume only RFC 1123 hostnames exis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7116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802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8610480" cy="1036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ulti-lingual Domain Nam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8686800" cy="57150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FC 1123 restrictions were enforced in BIND’s resolver around 1996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802080" indent="-307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d guys were putting shell meta-characters into the reverse mapping names, e.g.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34800" indent="-24624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29.28.12.202.in-addr.arpa </a:t>
            </a:r>
            <a:r>
              <a:rPr b="0" lang="en-US" sz="25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`rm -fr /*`.com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71160" indent="-3711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round 1998, people started asking why they can’t have their own script in the D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802080" indent="-307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crosoft releases Win98 which permits internationalized characters in domain na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1160" indent="-3711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ETF deeply concern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802080" indent="-307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gacy systems have trouble with “unusual” charac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8610480" cy="1036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ulti-lingual Domain Nam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8686800" cy="57150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day, there are at least 13 companies providing multi-lingual domain name system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317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do not interoperate with each 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IETF has chartered the Internationalized Domain Name (IDN) working grou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317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ated to produce a specification for allowing more than [A-Za-z0-9\-] in domain na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73320" indent="-25416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st likely by using new DNS features to transmit UTF-8 if the server can understand UTF-8, falling back to a “hostname character set” encoding if the server can’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8610480" cy="1036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Domain Name</a:t>
            </a:r>
            <a:br>
              <a:rPr sz="4000"/>
            </a:b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tornado.east.acmebw.com.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185760" y="2068560"/>
          <a:ext cx="9532800" cy="3949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5760" y="2068560"/>
                    <a:ext cx="9532800" cy="394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 flipV="1">
            <a:off x="1282680" y="3040560"/>
            <a:ext cx="8383680" cy="4086360"/>
          </a:xfrm>
          <a:prstGeom prst="roundRect">
            <a:avLst>
              <a:gd name="adj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8610480" cy="1036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 UNIX Analogy: The File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/usr/bin/c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388800" y="2352600"/>
          <a:ext cx="9433080" cy="399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8800" y="2352600"/>
                    <a:ext cx="9433080" cy="399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8610480" cy="1036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ully-Qualified Domain Nam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8686800" cy="57150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ully-qualified domain nam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(abbreviated “FQDN”) ends in a top-level domain name or a do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3171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trailing dot (“.”) is actually the final separator between the top-level domain and the root’s null lab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3171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like absolute pathnames, which start with "/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omain names without a trailing "." are not necessarily interpreted relative to the root dom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3171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st as pathnames without a leading "/" are usually interpreted relative to the curren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many cases, non-absolute domain names have a domain “path” appended to the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3171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be a security r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8610480" cy="1036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ere Did the Hosts Go?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8686800" cy="57150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erywhere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nodes in the name space act as indices into the distributed databa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3171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nodes represent ho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73320" indent="-25416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ese are indexes to address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3171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nodes represent mail desti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73320" indent="-25416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ese are indexes to mail routing informatio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3171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nodes represent an entire do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73320" indent="-25416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ese are indexes to lists of name server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3171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nodes are aliases for other n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3171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ingle node can represent a combination of hosts, mail destinations and doma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8610480" cy="1036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p.com: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Domain, Host and Mail Destinat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8686800" cy="57150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hp.com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a domain (there are nodes below it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hp.com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a host in Palo Alto, Californi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hp.com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s a mail destinatio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1692360" y="2438280"/>
            <a:ext cx="7680240" cy="4481640"/>
            <a:chOff x="1692360" y="2438280"/>
            <a:chExt cx="7680240" cy="4481640"/>
          </a:xfrm>
        </p:grpSpPr>
        <p:graphicFrame>
          <p:nvGraphicFramePr>
            <p:cNvPr id="148" name=""/>
            <p:cNvGraphicFramePr/>
            <p:nvPr/>
          </p:nvGraphicFramePr>
          <p:xfrm>
            <a:off x="1692360" y="3744720"/>
            <a:ext cx="6675480" cy="31752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4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692360" y="3744720"/>
                      <a:ext cx="6675480" cy="3175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50" name=""/>
            <p:cNvSpPr/>
            <p:nvPr/>
          </p:nvSpPr>
          <p:spPr>
            <a:xfrm>
              <a:off x="6858000" y="2438280"/>
              <a:ext cx="2495520" cy="285120"/>
            </a:xfrm>
            <a:prstGeom prst="borderCallout1">
              <a:avLst>
                <a:gd name="adj1" fmla="val 18750"/>
                <a:gd name="adj2" fmla="val -8333"/>
                <a:gd name="adj3" fmla="val 566833"/>
                <a:gd name="adj4" fmla="val -41782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1880" rIns="101880" tIns="51120" bIns="5112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ddress 15.255.152.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858000" y="2798640"/>
              <a:ext cx="2514600" cy="870840"/>
            </a:xfrm>
            <a:prstGeom prst="borderCallout1">
              <a:avLst>
                <a:gd name="adj1" fmla="val 18750"/>
                <a:gd name="adj2" fmla="val -8333"/>
                <a:gd name="adj3" fmla="val 145000"/>
                <a:gd name="adj4" fmla="val -40648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1880" rIns="101880" tIns="51120" bIns="5112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il exchangers palsmtp.hp.com,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tlsmtp.hp.com, cossmtpx.hp.com, cossmtp.hp.co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858000" y="3749400"/>
              <a:ext cx="2514600" cy="650160"/>
            </a:xfrm>
            <a:prstGeom prst="borderCallout1">
              <a:avLst>
                <a:gd name="adj1" fmla="val 18750"/>
                <a:gd name="adj2" fmla="val -8333"/>
                <a:gd name="adj3" fmla="val 49305"/>
                <a:gd name="adj4" fmla="val -41023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1880" rIns="101880" tIns="51120" bIns="5112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ame servers rs0.internic.net, palrel1.hp.com, palrel2.hp.com, bbnrel4.hp.com..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8610480" cy="1036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elegat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8686800" cy="57150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dministrators often create subdomains to distribute management of the domai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317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administrator can delegate responsibility for managing a subdomain to someone el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317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arent domain retains pointers to the sources of data for the delegated subdom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s sub-delegation provides for administrative scal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317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legation is a good t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8610480" cy="1036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elegation Creates Zon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8686800" cy="57150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time an administrator delegates a subdomain to someone else, this creates a new unit of administr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317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ubdomain and its parent domain can be administered independe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317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se units are calle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z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317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oundary between zones is a point of delegation in the name 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8610480" cy="1036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Names vs. Addresse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8686800" cy="57150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the Internet, an address provides information on how to reach a particular pla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3171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ually hierarchical in n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73320" indent="-25416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herry Hills Ogikubo #301, 4-6-6 Ogikubo Suginami-ku, Tokyo, Japa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273320" indent="-25416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+1-808-329-6085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273320" indent="-25416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202.12.28.129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ames identify an object once its location is know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3171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 hierarchy is administrative o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73320" indent="-25416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David R. Conrad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273320" indent="-25416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oky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273320" indent="-25416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sc.org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ople use names, machines use addre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8610480" cy="1036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at’s in a Zone?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8686800" cy="57150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ike a domain, a zone is named after its root nod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nlike a domain, a zone contains only descendants of the zone’s root nodes that aren’t in a delegated subdomai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317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des below the delegation point are in another z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9" name=""/>
          <p:cNvGrpSpPr/>
          <p:nvPr/>
        </p:nvGrpSpPr>
        <p:grpSpPr>
          <a:xfrm>
            <a:off x="1523880" y="3200400"/>
            <a:ext cx="6724440" cy="3729600"/>
            <a:chOff x="1523880" y="3200400"/>
            <a:chExt cx="6724440" cy="3729600"/>
          </a:xfrm>
        </p:grpSpPr>
        <p:sp>
          <p:nvSpPr>
            <p:cNvPr id="160" name=""/>
            <p:cNvSpPr/>
            <p:nvPr/>
          </p:nvSpPr>
          <p:spPr>
            <a:xfrm flipV="1">
              <a:off x="1523880" y="3200400"/>
              <a:ext cx="3581640" cy="2590560"/>
            </a:xfrm>
            <a:custGeom>
              <a:avLst/>
              <a:gdLst>
                <a:gd name="textAreaLeft" fmla="*/ 787680 w 3581640"/>
                <a:gd name="textAreaRight" fmla="*/ 2793960 w 3581640"/>
                <a:gd name="textAreaTop" fmla="*/ 569520 h 2590560"/>
                <a:gd name="textAreaBottom" fmla="*/ 2021040 h 2590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248520" y="6019560"/>
              <a:ext cx="1999800" cy="91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880" rIns="101880" tIns="51120" bIns="5112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he domai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acmebw.co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5028840" y="5866920"/>
              <a:ext cx="114300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1880" rIns="101880" tIns="50760" bIns="50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2819520" y="4191120"/>
            <a:ext cx="3680280" cy="3263760"/>
            <a:chOff x="2819520" y="4191120"/>
            <a:chExt cx="3680280" cy="3263760"/>
          </a:xfrm>
        </p:grpSpPr>
        <p:sp>
          <p:nvSpPr>
            <p:cNvPr id="164" name=""/>
            <p:cNvSpPr/>
            <p:nvPr/>
          </p:nvSpPr>
          <p:spPr>
            <a:xfrm>
              <a:off x="2819520" y="4191120"/>
              <a:ext cx="838080" cy="1828800"/>
            </a:xfrm>
            <a:custGeom>
              <a:avLst/>
              <a:gdLst>
                <a:gd name="textAreaLeft" fmla="*/ 40680 w 838080"/>
                <a:gd name="textAreaRight" fmla="*/ 797400 w 838080"/>
                <a:gd name="textAreaTop" fmla="*/ 40680 h 1828800"/>
                <a:gd name="textAreaBottom" fmla="*/ 1788120 h 1828800"/>
              </a:gdLst>
              <a:ahLst/>
              <a:rect l="textAreaLeft" t="textAreaTop" r="textAreaRight" b="textAreaBottom"/>
              <a:pathLst>
                <a:path w="21600" h="47123">
                  <a:moveTo>
                    <a:pt x="3600" y="0"/>
                  </a:moveTo>
                  <a:arcTo wR="3600" hR="3600" stAng="16200000" swAng="-5400000"/>
                  <a:lnTo>
                    <a:pt x="0" y="43523"/>
                  </a:lnTo>
                  <a:arcTo wR="3600" hR="3600" stAng="10800000" swAng="-5400000"/>
                  <a:lnTo>
                    <a:pt x="18000" y="4712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12040" y="6629400"/>
              <a:ext cx="26877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he zon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west.acmebw.co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 flipV="1">
              <a:off x="3276360" y="6095880"/>
              <a:ext cx="5331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840240" y="4191120"/>
            <a:ext cx="2637360" cy="3263760"/>
            <a:chOff x="840240" y="4191120"/>
            <a:chExt cx="2637360" cy="3263760"/>
          </a:xfrm>
        </p:grpSpPr>
        <p:sp>
          <p:nvSpPr>
            <p:cNvPr id="168" name=""/>
            <p:cNvSpPr/>
            <p:nvPr/>
          </p:nvSpPr>
          <p:spPr>
            <a:xfrm>
              <a:off x="1981080" y="4191120"/>
              <a:ext cx="838440" cy="1828800"/>
            </a:xfrm>
            <a:custGeom>
              <a:avLst/>
              <a:gdLst>
                <a:gd name="textAreaLeft" fmla="*/ 40680 w 838440"/>
                <a:gd name="textAreaRight" fmla="*/ 797760 w 838440"/>
                <a:gd name="textAreaTop" fmla="*/ 40680 h 1828800"/>
                <a:gd name="textAreaBottom" fmla="*/ 1788120 h 1828800"/>
              </a:gdLst>
              <a:ahLst/>
              <a:rect l="textAreaLeft" t="textAreaTop" r="textAreaRight" b="textAreaBottom"/>
              <a:pathLst>
                <a:path w="21600" h="47103">
                  <a:moveTo>
                    <a:pt x="3600" y="0"/>
                  </a:moveTo>
                  <a:arcTo wR="3600" hR="3600" stAng="16200000" swAng="-5400000"/>
                  <a:lnTo>
                    <a:pt x="0" y="43503"/>
                  </a:lnTo>
                  <a:arcTo wR="3600" hR="3600" stAng="10800000" swAng="-5400000"/>
                  <a:lnTo>
                    <a:pt x="18000" y="4710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333cc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40240" y="6629400"/>
              <a:ext cx="2637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he zon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east.acmebw.co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V="1">
              <a:off x="1905120" y="6095880"/>
              <a:ext cx="4572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2133720" y="3200400"/>
            <a:ext cx="5788440" cy="2590560"/>
            <a:chOff x="2133720" y="3200400"/>
            <a:chExt cx="5788440" cy="2590560"/>
          </a:xfrm>
        </p:grpSpPr>
        <p:grpSp>
          <p:nvGrpSpPr>
            <p:cNvPr id="172" name=""/>
            <p:cNvGrpSpPr/>
            <p:nvPr/>
          </p:nvGrpSpPr>
          <p:grpSpPr>
            <a:xfrm>
              <a:off x="4723920" y="4495320"/>
              <a:ext cx="3198240" cy="1206720"/>
              <a:chOff x="4723920" y="4495320"/>
              <a:chExt cx="3198240" cy="1206720"/>
            </a:xfrm>
          </p:grpSpPr>
          <p:sp>
            <p:nvSpPr>
              <p:cNvPr id="173" name=""/>
              <p:cNvSpPr/>
              <p:nvPr/>
            </p:nvSpPr>
            <p:spPr>
              <a:xfrm>
                <a:off x="5946120" y="4876560"/>
                <a:ext cx="1976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The zon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Arial"/>
                  </a:rPr>
                  <a:t>acmebw.com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flipH="1" flipV="1">
                <a:off x="4723920" y="4495320"/>
                <a:ext cx="1219320" cy="762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5" name=""/>
            <p:cNvSpPr/>
            <p:nvPr/>
          </p:nvSpPr>
          <p:spPr>
            <a:xfrm>
              <a:off x="2133720" y="3200400"/>
              <a:ext cx="2971800" cy="2590560"/>
            </a:xfrm>
            <a:custGeom>
              <a:avLst/>
              <a:gdLst/>
              <a:ahLst/>
              <a:rect l="l" t="t" r="r" b="b"/>
              <a:pathLst>
                <a:path w="1872" h="1632">
                  <a:moveTo>
                    <a:pt x="192" y="0"/>
                  </a:moveTo>
                  <a:lnTo>
                    <a:pt x="1296" y="0"/>
                  </a:lnTo>
                  <a:lnTo>
                    <a:pt x="1872" y="1632"/>
                  </a:lnTo>
                  <a:lnTo>
                    <a:pt x="960" y="1632"/>
                  </a:lnTo>
                  <a:lnTo>
                    <a:pt x="960" y="576"/>
                  </a:lnTo>
                  <a:lnTo>
                    <a:pt x="0" y="576"/>
                  </a:lnTo>
                  <a:lnTo>
                    <a:pt x="192" y="0"/>
                  </a:lnTo>
                  <a:close/>
                </a:path>
              </a:pathLst>
            </a:custGeom>
            <a:solidFill>
              <a:srgbClr val="ff99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880" rIns="101880" tIns="50760" bIns="50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1243080" y="1733400"/>
            <a:ext cx="8751960" cy="4835520"/>
          </a:xfrm>
          <a:prstGeom prst="roundRect">
            <a:avLst>
              <a:gd name="adj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8610480" cy="1036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Domain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acmebw.com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ivided into Zon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370480" y="2070000"/>
            <a:ext cx="1800" cy="2001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67000" y="2270160"/>
            <a:ext cx="1800" cy="1983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267000" y="3000240"/>
            <a:ext cx="1800" cy="2001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581120" y="3200400"/>
            <a:ext cx="1440" cy="2001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267000" y="3200400"/>
            <a:ext cx="1800" cy="2001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267000" y="3932280"/>
            <a:ext cx="1800" cy="2001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422440" y="4132440"/>
            <a:ext cx="1800" cy="1983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422440" y="4862520"/>
            <a:ext cx="1800" cy="3999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263760" y="4132440"/>
            <a:ext cx="1800" cy="1983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263760" y="4862520"/>
            <a:ext cx="1800" cy="3999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105440" y="4132440"/>
            <a:ext cx="1440" cy="1983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422440" y="4132440"/>
            <a:ext cx="168300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946760" y="3200400"/>
            <a:ext cx="1440" cy="2001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581120" y="3200400"/>
            <a:ext cx="336564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789520" y="2270160"/>
            <a:ext cx="1800" cy="1983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053120" y="2270160"/>
            <a:ext cx="1800" cy="1983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053120" y="3000240"/>
            <a:ext cx="1800" cy="2001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630840" y="3200400"/>
            <a:ext cx="1800" cy="2001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472520" y="3200400"/>
            <a:ext cx="1440" cy="2001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30840" y="3200400"/>
            <a:ext cx="84168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8313840" y="2270160"/>
            <a:ext cx="1440" cy="1983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9155160" y="2270160"/>
            <a:ext cx="1440" cy="1983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267000" y="2270160"/>
            <a:ext cx="588816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013360" y="1528920"/>
            <a:ext cx="657360" cy="490320"/>
          </a:xfrm>
          <a:prstGeom prst="rect">
            <a:avLst/>
          </a:prstGeom>
          <a:solidFill>
            <a:srgbClr val="d4d6a4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323320" y="1521000"/>
            <a:ext cx="150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" 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909880" y="2459160"/>
            <a:ext cx="657360" cy="490320"/>
          </a:xfrm>
          <a:prstGeom prst="rect">
            <a:avLst/>
          </a:prstGeom>
          <a:solidFill>
            <a:srgbClr val="d4d6a4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146400" y="2452680"/>
            <a:ext cx="288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24000" y="3390840"/>
            <a:ext cx="657360" cy="490680"/>
          </a:xfrm>
          <a:prstGeom prst="rect">
            <a:avLst/>
          </a:prstGeom>
          <a:solidFill>
            <a:srgbClr val="d4d6a4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384560" y="3382920"/>
            <a:ext cx="380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m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909880" y="3390840"/>
            <a:ext cx="657360" cy="490680"/>
          </a:xfrm>
          <a:prstGeom prst="rect">
            <a:avLst/>
          </a:prstGeom>
          <a:solidFill>
            <a:srgbClr val="d4d6a4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974680" y="3382920"/>
            <a:ext cx="569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meb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065320" y="4321080"/>
            <a:ext cx="657360" cy="492120"/>
          </a:xfrm>
          <a:prstGeom prst="rect">
            <a:avLst/>
          </a:prstGeom>
          <a:solidFill>
            <a:srgbClr val="d4d6a4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302560" y="4314960"/>
            <a:ext cx="290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065320" y="5253120"/>
            <a:ext cx="657360" cy="490320"/>
          </a:xfrm>
          <a:prstGeom prst="rect">
            <a:avLst/>
          </a:prstGeom>
          <a:solidFill>
            <a:srgbClr val="d4d6a4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179440" y="5246640"/>
            <a:ext cx="520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rnad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908440" y="4321080"/>
            <a:ext cx="653760" cy="492120"/>
          </a:xfrm>
          <a:prstGeom prst="rect">
            <a:avLst/>
          </a:prstGeom>
          <a:solidFill>
            <a:srgbClr val="d4d6a4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132720" y="4314960"/>
            <a:ext cx="314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908440" y="5253120"/>
            <a:ext cx="653760" cy="490320"/>
          </a:xfrm>
          <a:prstGeom prst="rect">
            <a:avLst/>
          </a:prstGeom>
          <a:solidFill>
            <a:srgbClr val="d4d6a4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017880" y="5246640"/>
            <a:ext cx="477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hb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747960" y="4321080"/>
            <a:ext cx="657360" cy="492120"/>
          </a:xfrm>
          <a:prstGeom prst="rect">
            <a:avLst/>
          </a:prstGeom>
          <a:solidFill>
            <a:srgbClr val="d4d6a4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7200" y="4314960"/>
            <a:ext cx="329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89640" y="3390840"/>
            <a:ext cx="657000" cy="490680"/>
          </a:xfrm>
          <a:prstGeom prst="rect">
            <a:avLst/>
          </a:prstGeom>
          <a:solidFill>
            <a:srgbClr val="d4d6a4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752720" y="3382920"/>
            <a:ext cx="375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da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430960" y="2459160"/>
            <a:ext cx="655560" cy="490320"/>
          </a:xfrm>
          <a:prstGeom prst="rect">
            <a:avLst/>
          </a:prstGeom>
          <a:solidFill>
            <a:srgbClr val="d4d6a4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704200" y="2452680"/>
            <a:ext cx="22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96000" y="2459160"/>
            <a:ext cx="655560" cy="490320"/>
          </a:xfrm>
          <a:prstGeom prst="rect">
            <a:avLst/>
          </a:prstGeom>
          <a:solidFill>
            <a:srgbClr val="d4d6a4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917760" y="2452680"/>
            <a:ext cx="256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d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272280" y="3390840"/>
            <a:ext cx="657000" cy="490680"/>
          </a:xfrm>
          <a:prstGeom prst="rect">
            <a:avLst/>
          </a:prstGeom>
          <a:solidFill>
            <a:srgbClr val="d4d6a4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333120" y="3382920"/>
            <a:ext cx="578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rkel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113600" y="3390840"/>
            <a:ext cx="658800" cy="490680"/>
          </a:xfrm>
          <a:prstGeom prst="rect">
            <a:avLst/>
          </a:prstGeom>
          <a:solidFill>
            <a:srgbClr val="d4d6a4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26360" y="3382920"/>
            <a:ext cx="281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w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54920" y="2459160"/>
            <a:ext cx="657360" cy="490320"/>
          </a:xfrm>
          <a:prstGeom prst="rect">
            <a:avLst/>
          </a:prstGeom>
          <a:solidFill>
            <a:srgbClr val="d4d6a4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8185320" y="2452680"/>
            <a:ext cx="247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8796240" y="2459160"/>
            <a:ext cx="657360" cy="490320"/>
          </a:xfrm>
          <a:prstGeom prst="rect">
            <a:avLst/>
          </a:prstGeom>
          <a:solidFill>
            <a:srgbClr val="d4d6a4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084240" y="2452680"/>
            <a:ext cx="194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8610480" cy="1036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 Delegation Exampl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8686800" cy="57150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nk of delegation in a managerial sett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317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manager, Rick, has overall responsibility for managing his company’s internal TCP/IP net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317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ever, he can’t do everything himself; he delegates responsibility for some tasks to his employe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73320" indent="-25416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e delegates routing to And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273320" indent="-25416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e delegates email to Jeanni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273320" indent="-25416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e delegates DNS to Mik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273320" indent="-25416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he keeps billing for himself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1371600" y="1981080"/>
            <a:ext cx="7467480" cy="3505320"/>
          </a:xfrm>
          <a:prstGeom prst="rect">
            <a:avLst/>
          </a:prstGeom>
          <a:solidFill>
            <a:srgbClr val="b2b2b2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8610480" cy="1036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“Internal TCP/IP Network” Domain Divided into Zon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1695600" y="2825640"/>
          <a:ext cx="6669000" cy="212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5600" y="2825640"/>
                    <a:ext cx="6669000" cy="212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39" name=""/>
          <p:cNvGrpSpPr/>
          <p:nvPr/>
        </p:nvGrpSpPr>
        <p:grpSpPr>
          <a:xfrm>
            <a:off x="2666880" y="2057400"/>
            <a:ext cx="6019920" cy="2971800"/>
            <a:chOff x="2666880" y="2057400"/>
            <a:chExt cx="6019920" cy="2971800"/>
          </a:xfrm>
        </p:grpSpPr>
        <p:sp>
          <p:nvSpPr>
            <p:cNvPr id="240" name=""/>
            <p:cNvSpPr/>
            <p:nvPr/>
          </p:nvSpPr>
          <p:spPr>
            <a:xfrm>
              <a:off x="2666880" y="2514600"/>
              <a:ext cx="6019920" cy="2514600"/>
            </a:xfrm>
            <a:custGeom>
              <a:avLst/>
              <a:gdLst/>
              <a:ahLst/>
              <a:rect l="l" t="t" r="r" b="b"/>
              <a:pathLst>
                <a:path w="3792" h="1584">
                  <a:moveTo>
                    <a:pt x="0" y="0"/>
                  </a:moveTo>
                  <a:lnTo>
                    <a:pt x="2976" y="0"/>
                  </a:lnTo>
                  <a:lnTo>
                    <a:pt x="3792" y="960"/>
                  </a:lnTo>
                  <a:lnTo>
                    <a:pt x="3792" y="1584"/>
                  </a:lnTo>
                  <a:lnTo>
                    <a:pt x="2592" y="1584"/>
                  </a:lnTo>
                  <a:lnTo>
                    <a:pt x="2592" y="768"/>
                  </a:lnTo>
                  <a:lnTo>
                    <a:pt x="0" y="76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195080" y="2057400"/>
              <a:ext cx="1736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ick’s zon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2" name=""/>
          <p:cNvGrpSpPr/>
          <p:nvPr/>
        </p:nvGrpSpPr>
        <p:grpSpPr>
          <a:xfrm>
            <a:off x="1600200" y="4038480"/>
            <a:ext cx="1676520" cy="1465920"/>
            <a:chOff x="1600200" y="4038480"/>
            <a:chExt cx="1676520" cy="1465920"/>
          </a:xfrm>
        </p:grpSpPr>
        <p:sp>
          <p:nvSpPr>
            <p:cNvPr id="243" name=""/>
            <p:cNvSpPr/>
            <p:nvPr/>
          </p:nvSpPr>
          <p:spPr>
            <a:xfrm>
              <a:off x="1600200" y="4038480"/>
              <a:ext cx="1676520" cy="990720"/>
            </a:xfrm>
            <a:custGeom>
              <a:avLst/>
              <a:gdLst/>
              <a:ahLst/>
              <a:rect l="l" t="t" r="r" b="b"/>
              <a:pathLst>
                <a:path w="1056" h="624">
                  <a:moveTo>
                    <a:pt x="1056" y="0"/>
                  </a:moveTo>
                  <a:lnTo>
                    <a:pt x="1056" y="624"/>
                  </a:lnTo>
                  <a:lnTo>
                    <a:pt x="0" y="624"/>
                  </a:lnTo>
                  <a:lnTo>
                    <a:pt x="0" y="0"/>
                  </a:lnTo>
                  <a:lnTo>
                    <a:pt x="1056" y="0"/>
                  </a:lnTo>
                  <a:close/>
                </a:path>
              </a:pathLst>
            </a:custGeom>
            <a:solidFill>
              <a:srgbClr val="3333cc">
                <a:alpha val="5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676160" y="5105520"/>
              <a:ext cx="1569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ndy’s zon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3276000" y="4038480"/>
            <a:ext cx="1881360" cy="1465920"/>
            <a:chOff x="3276000" y="4038480"/>
            <a:chExt cx="1881360" cy="1465920"/>
          </a:xfrm>
        </p:grpSpPr>
        <p:sp>
          <p:nvSpPr>
            <p:cNvPr id="246" name=""/>
            <p:cNvSpPr/>
            <p:nvPr/>
          </p:nvSpPr>
          <p:spPr>
            <a:xfrm>
              <a:off x="3352680" y="4038480"/>
              <a:ext cx="1676520" cy="990720"/>
            </a:xfrm>
            <a:custGeom>
              <a:avLst/>
              <a:gdLst/>
              <a:ahLst/>
              <a:rect l="l" t="t" r="r" b="b"/>
              <a:pathLst>
                <a:path w="1056" h="624">
                  <a:moveTo>
                    <a:pt x="1056" y="0"/>
                  </a:moveTo>
                  <a:lnTo>
                    <a:pt x="1056" y="624"/>
                  </a:lnTo>
                  <a:lnTo>
                    <a:pt x="0" y="624"/>
                  </a:lnTo>
                  <a:lnTo>
                    <a:pt x="0" y="0"/>
                  </a:lnTo>
                  <a:lnTo>
                    <a:pt x="1056" y="0"/>
                  </a:lnTo>
                  <a:close/>
                </a:path>
              </a:pathLst>
            </a:custGeom>
            <a:solidFill>
              <a:srgbClr val="ff99cc">
                <a:alpha val="5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276000" y="5105520"/>
              <a:ext cx="1881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Jeannie’s zon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8" name=""/>
          <p:cNvGrpSpPr/>
          <p:nvPr/>
        </p:nvGrpSpPr>
        <p:grpSpPr>
          <a:xfrm>
            <a:off x="5105520" y="4038480"/>
            <a:ext cx="1602000" cy="1465920"/>
            <a:chOff x="5105520" y="4038480"/>
            <a:chExt cx="1602000" cy="1465920"/>
          </a:xfrm>
        </p:grpSpPr>
        <p:sp>
          <p:nvSpPr>
            <p:cNvPr id="249" name=""/>
            <p:cNvSpPr/>
            <p:nvPr/>
          </p:nvSpPr>
          <p:spPr>
            <a:xfrm>
              <a:off x="5105520" y="4038480"/>
              <a:ext cx="1600200" cy="990720"/>
            </a:xfrm>
            <a:custGeom>
              <a:avLst/>
              <a:gdLst/>
              <a:ahLst/>
              <a:rect l="l" t="t" r="r" b="b"/>
              <a:pathLst>
                <a:path w="1056" h="624">
                  <a:moveTo>
                    <a:pt x="1056" y="0"/>
                  </a:moveTo>
                  <a:lnTo>
                    <a:pt x="1056" y="624"/>
                  </a:lnTo>
                  <a:lnTo>
                    <a:pt x="0" y="624"/>
                  </a:lnTo>
                  <a:lnTo>
                    <a:pt x="0" y="0"/>
                  </a:lnTo>
                  <a:lnTo>
                    <a:pt x="1056" y="0"/>
                  </a:lnTo>
                  <a:close/>
                </a:path>
              </a:pathLst>
            </a:custGeom>
            <a:solidFill>
              <a:srgbClr val="99cc00">
                <a:alpha val="5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181120" y="5105520"/>
              <a:ext cx="1526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Mike’s zon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4043160" y="1447920"/>
            <a:ext cx="207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ck’s do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8610480" cy="1036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8686800" cy="57150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istor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ame space structu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751"/>
              </a:spcBef>
              <a:buClr>
                <a:srgbClr val="3333cc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000" spc="-1" strike="noStrike">
                <a:solidFill>
                  <a:srgbClr val="3333cc"/>
                </a:solidFill>
                <a:latin typeface="Arial"/>
              </a:rPr>
              <a:t>Technical detai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dministrative detai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olitical detai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u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8610480" cy="1036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DNS Architectur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9220320" cy="5181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Domain Name System has a client-server archite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10360" indent="-310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solver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 the client ha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47760" indent="-24876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ways linked into an application program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746720" indent="-2484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s execute the program, resolution requests are created and sent to servers, e.g.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246400" indent="-24876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scape http://www.isc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46720" indent="-2484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ll result in the resolver requesting the IP address(es) of www.isc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47760" indent="-24876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ome configuration of the resolver possibl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746720" indent="-2484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servers to query, timeouts, number of re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46720" indent="-2484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Unix, found in /etc/resolv.con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10360" indent="-310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ame server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 the server ha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47760" indent="-24876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Long running server process (always active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247760" indent="-24876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Best run on a dedicated machin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247760" indent="-24876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Resource requirements depends on many factor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8610480" cy="1036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solver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9296640" cy="57150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solvers are responsible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3171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ranslat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 application’s request for information about a domain name into a DNS query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3171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end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query to a name server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3171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transmitt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query, if necessary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3171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lling back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another name server or name service, if necessary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3171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ranslating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name server’s DNS response into a reply to the ap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3171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otify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application of name lookup failure (time out, authoritative non-existence, server failure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operation of the resolver is almost always transpar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3171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ually a library call within an ap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8610480" cy="1036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Name Resolution Exampl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141640" y="1523880"/>
            <a:ext cx="2286000" cy="60984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% ftp ftp.isc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54720" y="2286000"/>
            <a:ext cx="4372920" cy="1595160"/>
            <a:chOff x="54720" y="2286000"/>
            <a:chExt cx="4372920" cy="1595160"/>
          </a:xfrm>
        </p:grpSpPr>
        <p:sp>
          <p:nvSpPr>
            <p:cNvPr id="261" name=""/>
            <p:cNvSpPr/>
            <p:nvPr/>
          </p:nvSpPr>
          <p:spPr>
            <a:xfrm>
              <a:off x="54720" y="3421440"/>
              <a:ext cx="2962080" cy="459720"/>
            </a:xfrm>
            <a:prstGeom prst="borderCallout1">
              <a:avLst>
                <a:gd name="adj1" fmla="val 18750"/>
                <a:gd name="adj2" fmla="val -8333"/>
                <a:gd name="adj3" fmla="val -68074"/>
                <a:gd name="adj4" fmla="val 1078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ddress of ftp.isc.org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>
              <a:off x="3056040" y="2286000"/>
              <a:ext cx="1371600" cy="1295280"/>
            </a:xfrm>
            <a:custGeom>
              <a:avLst/>
              <a:gdLst>
                <a:gd name="textAreaLeft" fmla="*/ 0 w 1371600"/>
                <a:gd name="textAreaRight" fmla="*/ 1371960 w 1371600"/>
                <a:gd name="textAreaTop" fmla="*/ 360 h 1295280"/>
                <a:gd name="textAreaBottom" fmla="*/ 1296000 h 1295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7819" stAng="10800000" swAng="5400000"/>
                  <a:lnTo>
                    <a:pt x="15123" y="4341"/>
                  </a:lnTo>
                  <a:lnTo>
                    <a:pt x="15123" y="0"/>
                  </a:lnTo>
                  <a:lnTo>
                    <a:pt x="21600" y="6079"/>
                  </a:lnTo>
                  <a:lnTo>
                    <a:pt x="15123" y="12158"/>
                  </a:lnTo>
                  <a:lnTo>
                    <a:pt x="15123" y="7817"/>
                  </a:lnTo>
                  <a:lnTo>
                    <a:pt x="12427" y="7817"/>
                  </a:lnTo>
                  <a:arcTo wR="8951" hR="4343" stAng="16200000" swAng="-5400000"/>
                  <a:lnTo>
                    <a:pt x="3476" y="21600"/>
                  </a:lnTo>
                  <a:close/>
                </a:path>
              </a:pathLst>
            </a:cu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3" name=""/>
          <p:cNvSpPr/>
          <p:nvPr/>
        </p:nvSpPr>
        <p:spPr>
          <a:xfrm>
            <a:off x="4579920" y="2819520"/>
            <a:ext cx="1600200" cy="76176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s.foo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074600" y="5410080"/>
            <a:ext cx="2362320" cy="99072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ot name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199040" y="5791320"/>
            <a:ext cx="2438280" cy="99036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org name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551720" y="5334120"/>
            <a:ext cx="2438280" cy="99036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isc.or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561000" y="2743200"/>
            <a:ext cx="1067040" cy="914400"/>
          </a:xfrm>
          <a:prstGeom prst="flowChartMagneticDisk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2344320" y="3733920"/>
            <a:ext cx="5283720" cy="1464840"/>
            <a:chOff x="2344320" y="3733920"/>
            <a:chExt cx="5283720" cy="1464840"/>
          </a:xfrm>
        </p:grpSpPr>
        <p:sp>
          <p:nvSpPr>
            <p:cNvPr id="269" name=""/>
            <p:cNvSpPr/>
            <p:nvPr/>
          </p:nvSpPr>
          <p:spPr>
            <a:xfrm>
              <a:off x="5189760" y="3733920"/>
              <a:ext cx="2438280" cy="457200"/>
            </a:xfrm>
            <a:custGeom>
              <a:avLst/>
              <a:gdLst>
                <a:gd name="textAreaLeft" fmla="*/ 426600 w 2438280"/>
                <a:gd name="textAreaRight" fmla="*/ 1767960 w 2438280"/>
                <a:gd name="textAreaTop" fmla="*/ 61200 h 457200"/>
                <a:gd name="textAreaBottom" fmla="*/ 39600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344320" y="4739040"/>
              <a:ext cx="3089880" cy="459720"/>
            </a:xfrm>
            <a:prstGeom prst="borderCallout1">
              <a:avLst>
                <a:gd name="adj1" fmla="val 18750"/>
                <a:gd name="adj2" fmla="val -8333"/>
                <a:gd name="adj3" fmla="val -127541"/>
                <a:gd name="adj4" fmla="val 133236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tp.isc.org in the cache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1" name=""/>
          <p:cNvGrpSpPr/>
          <p:nvPr/>
        </p:nvGrpSpPr>
        <p:grpSpPr>
          <a:xfrm>
            <a:off x="4960440" y="1527480"/>
            <a:ext cx="2828520" cy="1063440"/>
            <a:chOff x="4960440" y="1527480"/>
            <a:chExt cx="2828520" cy="1063440"/>
          </a:xfrm>
        </p:grpSpPr>
        <p:sp>
          <p:nvSpPr>
            <p:cNvPr id="272" name=""/>
            <p:cNvSpPr/>
            <p:nvPr/>
          </p:nvSpPr>
          <p:spPr>
            <a:xfrm flipH="1" flipV="1">
              <a:off x="4960080" y="2133720"/>
              <a:ext cx="2361960" cy="457200"/>
            </a:xfrm>
            <a:custGeom>
              <a:avLst/>
              <a:gdLst>
                <a:gd name="textAreaLeft" fmla="*/ 413280 w 2361960"/>
                <a:gd name="textAreaRight" fmla="*/ 1712520 w 2361960"/>
                <a:gd name="textAreaTop" fmla="*/ 61200 h 457200"/>
                <a:gd name="textAreaBottom" fmla="*/ 39600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872040" y="1527480"/>
              <a:ext cx="916920" cy="459720"/>
            </a:xfrm>
            <a:prstGeom prst="borderCallout1">
              <a:avLst>
                <a:gd name="adj1" fmla="val 18750"/>
                <a:gd name="adj2" fmla="val -8333"/>
                <a:gd name="adj3" fmla="val 141157"/>
                <a:gd name="adj4" fmla="val -67111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Nope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4" name=""/>
          <p:cNvGrpSpPr/>
          <p:nvPr/>
        </p:nvGrpSpPr>
        <p:grpSpPr>
          <a:xfrm>
            <a:off x="2551680" y="3733920"/>
            <a:ext cx="5076360" cy="1464840"/>
            <a:chOff x="2551680" y="3733920"/>
            <a:chExt cx="5076360" cy="1464840"/>
          </a:xfrm>
        </p:grpSpPr>
        <p:sp>
          <p:nvSpPr>
            <p:cNvPr id="275" name=""/>
            <p:cNvSpPr/>
            <p:nvPr/>
          </p:nvSpPr>
          <p:spPr>
            <a:xfrm>
              <a:off x="5189760" y="3733920"/>
              <a:ext cx="2438280" cy="457200"/>
            </a:xfrm>
            <a:custGeom>
              <a:avLst/>
              <a:gdLst>
                <a:gd name="textAreaLeft" fmla="*/ 426600 w 2438280"/>
                <a:gd name="textAreaRight" fmla="*/ 1767960 w 2438280"/>
                <a:gd name="textAreaTop" fmla="*/ 61200 h 457200"/>
                <a:gd name="textAreaBottom" fmla="*/ 39600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551680" y="4739040"/>
              <a:ext cx="2674080" cy="459720"/>
            </a:xfrm>
            <a:prstGeom prst="borderCallout1">
              <a:avLst>
                <a:gd name="adj1" fmla="val 18750"/>
                <a:gd name="adj2" fmla="val -8333"/>
                <a:gd name="adj3" fmla="val -127541"/>
                <a:gd name="adj4" fmla="val 13328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sc.org in the cache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7" name=""/>
          <p:cNvGrpSpPr/>
          <p:nvPr/>
        </p:nvGrpSpPr>
        <p:grpSpPr>
          <a:xfrm>
            <a:off x="4960440" y="1527480"/>
            <a:ext cx="2828520" cy="1063440"/>
            <a:chOff x="4960440" y="1527480"/>
            <a:chExt cx="2828520" cy="1063440"/>
          </a:xfrm>
        </p:grpSpPr>
        <p:sp>
          <p:nvSpPr>
            <p:cNvPr id="278" name=""/>
            <p:cNvSpPr/>
            <p:nvPr/>
          </p:nvSpPr>
          <p:spPr>
            <a:xfrm flipH="1" flipV="1">
              <a:off x="4960080" y="2133720"/>
              <a:ext cx="2361960" cy="457200"/>
            </a:xfrm>
            <a:custGeom>
              <a:avLst/>
              <a:gdLst>
                <a:gd name="textAreaLeft" fmla="*/ 413280 w 2361960"/>
                <a:gd name="textAreaRight" fmla="*/ 1712520 w 2361960"/>
                <a:gd name="textAreaTop" fmla="*/ 61200 h 457200"/>
                <a:gd name="textAreaBottom" fmla="*/ 39600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872040" y="1527480"/>
              <a:ext cx="916920" cy="459720"/>
            </a:xfrm>
            <a:prstGeom prst="borderCallout1">
              <a:avLst>
                <a:gd name="adj1" fmla="val 18750"/>
                <a:gd name="adj2" fmla="val -8333"/>
                <a:gd name="adj3" fmla="val 141157"/>
                <a:gd name="adj4" fmla="val -67111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Nope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0" name=""/>
          <p:cNvGrpSpPr/>
          <p:nvPr/>
        </p:nvGrpSpPr>
        <p:grpSpPr>
          <a:xfrm>
            <a:off x="2720520" y="3733920"/>
            <a:ext cx="4907160" cy="1464840"/>
            <a:chOff x="2720520" y="3733920"/>
            <a:chExt cx="4907160" cy="1464840"/>
          </a:xfrm>
        </p:grpSpPr>
        <p:sp>
          <p:nvSpPr>
            <p:cNvPr id="281" name=""/>
            <p:cNvSpPr/>
            <p:nvPr/>
          </p:nvSpPr>
          <p:spPr>
            <a:xfrm>
              <a:off x="5189400" y="3733920"/>
              <a:ext cx="2438280" cy="457200"/>
            </a:xfrm>
            <a:custGeom>
              <a:avLst/>
              <a:gdLst>
                <a:gd name="textAreaLeft" fmla="*/ 426600 w 2438280"/>
                <a:gd name="textAreaRight" fmla="*/ 1767960 w 2438280"/>
                <a:gd name="textAreaTop" fmla="*/ 61200 h 457200"/>
                <a:gd name="textAreaBottom" fmla="*/ 39600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720520" y="4739040"/>
              <a:ext cx="2334240" cy="459720"/>
            </a:xfrm>
            <a:prstGeom prst="borderCallout1">
              <a:avLst>
                <a:gd name="adj1" fmla="val 18750"/>
                <a:gd name="adj2" fmla="val -8333"/>
                <a:gd name="adj3" fmla="val -127541"/>
                <a:gd name="adj4" fmla="val 133351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org in the cache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3" name=""/>
          <p:cNvGrpSpPr/>
          <p:nvPr/>
        </p:nvGrpSpPr>
        <p:grpSpPr>
          <a:xfrm>
            <a:off x="4960440" y="1527480"/>
            <a:ext cx="2828520" cy="1063440"/>
            <a:chOff x="4960440" y="1527480"/>
            <a:chExt cx="2828520" cy="1063440"/>
          </a:xfrm>
        </p:grpSpPr>
        <p:sp>
          <p:nvSpPr>
            <p:cNvPr id="284" name=""/>
            <p:cNvSpPr/>
            <p:nvPr/>
          </p:nvSpPr>
          <p:spPr>
            <a:xfrm flipH="1" flipV="1">
              <a:off x="4960080" y="2133720"/>
              <a:ext cx="2361960" cy="457200"/>
            </a:xfrm>
            <a:custGeom>
              <a:avLst/>
              <a:gdLst>
                <a:gd name="textAreaLeft" fmla="*/ 413280 w 2361960"/>
                <a:gd name="textAreaRight" fmla="*/ 1712520 w 2361960"/>
                <a:gd name="textAreaTop" fmla="*/ 61200 h 457200"/>
                <a:gd name="textAreaBottom" fmla="*/ 39600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872040" y="1527480"/>
              <a:ext cx="916920" cy="459720"/>
            </a:xfrm>
            <a:prstGeom prst="borderCallout1">
              <a:avLst>
                <a:gd name="adj1" fmla="val 18750"/>
                <a:gd name="adj2" fmla="val -8333"/>
                <a:gd name="adj3" fmla="val 141157"/>
                <a:gd name="adj4" fmla="val -67111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Nope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6" name=""/>
          <p:cNvGrpSpPr/>
          <p:nvPr/>
        </p:nvGrpSpPr>
        <p:grpSpPr>
          <a:xfrm>
            <a:off x="468720" y="3352320"/>
            <a:ext cx="4302360" cy="2144160"/>
            <a:chOff x="468720" y="3352320"/>
            <a:chExt cx="4302360" cy="2144160"/>
          </a:xfrm>
        </p:grpSpPr>
        <p:sp>
          <p:nvSpPr>
            <p:cNvPr id="287" name=""/>
            <p:cNvSpPr/>
            <p:nvPr/>
          </p:nvSpPr>
          <p:spPr>
            <a:xfrm rot="8433600">
              <a:off x="2127240" y="4195800"/>
              <a:ext cx="2819520" cy="457200"/>
            </a:xfrm>
            <a:custGeom>
              <a:avLst/>
              <a:gdLst>
                <a:gd name="textAreaLeft" fmla="*/ 440280 w 2819520"/>
                <a:gd name="textAreaRight" fmla="*/ 2478240 w 2819520"/>
                <a:gd name="textAreaTop" fmla="*/ 86400 h 457200"/>
                <a:gd name="textAreaBottom" fmla="*/ 37080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4084"/>
                  </a:moveTo>
                  <a:lnTo>
                    <a:pt x="17393" y="4084"/>
                  </a:lnTo>
                  <a:lnTo>
                    <a:pt x="17393" y="0"/>
                  </a:lnTo>
                  <a:lnTo>
                    <a:pt x="21600" y="10800"/>
                  </a:lnTo>
                  <a:lnTo>
                    <a:pt x="17393" y="21600"/>
                  </a:lnTo>
                  <a:lnTo>
                    <a:pt x="17393" y="17516"/>
                  </a:lnTo>
                  <a:lnTo>
                    <a:pt x="3375" y="17516"/>
                  </a:lnTo>
                  <a:close/>
                </a:path>
                <a:path w="21600" h="21600">
                  <a:moveTo>
                    <a:pt x="0" y="4084"/>
                  </a:moveTo>
                  <a:lnTo>
                    <a:pt x="675" y="4084"/>
                  </a:lnTo>
                  <a:lnTo>
                    <a:pt x="675" y="17516"/>
                  </a:lnTo>
                  <a:lnTo>
                    <a:pt x="0" y="17516"/>
                  </a:lnTo>
                  <a:close/>
                </a:path>
                <a:path w="21600" h="21600">
                  <a:moveTo>
                    <a:pt x="1350" y="4084"/>
                  </a:moveTo>
                  <a:lnTo>
                    <a:pt x="2700" y="4084"/>
                  </a:lnTo>
                  <a:lnTo>
                    <a:pt x="2700" y="17516"/>
                  </a:lnTo>
                  <a:lnTo>
                    <a:pt x="1350" y="17516"/>
                  </a:lnTo>
                  <a:close/>
                </a:path>
              </a:pathLst>
            </a:cu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68720" y="3965400"/>
              <a:ext cx="1724400" cy="1191240"/>
            </a:xfrm>
            <a:prstGeom prst="borderCallout1">
              <a:avLst>
                <a:gd name="adj1" fmla="val 18750"/>
                <a:gd name="adj2" fmla="val -8333"/>
                <a:gd name="adj3" fmla="val 38912"/>
                <a:gd name="adj4" fmla="val 177351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here is th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nameserv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or .org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9" name=""/>
          <p:cNvGrpSpPr/>
          <p:nvPr/>
        </p:nvGrpSpPr>
        <p:grpSpPr>
          <a:xfrm>
            <a:off x="698040" y="3281040"/>
            <a:ext cx="4156200" cy="2144160"/>
            <a:chOff x="698040" y="3281040"/>
            <a:chExt cx="4156200" cy="2144160"/>
          </a:xfrm>
        </p:grpSpPr>
        <p:sp>
          <p:nvSpPr>
            <p:cNvPr id="290" name=""/>
            <p:cNvSpPr/>
            <p:nvPr/>
          </p:nvSpPr>
          <p:spPr>
            <a:xfrm flipH="1" flipV="1" rot="8433600">
              <a:off x="2210400" y="4124160"/>
              <a:ext cx="2819160" cy="457200"/>
            </a:xfrm>
            <a:custGeom>
              <a:avLst/>
              <a:gdLst>
                <a:gd name="textAreaLeft" fmla="*/ 439920 w 2819160"/>
                <a:gd name="textAreaRight" fmla="*/ 2477520 w 2819160"/>
                <a:gd name="textAreaTop" fmla="*/ 86400 h 457200"/>
                <a:gd name="textAreaBottom" fmla="*/ 37080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4084"/>
                  </a:moveTo>
                  <a:lnTo>
                    <a:pt x="17393" y="4084"/>
                  </a:lnTo>
                  <a:lnTo>
                    <a:pt x="17393" y="0"/>
                  </a:lnTo>
                  <a:lnTo>
                    <a:pt x="21600" y="10800"/>
                  </a:lnTo>
                  <a:lnTo>
                    <a:pt x="17393" y="21600"/>
                  </a:lnTo>
                  <a:lnTo>
                    <a:pt x="17393" y="17516"/>
                  </a:lnTo>
                  <a:lnTo>
                    <a:pt x="3375" y="17516"/>
                  </a:lnTo>
                  <a:close/>
                </a:path>
                <a:path w="21600" h="21600">
                  <a:moveTo>
                    <a:pt x="0" y="4084"/>
                  </a:moveTo>
                  <a:lnTo>
                    <a:pt x="675" y="4084"/>
                  </a:lnTo>
                  <a:lnTo>
                    <a:pt x="675" y="17516"/>
                  </a:lnTo>
                  <a:lnTo>
                    <a:pt x="0" y="17516"/>
                  </a:lnTo>
                  <a:close/>
                </a:path>
                <a:path w="21600" h="21600">
                  <a:moveTo>
                    <a:pt x="1350" y="4084"/>
                  </a:moveTo>
                  <a:lnTo>
                    <a:pt x="2700" y="4084"/>
                  </a:lnTo>
                  <a:lnTo>
                    <a:pt x="2700" y="17516"/>
                  </a:lnTo>
                  <a:lnTo>
                    <a:pt x="1350" y="17516"/>
                  </a:lnTo>
                  <a:close/>
                </a:path>
              </a:pathLst>
            </a:cu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98040" y="4041720"/>
              <a:ext cx="1410480" cy="825480"/>
            </a:xfrm>
            <a:prstGeom prst="borderCallout1">
              <a:avLst>
                <a:gd name="adj1" fmla="val 18750"/>
                <a:gd name="adj2" fmla="val -8333"/>
                <a:gd name="adj3" fmla="val 49777"/>
                <a:gd name="adj4" fmla="val 198416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org is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over the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2" name=""/>
          <p:cNvGrpSpPr/>
          <p:nvPr/>
        </p:nvGrpSpPr>
        <p:grpSpPr>
          <a:xfrm>
            <a:off x="2602440" y="3657600"/>
            <a:ext cx="3068640" cy="1981080"/>
            <a:chOff x="2602440" y="3657600"/>
            <a:chExt cx="3068640" cy="1981080"/>
          </a:xfrm>
        </p:grpSpPr>
        <p:sp>
          <p:nvSpPr>
            <p:cNvPr id="293" name=""/>
            <p:cNvSpPr/>
            <p:nvPr/>
          </p:nvSpPr>
          <p:spPr>
            <a:xfrm rot="5401200">
              <a:off x="4451400" y="4419360"/>
              <a:ext cx="1981080" cy="457200"/>
            </a:xfrm>
            <a:custGeom>
              <a:avLst/>
              <a:gdLst>
                <a:gd name="textAreaLeft" fmla="*/ 309600 w 1981080"/>
                <a:gd name="textAreaRight" fmla="*/ 1741320 w 1981080"/>
                <a:gd name="textAreaTop" fmla="*/ 86400 h 457200"/>
                <a:gd name="textAreaBottom" fmla="*/ 37080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4084"/>
                  </a:moveTo>
                  <a:lnTo>
                    <a:pt x="17393" y="4084"/>
                  </a:lnTo>
                  <a:lnTo>
                    <a:pt x="17393" y="0"/>
                  </a:lnTo>
                  <a:lnTo>
                    <a:pt x="21600" y="10800"/>
                  </a:lnTo>
                  <a:lnTo>
                    <a:pt x="17393" y="21600"/>
                  </a:lnTo>
                  <a:lnTo>
                    <a:pt x="17393" y="17516"/>
                  </a:lnTo>
                  <a:lnTo>
                    <a:pt x="3375" y="17516"/>
                  </a:lnTo>
                  <a:close/>
                </a:path>
                <a:path w="21600" h="21600">
                  <a:moveTo>
                    <a:pt x="0" y="4084"/>
                  </a:moveTo>
                  <a:lnTo>
                    <a:pt x="675" y="4084"/>
                  </a:lnTo>
                  <a:lnTo>
                    <a:pt x="675" y="17516"/>
                  </a:lnTo>
                  <a:lnTo>
                    <a:pt x="0" y="17516"/>
                  </a:lnTo>
                  <a:close/>
                </a:path>
                <a:path w="21600" h="21600">
                  <a:moveTo>
                    <a:pt x="1350" y="4084"/>
                  </a:moveTo>
                  <a:lnTo>
                    <a:pt x="2700" y="4084"/>
                  </a:lnTo>
                  <a:lnTo>
                    <a:pt x="2700" y="17516"/>
                  </a:lnTo>
                  <a:lnTo>
                    <a:pt x="1350" y="17516"/>
                  </a:lnTo>
                  <a:close/>
                </a:path>
              </a:pathLst>
            </a:cu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602440" y="3965400"/>
              <a:ext cx="1724400" cy="1191240"/>
            </a:xfrm>
            <a:prstGeom prst="borderCallout1">
              <a:avLst>
                <a:gd name="adj1" fmla="val 18750"/>
                <a:gd name="adj2" fmla="val -8333"/>
                <a:gd name="adj3" fmla="val 55314"/>
                <a:gd name="adj4" fmla="val 165662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here is th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nameserv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or isc.org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5" name=""/>
          <p:cNvGrpSpPr/>
          <p:nvPr/>
        </p:nvGrpSpPr>
        <p:grpSpPr>
          <a:xfrm>
            <a:off x="2984040" y="3657240"/>
            <a:ext cx="2672640" cy="1981080"/>
            <a:chOff x="2984040" y="3657240"/>
            <a:chExt cx="2672640" cy="1981080"/>
          </a:xfrm>
        </p:grpSpPr>
        <p:sp>
          <p:nvSpPr>
            <p:cNvPr id="296" name=""/>
            <p:cNvSpPr/>
            <p:nvPr/>
          </p:nvSpPr>
          <p:spPr>
            <a:xfrm flipV="1" rot="16198800">
              <a:off x="4437000" y="4418640"/>
              <a:ext cx="1981080" cy="457200"/>
            </a:xfrm>
            <a:custGeom>
              <a:avLst/>
              <a:gdLst>
                <a:gd name="textAreaLeft" fmla="*/ 309600 w 1981080"/>
                <a:gd name="textAreaRight" fmla="*/ 1741320 w 1981080"/>
                <a:gd name="textAreaTop" fmla="*/ 86400 h 457200"/>
                <a:gd name="textAreaBottom" fmla="*/ 37080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4084"/>
                  </a:moveTo>
                  <a:lnTo>
                    <a:pt x="17393" y="4084"/>
                  </a:lnTo>
                  <a:lnTo>
                    <a:pt x="17393" y="0"/>
                  </a:lnTo>
                  <a:lnTo>
                    <a:pt x="21600" y="10800"/>
                  </a:lnTo>
                  <a:lnTo>
                    <a:pt x="17393" y="21600"/>
                  </a:lnTo>
                  <a:lnTo>
                    <a:pt x="17393" y="17516"/>
                  </a:lnTo>
                  <a:lnTo>
                    <a:pt x="3375" y="17516"/>
                  </a:lnTo>
                  <a:close/>
                </a:path>
                <a:path w="21600" h="21600">
                  <a:moveTo>
                    <a:pt x="0" y="4084"/>
                  </a:moveTo>
                  <a:lnTo>
                    <a:pt x="675" y="4084"/>
                  </a:lnTo>
                  <a:lnTo>
                    <a:pt x="675" y="17516"/>
                  </a:lnTo>
                  <a:lnTo>
                    <a:pt x="0" y="17516"/>
                  </a:lnTo>
                  <a:close/>
                </a:path>
                <a:path w="21600" h="21600">
                  <a:moveTo>
                    <a:pt x="1350" y="4084"/>
                  </a:moveTo>
                  <a:lnTo>
                    <a:pt x="2700" y="4084"/>
                  </a:lnTo>
                  <a:lnTo>
                    <a:pt x="2700" y="17516"/>
                  </a:lnTo>
                  <a:lnTo>
                    <a:pt x="1350" y="17516"/>
                  </a:lnTo>
                  <a:close/>
                </a:path>
              </a:pathLst>
            </a:cu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984040" y="4235400"/>
              <a:ext cx="1410480" cy="825480"/>
            </a:xfrm>
            <a:prstGeom prst="borderCallout1">
              <a:avLst>
                <a:gd name="adj1" fmla="val 18750"/>
                <a:gd name="adj2" fmla="val -8333"/>
                <a:gd name="adj3" fmla="val 61722"/>
                <a:gd name="adj4" fmla="val 172875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sc.org i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over the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5936760" y="3375360"/>
            <a:ext cx="3724200" cy="2257920"/>
            <a:chOff x="5936760" y="3375360"/>
            <a:chExt cx="3724200" cy="2257920"/>
          </a:xfrm>
        </p:grpSpPr>
        <p:sp>
          <p:nvSpPr>
            <p:cNvPr id="299" name=""/>
            <p:cNvSpPr/>
            <p:nvPr/>
          </p:nvSpPr>
          <p:spPr>
            <a:xfrm flipH="1" flipV="1" rot="13833600">
              <a:off x="5648400" y="4275360"/>
              <a:ext cx="2547720" cy="457200"/>
            </a:xfrm>
            <a:custGeom>
              <a:avLst/>
              <a:gdLst>
                <a:gd name="textAreaLeft" fmla="*/ 397800 w 2547720"/>
                <a:gd name="textAreaRight" fmla="*/ 2239200 w 2547720"/>
                <a:gd name="textAreaTop" fmla="*/ 86400 h 457200"/>
                <a:gd name="textAreaBottom" fmla="*/ 37080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4084"/>
                  </a:moveTo>
                  <a:lnTo>
                    <a:pt x="17393" y="4084"/>
                  </a:lnTo>
                  <a:lnTo>
                    <a:pt x="17393" y="0"/>
                  </a:lnTo>
                  <a:lnTo>
                    <a:pt x="21600" y="10800"/>
                  </a:lnTo>
                  <a:lnTo>
                    <a:pt x="17393" y="21600"/>
                  </a:lnTo>
                  <a:lnTo>
                    <a:pt x="17393" y="17516"/>
                  </a:lnTo>
                  <a:lnTo>
                    <a:pt x="3375" y="17516"/>
                  </a:lnTo>
                  <a:close/>
                </a:path>
                <a:path w="21600" h="21600">
                  <a:moveTo>
                    <a:pt x="0" y="4084"/>
                  </a:moveTo>
                  <a:lnTo>
                    <a:pt x="675" y="4084"/>
                  </a:lnTo>
                  <a:lnTo>
                    <a:pt x="675" y="17516"/>
                  </a:lnTo>
                  <a:lnTo>
                    <a:pt x="0" y="17516"/>
                  </a:lnTo>
                  <a:close/>
                </a:path>
                <a:path w="21600" h="21600">
                  <a:moveTo>
                    <a:pt x="1350" y="4084"/>
                  </a:moveTo>
                  <a:lnTo>
                    <a:pt x="2700" y="4084"/>
                  </a:lnTo>
                  <a:lnTo>
                    <a:pt x="2700" y="17516"/>
                  </a:lnTo>
                  <a:lnTo>
                    <a:pt x="1350" y="17516"/>
                  </a:lnTo>
                  <a:close/>
                </a:path>
              </a:pathLst>
            </a:cu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8088840" y="3508200"/>
              <a:ext cx="1572120" cy="1191240"/>
            </a:xfrm>
            <a:prstGeom prst="borderCallout1">
              <a:avLst>
                <a:gd name="adj1" fmla="val 18750"/>
                <a:gd name="adj2" fmla="val -8333"/>
                <a:gd name="adj3" fmla="val 90509"/>
                <a:gd name="adj4" fmla="val -6865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hat is th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ddress o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tp.isc.org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1" name=""/>
          <p:cNvGrpSpPr/>
          <p:nvPr/>
        </p:nvGrpSpPr>
        <p:grpSpPr>
          <a:xfrm>
            <a:off x="5871960" y="3345120"/>
            <a:ext cx="3840120" cy="2257920"/>
            <a:chOff x="5871960" y="3345120"/>
            <a:chExt cx="3840120" cy="2257920"/>
          </a:xfrm>
        </p:grpSpPr>
        <p:sp>
          <p:nvSpPr>
            <p:cNvPr id="302" name=""/>
            <p:cNvSpPr/>
            <p:nvPr/>
          </p:nvSpPr>
          <p:spPr>
            <a:xfrm rot="13833600">
              <a:off x="5583960" y="4245120"/>
              <a:ext cx="2547720" cy="457200"/>
            </a:xfrm>
            <a:custGeom>
              <a:avLst/>
              <a:gdLst>
                <a:gd name="textAreaLeft" fmla="*/ 397800 w 2547720"/>
                <a:gd name="textAreaRight" fmla="*/ 2239200 w 2547720"/>
                <a:gd name="textAreaTop" fmla="*/ 86400 h 457200"/>
                <a:gd name="textAreaBottom" fmla="*/ 37080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4084"/>
                  </a:moveTo>
                  <a:lnTo>
                    <a:pt x="17393" y="4084"/>
                  </a:lnTo>
                  <a:lnTo>
                    <a:pt x="17393" y="0"/>
                  </a:lnTo>
                  <a:lnTo>
                    <a:pt x="21600" y="10800"/>
                  </a:lnTo>
                  <a:lnTo>
                    <a:pt x="17393" y="21600"/>
                  </a:lnTo>
                  <a:lnTo>
                    <a:pt x="17393" y="17516"/>
                  </a:lnTo>
                  <a:lnTo>
                    <a:pt x="3375" y="17516"/>
                  </a:lnTo>
                  <a:close/>
                </a:path>
                <a:path w="21600" h="21600">
                  <a:moveTo>
                    <a:pt x="0" y="4084"/>
                  </a:moveTo>
                  <a:lnTo>
                    <a:pt x="675" y="4084"/>
                  </a:lnTo>
                  <a:lnTo>
                    <a:pt x="675" y="17516"/>
                  </a:lnTo>
                  <a:lnTo>
                    <a:pt x="0" y="17516"/>
                  </a:lnTo>
                  <a:close/>
                </a:path>
                <a:path w="21600" h="21600">
                  <a:moveTo>
                    <a:pt x="1350" y="4084"/>
                  </a:moveTo>
                  <a:lnTo>
                    <a:pt x="2700" y="4084"/>
                  </a:lnTo>
                  <a:lnTo>
                    <a:pt x="2700" y="17516"/>
                  </a:lnTo>
                  <a:lnTo>
                    <a:pt x="1350" y="17516"/>
                  </a:lnTo>
                  <a:close/>
                </a:path>
              </a:pathLst>
            </a:cu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7473960" y="3660480"/>
              <a:ext cx="2238120" cy="825480"/>
            </a:xfrm>
            <a:prstGeom prst="borderCallout1">
              <a:avLst>
                <a:gd name="adj1" fmla="val 18750"/>
                <a:gd name="adj2" fmla="val -8333"/>
                <a:gd name="adj3" fmla="val 72143"/>
                <a:gd name="adj4" fmla="val -3475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tp.isc.org is at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xx.xxx.xxx.xx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4" name=""/>
          <p:cNvGrpSpPr/>
          <p:nvPr/>
        </p:nvGrpSpPr>
        <p:grpSpPr>
          <a:xfrm>
            <a:off x="4572000" y="1235160"/>
            <a:ext cx="3865320" cy="1508040"/>
            <a:chOff x="4572000" y="1235160"/>
            <a:chExt cx="3865320" cy="1508040"/>
          </a:xfrm>
        </p:grpSpPr>
        <p:sp>
          <p:nvSpPr>
            <p:cNvPr id="305" name=""/>
            <p:cNvSpPr/>
            <p:nvPr/>
          </p:nvSpPr>
          <p:spPr>
            <a:xfrm>
              <a:off x="6199200" y="1235160"/>
              <a:ext cx="2238120" cy="825480"/>
            </a:xfrm>
            <a:prstGeom prst="borderCallout1">
              <a:avLst>
                <a:gd name="adj1" fmla="val 18750"/>
                <a:gd name="adj2" fmla="val -8333"/>
                <a:gd name="adj3" fmla="val 88444"/>
                <a:gd name="adj4" fmla="val -37226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tp.isc.org is a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xx.xxx.xxx.xx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 rot="10800000">
              <a:off x="4572000" y="1447920"/>
              <a:ext cx="914400" cy="129528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360 h 1295280"/>
                <a:gd name="textAreaBottom" fmla="*/ 1296000 h 1295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7819" stAng="10800000" swAng="5400000"/>
                  <a:lnTo>
                    <a:pt x="15123" y="4341"/>
                  </a:lnTo>
                  <a:lnTo>
                    <a:pt x="15123" y="0"/>
                  </a:lnTo>
                  <a:lnTo>
                    <a:pt x="21600" y="6079"/>
                  </a:lnTo>
                  <a:lnTo>
                    <a:pt x="15123" y="12158"/>
                  </a:lnTo>
                  <a:lnTo>
                    <a:pt x="15123" y="7817"/>
                  </a:lnTo>
                  <a:lnTo>
                    <a:pt x="12427" y="7817"/>
                  </a:lnTo>
                  <a:arcTo wR="8951" hR="4343" stAng="16200000" swAng="-5400000"/>
                  <a:lnTo>
                    <a:pt x="3476" y="21600"/>
                  </a:lnTo>
                  <a:close/>
                </a:path>
              </a:pathLst>
            </a:cu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8610480" cy="1036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Name Server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8686800" cy="57150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ame servers are responsible f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317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tor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formation about the name spac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73320" indent="-25416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cluding additions, deletions, and chang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317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nswering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ries from resolvers and other name server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317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Querying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name servers for information about the name space they don’t already know, 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317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ching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ormation they learn about the name space from other name serv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8610480" cy="1036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Name Server Architectur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8991720" cy="57150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You can think of a name server as par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317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atabase server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swering queries about the parts of the name space it knows about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317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gent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lping resolvers and other name servers find data that other name servers know about, 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317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che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mporarily storing data it learns from other name serv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8610480" cy="1036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Domain Name System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8686800" cy="57150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system which permits humans to use names and machines to use addr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calab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317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 90 million entries in the global DNS n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sist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317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get the same answer where ever you 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sili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317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fically designed to avoid single points of fail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the DNS, the Internet would not be usab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spcBef>
                <a:spcPts val="75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8610480" cy="1036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Name Server Dat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8686800" cy="57150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ame servers store information about the name space in units of zo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317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name servers that load a complete zone are said to “have authority for” or “be authoritative for” the z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sually, more than one name server is authoritative for the same zo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317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ensures redundancy and spreads the loa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lso, a single name server may be authoritative for many zo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8610480" cy="1036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ata in the Name Spac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8686800" cy="57150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domain name in the name space points to one or more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source records,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R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r shor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resource record has a class and a type associated with i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317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lass specifies what kind of network (e.g., TCP/IP) the record describ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317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type specifies what type of data (e.g., address) the record st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8610480" cy="1036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source Record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8686800" cy="57150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source records have as many as five fields, some of which are optional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317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Owner: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domain name of the node to which the record is attach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317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ime to live (TTL)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long to keep the record in a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317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las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the kind of network this record describ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317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ype: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indication of the function of this rec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317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DATA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rd-specific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73320" indent="-25416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RDATA can be further subdivided into type-specific field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8610480" cy="1036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cord Class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8686800" cy="57150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y far the most common class of data is the Internet class, abbreviated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317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specifies, for example, that the addresses stored are IP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ther classes includ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317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esiod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MIT’s Hesiod network protocol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317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OSNET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the (largely historical) CHAOSNET protocols (also out of MI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8610480" cy="1036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Zone Data Fil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8686800" cy="57150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source records are collected into “RR Sets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317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llection of all RRs with the same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ll RR Sets associated with a zone are kept in “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zone database file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”, also called database files or db fil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Zone database files are usually named after the zone whose records they contai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317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UNIX, usually db.zone, e.g., db.acme or db.acme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317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NT with the Microsoft DNS Server, usually zone.dns, e.g., acmebw.com.d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8610480" cy="1036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Name Servers and Zon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1981080" y="2214720"/>
            <a:ext cx="1214640" cy="1214280"/>
          </a:xfrm>
          <a:prstGeom prst="cube">
            <a:avLst>
              <a:gd name="adj" fmla="val 2500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514600"/>
            <a:ext cx="914400" cy="1214280"/>
          </a:xfrm>
          <a:prstGeom prst="can">
            <a:avLst>
              <a:gd name="adj" fmla="val 2500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mebw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981080" y="5415120"/>
            <a:ext cx="1214640" cy="1214280"/>
          </a:xfrm>
          <a:prstGeom prst="cube">
            <a:avLst>
              <a:gd name="adj" fmla="val 2500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981080" y="3738600"/>
            <a:ext cx="1214640" cy="1214280"/>
          </a:xfrm>
          <a:prstGeom prst="cube">
            <a:avLst>
              <a:gd name="adj" fmla="val 2500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602720" y="1371600"/>
            <a:ext cx="212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me Ser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791320" y="4272120"/>
            <a:ext cx="914400" cy="1214280"/>
          </a:xfrm>
          <a:prstGeom prst="can">
            <a:avLst>
              <a:gd name="adj" fmla="val 2500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info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676120" y="1371600"/>
            <a:ext cx="102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352680" y="2743200"/>
            <a:ext cx="23623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352680" y="2743200"/>
            <a:ext cx="221004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3352680" y="3352680"/>
            <a:ext cx="190512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flipV="1">
            <a:off x="3505320" y="5181120"/>
            <a:ext cx="20574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8610480" cy="1036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ypes of Name Servers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8686800" cy="57150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6000"/>
          </a:bodyPr>
          <a:p>
            <a:pPr marL="367200" indent="-3672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primary master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name server for a zone loads the zone’s data from a file on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67200" indent="-3672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slav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name server for a zone loads the zone’s data from another authoritative name server (often the primary master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304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quivalent BIND 4 term for slave was “secondary maste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304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erver the slave gets its zone data from is called it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ast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er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7200" indent="-3672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single name server can be the primary master for some zones and a slave for other zo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304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lationship is defined zone-by-z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5" name=""/>
          <p:cNvGrpSpPr/>
          <p:nvPr/>
        </p:nvGrpSpPr>
        <p:grpSpPr>
          <a:xfrm>
            <a:off x="6095880" y="3809520"/>
            <a:ext cx="695520" cy="1219680"/>
            <a:chOff x="6095880" y="3809520"/>
            <a:chExt cx="695520" cy="1219680"/>
          </a:xfrm>
        </p:grpSpPr>
        <p:sp>
          <p:nvSpPr>
            <p:cNvPr id="336" name=""/>
            <p:cNvSpPr/>
            <p:nvPr/>
          </p:nvSpPr>
          <p:spPr>
            <a:xfrm flipV="1">
              <a:off x="6095880" y="3809160"/>
              <a:ext cx="695520" cy="1165320"/>
            </a:xfrm>
            <a:custGeom>
              <a:avLst/>
              <a:gdLst>
                <a:gd name="textAreaLeft" fmla="*/ 0 w 695520"/>
                <a:gd name="textAreaRight" fmla="*/ 695880 w 695520"/>
                <a:gd name="textAreaTop" fmla="*/ -360 h 1165320"/>
                <a:gd name="textAreaBottom" fmla="*/ 1165320 h 1165320"/>
              </a:gdLst>
              <a:ahLst/>
              <a:rect l="textAreaLeft" t="textAreaTop" r="textAreaRight" b="textAreaBottom"/>
              <a:pathLst>
                <a:path w="21600" h="36183">
                  <a:moveTo>
                    <a:pt x="0" y="0"/>
                  </a:moveTo>
                  <a:arcTo wR="0" hR="0" stAng="16200000" swAng="-5400000"/>
                  <a:lnTo>
                    <a:pt x="0" y="36183"/>
                  </a:lnTo>
                  <a:arcTo wR="0" hR="0" stAng="10800000" swAng="-5400000"/>
                  <a:lnTo>
                    <a:pt x="21600" y="36183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a2a2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6110280" y="4975200"/>
              <a:ext cx="673200" cy="5400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560" bIns="7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132600" y="3809880"/>
              <a:ext cx="0" cy="1165320"/>
            </a:xfrm>
            <a:prstGeom prst="line">
              <a:avLst/>
            </a:prstGeom>
            <a:ln w="9360">
              <a:solidFill>
                <a:srgbClr val="2f2f2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137280" y="3819600"/>
              <a:ext cx="615960" cy="1154160"/>
            </a:xfrm>
            <a:custGeom>
              <a:avLst/>
              <a:gdLst/>
              <a:ahLst/>
              <a:rect l="l" t="t" r="r" b="b"/>
              <a:pathLst>
                <a:path w="388" h="727">
                  <a:moveTo>
                    <a:pt x="0" y="726"/>
                  </a:moveTo>
                  <a:lnTo>
                    <a:pt x="0" y="0"/>
                  </a:lnTo>
                  <a:lnTo>
                    <a:pt x="387" y="0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6099120" y="3814560"/>
              <a:ext cx="28440" cy="1155960"/>
            </a:xfrm>
            <a:custGeom>
              <a:avLst/>
              <a:gdLst/>
              <a:ahLst/>
              <a:rect l="l" t="t" r="r" b="b"/>
              <a:pathLst>
                <a:path w="18" h="728">
                  <a:moveTo>
                    <a:pt x="0" y="727"/>
                  </a:moveTo>
                  <a:lnTo>
                    <a:pt x="0" y="0"/>
                  </a:lnTo>
                  <a:lnTo>
                    <a:pt x="17" y="0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6757920" y="3814560"/>
              <a:ext cx="31680" cy="1155960"/>
            </a:xfrm>
            <a:custGeom>
              <a:avLst/>
              <a:gdLst/>
              <a:ahLst/>
              <a:rect l="l" t="t" r="r" b="b"/>
              <a:pathLst>
                <a:path w="20" h="728">
                  <a:moveTo>
                    <a:pt x="0" y="0"/>
                  </a:moveTo>
                  <a:lnTo>
                    <a:pt x="19" y="0"/>
                  </a:lnTo>
                  <a:lnTo>
                    <a:pt x="19" y="727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757920" y="3809880"/>
              <a:ext cx="0" cy="1173240"/>
            </a:xfrm>
            <a:prstGeom prst="line">
              <a:avLst/>
            </a:prstGeom>
            <a:ln w="9360">
              <a:solidFill>
                <a:srgbClr val="2f2f2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6156360" y="3893400"/>
              <a:ext cx="120600" cy="25380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-360 h 253800"/>
                <a:gd name="textAreaBottom" fmla="*/ 253800 h 253800"/>
              </a:gdLst>
              <a:ahLst/>
              <a:rect l="textAreaLeft" t="textAreaTop" r="textAreaRight" b="textAreaBottom"/>
              <a:pathLst>
                <a:path w="21600" h="45386">
                  <a:moveTo>
                    <a:pt x="0" y="0"/>
                  </a:moveTo>
                  <a:arcTo wR="0" hR="0" stAng="16200000" swAng="-5400000"/>
                  <a:lnTo>
                    <a:pt x="0" y="45386"/>
                  </a:lnTo>
                  <a:arcTo wR="0" hR="0" stAng="10800000" swAng="-5400000"/>
                  <a:lnTo>
                    <a:pt x="21600" y="45386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6167520" y="3908520"/>
              <a:ext cx="96840" cy="226800"/>
            </a:xfrm>
            <a:custGeom>
              <a:avLst/>
              <a:gdLst>
                <a:gd name="textAreaLeft" fmla="*/ 0 w 96840"/>
                <a:gd name="textAreaRight" fmla="*/ 97200 w 96840"/>
                <a:gd name="textAreaTop" fmla="*/ 360 h 226800"/>
                <a:gd name="textAreaBottom" fmla="*/ 227520 h 226800"/>
              </a:gdLst>
              <a:ahLst/>
              <a:rect l="textAreaLeft" t="textAreaTop" r="textAreaRight" b="textAreaBottom"/>
              <a:pathLst>
                <a:path w="21600" h="50480">
                  <a:moveTo>
                    <a:pt x="0" y="0"/>
                  </a:moveTo>
                  <a:arcTo wR="0" hR="0" stAng="16200000" swAng="-5400000"/>
                  <a:lnTo>
                    <a:pt x="0" y="50480"/>
                  </a:lnTo>
                  <a:arcTo wR="0" hR="0" stAng="10800000" swAng="-5400000"/>
                  <a:lnTo>
                    <a:pt x="21600" y="5048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flipV="1">
              <a:off x="6172200" y="4062240"/>
              <a:ext cx="90360" cy="66960"/>
            </a:xfrm>
            <a:prstGeom prst="roundRect">
              <a:avLst>
                <a:gd name="adj" fmla="val 0"/>
              </a:avLst>
            </a:prstGeom>
            <a:solidFill>
              <a:srgbClr val="c0c0c0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6172200" y="3913200"/>
              <a:ext cx="39600" cy="14616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360 h 146160"/>
                <a:gd name="textAreaBottom" fmla="*/ 146880 h 146160"/>
              </a:gdLst>
              <a:ahLst/>
              <a:rect l="textAreaLeft" t="textAreaTop" r="textAreaRight" b="textAreaBottom"/>
              <a:pathLst>
                <a:path w="21600" h="79200">
                  <a:moveTo>
                    <a:pt x="0" y="0"/>
                  </a:moveTo>
                  <a:arcTo wR="0" hR="0" stAng="16200000" swAng="-5400000"/>
                  <a:lnTo>
                    <a:pt x="0" y="79200"/>
                  </a:lnTo>
                  <a:arcTo wR="0" hR="0" stAng="10800000" swAng="-5400000"/>
                  <a:lnTo>
                    <a:pt x="21600" y="7920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 flipV="1">
              <a:off x="6230880" y="3918600"/>
              <a:ext cx="27000" cy="12564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125640"/>
                <a:gd name="textAreaBottom" fmla="*/ 125640 h 125640"/>
              </a:gdLst>
              <a:ahLst/>
              <a:rect l="textAreaLeft" t="textAreaTop" r="textAreaRight" b="textAreaBottom"/>
              <a:pathLst>
                <a:path w="21600" h="99474">
                  <a:moveTo>
                    <a:pt x="0" y="0"/>
                  </a:moveTo>
                  <a:arcTo wR="0" hR="0" stAng="16200000" swAng="-5400000"/>
                  <a:lnTo>
                    <a:pt x="0" y="99474"/>
                  </a:lnTo>
                  <a:arcTo wR="0" hR="0" stAng="10800000" swAng="-5400000"/>
                  <a:lnTo>
                    <a:pt x="21600" y="99474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 flipV="1">
              <a:off x="6180120" y="3953520"/>
              <a:ext cx="23760" cy="9396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-360 h 93960"/>
                <a:gd name="textAreaBottom" fmla="*/ 93960 h 93960"/>
              </a:gdLst>
              <a:ahLst/>
              <a:rect l="textAreaLeft" t="textAreaTop" r="textAreaRight" b="textAreaBottom"/>
              <a:pathLst>
                <a:path w="21600" h="84466">
                  <a:moveTo>
                    <a:pt x="0" y="0"/>
                  </a:moveTo>
                  <a:arcTo wR="0" hR="0" stAng="16200000" swAng="-5400000"/>
                  <a:lnTo>
                    <a:pt x="0" y="84466"/>
                  </a:lnTo>
                  <a:arcTo wR="0" hR="0" stAng="10800000" swAng="-5400000"/>
                  <a:lnTo>
                    <a:pt x="21600" y="84466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 flipV="1">
              <a:off x="6181560" y="3954240"/>
              <a:ext cx="22320" cy="6480"/>
            </a:xfrm>
            <a:prstGeom prst="roundRect">
              <a:avLst>
                <a:gd name="adj" fmla="val 0"/>
              </a:avLst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960" bIns="-39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 flipV="1">
              <a:off x="6211800" y="3913200"/>
              <a:ext cx="6480" cy="14616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0 h 146160"/>
                <a:gd name="textAreaBottom" fmla="*/ 146160 h 146160"/>
              </a:gdLst>
              <a:ahLst/>
              <a:rect l="textAreaLeft" t="textAreaTop" r="textAreaRight" b="textAreaBottom"/>
              <a:pathLst>
                <a:path w="21600" h="462695">
                  <a:moveTo>
                    <a:pt x="0" y="0"/>
                  </a:moveTo>
                  <a:arcTo wR="0" hR="0" stAng="16200000" swAng="-5400000"/>
                  <a:lnTo>
                    <a:pt x="0" y="462695"/>
                  </a:lnTo>
                  <a:arcTo wR="0" hR="0" stAng="10800000" swAng="-5400000"/>
                  <a:lnTo>
                    <a:pt x="21600" y="462695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V="1">
              <a:off x="6222960" y="3918600"/>
              <a:ext cx="12600" cy="12564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-360 h 125640"/>
                <a:gd name="textAreaBottom" fmla="*/ 125640 h 125640"/>
              </a:gdLst>
              <a:ahLst/>
              <a:rect l="textAreaLeft" t="textAreaTop" r="textAreaRight" b="textAreaBottom"/>
              <a:pathLst>
                <a:path w="21600" h="210000">
                  <a:moveTo>
                    <a:pt x="0" y="0"/>
                  </a:moveTo>
                  <a:arcTo wR="0" hR="0" stAng="16200000" swAng="-5400000"/>
                  <a:lnTo>
                    <a:pt x="0" y="210000"/>
                  </a:lnTo>
                  <a:arcTo wR="0" hR="0" stAng="10800000" swAng="-5400000"/>
                  <a:lnTo>
                    <a:pt x="21600" y="21000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 flipV="1">
              <a:off x="6194520" y="4071960"/>
              <a:ext cx="11160" cy="5400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360 h 54000"/>
                <a:gd name="textAreaBottom" fmla="*/ 54720 h 54000"/>
              </a:gdLst>
              <a:ahLst/>
              <a:rect l="textAreaLeft" t="textAreaTop" r="textAreaRight" b="textAreaBottom"/>
              <a:pathLst>
                <a:path w="21600" h="101925">
                  <a:moveTo>
                    <a:pt x="0" y="0"/>
                  </a:moveTo>
                  <a:arcTo wR="0" hR="0" stAng="16200000" swAng="-5400000"/>
                  <a:lnTo>
                    <a:pt x="0" y="101925"/>
                  </a:lnTo>
                  <a:arcTo wR="0" hR="0" stAng="10800000" swAng="-5400000"/>
                  <a:lnTo>
                    <a:pt x="21600" y="101925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8f8f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560" bIns="7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180120" y="4076640"/>
              <a:ext cx="9360" cy="9360"/>
            </a:xfrm>
            <a:prstGeom prst="ellipse">
              <a:avLst/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180120" y="4103640"/>
              <a:ext cx="9360" cy="7920"/>
            </a:xfrm>
            <a:prstGeom prst="ellipse">
              <a:avLst/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156360" y="3892320"/>
              <a:ext cx="125280" cy="260640"/>
            </a:xfrm>
            <a:custGeom>
              <a:avLst/>
              <a:gdLst/>
              <a:ahLst/>
              <a:rect l="l" t="t" r="r" b="b"/>
              <a:pathLst>
                <a:path w="79" h="164">
                  <a:moveTo>
                    <a:pt x="77" y="0"/>
                  </a:moveTo>
                  <a:lnTo>
                    <a:pt x="78" y="163"/>
                  </a:lnTo>
                  <a:lnTo>
                    <a:pt x="0" y="163"/>
                  </a:lnTo>
                </a:path>
              </a:pathLst>
            </a:custGeom>
            <a:noFill/>
            <a:ln w="9360">
              <a:solidFill>
                <a:srgbClr val="404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 flipV="1">
              <a:off x="6235560" y="4073400"/>
              <a:ext cx="9720" cy="2088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360 h 20880"/>
                <a:gd name="textAreaBottom" fmla="*/ 21600 h 20880"/>
              </a:gdLst>
              <a:ahLst/>
              <a:rect l="textAreaLeft" t="textAreaTop" r="textAreaRight" b="textAreaBottom"/>
              <a:pathLst>
                <a:path w="21600" h="45514">
                  <a:moveTo>
                    <a:pt x="0" y="0"/>
                  </a:moveTo>
                  <a:arcTo wR="0" hR="0" stAng="16200000" swAng="-5400000"/>
                  <a:lnTo>
                    <a:pt x="0" y="45514"/>
                  </a:lnTo>
                  <a:arcTo wR="0" hR="0" stAng="10800000" swAng="-5400000"/>
                  <a:lnTo>
                    <a:pt x="21600" y="45514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8f8f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313320" y="3901320"/>
              <a:ext cx="419400" cy="24300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315120" y="3944880"/>
              <a:ext cx="414360" cy="792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520" bIns="-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 flipV="1">
              <a:off x="6315120" y="3991680"/>
              <a:ext cx="414360" cy="972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720" bIns="-36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315120" y="4044960"/>
              <a:ext cx="414360" cy="792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520" bIns="-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315120" y="4094280"/>
              <a:ext cx="414360" cy="792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520" bIns="-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2" name=""/>
            <p:cNvGrpSpPr/>
            <p:nvPr/>
          </p:nvGrpSpPr>
          <p:grpSpPr>
            <a:xfrm>
              <a:off x="6334200" y="3903480"/>
              <a:ext cx="377640" cy="241560"/>
              <a:chOff x="6334200" y="3903480"/>
              <a:chExt cx="377640" cy="241560"/>
            </a:xfrm>
          </p:grpSpPr>
          <p:sp>
            <p:nvSpPr>
              <p:cNvPr id="363" name=""/>
              <p:cNvSpPr/>
              <p:nvPr/>
            </p:nvSpPr>
            <p:spPr>
              <a:xfrm>
                <a:off x="6334200" y="3903480"/>
                <a:ext cx="0" cy="2415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6356160" y="3903480"/>
                <a:ext cx="0" cy="2415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6375240" y="3903480"/>
                <a:ext cx="0" cy="2415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6394320" y="3903480"/>
                <a:ext cx="0" cy="2415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6415200" y="3903480"/>
                <a:ext cx="0" cy="2415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6434280" y="3903480"/>
                <a:ext cx="0" cy="2415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6453000" y="3903480"/>
                <a:ext cx="0" cy="2415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6473880" y="3903480"/>
                <a:ext cx="0" cy="2415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6494400" y="3903480"/>
                <a:ext cx="0" cy="2415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6514920" y="3903480"/>
                <a:ext cx="0" cy="2415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6534000" y="3903480"/>
                <a:ext cx="0" cy="2415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6553080" y="3903480"/>
                <a:ext cx="0" cy="2415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6573960" y="3903480"/>
                <a:ext cx="0" cy="2415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6591240" y="3903480"/>
                <a:ext cx="0" cy="2415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6613560" y="3903480"/>
                <a:ext cx="0" cy="2415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6634080" y="3903480"/>
                <a:ext cx="0" cy="2415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6653160" y="3903480"/>
                <a:ext cx="0" cy="2415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6672240" y="3903480"/>
                <a:ext cx="0" cy="2415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6692760" y="3903480"/>
                <a:ext cx="0" cy="2415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6711840" y="3903480"/>
                <a:ext cx="0" cy="2415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3" name=""/>
            <p:cNvSpPr/>
            <p:nvPr/>
          </p:nvSpPr>
          <p:spPr>
            <a:xfrm flipV="1">
              <a:off x="6313320" y="4313160"/>
              <a:ext cx="419400" cy="23976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 flipV="1">
              <a:off x="6315120" y="4354560"/>
              <a:ext cx="414360" cy="936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 flipV="1">
              <a:off x="6315120" y="4403520"/>
              <a:ext cx="414360" cy="792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520" bIns="-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 flipV="1">
              <a:off x="6315120" y="4456080"/>
              <a:ext cx="414360" cy="648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960" bIns="-39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 flipV="1">
              <a:off x="6315120" y="4503600"/>
              <a:ext cx="414360" cy="792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520" bIns="-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8" name=""/>
            <p:cNvGrpSpPr/>
            <p:nvPr/>
          </p:nvGrpSpPr>
          <p:grpSpPr>
            <a:xfrm>
              <a:off x="6334200" y="4313160"/>
              <a:ext cx="377640" cy="239760"/>
              <a:chOff x="6334200" y="4313160"/>
              <a:chExt cx="377640" cy="239760"/>
            </a:xfrm>
          </p:grpSpPr>
          <p:sp>
            <p:nvSpPr>
              <p:cNvPr id="389" name=""/>
              <p:cNvSpPr/>
              <p:nvPr/>
            </p:nvSpPr>
            <p:spPr>
              <a:xfrm>
                <a:off x="6334200" y="4313160"/>
                <a:ext cx="0" cy="239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6356160" y="4313160"/>
                <a:ext cx="0" cy="239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6375240" y="4313160"/>
                <a:ext cx="0" cy="239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6394320" y="4313160"/>
                <a:ext cx="0" cy="239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6415200" y="4313160"/>
                <a:ext cx="0" cy="239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6434280" y="4313160"/>
                <a:ext cx="0" cy="239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6453000" y="4313160"/>
                <a:ext cx="0" cy="239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6473880" y="4313160"/>
                <a:ext cx="0" cy="239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494400" y="4313160"/>
                <a:ext cx="0" cy="239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6514920" y="4313160"/>
                <a:ext cx="0" cy="239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6534000" y="4313160"/>
                <a:ext cx="0" cy="239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6553080" y="4313160"/>
                <a:ext cx="0" cy="239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6573960" y="4313160"/>
                <a:ext cx="0" cy="239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6591240" y="4313160"/>
                <a:ext cx="0" cy="239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6613560" y="4313160"/>
                <a:ext cx="0" cy="239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6634080" y="4313160"/>
                <a:ext cx="0" cy="239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6653160" y="4313160"/>
                <a:ext cx="0" cy="239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6672240" y="4313160"/>
                <a:ext cx="0" cy="239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6692760" y="4313160"/>
                <a:ext cx="0" cy="239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6711840" y="4313160"/>
                <a:ext cx="0" cy="239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9" name=""/>
            <p:cNvSpPr/>
            <p:nvPr/>
          </p:nvSpPr>
          <p:spPr>
            <a:xfrm flipV="1">
              <a:off x="6313320" y="4707000"/>
              <a:ext cx="419400" cy="23976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 flipV="1">
              <a:off x="6315120" y="4748040"/>
              <a:ext cx="414360" cy="792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520" bIns="-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 flipV="1">
              <a:off x="6315120" y="4797360"/>
              <a:ext cx="414360" cy="648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960" bIns="-39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 flipV="1">
              <a:off x="6315120" y="4848120"/>
              <a:ext cx="414360" cy="792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520" bIns="-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 flipV="1">
              <a:off x="6315120" y="4897440"/>
              <a:ext cx="414360" cy="936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4" name=""/>
            <p:cNvGrpSpPr/>
            <p:nvPr/>
          </p:nvGrpSpPr>
          <p:grpSpPr>
            <a:xfrm>
              <a:off x="6334200" y="4707000"/>
              <a:ext cx="377640" cy="239760"/>
              <a:chOff x="6334200" y="4707000"/>
              <a:chExt cx="377640" cy="239760"/>
            </a:xfrm>
          </p:grpSpPr>
          <p:sp>
            <p:nvSpPr>
              <p:cNvPr id="415" name=""/>
              <p:cNvSpPr/>
              <p:nvPr/>
            </p:nvSpPr>
            <p:spPr>
              <a:xfrm>
                <a:off x="6334200" y="4707000"/>
                <a:ext cx="0" cy="239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6356160" y="4707000"/>
                <a:ext cx="0" cy="239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6375240" y="4707000"/>
                <a:ext cx="0" cy="239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6394320" y="4707000"/>
                <a:ext cx="0" cy="239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6415200" y="4707000"/>
                <a:ext cx="0" cy="239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6434280" y="4707000"/>
                <a:ext cx="0" cy="239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6453000" y="4707000"/>
                <a:ext cx="0" cy="239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6473880" y="4707000"/>
                <a:ext cx="0" cy="239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6494400" y="4707000"/>
                <a:ext cx="0" cy="239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6514920" y="4707000"/>
                <a:ext cx="0" cy="239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6534000" y="4707000"/>
                <a:ext cx="0" cy="239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6553080" y="4707000"/>
                <a:ext cx="0" cy="239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6573960" y="4707000"/>
                <a:ext cx="0" cy="239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6591240" y="4707000"/>
                <a:ext cx="0" cy="239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6613560" y="4707000"/>
                <a:ext cx="0" cy="239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6634080" y="4707000"/>
                <a:ext cx="0" cy="239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6653160" y="4707000"/>
                <a:ext cx="0" cy="239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6672240" y="4707000"/>
                <a:ext cx="0" cy="239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6692760" y="4707000"/>
                <a:ext cx="0" cy="239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6711840" y="4707000"/>
                <a:ext cx="0" cy="239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5" name=""/>
            <p:cNvSpPr/>
            <p:nvPr/>
          </p:nvSpPr>
          <p:spPr>
            <a:xfrm flipV="1">
              <a:off x="6156360" y="4191840"/>
              <a:ext cx="108000" cy="284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0" bIns="-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6156360" y="4192560"/>
              <a:ext cx="109440" cy="31680"/>
            </a:xfrm>
            <a:custGeom>
              <a:avLst/>
              <a:gdLst/>
              <a:ahLst/>
              <a:rect l="l" t="t" r="r" b="b"/>
              <a:pathLst>
                <a:path w="69" h="20">
                  <a:moveTo>
                    <a:pt x="0" y="19"/>
                  </a:moveTo>
                  <a:lnTo>
                    <a:pt x="68" y="19"/>
                  </a:lnTo>
                  <a:lnTo>
                    <a:pt x="68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V="1">
              <a:off x="6156360" y="4241160"/>
              <a:ext cx="154080" cy="378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6156360" y="4241880"/>
              <a:ext cx="158760" cy="41040"/>
            </a:xfrm>
            <a:custGeom>
              <a:avLst/>
              <a:gdLst/>
              <a:ahLst/>
              <a:rect l="l" t="t" r="r" b="b"/>
              <a:pathLst>
                <a:path w="100" h="26">
                  <a:moveTo>
                    <a:pt x="0" y="25"/>
                  </a:moveTo>
                  <a:lnTo>
                    <a:pt x="99" y="25"/>
                  </a:lnTo>
                  <a:lnTo>
                    <a:pt x="99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9" name=""/>
          <p:cNvGrpSpPr/>
          <p:nvPr/>
        </p:nvGrpSpPr>
        <p:grpSpPr>
          <a:xfrm>
            <a:off x="2813040" y="3817440"/>
            <a:ext cx="693720" cy="1219680"/>
            <a:chOff x="2813040" y="3817440"/>
            <a:chExt cx="693720" cy="1219680"/>
          </a:xfrm>
        </p:grpSpPr>
        <p:sp>
          <p:nvSpPr>
            <p:cNvPr id="440" name=""/>
            <p:cNvSpPr/>
            <p:nvPr/>
          </p:nvSpPr>
          <p:spPr>
            <a:xfrm flipV="1">
              <a:off x="2813040" y="3817080"/>
              <a:ext cx="693720" cy="1165320"/>
            </a:xfrm>
            <a:custGeom>
              <a:avLst/>
              <a:gdLst>
                <a:gd name="textAreaLeft" fmla="*/ 0 w 693720"/>
                <a:gd name="textAreaRight" fmla="*/ 694080 w 693720"/>
                <a:gd name="textAreaTop" fmla="*/ -360 h 1165320"/>
                <a:gd name="textAreaBottom" fmla="*/ 1165320 h 1165320"/>
              </a:gdLst>
              <a:ahLst/>
              <a:rect l="textAreaLeft" t="textAreaTop" r="textAreaRight" b="textAreaBottom"/>
              <a:pathLst>
                <a:path w="21600" h="36276">
                  <a:moveTo>
                    <a:pt x="0" y="0"/>
                  </a:moveTo>
                  <a:arcTo wR="0" hR="0" stAng="16200000" swAng="-5400000"/>
                  <a:lnTo>
                    <a:pt x="0" y="36276"/>
                  </a:lnTo>
                  <a:arcTo wR="0" hR="0" stAng="10800000" swAng="-5400000"/>
                  <a:lnTo>
                    <a:pt x="21600" y="36276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a2a2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 flipV="1">
              <a:off x="2827440" y="4983120"/>
              <a:ext cx="671400" cy="5400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560" bIns="7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2847960" y="3817800"/>
              <a:ext cx="0" cy="1165320"/>
            </a:xfrm>
            <a:prstGeom prst="line">
              <a:avLst/>
            </a:prstGeom>
            <a:ln w="9360">
              <a:solidFill>
                <a:srgbClr val="2f2f2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2854440" y="3827520"/>
              <a:ext cx="614160" cy="1152360"/>
            </a:xfrm>
            <a:custGeom>
              <a:avLst/>
              <a:gdLst/>
              <a:ahLst/>
              <a:rect l="l" t="t" r="r" b="b"/>
              <a:pathLst>
                <a:path w="387" h="726">
                  <a:moveTo>
                    <a:pt x="0" y="725"/>
                  </a:moveTo>
                  <a:lnTo>
                    <a:pt x="0" y="0"/>
                  </a:lnTo>
                  <a:lnTo>
                    <a:pt x="386" y="0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14480" y="3822480"/>
              <a:ext cx="28800" cy="1154160"/>
            </a:xfrm>
            <a:custGeom>
              <a:avLst/>
              <a:gdLst/>
              <a:ahLst/>
              <a:rect l="l" t="t" r="r" b="b"/>
              <a:pathLst>
                <a:path w="18" h="727">
                  <a:moveTo>
                    <a:pt x="0" y="726"/>
                  </a:moveTo>
                  <a:lnTo>
                    <a:pt x="0" y="0"/>
                  </a:lnTo>
                  <a:lnTo>
                    <a:pt x="17" y="0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3473280" y="3822480"/>
              <a:ext cx="32040" cy="1154160"/>
            </a:xfrm>
            <a:custGeom>
              <a:avLst/>
              <a:gdLst/>
              <a:ahLst/>
              <a:rect l="l" t="t" r="r" b="b"/>
              <a:pathLst>
                <a:path w="20" h="727">
                  <a:moveTo>
                    <a:pt x="0" y="0"/>
                  </a:moveTo>
                  <a:lnTo>
                    <a:pt x="19" y="0"/>
                  </a:lnTo>
                  <a:lnTo>
                    <a:pt x="19" y="726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473280" y="3817800"/>
              <a:ext cx="0" cy="1171800"/>
            </a:xfrm>
            <a:prstGeom prst="line">
              <a:avLst/>
            </a:prstGeom>
            <a:ln w="9360">
              <a:solidFill>
                <a:srgbClr val="2f2f2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 flipV="1">
              <a:off x="2871720" y="3901320"/>
              <a:ext cx="120600" cy="25380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-360 h 253800"/>
                <a:gd name="textAreaBottom" fmla="*/ 253800 h 253800"/>
              </a:gdLst>
              <a:ahLst/>
              <a:rect l="textAreaLeft" t="textAreaTop" r="textAreaRight" b="textAreaBottom"/>
              <a:pathLst>
                <a:path w="21600" h="45386">
                  <a:moveTo>
                    <a:pt x="0" y="0"/>
                  </a:moveTo>
                  <a:arcTo wR="0" hR="0" stAng="16200000" swAng="-5400000"/>
                  <a:lnTo>
                    <a:pt x="0" y="45386"/>
                  </a:lnTo>
                  <a:arcTo wR="0" hR="0" stAng="10800000" swAng="-5400000"/>
                  <a:lnTo>
                    <a:pt x="21600" y="45386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 flipV="1">
              <a:off x="2884320" y="3913920"/>
              <a:ext cx="95400" cy="227160"/>
            </a:xfrm>
            <a:custGeom>
              <a:avLst/>
              <a:gdLst>
                <a:gd name="textAreaLeft" fmla="*/ 0 w 95400"/>
                <a:gd name="textAreaRight" fmla="*/ 95760 w 95400"/>
                <a:gd name="textAreaTop" fmla="*/ -360 h 227160"/>
                <a:gd name="textAreaBottom" fmla="*/ 227160 h 227160"/>
              </a:gdLst>
              <a:ahLst/>
              <a:rect l="textAreaLeft" t="textAreaTop" r="textAreaRight" b="textAreaBottom"/>
              <a:pathLst>
                <a:path w="21600" h="51320">
                  <a:moveTo>
                    <a:pt x="0" y="0"/>
                  </a:moveTo>
                  <a:arcTo wR="0" hR="0" stAng="16200000" swAng="-5400000"/>
                  <a:lnTo>
                    <a:pt x="0" y="51320"/>
                  </a:lnTo>
                  <a:arcTo wR="0" hR="0" stAng="10800000" swAng="-5400000"/>
                  <a:lnTo>
                    <a:pt x="21600" y="5132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 flipV="1">
              <a:off x="2887560" y="4070160"/>
              <a:ext cx="88920" cy="66960"/>
            </a:xfrm>
            <a:prstGeom prst="roundRect">
              <a:avLst>
                <a:gd name="adj" fmla="val 0"/>
              </a:avLst>
            </a:prstGeom>
            <a:solidFill>
              <a:srgbClr val="c0c0c0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 flipV="1">
              <a:off x="2887560" y="3921120"/>
              <a:ext cx="39600" cy="14616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360 h 146160"/>
                <a:gd name="textAreaBottom" fmla="*/ 146880 h 146160"/>
              </a:gdLst>
              <a:ahLst/>
              <a:rect l="textAreaLeft" t="textAreaTop" r="textAreaRight" b="textAreaBottom"/>
              <a:pathLst>
                <a:path w="21600" h="79200">
                  <a:moveTo>
                    <a:pt x="0" y="0"/>
                  </a:moveTo>
                  <a:arcTo wR="0" hR="0" stAng="16200000" swAng="-5400000"/>
                  <a:lnTo>
                    <a:pt x="0" y="79200"/>
                  </a:lnTo>
                  <a:arcTo wR="0" hR="0" stAng="10800000" swAng="-5400000"/>
                  <a:lnTo>
                    <a:pt x="21600" y="7920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V="1">
              <a:off x="2946240" y="3923640"/>
              <a:ext cx="25560" cy="12852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-360 h 128520"/>
                <a:gd name="textAreaBottom" fmla="*/ 128520 h 128520"/>
              </a:gdLst>
              <a:ahLst/>
              <a:rect l="textAreaLeft" t="textAreaTop" r="textAreaRight" b="textAreaBottom"/>
              <a:pathLst>
                <a:path w="21600" h="107400">
                  <a:moveTo>
                    <a:pt x="0" y="0"/>
                  </a:moveTo>
                  <a:arcTo wR="0" hR="0" stAng="16200000" swAng="-5400000"/>
                  <a:lnTo>
                    <a:pt x="0" y="107400"/>
                  </a:lnTo>
                  <a:arcTo wR="0" hR="0" stAng="10800000" swAng="-5400000"/>
                  <a:lnTo>
                    <a:pt x="21600" y="10740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V="1">
              <a:off x="2897280" y="3962520"/>
              <a:ext cx="21960" cy="936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360 h 93600"/>
                <a:gd name="textAreaBottom" fmla="*/ 94320 h 93600"/>
              </a:gdLst>
              <a:ahLst/>
              <a:rect l="textAreaLeft" t="textAreaTop" r="textAreaRight" b="textAreaBottom"/>
              <a:pathLst>
                <a:path w="21600" h="90929">
                  <a:moveTo>
                    <a:pt x="0" y="0"/>
                  </a:moveTo>
                  <a:arcTo wR="0" hR="0" stAng="16200000" swAng="-5400000"/>
                  <a:lnTo>
                    <a:pt x="0" y="90929"/>
                  </a:lnTo>
                  <a:arcTo wR="0" hR="0" stAng="10800000" swAng="-5400000"/>
                  <a:lnTo>
                    <a:pt x="21600" y="90929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V="1">
              <a:off x="2897280" y="3960720"/>
              <a:ext cx="21960" cy="7920"/>
            </a:xfrm>
            <a:prstGeom prst="roundRect">
              <a:avLst>
                <a:gd name="adj" fmla="val 0"/>
              </a:avLst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520" bIns="-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 flipV="1">
              <a:off x="2927160" y="3921120"/>
              <a:ext cx="6480" cy="14616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0 h 146160"/>
                <a:gd name="textAreaBottom" fmla="*/ 146160 h 146160"/>
              </a:gdLst>
              <a:ahLst/>
              <a:rect l="textAreaLeft" t="textAreaTop" r="textAreaRight" b="textAreaBottom"/>
              <a:pathLst>
                <a:path w="21600" h="462695">
                  <a:moveTo>
                    <a:pt x="0" y="0"/>
                  </a:moveTo>
                  <a:arcTo wR="0" hR="0" stAng="16200000" swAng="-5400000"/>
                  <a:lnTo>
                    <a:pt x="0" y="462695"/>
                  </a:lnTo>
                  <a:arcTo wR="0" hR="0" stAng="10800000" swAng="-5400000"/>
                  <a:lnTo>
                    <a:pt x="21600" y="462695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 flipV="1">
              <a:off x="2940120" y="3923640"/>
              <a:ext cx="11160" cy="1285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-360 h 128520"/>
                <a:gd name="textAreaBottom" fmla="*/ 128520 h 128520"/>
              </a:gdLst>
              <a:ahLst/>
              <a:rect l="textAreaLeft" t="textAreaTop" r="textAreaRight" b="textAreaBottom"/>
              <a:pathLst>
                <a:path w="21600" h="241650">
                  <a:moveTo>
                    <a:pt x="0" y="0"/>
                  </a:moveTo>
                  <a:arcTo wR="0" hR="0" stAng="16200000" swAng="-5400000"/>
                  <a:lnTo>
                    <a:pt x="0" y="241650"/>
                  </a:lnTo>
                  <a:arcTo wR="0" hR="0" stAng="10800000" swAng="-5400000"/>
                  <a:lnTo>
                    <a:pt x="21600" y="24165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 flipV="1">
              <a:off x="2911320" y="4079880"/>
              <a:ext cx="9720" cy="5400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360 h 54000"/>
                <a:gd name="textAreaBottom" fmla="*/ 54720 h 54000"/>
              </a:gdLst>
              <a:ahLst/>
              <a:rect l="textAreaLeft" t="textAreaTop" r="textAreaRight" b="textAreaBottom"/>
              <a:pathLst>
                <a:path w="21600" h="116486">
                  <a:moveTo>
                    <a:pt x="0" y="0"/>
                  </a:moveTo>
                  <a:arcTo wR="0" hR="0" stAng="16200000" swAng="-5400000"/>
                  <a:lnTo>
                    <a:pt x="0" y="116486"/>
                  </a:lnTo>
                  <a:arcTo wR="0" hR="0" stAng="10800000" swAng="-5400000"/>
                  <a:lnTo>
                    <a:pt x="21600" y="116486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8f8f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560" bIns="7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2897280" y="4084560"/>
              <a:ext cx="7920" cy="9720"/>
            </a:xfrm>
            <a:prstGeom prst="ellipse">
              <a:avLst/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960" bIns="-39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2897280" y="4110120"/>
              <a:ext cx="7920" cy="9360"/>
            </a:xfrm>
            <a:prstGeom prst="ellipse">
              <a:avLst/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2871720" y="3900600"/>
              <a:ext cx="127080" cy="258480"/>
            </a:xfrm>
            <a:custGeom>
              <a:avLst/>
              <a:gdLst/>
              <a:ahLst/>
              <a:rect l="l" t="t" r="r" b="b"/>
              <a:pathLst>
                <a:path w="80" h="163">
                  <a:moveTo>
                    <a:pt x="77" y="0"/>
                  </a:moveTo>
                  <a:lnTo>
                    <a:pt x="79" y="162"/>
                  </a:lnTo>
                  <a:lnTo>
                    <a:pt x="0" y="162"/>
                  </a:lnTo>
                </a:path>
              </a:pathLst>
            </a:custGeom>
            <a:noFill/>
            <a:ln w="9360">
              <a:solidFill>
                <a:srgbClr val="404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 flipV="1">
              <a:off x="2951280" y="4079880"/>
              <a:ext cx="9360" cy="223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360 h 22320"/>
                <a:gd name="textAreaBottom" fmla="*/ 23040 h 22320"/>
              </a:gdLst>
              <a:ahLst/>
              <a:rect l="textAreaLeft" t="textAreaTop" r="textAreaRight" b="textAreaBottom"/>
              <a:pathLst>
                <a:path w="21600" h="50400">
                  <a:moveTo>
                    <a:pt x="0" y="0"/>
                  </a:moveTo>
                  <a:arcTo wR="0" hR="0" stAng="16200000" swAng="-5400000"/>
                  <a:lnTo>
                    <a:pt x="0" y="50400"/>
                  </a:lnTo>
                  <a:arcTo wR="0" hR="0" stAng="10800000" swAng="-5400000"/>
                  <a:lnTo>
                    <a:pt x="21600" y="5040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8f8f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flipV="1">
              <a:off x="3029040" y="3909960"/>
              <a:ext cx="419040" cy="24120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 flipV="1">
              <a:off x="3029040" y="3952800"/>
              <a:ext cx="415800" cy="648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960" bIns="-39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flipV="1">
              <a:off x="3029040" y="4001400"/>
              <a:ext cx="415800" cy="612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 flipV="1">
              <a:off x="3029040" y="4052880"/>
              <a:ext cx="415800" cy="648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960" bIns="-39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3029040" y="4101480"/>
              <a:ext cx="415800" cy="612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6" name=""/>
            <p:cNvGrpSpPr/>
            <p:nvPr/>
          </p:nvGrpSpPr>
          <p:grpSpPr>
            <a:xfrm>
              <a:off x="3051000" y="3909960"/>
              <a:ext cx="378000" cy="241200"/>
              <a:chOff x="3051000" y="3909960"/>
              <a:chExt cx="378000" cy="241200"/>
            </a:xfrm>
          </p:grpSpPr>
          <p:sp>
            <p:nvSpPr>
              <p:cNvPr id="467" name=""/>
              <p:cNvSpPr/>
              <p:nvPr/>
            </p:nvSpPr>
            <p:spPr>
              <a:xfrm>
                <a:off x="3051000" y="3909960"/>
                <a:ext cx="0" cy="2412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3071880" y="3909960"/>
                <a:ext cx="0" cy="2412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3090960" y="3909960"/>
                <a:ext cx="0" cy="2412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3108240" y="3909960"/>
                <a:ext cx="0" cy="2412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3130560" y="3909960"/>
                <a:ext cx="0" cy="2412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3147840" y="3909960"/>
                <a:ext cx="0" cy="2412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3168720" y="3909960"/>
                <a:ext cx="0" cy="2412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3189240" y="3909960"/>
                <a:ext cx="0" cy="2412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3211560" y="3909960"/>
                <a:ext cx="0" cy="2412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3230640" y="3909960"/>
                <a:ext cx="0" cy="2412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3247920" y="3909960"/>
                <a:ext cx="0" cy="2412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3270240" y="3909960"/>
                <a:ext cx="0" cy="2412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3287520" y="3909960"/>
                <a:ext cx="0" cy="2412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3308400" y="3909960"/>
                <a:ext cx="0" cy="2412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3328920" y="3909960"/>
                <a:ext cx="0" cy="2412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3349440" y="3909960"/>
                <a:ext cx="0" cy="2412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3368520" y="3909960"/>
                <a:ext cx="0" cy="2412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3387600" y="3909960"/>
                <a:ext cx="0" cy="2412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3408480" y="3909960"/>
                <a:ext cx="0" cy="2412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3429000" y="3909960"/>
                <a:ext cx="0" cy="2412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7" name=""/>
            <p:cNvSpPr/>
            <p:nvPr/>
          </p:nvSpPr>
          <p:spPr>
            <a:xfrm flipV="1">
              <a:off x="3029040" y="4321080"/>
              <a:ext cx="419040" cy="24120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 flipV="1">
              <a:off x="3029040" y="4363200"/>
              <a:ext cx="415800" cy="468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 flipV="1">
              <a:off x="3029040" y="4411440"/>
              <a:ext cx="415800" cy="648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960" bIns="-39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 flipV="1">
              <a:off x="3029040" y="4462560"/>
              <a:ext cx="415800" cy="792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520" bIns="-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 flipV="1">
              <a:off x="3029040" y="4511520"/>
              <a:ext cx="415800" cy="792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520" bIns="-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2" name=""/>
            <p:cNvGrpSpPr/>
            <p:nvPr/>
          </p:nvGrpSpPr>
          <p:grpSpPr>
            <a:xfrm>
              <a:off x="3051000" y="4321080"/>
              <a:ext cx="378000" cy="241200"/>
              <a:chOff x="3051000" y="4321080"/>
              <a:chExt cx="378000" cy="241200"/>
            </a:xfrm>
          </p:grpSpPr>
          <p:sp>
            <p:nvSpPr>
              <p:cNvPr id="493" name=""/>
              <p:cNvSpPr/>
              <p:nvPr/>
            </p:nvSpPr>
            <p:spPr>
              <a:xfrm>
                <a:off x="3051000" y="4321080"/>
                <a:ext cx="0" cy="2412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3071880" y="4321080"/>
                <a:ext cx="0" cy="2412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3090960" y="4321080"/>
                <a:ext cx="0" cy="2412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3108240" y="4321080"/>
                <a:ext cx="0" cy="2412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3130560" y="4321080"/>
                <a:ext cx="0" cy="2412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3147840" y="4321080"/>
                <a:ext cx="0" cy="2412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3168720" y="4321080"/>
                <a:ext cx="0" cy="2412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3189240" y="4321080"/>
                <a:ext cx="0" cy="2412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3211560" y="4321080"/>
                <a:ext cx="0" cy="2412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3230640" y="4321080"/>
                <a:ext cx="0" cy="2412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3247920" y="4321080"/>
                <a:ext cx="0" cy="2412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3270240" y="4321080"/>
                <a:ext cx="0" cy="2412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3287520" y="4321080"/>
                <a:ext cx="0" cy="2412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3308400" y="4321080"/>
                <a:ext cx="0" cy="2412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3328920" y="4321080"/>
                <a:ext cx="0" cy="2412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3349440" y="4321080"/>
                <a:ext cx="0" cy="2412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3368520" y="4321080"/>
                <a:ext cx="0" cy="2412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3387600" y="4321080"/>
                <a:ext cx="0" cy="2412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3408480" y="4321080"/>
                <a:ext cx="0" cy="2412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3429000" y="4321080"/>
                <a:ext cx="0" cy="2412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3" name=""/>
            <p:cNvSpPr/>
            <p:nvPr/>
          </p:nvSpPr>
          <p:spPr>
            <a:xfrm flipV="1">
              <a:off x="3029040" y="4712400"/>
              <a:ext cx="419040" cy="24156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 flipV="1">
              <a:off x="3029040" y="4755960"/>
              <a:ext cx="415800" cy="648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960" bIns="-39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 flipV="1">
              <a:off x="3029040" y="4803840"/>
              <a:ext cx="415800" cy="792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520" bIns="-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 flipV="1">
              <a:off x="3029040" y="4856040"/>
              <a:ext cx="415800" cy="792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520" bIns="-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 flipV="1">
              <a:off x="3029040" y="4905360"/>
              <a:ext cx="415800" cy="792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520" bIns="-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8" name=""/>
            <p:cNvGrpSpPr/>
            <p:nvPr/>
          </p:nvGrpSpPr>
          <p:grpSpPr>
            <a:xfrm>
              <a:off x="3051000" y="4714920"/>
              <a:ext cx="378000" cy="241200"/>
              <a:chOff x="3051000" y="4714920"/>
              <a:chExt cx="378000" cy="241200"/>
            </a:xfrm>
          </p:grpSpPr>
          <p:sp>
            <p:nvSpPr>
              <p:cNvPr id="519" name=""/>
              <p:cNvSpPr/>
              <p:nvPr/>
            </p:nvSpPr>
            <p:spPr>
              <a:xfrm>
                <a:off x="3051000" y="4714920"/>
                <a:ext cx="0" cy="2412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3071880" y="4714920"/>
                <a:ext cx="0" cy="2412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3090960" y="4714920"/>
                <a:ext cx="0" cy="2412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3108240" y="4714920"/>
                <a:ext cx="0" cy="2412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3130560" y="4714920"/>
                <a:ext cx="0" cy="2412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3147840" y="4714920"/>
                <a:ext cx="0" cy="2412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3168720" y="4714920"/>
                <a:ext cx="0" cy="2412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3189240" y="4714920"/>
                <a:ext cx="0" cy="2412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3211560" y="4714920"/>
                <a:ext cx="0" cy="2412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3230640" y="4714920"/>
                <a:ext cx="0" cy="2412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3247920" y="4714920"/>
                <a:ext cx="0" cy="2412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3270240" y="4714920"/>
                <a:ext cx="0" cy="2412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3287520" y="4714920"/>
                <a:ext cx="0" cy="2412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3308400" y="4714920"/>
                <a:ext cx="0" cy="2412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3328920" y="4714920"/>
                <a:ext cx="0" cy="2412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3349440" y="4714920"/>
                <a:ext cx="0" cy="2412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3368520" y="4714920"/>
                <a:ext cx="0" cy="2412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3387600" y="4714920"/>
                <a:ext cx="0" cy="2412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3408480" y="4714920"/>
                <a:ext cx="0" cy="2412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3429000" y="4714920"/>
                <a:ext cx="0" cy="2412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9" name=""/>
            <p:cNvSpPr/>
            <p:nvPr/>
          </p:nvSpPr>
          <p:spPr>
            <a:xfrm flipV="1">
              <a:off x="2871720" y="4199760"/>
              <a:ext cx="108000" cy="270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2871720" y="4200480"/>
              <a:ext cx="109440" cy="31680"/>
            </a:xfrm>
            <a:custGeom>
              <a:avLst/>
              <a:gdLst/>
              <a:ahLst/>
              <a:rect l="l" t="t" r="r" b="b"/>
              <a:pathLst>
                <a:path w="69" h="20">
                  <a:moveTo>
                    <a:pt x="0" y="19"/>
                  </a:moveTo>
                  <a:lnTo>
                    <a:pt x="68" y="19"/>
                  </a:lnTo>
                  <a:lnTo>
                    <a:pt x="68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 flipV="1">
              <a:off x="2871720" y="4249080"/>
              <a:ext cx="154080" cy="3636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2871720" y="4249800"/>
              <a:ext cx="158760" cy="41040"/>
            </a:xfrm>
            <a:custGeom>
              <a:avLst/>
              <a:gdLst/>
              <a:ahLst/>
              <a:rect l="l" t="t" r="r" b="b"/>
              <a:pathLst>
                <a:path w="100" h="26">
                  <a:moveTo>
                    <a:pt x="0" y="25"/>
                  </a:moveTo>
                  <a:lnTo>
                    <a:pt x="99" y="25"/>
                  </a:lnTo>
                  <a:lnTo>
                    <a:pt x="99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3" name=""/>
          <p:cNvGrpSpPr/>
          <p:nvPr/>
        </p:nvGrpSpPr>
        <p:grpSpPr>
          <a:xfrm>
            <a:off x="6140520" y="5656320"/>
            <a:ext cx="689040" cy="1022400"/>
            <a:chOff x="6140520" y="5656320"/>
            <a:chExt cx="689040" cy="1022400"/>
          </a:xfrm>
        </p:grpSpPr>
        <p:sp>
          <p:nvSpPr>
            <p:cNvPr id="544" name=""/>
            <p:cNvSpPr/>
            <p:nvPr/>
          </p:nvSpPr>
          <p:spPr>
            <a:xfrm flipV="1">
              <a:off x="6140520" y="5765040"/>
              <a:ext cx="689040" cy="803160"/>
            </a:xfrm>
            <a:custGeom>
              <a:avLst/>
              <a:gdLst>
                <a:gd name="textAreaLeft" fmla="*/ 0 w 689040"/>
                <a:gd name="textAreaRight" fmla="*/ 689400 w 689040"/>
                <a:gd name="textAreaTop" fmla="*/ 0 h 803160"/>
                <a:gd name="textAreaBottom" fmla="*/ 803160 h 803160"/>
              </a:gdLst>
              <a:ahLst/>
              <a:rect l="textAreaLeft" t="textAreaTop" r="textAreaRight" b="textAreaBottom"/>
              <a:pathLst>
                <a:path w="21600" h="25176">
                  <a:moveTo>
                    <a:pt x="0" y="0"/>
                  </a:moveTo>
                  <a:arcTo wR="0" hR="0" stAng="16200000" swAng="-5400000"/>
                  <a:lnTo>
                    <a:pt x="0" y="25176"/>
                  </a:lnTo>
                  <a:arcTo wR="0" hR="0" stAng="10800000" swAng="-5400000"/>
                  <a:lnTo>
                    <a:pt x="21600" y="25176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c0c0c0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6140520" y="5656320"/>
              <a:ext cx="689040" cy="222120"/>
            </a:xfrm>
            <a:prstGeom prst="ellipse">
              <a:avLst/>
            </a:prstGeom>
            <a:solidFill>
              <a:srgbClr val="c0c0c0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6140520" y="6454800"/>
              <a:ext cx="689040" cy="223920"/>
            </a:xfrm>
            <a:prstGeom prst="ellipse">
              <a:avLst/>
            </a:prstGeom>
            <a:solidFill>
              <a:srgbClr val="c0c0c0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7" name=""/>
          <p:cNvSpPr/>
          <p:nvPr/>
        </p:nvSpPr>
        <p:spPr>
          <a:xfrm>
            <a:off x="6245280" y="3666960"/>
            <a:ext cx="1074600" cy="6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84200"/>
                <a:tab algn="l" pos="968400"/>
                <a:tab algn="l" pos="1452600"/>
                <a:tab algn="l" pos="1936800"/>
                <a:tab algn="l" pos="2421000"/>
                <a:tab algn="l" pos="2905200"/>
                <a:tab algn="l" pos="3389400"/>
                <a:tab algn="l" pos="3873600"/>
                <a:tab algn="l" pos="4357800"/>
                <a:tab algn="l" pos="4842000"/>
                <a:tab algn="l" pos="5326200"/>
                <a:tab algn="l" pos="5810400"/>
                <a:tab algn="l" pos="6294600"/>
                <a:tab algn="l" pos="6778800"/>
                <a:tab algn="l" pos="7262640"/>
                <a:tab algn="l" pos="7746840"/>
                <a:tab algn="l" pos="8231040"/>
                <a:tab algn="l" pos="8715240"/>
                <a:tab algn="l" pos="9199440"/>
                <a:tab algn="l" pos="9683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84200"/>
                <a:tab algn="l" pos="968400"/>
                <a:tab algn="l" pos="1452600"/>
                <a:tab algn="l" pos="1936800"/>
                <a:tab algn="l" pos="2421000"/>
                <a:tab algn="l" pos="2905200"/>
                <a:tab algn="l" pos="3389400"/>
                <a:tab algn="l" pos="3873600"/>
                <a:tab algn="l" pos="4357800"/>
                <a:tab algn="l" pos="4842000"/>
                <a:tab algn="l" pos="5326200"/>
                <a:tab algn="l" pos="5810400"/>
                <a:tab algn="l" pos="6294600"/>
                <a:tab algn="l" pos="6778800"/>
                <a:tab algn="l" pos="7262640"/>
                <a:tab algn="l" pos="7746840"/>
                <a:tab algn="l" pos="8231040"/>
                <a:tab algn="l" pos="8715240"/>
                <a:tab algn="l" pos="9199440"/>
                <a:tab algn="l" pos="9683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s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2762280" y="3673440"/>
            <a:ext cx="1488960" cy="6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84200"/>
                <a:tab algn="l" pos="968400"/>
                <a:tab algn="l" pos="1452600"/>
                <a:tab algn="l" pos="1936800"/>
                <a:tab algn="l" pos="2421000"/>
                <a:tab algn="l" pos="2905200"/>
                <a:tab algn="l" pos="3389400"/>
                <a:tab algn="l" pos="3873600"/>
                <a:tab algn="l" pos="4357800"/>
                <a:tab algn="l" pos="4842000"/>
                <a:tab algn="l" pos="5326200"/>
                <a:tab algn="l" pos="5810400"/>
                <a:tab algn="l" pos="6294600"/>
                <a:tab algn="l" pos="6778800"/>
                <a:tab algn="l" pos="7262640"/>
                <a:tab algn="l" pos="7746840"/>
                <a:tab algn="l" pos="8231040"/>
                <a:tab algn="l" pos="8715240"/>
                <a:tab algn="l" pos="9199440"/>
                <a:tab algn="l" pos="9683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84200"/>
                <a:tab algn="l" pos="968400"/>
                <a:tab algn="l" pos="1452600"/>
                <a:tab algn="l" pos="1936800"/>
                <a:tab algn="l" pos="2421000"/>
                <a:tab algn="l" pos="2905200"/>
                <a:tab algn="l" pos="3389400"/>
                <a:tab algn="l" pos="3873600"/>
                <a:tab algn="l" pos="4357800"/>
                <a:tab algn="l" pos="4842000"/>
                <a:tab algn="l" pos="5326200"/>
                <a:tab algn="l" pos="5810400"/>
                <a:tab algn="l" pos="6294600"/>
                <a:tab algn="l" pos="6778800"/>
                <a:tab algn="l" pos="7262640"/>
                <a:tab algn="l" pos="7746840"/>
                <a:tab algn="l" pos="8231040"/>
                <a:tab algn="l" pos="8715240"/>
                <a:tab algn="l" pos="9199440"/>
                <a:tab algn="l" pos="9683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la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5273640" y="5640480"/>
            <a:ext cx="719280" cy="10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84200"/>
                <a:tab algn="l" pos="968400"/>
                <a:tab algn="l" pos="1452600"/>
                <a:tab algn="l" pos="1936800"/>
                <a:tab algn="l" pos="2421000"/>
                <a:tab algn="l" pos="2905200"/>
                <a:tab algn="l" pos="3389400"/>
                <a:tab algn="l" pos="3873600"/>
                <a:tab algn="l" pos="4357800"/>
                <a:tab algn="l" pos="4842000"/>
                <a:tab algn="l" pos="5326200"/>
                <a:tab algn="l" pos="5810400"/>
                <a:tab algn="l" pos="6294600"/>
                <a:tab algn="l" pos="6778800"/>
                <a:tab algn="l" pos="7262640"/>
                <a:tab algn="l" pos="7746840"/>
                <a:tab algn="l" pos="8231040"/>
                <a:tab algn="l" pos="8715240"/>
                <a:tab algn="l" pos="9199440"/>
                <a:tab algn="l" pos="9683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84200"/>
                <a:tab algn="l" pos="968400"/>
                <a:tab algn="l" pos="1452600"/>
                <a:tab algn="l" pos="1936800"/>
                <a:tab algn="l" pos="2421000"/>
                <a:tab algn="l" pos="2905200"/>
                <a:tab algn="l" pos="3389400"/>
                <a:tab algn="l" pos="3873600"/>
                <a:tab algn="l" pos="4357800"/>
                <a:tab algn="l" pos="4842000"/>
                <a:tab algn="l" pos="5326200"/>
                <a:tab algn="l" pos="5810400"/>
                <a:tab algn="l" pos="6294600"/>
                <a:tab algn="l" pos="6778800"/>
                <a:tab algn="l" pos="7262640"/>
                <a:tab algn="l" pos="7746840"/>
                <a:tab algn="l" pos="8231040"/>
                <a:tab algn="l" pos="8715240"/>
                <a:tab algn="l" pos="9199440"/>
                <a:tab algn="l" pos="9683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84200"/>
                <a:tab algn="l" pos="968400"/>
                <a:tab algn="l" pos="1452600"/>
                <a:tab algn="l" pos="1936800"/>
                <a:tab algn="l" pos="2421000"/>
                <a:tab algn="l" pos="2905200"/>
                <a:tab algn="l" pos="3389400"/>
                <a:tab algn="l" pos="3873600"/>
                <a:tab algn="l" pos="4357800"/>
                <a:tab algn="l" pos="4842000"/>
                <a:tab algn="l" pos="5326200"/>
                <a:tab algn="l" pos="5810400"/>
                <a:tab algn="l" pos="6294600"/>
                <a:tab algn="l" pos="6778800"/>
                <a:tab algn="l" pos="7262640"/>
                <a:tab algn="l" pos="7746840"/>
                <a:tab algn="l" pos="8231040"/>
                <a:tab algn="l" pos="8715240"/>
                <a:tab algn="l" pos="9199440"/>
                <a:tab algn="l" pos="9683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3514680" y="4497480"/>
            <a:ext cx="2581200" cy="0"/>
          </a:xfrm>
          <a:prstGeom prst="line">
            <a:avLst/>
          </a:prstGeom>
          <a:ln w="1872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4213080" y="4556160"/>
            <a:ext cx="123840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84200"/>
                <a:tab algn="l" pos="968400"/>
                <a:tab algn="l" pos="1452600"/>
                <a:tab algn="l" pos="1936800"/>
                <a:tab algn="l" pos="2421000"/>
                <a:tab algn="l" pos="2905200"/>
                <a:tab algn="l" pos="3389400"/>
                <a:tab algn="l" pos="3873600"/>
                <a:tab algn="l" pos="4357800"/>
                <a:tab algn="l" pos="4842000"/>
                <a:tab algn="l" pos="5326200"/>
                <a:tab algn="l" pos="5810400"/>
                <a:tab algn="l" pos="6294600"/>
                <a:tab algn="l" pos="6778800"/>
                <a:tab algn="l" pos="7262640"/>
                <a:tab algn="l" pos="7746840"/>
                <a:tab algn="l" pos="8231040"/>
                <a:tab algn="l" pos="8715240"/>
                <a:tab algn="l" pos="9199440"/>
                <a:tab algn="l" pos="9683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Z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84200"/>
                <a:tab algn="l" pos="968400"/>
                <a:tab algn="l" pos="1452600"/>
                <a:tab algn="l" pos="1936800"/>
                <a:tab algn="l" pos="2421000"/>
                <a:tab algn="l" pos="2905200"/>
                <a:tab algn="l" pos="3389400"/>
                <a:tab algn="l" pos="3873600"/>
                <a:tab algn="l" pos="4357800"/>
                <a:tab algn="l" pos="4842000"/>
                <a:tab algn="l" pos="5326200"/>
                <a:tab algn="l" pos="5810400"/>
                <a:tab algn="l" pos="6294600"/>
                <a:tab algn="l" pos="6778800"/>
                <a:tab algn="l" pos="7262640"/>
                <a:tab algn="l" pos="7746840"/>
                <a:tab algn="l" pos="8231040"/>
                <a:tab algn="l" pos="8715240"/>
                <a:tab algn="l" pos="9199440"/>
                <a:tab algn="l" pos="9683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nsf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8610480" cy="1036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Zone Transfer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8686800" cy="22860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lave servers retrieve zone data from other authoritative name servers using a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zone transf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zone transfer is initiated by the slav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3171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initiating a TCP connection to the master name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4" name=""/>
          <p:cNvGrpSpPr/>
          <p:nvPr/>
        </p:nvGrpSpPr>
        <p:grpSpPr>
          <a:xfrm>
            <a:off x="2838600" y="5653080"/>
            <a:ext cx="688680" cy="1022400"/>
            <a:chOff x="2838600" y="5653080"/>
            <a:chExt cx="688680" cy="1022400"/>
          </a:xfrm>
        </p:grpSpPr>
        <p:sp>
          <p:nvSpPr>
            <p:cNvPr id="555" name=""/>
            <p:cNvSpPr/>
            <p:nvPr/>
          </p:nvSpPr>
          <p:spPr>
            <a:xfrm flipV="1">
              <a:off x="2838600" y="5761800"/>
              <a:ext cx="688680" cy="803160"/>
            </a:xfrm>
            <a:custGeom>
              <a:avLst/>
              <a:gdLst>
                <a:gd name="textAreaLeft" fmla="*/ 0 w 688680"/>
                <a:gd name="textAreaRight" fmla="*/ 689040 w 688680"/>
                <a:gd name="textAreaTop" fmla="*/ -360 h 803160"/>
                <a:gd name="textAreaBottom" fmla="*/ 803160 h 803160"/>
              </a:gdLst>
              <a:ahLst/>
              <a:rect l="textAreaLeft" t="textAreaTop" r="textAreaRight" b="textAreaBottom"/>
              <a:pathLst>
                <a:path w="21600" h="25189">
                  <a:moveTo>
                    <a:pt x="0" y="0"/>
                  </a:moveTo>
                  <a:arcTo wR="0" hR="0" stAng="16200000" swAng="-5400000"/>
                  <a:lnTo>
                    <a:pt x="0" y="25189"/>
                  </a:lnTo>
                  <a:arcTo wR="0" hR="0" stAng="10800000" swAng="-5400000"/>
                  <a:lnTo>
                    <a:pt x="21600" y="25189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c0c0c0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2838600" y="5653080"/>
              <a:ext cx="688680" cy="222120"/>
            </a:xfrm>
            <a:prstGeom prst="ellipse">
              <a:avLst/>
            </a:prstGeom>
            <a:solidFill>
              <a:srgbClr val="c0c0c0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838600" y="6451560"/>
              <a:ext cx="688680" cy="223920"/>
            </a:xfrm>
            <a:prstGeom prst="ellipse">
              <a:avLst/>
            </a:prstGeom>
            <a:solidFill>
              <a:srgbClr val="c0c0c0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8" name=""/>
          <p:cNvSpPr/>
          <p:nvPr/>
        </p:nvSpPr>
        <p:spPr>
          <a:xfrm>
            <a:off x="1851120" y="5637240"/>
            <a:ext cx="839520" cy="10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84200"/>
                <a:tab algn="l" pos="968400"/>
                <a:tab algn="l" pos="1452600"/>
                <a:tab algn="l" pos="1936800"/>
                <a:tab algn="l" pos="2421000"/>
                <a:tab algn="l" pos="2905200"/>
                <a:tab algn="l" pos="3389400"/>
                <a:tab algn="l" pos="3873600"/>
                <a:tab algn="l" pos="4357800"/>
                <a:tab algn="l" pos="4842000"/>
                <a:tab algn="l" pos="5326200"/>
                <a:tab algn="l" pos="5810400"/>
                <a:tab algn="l" pos="6294600"/>
                <a:tab algn="l" pos="6778800"/>
                <a:tab algn="l" pos="7262640"/>
                <a:tab algn="l" pos="7746840"/>
                <a:tab algn="l" pos="8231040"/>
                <a:tab algn="l" pos="8715240"/>
                <a:tab algn="l" pos="9199440"/>
                <a:tab algn="l" pos="9683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84200"/>
                <a:tab algn="l" pos="968400"/>
                <a:tab algn="l" pos="1452600"/>
                <a:tab algn="l" pos="1936800"/>
                <a:tab algn="l" pos="2421000"/>
                <a:tab algn="l" pos="2905200"/>
                <a:tab algn="l" pos="3389400"/>
                <a:tab algn="l" pos="3873600"/>
                <a:tab algn="l" pos="4357800"/>
                <a:tab algn="l" pos="4842000"/>
                <a:tab algn="l" pos="5326200"/>
                <a:tab algn="l" pos="5810400"/>
                <a:tab algn="l" pos="6294600"/>
                <a:tab algn="l" pos="6778800"/>
                <a:tab algn="l" pos="7262640"/>
                <a:tab algn="l" pos="7746840"/>
                <a:tab algn="l" pos="8231040"/>
                <a:tab algn="l" pos="8715240"/>
                <a:tab algn="l" pos="9199440"/>
                <a:tab algn="l" pos="9683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84200"/>
                <a:tab algn="l" pos="968400"/>
                <a:tab algn="l" pos="1452600"/>
                <a:tab algn="l" pos="1936800"/>
                <a:tab algn="l" pos="2421000"/>
                <a:tab algn="l" pos="2905200"/>
                <a:tab algn="l" pos="3389400"/>
                <a:tab algn="l" pos="3873600"/>
                <a:tab algn="l" pos="4357800"/>
                <a:tab algn="l" pos="4842000"/>
                <a:tab algn="l" pos="5326200"/>
                <a:tab algn="l" pos="5810400"/>
                <a:tab algn="l" pos="6294600"/>
                <a:tab algn="l" pos="6778800"/>
                <a:tab algn="l" pos="7262640"/>
                <a:tab algn="l" pos="7746840"/>
                <a:tab algn="l" pos="8231040"/>
                <a:tab algn="l" pos="8715240"/>
                <a:tab algn="l" pos="9199440"/>
                <a:tab algn="l" pos="9683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84200"/>
                <a:tab algn="l" pos="968400"/>
                <a:tab algn="l" pos="1452600"/>
                <a:tab algn="l" pos="1936800"/>
                <a:tab algn="l" pos="2421000"/>
                <a:tab algn="l" pos="2905200"/>
                <a:tab algn="l" pos="3389400"/>
                <a:tab algn="l" pos="3873600"/>
                <a:tab algn="l" pos="4357800"/>
                <a:tab algn="l" pos="4842000"/>
                <a:tab algn="l" pos="5326200"/>
                <a:tab algn="l" pos="5810400"/>
                <a:tab algn="l" pos="6294600"/>
                <a:tab algn="l" pos="6778800"/>
                <a:tab algn="l" pos="7262640"/>
                <a:tab algn="l" pos="7746840"/>
                <a:tab algn="l" pos="8231040"/>
                <a:tab algn="l" pos="8715240"/>
                <a:tab algn="l" pos="9199440"/>
                <a:tab algn="l" pos="9683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3184560" y="5049720"/>
            <a:ext cx="0" cy="587520"/>
          </a:xfrm>
          <a:prstGeom prst="line">
            <a:avLst/>
          </a:prstGeom>
          <a:ln w="187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2156760" y="5164200"/>
            <a:ext cx="201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rite backup f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6486480" y="5052960"/>
            <a:ext cx="0" cy="587520"/>
          </a:xfrm>
          <a:prstGeom prst="line">
            <a:avLst/>
          </a:prstGeom>
          <a:ln w="1872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5281200" y="5164200"/>
            <a:ext cx="225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ad zone data f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3527280" y="4325760"/>
            <a:ext cx="2581560" cy="0"/>
          </a:xfrm>
          <a:prstGeom prst="line">
            <a:avLst/>
          </a:prstGeom>
          <a:ln w="187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4060800" y="3716280"/>
            <a:ext cx="167652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84200"/>
                <a:tab algn="l" pos="968400"/>
                <a:tab algn="l" pos="1452600"/>
                <a:tab algn="l" pos="1936800"/>
                <a:tab algn="l" pos="2421000"/>
                <a:tab algn="l" pos="2905200"/>
                <a:tab algn="l" pos="3389400"/>
                <a:tab algn="l" pos="3873600"/>
                <a:tab algn="l" pos="4357800"/>
                <a:tab algn="l" pos="4842000"/>
                <a:tab algn="l" pos="5326200"/>
                <a:tab algn="l" pos="5810400"/>
                <a:tab algn="l" pos="6294600"/>
                <a:tab algn="l" pos="6778800"/>
                <a:tab algn="l" pos="7262640"/>
                <a:tab algn="l" pos="7746840"/>
                <a:tab algn="l" pos="8231040"/>
                <a:tab algn="l" pos="8715240"/>
                <a:tab algn="l" pos="9199440"/>
                <a:tab algn="l" pos="9683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quest z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84200"/>
                <a:tab algn="l" pos="968400"/>
                <a:tab algn="l" pos="1452600"/>
                <a:tab algn="l" pos="1936800"/>
                <a:tab algn="l" pos="2421000"/>
                <a:tab algn="l" pos="2905200"/>
                <a:tab algn="l" pos="3389400"/>
                <a:tab algn="l" pos="3873600"/>
                <a:tab algn="l" pos="4357800"/>
                <a:tab algn="l" pos="4842000"/>
                <a:tab algn="l" pos="5326200"/>
                <a:tab algn="l" pos="5810400"/>
                <a:tab algn="l" pos="6294600"/>
                <a:tab algn="l" pos="6778800"/>
                <a:tab algn="l" pos="7262640"/>
                <a:tab algn="l" pos="7746840"/>
                <a:tab algn="l" pos="8231040"/>
                <a:tab algn="l" pos="8715240"/>
                <a:tab algn="l" pos="9199440"/>
                <a:tab algn="l" pos="9683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nsf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8610480" cy="1036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 Simple Primary Master/Slave Configurat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4419720" y="2133720"/>
            <a:ext cx="1447560" cy="1447560"/>
          </a:xfrm>
          <a:prstGeom prst="cube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m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4419720" y="4495680"/>
            <a:ext cx="1447560" cy="1447920"/>
          </a:xfrm>
          <a:prstGeom prst="cube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6553080" y="4495680"/>
            <a:ext cx="1447920" cy="1447920"/>
          </a:xfrm>
          <a:prstGeom prst="cube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2209680" y="4495680"/>
            <a:ext cx="1447920" cy="1447920"/>
          </a:xfrm>
          <a:prstGeom prst="cube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3124080" y="3657600"/>
            <a:ext cx="4343400" cy="838080"/>
            <a:chOff x="3124080" y="3657600"/>
            <a:chExt cx="4343400" cy="838080"/>
          </a:xfrm>
        </p:grpSpPr>
        <p:sp>
          <p:nvSpPr>
            <p:cNvPr id="571" name=""/>
            <p:cNvSpPr/>
            <p:nvPr/>
          </p:nvSpPr>
          <p:spPr>
            <a:xfrm flipH="1">
              <a:off x="3124080" y="3657600"/>
              <a:ext cx="152424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5029200" y="3657600"/>
              <a:ext cx="30492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5334120" y="3657600"/>
              <a:ext cx="213336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"/>
          <p:cNvSpPr/>
          <p:nvPr/>
        </p:nvSpPr>
        <p:spPr>
          <a:xfrm>
            <a:off x="4192200" y="380988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one transf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8610480" cy="1036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 Two-Tier Primary Master/Slave Configurat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4419720" y="1219320"/>
            <a:ext cx="1447560" cy="1447560"/>
          </a:xfrm>
          <a:prstGeom prst="cube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m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4419720" y="3581280"/>
            <a:ext cx="1447560" cy="1447920"/>
          </a:xfrm>
          <a:prstGeom prst="cube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ter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6553080" y="3581280"/>
            <a:ext cx="1447920" cy="1447920"/>
          </a:xfrm>
          <a:prstGeom prst="cube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2209680" y="3581280"/>
            <a:ext cx="1447920" cy="1447920"/>
          </a:xfrm>
          <a:prstGeom prst="cube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ter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0" name=""/>
          <p:cNvGrpSpPr/>
          <p:nvPr/>
        </p:nvGrpSpPr>
        <p:grpSpPr>
          <a:xfrm>
            <a:off x="2971440" y="2743200"/>
            <a:ext cx="4343760" cy="1066680"/>
            <a:chOff x="2971440" y="2743200"/>
            <a:chExt cx="4343760" cy="1066680"/>
          </a:xfrm>
        </p:grpSpPr>
        <p:sp>
          <p:nvSpPr>
            <p:cNvPr id="581" name=""/>
            <p:cNvSpPr/>
            <p:nvPr/>
          </p:nvSpPr>
          <p:spPr>
            <a:xfrm flipH="1">
              <a:off x="2971440" y="2743200"/>
              <a:ext cx="167652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029200" y="2743200"/>
              <a:ext cx="7632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334120" y="2743200"/>
              <a:ext cx="198108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4" name=""/>
          <p:cNvSpPr/>
          <p:nvPr/>
        </p:nvSpPr>
        <p:spPr>
          <a:xfrm>
            <a:off x="4192200" y="289548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one transf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2209680" y="5715000"/>
            <a:ext cx="1447920" cy="1447920"/>
          </a:xfrm>
          <a:prstGeom prst="cube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4419720" y="5715000"/>
            <a:ext cx="1447560" cy="1447920"/>
          </a:xfrm>
          <a:prstGeom prst="cube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7" name=""/>
          <p:cNvGrpSpPr/>
          <p:nvPr/>
        </p:nvGrpSpPr>
        <p:grpSpPr>
          <a:xfrm>
            <a:off x="2743200" y="5029200"/>
            <a:ext cx="2438280" cy="838080"/>
            <a:chOff x="2743200" y="5029200"/>
            <a:chExt cx="2438280" cy="838080"/>
          </a:xfrm>
        </p:grpSpPr>
        <p:sp>
          <p:nvSpPr>
            <p:cNvPr id="588" name=""/>
            <p:cNvSpPr/>
            <p:nvPr/>
          </p:nvSpPr>
          <p:spPr>
            <a:xfrm>
              <a:off x="2743200" y="5029200"/>
              <a:ext cx="22860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952880" y="5029200"/>
              <a:ext cx="22860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0" name=""/>
          <p:cNvSpPr/>
          <p:nvPr/>
        </p:nvSpPr>
        <p:spPr>
          <a:xfrm>
            <a:off x="2896920" y="510552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one transf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8610480" cy="1036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NS in a Nutshel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8686800" cy="57150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5000"/>
          </a:bodyPr>
          <a:p>
            <a:pPr marL="363240" indent="-363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NS is a distributed databa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85520" indent="-300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is maintained locally, but available glob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240" indent="-363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NS u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85520" indent="-300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lication to achieve robust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5520" indent="-300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ching to achieve adequate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240" indent="-363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NS is composed of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85520" indent="-300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name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09600" indent="-24120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e database’s structur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85520" indent="-300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me serv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09600" indent="-24120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tore data from specific segments of the database Answer questions from..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85520" indent="-300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olv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09600" indent="-24120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ranslate applications’ requests for data into DNS queri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209600" indent="-24120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nterpret name server’s respons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8610480" cy="1036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or the Technically Incline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8686800" cy="57150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SC provides an “Open Source” reference implementation of the DNS known as BI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3171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ver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73320" indent="-25416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4.9.7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273320" indent="-25416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8.2.2-P5 (8.2.3 due out soon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273320" indent="-25416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9.0.0 (due out soon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3171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ailable from http://www.isc.org/bind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ther freely available DNS implement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3171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JBDNS, see http://cr.yp.to/djbd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3171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NTS, see http://www.dents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mercial DNS implementations available from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3171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minum (:-)), Microsoft, Cisco, Lucent, Checkpoint, and many ot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8610480" cy="1036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8686800" cy="57150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istor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ame space structu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echnical detai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751"/>
              </a:spcBef>
              <a:buClr>
                <a:srgbClr val="3333cc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000" spc="-1" strike="noStrike">
                <a:solidFill>
                  <a:srgbClr val="3333cc"/>
                </a:solidFill>
                <a:latin typeface="Arial"/>
              </a:rPr>
              <a:t>Administrative detai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olitical detai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u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8610480" cy="1036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dministration of the DN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8686800" cy="57150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nagement of a small scale zones is relatively eas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317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n’t be addressed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317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 “DNS &amp; BIND, 3rd Edition” by Paul Albitz &amp; Cricket Liu, O’Reilly &amp; Asso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nagement of large scale (country sized) zones is a bit more of an issu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317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rvices you should prov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317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ps to watch out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8610480" cy="1036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at Does it Mean to Provide a Country TLD Servic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8686800" cy="57150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FC 920 first documented the concept of country code domai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3171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mor is ccTLDs were an afterthou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73320" indent="-25416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Original idea was to have, e.g., all the world’s military organizations under .MI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FC 920 was issued in 1984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3171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cTLD administrators yet exis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3171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ANA initially delegated the ccTLD to anyone who ask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3171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on, the policy was revised to require the administrative contact in-coun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3171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ANA imposed no requirements on how the TLD was to be administe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8610480" cy="1036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oviding ccTLD Servic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8686800" cy="57150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international proliferation of the Internet came increased demand for domains from ccTL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317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IANA allocated ccTLDs 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73320" indent="-25416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Universiti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273320" indent="-25416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mmercial entiti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273320" indent="-25416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dividual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ntil around 1995 or so, governments ignored the Intern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317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world was moving to O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73320" indent="-25416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r so they thought…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8610480" cy="1036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oviding ccTLD Services (cont’d)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8686800" cy="57150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s the Internet became more popular/important, national Network Information Centers began to sprout u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317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ities interested in a domain from a particular ccTLD contacted these national N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317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some cases national NICs provided services equivalent to InterN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317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other cases, the national NIC didn’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re is no requirement (to date) to provide any services other than name alloc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317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to insure duplicate names aren’t alloc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8610480" cy="1036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seful Services (cont’d)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8991720" cy="57150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omain name alloc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317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oidance of duplic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ameserver operation for the domai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317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ary for sub-domains of the dom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omain name registr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317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ing the registration database avail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viding training and information on Internet related issu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viding a forum for Internet development within a countr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8610480" cy="1036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commendations for a NIC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8686800" cy="57150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echnical compete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317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ways a good t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ood connectiv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317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d if you’ll be running the nameserver prim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discrimin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317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rather, equal discrimin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73320" indent="-25416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air and equitable policies for all applicant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ocumented polici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317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luding the appeals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8991720" cy="1036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btaining the Delegation of a ccTL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8686800" cy="57150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9000"/>
          </a:bodyPr>
          <a:p>
            <a:pPr marL="378720" indent="-37872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 of now, only KP (N. Korea) and EH (W. Sahara) are not delega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78720" indent="-37872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owever, increasingly ccTLDs are being transferred between organizations within a count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78720" indent="-37872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 obtain the delegation, you will need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18640" indent="-3139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 of the majority of the local Internet commu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60360" indent="-2512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Or, be a governmental agency if the delegation is not already made to a governmental organizatio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764720" indent="-2509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desires of the government of the country with regard to delegation of a ccTLD are taken very seriously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18640" indent="-3139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ll connected nameserv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60360" indent="-2512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beit, not necessarily in-country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818640" indent="-3139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monstrated technical compet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8640" indent="-3139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reement to comply with RFC 159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304560" y="75960"/>
            <a:ext cx="9372600" cy="1036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pport of the Local Internet Communit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8686800" cy="57150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verybody should work togeth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317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delegation will not occur if there is more than one supported contender for the domain n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strong objection should exist against the proposed NI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317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a strong objection exists, requestor(s) will be told to work it out and come back when they ha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mistrust exists, TLD may not be re-delegated until a consensus is reach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8610480" cy="1036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8686800" cy="57150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751"/>
              </a:spcBef>
              <a:buClr>
                <a:srgbClr val="3333cc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000" spc="-1" strike="noStrike">
                <a:solidFill>
                  <a:srgbClr val="3333cc"/>
                </a:solidFill>
                <a:latin typeface="Arial"/>
              </a:rPr>
              <a:t>Histor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ame space structu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echnical detai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dministrative detai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olitical detai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u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8610480" cy="1036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ell Connected Nameserver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8686800" cy="57150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quired to provide nameservice for the allocated subdomains to the rest of the Intern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ary servers required at other loca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317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itely on different net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317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ferably in widely geographically dispersed lo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317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d free of charge by RIPE-NCC, APNIC, and oth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andwidth to nameserver need not be larg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317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must be s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8610480" cy="1036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oof of Technical Competenc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8686800" cy="57150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IC’s nameservers control all domains under 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nstable service could result in loss of reachability for all domain own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3171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less people have memorized IP addr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base and administrative services must be provided appropriate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3171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ckups of critical datab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3171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4x7 systems support pretty much expec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3171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4x7 user support would be n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73320" indent="-25416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But extremely rar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IANA won’t give a te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3171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will pull a delegation if badness happ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8610480" cy="1036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FC 1591 Complianc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8686800" cy="57150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FC 881 (revised several times, 1591 being the last) set forth the basic principles of name delegation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10360" indent="-310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chnical and administrative contacts must exist and must act as the manager for the do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0360" indent="-310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designated managers are trustees and serve the community the domain repres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0360" indent="-310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anager must be equitable to all grou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0360" indent="-310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ly interested parties must all agree that the manager is the appropriate body to administer the do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0360" indent="-310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anager must do a good jo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0360" indent="-310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 transfer of responsibility must be coordin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IC operators will have to indicate compliance with these requirem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8610480" cy="1036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pplication for a ccTL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9524880" cy="57150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btain the template found 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3171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iana.org/cctld-template.t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ll it 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3171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amazingly similar to the InterNIC domain request temp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nd the filled in template to iana@iana.or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ait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IANA wi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273320" indent="-25416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Verify the information on the form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273320" indent="-25416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Verify the appropriateness of the reques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273320" indent="-25416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Update the InterNIC database appropriat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0">
              <a:spcBef>
                <a:spcPts val="6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73320" indent="-25416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nd mail back explaining why they won’t be processing the reques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8610480" cy="1036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perational Requiremen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8686800" cy="57150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very important to have well formulated and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ublished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polici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317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ir and equitable to potential custom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317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discrimin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even more important that the policies are adhered t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helpful to have the policies translated to English and available on the We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317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ople prefer copying to re-inventing the whe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317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s for similar policies over the Inter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8610480" cy="1036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olicies (Overview)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8686800" cy="57150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olicies should be defined for the following area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317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 of the name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317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igibility for domains under the T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317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LD and subdomain owner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317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cation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317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rging and bil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317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main name dispu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317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 particip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317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317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eals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8610480" cy="1036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tructuring the Namespac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8686800" cy="57150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enerally it’s possible to just assign any domain under the TL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317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at name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t generally a good ide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317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scale w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317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lead to confu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317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y result in administrative nightmares l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ructured namespaces are generally better thought of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structuring an existing namespace must provide for a period of transition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8991720" cy="1036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tructuring the Namespace (cont’d)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8686800" cy="57150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a hierarchical namespace is chos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810360" indent="-310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IC chooses the SL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47760" indent="-24876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ustomers obtain 3LD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very important to document the circumstances under which a new SLD will be creat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810360" indent="-310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ty input is generally a good t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olicies for determining which SLD should be used should be objectively verifiab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810360" indent="-310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a business license for commercial domains, organization charter for non-profit domains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8610480" cy="1036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ligibility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8686800" cy="57150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o is allowed to apply for a domain under the TLD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317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registered entiti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317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local businesses, organizations, et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317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one in the worl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at is the policy for multiple domain names by a single organization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317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restricted, what is the unit of organiz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73320" indent="-25416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ubsidiaries?  Branches?  Offices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8610480" cy="1036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pplication Procedur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8686800" cy="57150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hould be explicit and easily understoo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hould be available onli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317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WW, FTP, e-ma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317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ice to have automated forms with ticketing systems to track reque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Quality of service parameters should be document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317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urnaround time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dditional documentation requirement should be spelled out prior to applic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317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imize the number of query/response cyc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8610480" cy="1036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 the Beginning...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8686800" cy="57150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re was the ARPANET’s </a:t>
            </a:r>
            <a:r>
              <a:rPr b="0" i="1" lang="en-US" sz="3000" spc="-1" strike="noStrike">
                <a:solidFill>
                  <a:srgbClr val="000000"/>
                </a:solidFill>
                <a:latin typeface="Courier New"/>
              </a:rPr>
              <a:t>HOSTS.TXT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317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HOSTS.TX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apped every ARPANET host’s name to its IP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317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at of an entry looked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73320" indent="-2541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ST:&lt;address&gt;:&lt;name,aliases&gt;:&lt;hardware&gt;:&lt;os&gt;:&lt;list of services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73320" indent="-2541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,: HOST : 10.2.0.52 : USC-ISIF,ISIF : DEC-1090T : TOPS20 :TCP/TELNET,TCP/SMTP,TCP/FTP,TCP/FINGER,UDP/TFTP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317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this simple format, mapping from name to address (“forward mapping”) and from address to name (“reverse mapping”) is eas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73320" indent="-25416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n Unix systems, the HOSTS.TXT file was converted to /etc/hosts forma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8610480" cy="1036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wnership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8686800" cy="57150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o owns the delegated domain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317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N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317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organization requesting the domai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317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nd user of the domai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ich rights to the domain are conferred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317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ll righ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317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he use of the domain for actual activiti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73320" indent="-25416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s opposed to resale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at constitutes (il)legal use of a the domain name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8610480" cy="1036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llocation of Domain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8686800" cy="57150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del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3171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right sal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3171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nt/Lease for a period of tim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3171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mbership model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73320" indent="-25416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E.g., use of the domain name only allowed while owner is a member of the NIC?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newal period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3171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of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73320" indent="-25416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Once-and-for-all?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1273320" indent="-25416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Yearly?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ransfer of domain nam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en can a delegation be revoked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en will a domain be re-delegated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3171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is the NIC’s hold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8610480" cy="1036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harging and Billing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8686800" cy="57150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ICs will incur substantive cos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3171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much will depend on the level and quantity of services provi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ees may be charged for NIC servi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3171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ongly recommend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73320" indent="-25416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Only way to insure long term viability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at is the fee structure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ow will money be accepted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3171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dit cards, checks, cash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3171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foreign ownership allowed, how is currency exchange handl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olicy for partial-term names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8610480" cy="1036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ee Structur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8686800" cy="57150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lat or differentiated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317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domain cheap, next more expensiv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317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e of organization (non-profit vs. commercial, etc.) determines fe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ee perio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317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time?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317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iodic?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73320" indent="-25416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What period?  Yearly, monthly, etc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intenance fees separated from allocation fees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8610480" cy="1036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ofi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8686800" cy="57150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fees are charged, they should at least cover cos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omain names are now seen as a valuable resour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317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ople will question right of the NIC to make money off that resou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no competition is allowed, non-profit status might reduce flamag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317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ternatively, profits can be reinvested into the Internet commun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317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ternatively, people can be told to get a lif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8610480" cy="1036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ispute Resolution Policy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8686800" cy="57150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omain names can conflict with trademar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isputes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ll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arise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317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main names must be un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317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demarks need not 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ICs have been sued in the pas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a lawsuit is filed, costs will be incurr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317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ct this and plan for it in budg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a lawsuit is lost, operation of the NIC can be imperil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317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would be nice if the NIC is recognized as non-sue-able by the gover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8610480" cy="1036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void Being Sue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8686800" cy="57150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t equal to avoiding dispu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quire customer to stipulate non-infringe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317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 it their responsi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quire indemnific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sure delegation does not confer any legal right to the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nam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that corresponds to the domai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valuate whether to check for infringements carefull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317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n’t become an “editor” of cont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8610480" cy="1036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ispute Policy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8686800" cy="57150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early define where customers claim infringe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317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at all possible, not at the N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fine how parties involved will participate in the resolution of the disput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dicate how disputes will be handl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317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ther the domain will be put “on hold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73320" indent="-25416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Whether it will be usable in that state or no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NIC should try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ally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hard to avoid adjudicating dispu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317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at’s what court systems are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8610480" cy="1036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8686800" cy="57150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istor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ame space structu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echnical detai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dministrative detai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751"/>
              </a:spcBef>
              <a:buClr>
                <a:srgbClr val="3333cc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000" spc="-1" strike="noStrike">
                <a:solidFill>
                  <a:srgbClr val="3333cc"/>
                </a:solidFill>
                <a:latin typeface="Arial"/>
              </a:rPr>
              <a:t>Political detai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u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8610480" cy="1036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NS Politics -- Backgroun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8686800" cy="57150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1992, the National Science Foundation re-bid the Network Information Center fun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3171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new NIC would be called “InterNIC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73320" indent="-25416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omposed of 3 part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782720" indent="-2538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istration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82720" indent="-2538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base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82720" indent="-2538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rmation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3171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work Solutions won registration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3171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&amp;T won database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3171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l Atomics won Information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ransfer from SRI-NIC didn’t go smooth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3171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after a while, everything worked pretty well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8610480" cy="1036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ife with </a:t>
            </a:r>
            <a:r>
              <a:rPr b="1" lang="en-US" sz="4000" spc="-1" strike="noStrike">
                <a:solidFill>
                  <a:srgbClr val="000000"/>
                </a:solidFill>
                <a:latin typeface="Courier New"/>
              </a:rPr>
              <a:t>HOSTS.TX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8686800" cy="57150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sily implemented and understoo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verybody (in theory) had the same version of the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file was maintained by the SRI Network Information Center (the "NIC"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317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file edits done by h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etwork administrators sent updates via the n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317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ly via electronic ma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317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ter via FT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NIC released updated versions of the file twice a wee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8610480" cy="1036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d-Term Review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8915400" cy="57150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 1995, NSF commissioned a mid-term review for the InterNIC projec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317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ral Atomics fail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73320" indent="-25416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opped from the InterNIC cooperative agreemen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317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&amp;T passed, but just bar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73320" indent="-25416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old to do mor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317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SI passed with flying col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73320" indent="-25416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it was noticed NSI was struggling under a significant load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273320" indent="-25416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creasingly, NSI was being threatened with lawsuit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273320" indent="-25416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main Name Speculators were becoming an issu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8610480" cy="1036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omain Name Growth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4" name=""/>
          <p:cNvGraphicFramePr/>
          <p:nvPr/>
        </p:nvGraphicFramePr>
        <p:xfrm>
          <a:off x="1219320" y="1752480"/>
          <a:ext cx="8001000" cy="4710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752480"/>
                    <a:ext cx="8001000" cy="471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6" name=""/>
          <p:cNvSpPr/>
          <p:nvPr/>
        </p:nvSpPr>
        <p:spPr>
          <a:xfrm>
            <a:off x="7466040" y="6551640"/>
            <a:ext cx="177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From Network Wizard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http://www.nw.com/zone/hosts.gi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8610480" cy="1036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teps are Take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8686800" cy="57150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9000"/>
          </a:bodyPr>
          <a:p>
            <a:pPr marL="378720" indent="-37872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 November, 1995, NSF approves NSI’s request to apply a user fee for the allocation of domain names in the .COM zo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818640" indent="-313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SF always intended InterNIC registration services to be self-suppor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60360" indent="-2512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unds for RS decreased over tim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8640" indent="-313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SI’s load related difficulties resulted in NSF paying more money to N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720" indent="-37872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SF approved a US $50/year domain name registration fe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818640" indent="-313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0% to go to an NSF administered “Internet Infrastructure Fund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8610480" cy="1036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sed Food </a:t>
            </a:r>
            <a:r>
              <a:rPr b="1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Fa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8686800" cy="57150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ny (very vocal) people were outrag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317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SI is a government mandated monopoly!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317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competition!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317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rastructure Fund is a tax!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SI’s dispute resolution policy further enrages the ma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317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SI policy favors trademark hol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SI makes a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lot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of mone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317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. 1996, NSI had registered about 2 million doma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gnificant “discussion” ensu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8610480" cy="1036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ddressing Concern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8686800" cy="57150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rly 1996: The YMBK Propos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3171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small number of new exclusively held TL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3171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 entrance fee payable to ISO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id 1996: AlterNI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3171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o needs InterNIC anywa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3171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int root nameservers elsew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id 1996: Open Root Server Coali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3171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ple sets of root nameserv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73320" indent="-25416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oordinated using out-of-band mechanism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y, 1996:  Postel Propos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3171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vised YMBK propos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73320" indent="-25416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lower fees, clarified requirement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8610480" cy="1036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AHC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8686800" cy="57150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Sept. 1996, Postel throws the problem to ISO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SOC formed the “International Ad Hoc Committee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3171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osed of people nominated by various “stakeholder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73320" indent="-25416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ANA, IAB, WIPO, ITU, INTA, ISOC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Dec. 1996, IAHC came up with a proposal to create 7 new TL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3171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firm, .store, .web, .arts, .rec, .info, .n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Key feature: TLDs are a public tru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3171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gTLDs must be sha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3171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ion of the gTLD-Memorandum of Understan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73320" indent="-25416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Only signatories to the MoU have input into polici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8610480" cy="1036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unter-proposal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8686800" cy="57150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hared names were (are) a contentious issu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unter-proposals focused on creating new non-shared TLD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317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SI (not surprisingly) provided one of these propos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AHC proposal modified in response to the counter-propos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317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no consens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ulti-root proposals appealing (decentralizes the DNS), but fundamentally flaw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317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DNS just doesn’t work that 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8610480" cy="1036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sulting Key Concep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8686800" cy="57150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etition is the go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3171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get there is the ques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paration of Registration Func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3171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ry -- entity operating the database containing registration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3171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rar -- entity submitting add/delete/change requests to the regis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3171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rant -- entity requesting the registrar perform add/delete/changes to a domain name regist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r example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3171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SI historically has acted as both registry and registrar for .COM, .NET, and 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8610480" cy="1036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. S. Government Steps I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8686800" cy="57150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n 30, 1998, US Government issues the “Green Paper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2080" indent="-3074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aft policy docu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2080" indent="-3074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laterally asserts US Government can decide Internet Governance poli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1160" indent="-3711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pose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2080" indent="-3074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reate a new non-profit entity to take over IANA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34800" indent="-24624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Very specific definitions of how it would be created, who would be on the board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802080" indent="-3074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etition at the registrar level, non-shared regist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2080" indent="-3074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ion of up to 5 new gTL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2080" indent="-3074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istries should take steps to avoid trademark infrin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2080" indent="-3074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net Infrastructure fund administered by NS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1160" indent="-3711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spon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2080" indent="-30744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No significant complaints about US Gov’t assertions of contro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802080" indent="-30744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Much unhappiness about the level of detail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234800" indent="-24624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Many felt the Green Paper much too “top down”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8610480" cy="1036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White Paper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8686800" cy="57150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un 5, 1998, US Government issues the “White Paper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3171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tatement of Poli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vision of the Green Paper, taking into account input received during the comment perio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3171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dges all the hard 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73320" indent="-25416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Describes Board of non-profit, but no indication of how to select the board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273320" indent="-25416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Non-profit to establish criteria for new TLDs, but no hint of what those criteria should b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273320" indent="-25416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ompetitive vs. non-competitive registries left for further study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273320" indent="-25416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sk WIPO to propose solution to trademark issu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3171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ever, this is what people thought they wa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73320" indent="-25416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Non-profit should decide as much as possibl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04T16:53:08Z</dcterms:created>
  <dc:creator>Cricket Liu</dc:creator>
  <dc:description/>
  <dc:language>en-US</dc:language>
  <cp:lastModifiedBy>gih</cp:lastModifiedBy>
  <cp:lastPrinted>1997-11-08T22:39:49Z</cp:lastPrinted>
  <dcterms:modified xsi:type="dcterms:W3CDTF">2000-07-14T00:37:30Z</dcterms:modified>
  <cp:revision>31</cp:revision>
  <dc:subject/>
  <dc:title>No Slide Title</dc:title>
</cp:coreProperties>
</file>