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21-1A10-4A34-A48B-2629B37A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DFF-2B5B-4E82-957B-E603BA2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55D-ED2F-45C7-BC06-25A2C18A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F1B-18F6-4287-BEE8-FDBFF4AB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61E5-4B35-4287-99A5-E483DA38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28B7-B53E-436A-864E-CD2E4CD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BEB8-14F8-4619-8974-6CD9245A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30C-E71D-4D09-AA8A-462BE49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7E2E-16A8-4460-A24E-4A5EE212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1D6E-FE35-4B08-AC11-A65AB44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87F0-9464-45D3-9A25-077E0DDF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E88-FE24-4847-A545-56F209A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AFC6-D4A6-40D9-AA1A-C4B6686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3907-22AD-4130-9344-270587D6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1E9-418D-4DAB-A16B-46D8814B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21D1-71B9-4801-B706-6E84B6CE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704A-EDCC-4B91-BA1B-065AC658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761-8AD1-427F-8ABA-BD9225C0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CE4-EC80-4A8D-B472-9CEE23DE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BF4-1220-410C-8F4A-7AA1851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6B8-2F93-4A6B-9FC7-D14BDF69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EC6-5ABF-4DA0-86DC-BF70797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697-85B1-4901-B463-E1C89892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945-4171-44DA-98D4-A1ABDD5E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E9D-C8F1-401E-9592-50A83E0D53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05F3-FF80-4E1D-8AB0-7F24E60F7E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488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 Black"/>
              </a:rPr>
              <a:t>Capacity Planning for Internet Service Network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40006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TW Track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mping network capacity  is not a demand manage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capacity must be available to meet peak demand levels without congestion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age Prof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ajor Internet use profi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use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 at 1500 - 16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au 1000 - 17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ial dial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at 2030 - 233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eau 1900 - 2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age Profi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ance pro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%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8% Domestic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%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mix due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invisible applications without us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independent user tar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y Guideli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ink Util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verage weekly traffic level set to 50% of available bandwid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re network capacity should be dimensioned  according to aggregate access bandwid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Usage Profile - optim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1800" y="1415880"/>
            <a:ext cx="8331480" cy="2070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34640" y="3733560"/>
            <a:ext cx="7404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ak loading less than 10%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ater than 50% loading for 50%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bursting vi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26960" y="1346040"/>
            <a:ext cx="804960" cy="188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7480" y="3282840"/>
            <a:ext cx="173988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4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Usage Profile - overload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7680" y="1835280"/>
            <a:ext cx="8807400" cy="2187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50680" y="4142880"/>
            <a:ext cx="7748280" cy="13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90% peak loading for 45%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60% peak loading for 60%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o burst profile at peak lo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85040" indent="-185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mbalanced traffic  (import bas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800" y="1920960"/>
            <a:ext cx="789120" cy="179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280" y="3760920"/>
            <a:ext cx="162540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80880" y="1820880"/>
          <a:ext cx="7910640" cy="19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0880"/>
                    <a:ext cx="791064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38000" y="3897360"/>
            <a:ext cx="765324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ble plateau traffic load sign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load increases cause widening plat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Usage Profile - satura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476280" y="1739880"/>
            <a:ext cx="738000" cy="17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595680"/>
            <a:ext cx="147780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 Growth Lev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growth pressu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d pop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hanging Internet servi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network-capabl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 Growth Lev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constant service model the growth curve will exhibit demand sat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36840" y="3079800"/>
          <a:ext cx="583704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3079800"/>
                    <a:ext cx="58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 Growth Lev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 a changing service model the saturation point will 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ore intense network use by increasingly sophisticate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28880" y="3720960"/>
          <a:ext cx="5861160" cy="31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3720960"/>
                    <a:ext cx="586116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5337000" y="4924440"/>
            <a:ext cx="343080" cy="542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1080" y="44388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33640" y="1714320"/>
            <a:ext cx="479448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CP/IP Protocol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Usage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pacity Guide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rowth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How to p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enerate a market demand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orecast the number of services in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xist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rowth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arket capture level (competitive posi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orecast the average demand p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al access, leased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eb, ftp, use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ching 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w Interne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How to p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740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mand models are typically very uncertain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high level of uncertainty of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highly dynamic competitive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oorly understood (and changing) service deman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How to p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orward extrapo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ssume existing traffic follows a general growth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orward extrapolat the growth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ood for short term planning (12 month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nnot fa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latent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market price sens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Trend foreca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35120" y="1974960"/>
          <a:ext cx="79153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974960"/>
                    <a:ext cx="79153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9200" y="1655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istorical usage vs capac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04960" y="2019240"/>
            <a:ext cx="442800" cy="435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272280"/>
            <a:ext cx="6388200" cy="58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Growth Tren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7800" y="1382760"/>
            <a:ext cx="8634600" cy="5475240"/>
            <a:chOff x="307800" y="1382760"/>
            <a:chExt cx="8634600" cy="5475240"/>
          </a:xfrm>
        </p:grpSpPr>
        <p:graphicFrame>
          <p:nvGraphicFramePr>
            <p:cNvPr id="181" name=""/>
            <p:cNvGraphicFramePr/>
            <p:nvPr/>
          </p:nvGraphicFramePr>
          <p:xfrm>
            <a:off x="307800" y="1382760"/>
            <a:ext cx="8634600" cy="5313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800" y="1382760"/>
                      <a:ext cx="8634600" cy="531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312840" y="1527120"/>
              <a:ext cx="541080" cy="466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8360" y="6140520"/>
              <a:ext cx="6421320" cy="71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9920" y="2475000"/>
              <a:ext cx="1555560" cy="19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1160" y="1639440"/>
            <a:ext cx="87357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undertake demand and trend forecast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nstantly review the model against generated usage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cognise that the larger the capacity you need the longer the lead time to purchas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cognise that the bigger the purchase the greater the requirement for capi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ning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domain  of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et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tive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tory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is 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flow damped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flow rate designed to probe and use max available end to end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limited by end system buffering siz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x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buffers are getting larger as OS vendors come to understand th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585800" y="1979640"/>
            <a:ext cx="668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P/IP Data Flow Rate Adap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2840" y="2668680"/>
            <a:ext cx="779292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55760" y="1358640"/>
            <a:ext cx="3682800" cy="439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92"/>
                </a:moveTo>
                <a:arcTo wR="10800" hR="10800" stAng="-2486" swAng="5405452"/>
                <a:lnTo>
                  <a:pt x="10800" y="10800"/>
                </a:lnTo>
                <a:close/>
              </a:path>
              <a:path fill="none" w="21600" h="21600">
                <a:moveTo>
                  <a:pt x="21600" y="10792"/>
                </a:moveTo>
                <a:arcTo wR="10800" hR="10800" stAng="-2486" swAng="5405452"/>
              </a:path>
            </a:pathLst>
          </a:custGeom>
          <a:noFill/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27400" y="3648240"/>
            <a:ext cx="0" cy="117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6360" y="2662200"/>
            <a:ext cx="7747200" cy="3216240"/>
          </a:xfrm>
          <a:custGeom>
            <a:avLst/>
            <a:gdLst/>
            <a:ahLst/>
            <a:rect l="l" t="t" r="r" b="b"/>
            <a:pathLst>
              <a:path w="4880" h="2026">
                <a:moveTo>
                  <a:pt x="0" y="0"/>
                </a:moveTo>
                <a:lnTo>
                  <a:pt x="0" y="2025"/>
                </a:lnTo>
                <a:lnTo>
                  <a:pt x="4879" y="202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14600" y="5925960"/>
            <a:ext cx="7214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080" y="4015440"/>
            <a:ext cx="18460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Flow R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212840" y="4169880"/>
            <a:ext cx="7297920" cy="19080"/>
          </a:xfrm>
          <a:prstGeom prst="line">
            <a:avLst/>
          </a:prstGeom>
          <a:ln w="25560">
            <a:solidFill>
              <a:srgbClr val="66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08600" y="2633760"/>
            <a:ext cx="3234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ady State Available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93920" y="3589200"/>
            <a:ext cx="1778040" cy="1255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44800" y="2903400"/>
            <a:ext cx="603000" cy="126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24440" y="3600360"/>
            <a:ext cx="0" cy="117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90960" y="3541680"/>
            <a:ext cx="1778040" cy="1255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43800" y="3564000"/>
            <a:ext cx="0" cy="117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610320" y="3505320"/>
            <a:ext cx="1778040" cy="1255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9320" y="2968560"/>
            <a:ext cx="178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te overflow loa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o network que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06800" y="3200400"/>
            <a:ext cx="2316240" cy="7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352760" y="3213000"/>
            <a:ext cx="1105200" cy="73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1720" y="3235320"/>
            <a:ext cx="38412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No network-based flow control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Network-based packet loss signals end systems to collapse transmission window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Varying window size allows adaptive flow metrics to adapt to changing maximum available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ustained insufficient capacity leads to congestion induced collapse of data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ny simultaneous TCP sessions interact with non-predictive non-uniform load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(ftp://thumper.bellcore.com/pub/dvw/sigcom93.ps.Z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eaks start to synchronize with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Buffering evens out individual flows, but buffers themselves behave with fluctuating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Buffering adds la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134720" y="1436760"/>
            <a:ext cx="6843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 efficiency under congestion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24040" y="2062080"/>
            <a:ext cx="543240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699920" y="3348000"/>
            <a:ext cx="3608280" cy="2594160"/>
          </a:xfrm>
          <a:prstGeom prst="line">
            <a:avLst/>
          </a:prstGeom>
          <a:ln w="12708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48320" y="3429000"/>
            <a:ext cx="749520" cy="1558800"/>
          </a:xfrm>
          <a:prstGeom prst="line">
            <a:avLst/>
          </a:prstGeom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7040" y="3081240"/>
            <a:ext cx="1304640" cy="10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0"/>
                </a:moveTo>
                <a:arcTo wR="10800" hR="10800" stAng="-5408351" swAng="5397692"/>
                <a:lnTo>
                  <a:pt x="10800" y="10800"/>
                </a:lnTo>
                <a:close/>
              </a:path>
              <a:path fill="none" w="21600" h="21600">
                <a:moveTo>
                  <a:pt x="10774" y="0"/>
                </a:moveTo>
                <a:arcTo wR="10800" hR="10800" stAng="-5408351" swAng="5397692"/>
              </a:path>
            </a:pathLst>
          </a:custGeom>
          <a:noFill/>
          <a:ln cap="rnd"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25480" y="2055960"/>
            <a:ext cx="5372280" cy="3860640"/>
          </a:xfrm>
          <a:custGeom>
            <a:avLst/>
            <a:gdLst/>
            <a:ahLst/>
            <a:rect l="l" t="t" r="r" b="b"/>
            <a:pathLst>
              <a:path w="3384" h="2432">
                <a:moveTo>
                  <a:pt x="0" y="0"/>
                </a:moveTo>
                <a:lnTo>
                  <a:pt x="0" y="2431"/>
                </a:lnTo>
                <a:lnTo>
                  <a:pt x="3383" y="243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64440" y="6207120"/>
            <a:ext cx="1362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ffic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22680" y="4236480"/>
            <a:ext cx="1808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0040" y="3078000"/>
            <a:ext cx="777960" cy="382680"/>
          </a:xfrm>
          <a:custGeom>
            <a:avLst/>
            <a:gdLst/>
            <a:ahLst/>
            <a:rect l="l" t="t" r="r" b="b"/>
            <a:pathLst>
              <a:path w="438" h="210">
                <a:moveTo>
                  <a:pt x="0" y="209"/>
                </a:moveTo>
                <a:lnTo>
                  <a:pt x="28" y="166"/>
                </a:lnTo>
                <a:lnTo>
                  <a:pt x="84" y="111"/>
                </a:lnTo>
                <a:lnTo>
                  <a:pt x="126" y="69"/>
                </a:lnTo>
                <a:lnTo>
                  <a:pt x="197" y="27"/>
                </a:lnTo>
                <a:lnTo>
                  <a:pt x="225" y="13"/>
                </a:lnTo>
                <a:lnTo>
                  <a:pt x="267" y="0"/>
                </a:lnTo>
                <a:lnTo>
                  <a:pt x="310" y="0"/>
                </a:lnTo>
                <a:lnTo>
                  <a:pt x="380" y="0"/>
                </a:lnTo>
                <a:lnTo>
                  <a:pt x="422" y="13"/>
                </a:lnTo>
                <a:lnTo>
                  <a:pt x="437" y="27"/>
                </a:lnTo>
              </a:path>
            </a:pathLst>
          </a:custGeom>
          <a:noFill/>
          <a:ln cap="rnd" w="127080">
            <a:solidFill>
              <a:srgbClr val="ff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6200" y="5956200"/>
            <a:ext cx="241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3%                       66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25600" y="4160880"/>
            <a:ext cx="1764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3%            66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1840" y="3584520"/>
            <a:ext cx="196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gestive Collapse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lide to mis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d packet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088040" y="4411800"/>
            <a:ext cx="650880" cy="8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Protocol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CP v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UDP-based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et Phone, Video, Work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UDP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no flow control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ustained use forces precedence over TCP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creasing use of flow bandwidth negotiated protocols for these applications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8T22:39:52Z</dcterms:created>
  <dc:creator>gh</dc:creator>
  <dc:description/>
  <dc:language>en-US</dc:language>
  <cp:lastModifiedBy>gih</cp:lastModifiedBy>
  <cp:lastPrinted>1998-04-17T06:27:05Z</cp:lastPrinted>
  <dcterms:modified xsi:type="dcterms:W3CDTF">2000-07-12T10:54:27Z</dcterms:modified>
  <cp:revision>11</cp:revision>
  <dc:subject>Internet Capacity Planning slides</dc:subject>
  <dc:title>Capacity Planning for the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