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421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CEE46-BE65-431C-B539-7AB2B9048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9B46-6243-4310-9A20-FFDA5FD0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74E2B-37CC-40B0-BE9D-40A128EF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8CDDF-23F4-456E-8E5A-C75FC9E29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35629-0E7A-4F0F-9C28-0DAB4DBE8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004CE-0045-4555-A8B1-F28847F3C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45DEF-819A-451F-AC51-32504E55F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57F96-0D4E-41FE-B871-1834CF4F9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9F87E-0FF6-4347-8ED8-21615D144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7A215-105A-4689-836B-50808672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A4BBC-EA6B-40AE-B79A-80811711D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CEA4-A0FE-4F4E-97FE-83E9A072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A93F5-ADDB-445C-9624-D31C8B5F1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E17E3-6650-4F3C-8865-9DFF8C1B8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733F-FFAB-4773-B187-17F6C4272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7FBE7-4CD4-4B80-AA41-696352B0D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420B3-C650-4CE3-98FC-A494D66F3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231C-6AF7-49CD-B3E5-3E81D80ED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8BD7-0E54-4B47-B32A-00D2B9505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3DDC-A768-45BD-9EA5-E45EEA23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F2BF0-0FA9-40B0-A507-515C4EFD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391A-25F6-464E-9856-5041FEFD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D0A0-8C5C-41DF-A4B5-4A1BF2237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74E5-040B-438D-99FC-F789FC402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minispir"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minispir"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010F-B207-43F1-8D33-FC6392E65A34}"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minispir"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minispir"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25E8-97CE-401D-A349-92A37BC946EA}"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2057040"/>
            <a:ext cx="7721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to build an Internet Service</a:t>
            </a:r>
            <a:endParaRPr b="0" lang="en-US" sz="4400" spc="-1" strike="noStrike">
              <a:solidFill>
                <a:srgbClr val="221304"/>
              </a:solidFill>
              <a:latin typeface="Times New Roman"/>
            </a:endParaRPr>
          </a:p>
        </p:txBody>
      </p:sp>
      <p:sp>
        <p:nvSpPr>
          <p:cNvPr id="116" name="PlaceHolder 2"/>
          <p:cNvSpPr>
            <a:spLocks noGrp="1"/>
          </p:cNvSpPr>
          <p:nvPr>
            <p:ph type="subTitle"/>
          </p:nvPr>
        </p:nvSpPr>
        <p:spPr>
          <a:xfrm>
            <a:off x="1625760" y="3885840"/>
            <a:ext cx="6400800" cy="177156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k 4 Wrap Up</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Business Pla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 foreca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l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al milest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points and measureable criteria</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erational Considerations</a:t>
            </a:r>
            <a:endParaRPr b="0" lang="en-US" sz="4400" spc="-1" strike="noStrike">
              <a:solidFill>
                <a:srgbClr val="221304"/>
              </a:solidFill>
              <a:latin typeface="Times New Roman"/>
            </a:endParaRPr>
          </a:p>
        </p:txBody>
      </p:sp>
      <p:sp>
        <p:nvSpPr>
          <p:cNvPr id="13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Architec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Operations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Growth</a:t>
            </a:r>
            <a:endParaRPr b="0" lang="en-US" sz="44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for rapi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to grow in line with your customer b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orking Together</a:t>
            </a:r>
            <a:endParaRPr b="0" lang="en-US" sz="4400" spc="-1" strike="noStrike">
              <a:solidFill>
                <a:srgbClr val="221304"/>
              </a:solidFill>
              <a:latin typeface="Times New Roman"/>
            </a:endParaRPr>
          </a:p>
        </p:txBody>
      </p:sp>
      <p:sp>
        <p:nvSpPr>
          <p:cNvPr id="14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lides are intended to attempt to bring together the material presented in Track 4, to gain an overall perspective of the tasks required, and the considerations that must be included when undertaking large sacle national Internet infrastructure projects.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of the slides are blank - you should complete them using your knowledge gained from the cou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is the Internet</a:t>
            </a:r>
            <a:endParaRPr b="0" lang="en-US" sz="4400" spc="-1" strike="noStrike">
              <a:solidFill>
                <a:srgbClr val="221304"/>
              </a:solidFill>
              <a:latin typeface="Times New Roman"/>
            </a:endParaRPr>
          </a:p>
        </p:txBody>
      </p:sp>
      <p:sp>
        <p:nvSpPr>
          <p:cNvPr id="1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Internets develop?</a:t>
            </a:r>
            <a:endParaRPr b="0" lang="en-US" sz="4400" spc="-1" strike="noStrike">
              <a:solidFill>
                <a:srgbClr val="221304"/>
              </a:solidFill>
              <a:latin typeface="Times New Roman"/>
            </a:endParaRPr>
          </a:p>
        </p:txBody>
      </p:sp>
      <p:sp>
        <p:nvSpPr>
          <p:cNvPr id="122"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ases of developmen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Material is there to help me</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perience in other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pectations of the potential client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Services have to be considered</a:t>
            </a:r>
            <a:endParaRPr b="0" lang="en-US" sz="4400" spc="-1" strike="noStrike">
              <a:solidFill>
                <a:srgbClr val="221304"/>
              </a:solidFill>
              <a:latin typeface="Times New Roman"/>
            </a:endParaRPr>
          </a:p>
        </p:txBody>
      </p:sp>
      <p:sp>
        <p:nvSpPr>
          <p:cNvPr id="126"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mod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portfolio</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nvironmental Considerations</a:t>
            </a:r>
            <a:endParaRPr b="0" lang="en-US" sz="4400" spc="-1" strike="noStrike">
              <a:solidFill>
                <a:srgbClr val="221304"/>
              </a:solidFill>
              <a:latin typeface="Times New Roman"/>
            </a:endParaRPr>
          </a:p>
        </p:txBody>
      </p:sp>
      <p:sp>
        <p:nvSpPr>
          <p:cNvPr id="1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titive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ers’ expec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 expect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echno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expert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dministrative Infrastructure</a:t>
            </a:r>
            <a:endParaRPr b="0" lang="en-US" sz="4400" spc="-1" strike="noStrike">
              <a:solidFill>
                <a:srgbClr val="221304"/>
              </a:solidFill>
              <a:latin typeface="Times New Roman"/>
            </a:endParaRPr>
          </a:p>
        </p:txBody>
      </p:sp>
      <p:sp>
        <p:nvSpPr>
          <p:cNvPr id="130"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domain nam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llocation polic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dministration</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9960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Business Plan</a:t>
            </a:r>
            <a:endParaRPr b="0" lang="en-US" sz="4400" spc="-1" strike="noStrike">
              <a:solidFill>
                <a:srgbClr val="221304"/>
              </a:solidFill>
              <a:latin typeface="Times New Roman"/>
            </a:endParaRPr>
          </a:p>
        </p:txBody>
      </p:sp>
      <p:sp>
        <p:nvSpPr>
          <p:cNvPr id="132" name="PlaceHolder 2"/>
          <p:cNvSpPr>
            <a:spLocks noGrp="1"/>
          </p:cNvSpPr>
          <p:nvPr>
            <p:ph/>
          </p:nvPr>
        </p:nvSpPr>
        <p:spPr>
          <a:xfrm>
            <a:off x="1066680" y="1771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defin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ing / retail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3T00:32:59Z</dcterms:created>
  <dc:creator>geoff</dc:creator>
  <dc:description/>
  <dc:language>en-US</dc:language>
  <cp:lastModifiedBy>gih</cp:lastModifiedBy>
  <dcterms:modified xsi:type="dcterms:W3CDTF">2000-07-13T03:44:39Z</dcterms:modified>
  <cp:revision>5</cp:revision>
  <dc:subject/>
  <dc:title>How to build an Inter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y documents\isocwk98\t4</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