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6.wmf" ContentType="image/x-wmf"/>
  <Override PartName="/ppt/media/image115.wmf" ContentType="image/x-wmf"/>
  <Override PartName="/ppt/media/image114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06.wmf" ContentType="image/x-wmf"/>
  <Override PartName="/ppt/media/image105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4.wmf" ContentType="image/x-wmf"/>
  <Override PartName="/ppt/media/image34.wmf" ContentType="image/x-wmf"/>
  <Override PartName="/ppt/media/image5.wmf" ContentType="image/x-wmf"/>
  <Override PartName="/ppt/media/image35.wmf" ContentType="image/x-wmf"/>
  <Override PartName="/ppt/media/image107.wmf" ContentType="image/x-wmf"/>
  <Override PartName="/ppt/media/image10.wmf" ContentType="image/x-wmf"/>
  <Override PartName="/ppt/media/image6.wmf" ContentType="image/x-wmf"/>
  <Override PartName="/ppt/media/image18.wmf" ContentType="image/x-wmf"/>
  <Override PartName="/ppt/media/image86.wmf" ContentType="image/x-wmf"/>
  <Override PartName="/ppt/media/image36.wmf" ContentType="image/x-wmf"/>
  <Override PartName="/ppt/media/image108.wmf" ContentType="image/x-wmf"/>
  <Override PartName="/ppt/media/image11.wmf" ContentType="image/x-wmf"/>
  <Override PartName="/ppt/media/image7.wmf" ContentType="image/x-wmf"/>
  <Override PartName="/ppt/media/image16.wmf" ContentType="image/x-wmf"/>
  <Override PartName="/ppt/media/image84.wmf" ContentType="image/x-wmf"/>
  <Override PartName="/ppt/media/image37.wmf" ContentType="image/x-wmf"/>
  <Override PartName="/ppt/media/image109.wmf" ContentType="image/x-wmf"/>
  <Override PartName="/ppt/media/image127.wmf" ContentType="image/x-wmf"/>
  <Override PartName="/ppt/media/image30.wmf" ContentType="image/x-wmf"/>
  <Override PartName="/ppt/media/image8.wmf" ContentType="image/x-wmf"/>
  <Override PartName="/ppt/media/image17.wmf" ContentType="image/x-wmf"/>
  <Override PartName="/ppt/media/image85.wmf" ContentType="image/x-wmf"/>
  <Override PartName="/ppt/media/image38.wmf" ContentType="image/x-wmf"/>
  <Override PartName="/ppt/media/image1.wmf" ContentType="image/x-wmf"/>
  <Override PartName="/ppt/media/image81.wmf" ContentType="image/x-wmf"/>
  <Override PartName="/ppt/media/image13.wmf" ContentType="image/x-wmf"/>
  <Override PartName="/ppt/media/image39.wmf" ContentType="image/x-wmf"/>
  <Override PartName="/ppt/media/image40.wmf" ContentType="image/x-wmf"/>
  <Override PartName="/ppt/media/image137.wmf" ContentType="image/x-wmf"/>
  <Override PartName="/ppt/media/image41.wmf" ContentType="image/x-wmf"/>
  <Override PartName="/ppt/media/image138.wmf" ContentType="image/x-wmf"/>
  <Override PartName="/ppt/media/image47.wmf" ContentType="image/x-wmf"/>
  <Override PartName="/ppt/media/image133.wmf" ContentType="image/x-wmf"/>
  <Override PartName="/ppt/media/image48.wmf" ContentType="image/x-wmf"/>
  <Override PartName="/ppt/media/image134.wmf" ContentType="image/x-wmf"/>
  <Override PartName="/ppt/media/image42.wmf" ContentType="image/x-wmf"/>
  <Override PartName="/ppt/media/image139.wmf" ContentType="image/x-wmf"/>
  <Override PartName="/ppt/media/image49.wmf" ContentType="image/x-wmf"/>
  <Override PartName="/ppt/media/image100.wmf" ContentType="image/x-wmf"/>
  <Override PartName="/ppt/media/image135.wmf" ContentType="image/x-wmf"/>
  <Override PartName="/ppt/media/image43.wmf" ContentType="image/x-wmf"/>
  <Override PartName="/ppt/media/image136.wmf" ContentType="image/x-wmf"/>
  <Override PartName="/ppt/media/image50.wmf" ContentType="image/x-wmf"/>
  <Override PartName="/ppt/media/image143.wmf" ContentType="image/x-wmf"/>
  <Override PartName="/ppt/media/image51.wmf" ContentType="image/x-wmf"/>
  <Override PartName="/ppt/media/image46.wmf" ContentType="image/x-wmf"/>
  <Override PartName="/ppt/media/image132.wmf" ContentType="image/x-wmf"/>
  <Override PartName="/ppt/media/image144.wmf" ContentType="image/x-wmf"/>
  <Override PartName="/ppt/media/image52.wmf" ContentType="image/x-wmf"/>
  <Override PartName="/ppt/media/image45.wmf" ContentType="image/x-wmf"/>
  <Override PartName="/ppt/media/image131.wmf" ContentType="image/x-wmf"/>
  <Override PartName="/ppt/media/image129.wmf" ContentType="image/x-wmf"/>
  <Override PartName="/ppt/media/image32.wmf" ContentType="image/x-wmf"/>
  <Override PartName="/ppt/media/image44.wmf" ContentType="image/x-wmf"/>
  <Override PartName="/ppt/media/image130.wmf" ContentType="image/x-wmf"/>
  <Override PartName="/ppt/media/image79.wmf" ContentType="image/x-wmf"/>
  <Override PartName="/ppt/media/image128.wmf" ContentType="image/x-wmf"/>
  <Override PartName="/ppt/media/image9.wmf" ContentType="image/x-wmf"/>
  <Override PartName="/ppt/media/image31.wmf" ContentType="image/x-wmf"/>
  <Override PartName="/ppt/media/image142.wmf" ContentType="image/x-wmf"/>
  <Override PartName="/ppt/media/image56.wmf" ContentType="image/x-wmf"/>
  <Override PartName="/ppt/media/image141.wmf" ContentType="image/x-wmf"/>
  <Override PartName="/ppt/media/image55.wmf" ContentType="image/x-wmf"/>
  <Override PartName="/ppt/media/image140.wmf" ContentType="image/x-wmf"/>
  <Override PartName="/ppt/media/image89.wmf" ContentType="image/x-wmf"/>
  <Override PartName="/ppt/media/image54.wmf" ContentType="image/x-wmf"/>
  <Override PartName="/ppt/media/image53.wmf" ContentType="image/x-wmf"/>
  <Override PartName="/ppt/media/image33.wmf" ContentType="image/x-wmf"/>
  <Override PartName="/ppt/media/image3.wmf" ContentType="image/x-wmf"/>
  <Override PartName="/ppt/media/image83.wmf" ContentType="image/x-wmf"/>
  <Override PartName="/ppt/media/image15.wmf" ContentType="image/x-wmf"/>
  <Override PartName="/ppt/media/image12.wmf" ContentType="image/x-wmf"/>
  <Override PartName="/ppt/media/image80.wmf" ContentType="image/x-wmf"/>
  <Override PartName="/ppt/media/image94.wmf" ContentType="image/x-wmf"/>
  <Override PartName="/ppt/media/image26.wmf" ContentType="image/x-wmf"/>
  <Override PartName="/ppt/media/image2.wmf" ContentType="image/x-wmf"/>
  <Override PartName="/ppt/media/image82.wmf" ContentType="image/x-wmf"/>
  <Override PartName="/ppt/media/image14.wmf" ContentType="image/x-wmf"/>
  <Override PartName="/ppt/media/image93.wmf" ContentType="image/x-wmf"/>
  <Override PartName="/ppt/media/image25.wmf" ContentType="image/x-wmf"/>
  <Override PartName="/ppt/media/image92.wmf" ContentType="image/x-wmf"/>
  <Override PartName="/ppt/media/image24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19.wmf" ContentType="image/x-wmf"/>
  <Override PartName="/ppt/media/image87.wmf" ContentType="image/x-wmf"/>
  <Override PartName="/ppt/media/image88.wmf" ContentType="image/x-wmf"/>
  <Override PartName="/ppt/media/image27.wmf" ContentType="image/x-wmf"/>
  <Override PartName="/ppt/media/image95.wmf" ContentType="image/x-wmf"/>
  <Override PartName="/ppt/media/image28.wmf" ContentType="image/x-wmf"/>
  <Override PartName="/ppt/media/image96.wmf" ContentType="image/x-wmf"/>
  <Override PartName="/ppt/media/image29.wmf" ContentType="image/x-wmf"/>
  <Override PartName="/ppt/media/image97.wmf" ContentType="image/x-wmf"/>
  <Override PartName="/ppt/media/image98.wmf" ContentType="image/x-wmf"/>
  <Override PartName="/ppt/media/image99.wmf" ContentType="image/x-wmf"/>
  <Override PartName="/ppt/media/image10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8129588" cy="6099175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53040" y="9418680"/>
            <a:ext cx="7304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fld id="{09968456-B1F4-4F2B-AA00-58CDF6A02BB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70320" y="9414000"/>
            <a:ext cx="1920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entation_I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sc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88620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body"/>
          </p:nvPr>
        </p:nvSpPr>
        <p:spPr>
          <a:xfrm>
            <a:off x="914400" y="43210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ldImg"/>
          </p:nvPr>
        </p:nvSpPr>
        <p:spPr>
          <a:xfrm>
            <a:off x="1403280" y="1008000"/>
            <a:ext cx="4051440" cy="30355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4640" y="1414440"/>
            <a:ext cx="731232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4640" y="3361320"/>
            <a:ext cx="731232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4640" y="1414440"/>
            <a:ext cx="356832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51880" y="1414440"/>
            <a:ext cx="356832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4640" y="3361320"/>
            <a:ext cx="356832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51880" y="3361320"/>
            <a:ext cx="356832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04640" y="1414440"/>
            <a:ext cx="235440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877120" y="1414440"/>
            <a:ext cx="235440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49600" y="1414440"/>
            <a:ext cx="235440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04640" y="3361320"/>
            <a:ext cx="235440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877120" y="3361320"/>
            <a:ext cx="235440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349600" y="3361320"/>
            <a:ext cx="235440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04640" y="1414440"/>
            <a:ext cx="7312320" cy="37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8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04640" y="1414440"/>
            <a:ext cx="73123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4640" y="1414440"/>
            <a:ext cx="35683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51880" y="1414440"/>
            <a:ext cx="35683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42600" y="196920"/>
            <a:ext cx="677844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04640" y="1414440"/>
            <a:ext cx="356832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51880" y="1414440"/>
            <a:ext cx="35683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4640" y="3361320"/>
            <a:ext cx="356832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4640" y="1414440"/>
            <a:ext cx="35683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151880" y="1414440"/>
            <a:ext cx="356832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51880" y="3361320"/>
            <a:ext cx="356832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4640" y="1414440"/>
            <a:ext cx="356832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51880" y="1414440"/>
            <a:ext cx="356832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04640" y="3361320"/>
            <a:ext cx="731232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4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4640" y="1414440"/>
            <a:ext cx="73123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82000"/>
          </a:bodyPr>
          <a:p>
            <a:pPr marL="210600" indent="-210600">
              <a:lnSpc>
                <a:spcPct val="94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12560">
              <a:lnSpc>
                <a:spcPct val="94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623160">
              <a:lnSpc>
                <a:spcPct val="94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825120">
              <a:lnSpc>
                <a:spcPct val="94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036080">
              <a:lnSpc>
                <a:spcPct val="94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036080">
              <a:lnSpc>
                <a:spcPct val="94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036080">
              <a:lnSpc>
                <a:spcPct val="94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477560" y="5889600"/>
            <a:ext cx="6102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fld id="{B94769CB-4ED3-4E97-A05F-C6530DA9CF3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59280" y="2638440"/>
            <a:ext cx="203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3240" y="0"/>
            <a:ext cx="595440" cy="866880"/>
            <a:chOff x="-3240" y="0"/>
            <a:chExt cx="595440" cy="866880"/>
          </a:xfrm>
        </p:grpSpPr>
        <p:sp>
          <p:nvSpPr>
            <p:cNvPr id="5" name=""/>
            <p:cNvSpPr/>
            <p:nvPr/>
          </p:nvSpPr>
          <p:spPr>
            <a:xfrm>
              <a:off x="3240" y="6480"/>
              <a:ext cx="581040" cy="62676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240" y="420840"/>
              <a:ext cx="581040" cy="4381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-1440" y="414360"/>
              <a:ext cx="591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-3240" y="0"/>
              <a:ext cx="595440" cy="866880"/>
            </a:xfrm>
            <a:custGeom>
              <a:avLst/>
              <a:gdLst/>
              <a:ahLst/>
              <a:rect l="l" t="t" r="r" b="b"/>
              <a:pathLst>
                <a:path w="375" h="546">
                  <a:moveTo>
                    <a:pt x="0" y="545"/>
                  </a:moveTo>
                  <a:lnTo>
                    <a:pt x="374" y="545"/>
                  </a:lnTo>
                  <a:lnTo>
                    <a:pt x="37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6688080" y="5251320"/>
            <a:ext cx="1222560" cy="65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image" Target="../media/image41.wmf"/><Relationship Id="rId8" Type="http://schemas.openxmlformats.org/officeDocument/2006/relationships/image" Target="../media/image42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image" Target="../media/image48.wmf"/><Relationship Id="rId7" Type="http://schemas.openxmlformats.org/officeDocument/2006/relationships/image" Target="../media/image49.wmf"/><Relationship Id="rId8" Type="http://schemas.openxmlformats.org/officeDocument/2006/relationships/image" Target="../media/image50.wmf"/><Relationship Id="rId9" Type="http://schemas.openxmlformats.org/officeDocument/2006/relationships/image" Target="../media/image51.wmf"/><Relationship Id="rId10" Type="http://schemas.openxmlformats.org/officeDocument/2006/relationships/image" Target="../media/image52.wmf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7.wmf"/><Relationship Id="rId6" Type="http://schemas.openxmlformats.org/officeDocument/2006/relationships/image" Target="../media/image58.wmf"/><Relationship Id="rId7" Type="http://schemas.openxmlformats.org/officeDocument/2006/relationships/image" Target="../media/image59.wmf"/><Relationship Id="rId8" Type="http://schemas.openxmlformats.org/officeDocument/2006/relationships/image" Target="../media/image60.wmf"/><Relationship Id="rId9" Type="http://schemas.openxmlformats.org/officeDocument/2006/relationships/image" Target="../media/image61.wmf"/><Relationship Id="rId10" Type="http://schemas.openxmlformats.org/officeDocument/2006/relationships/image" Target="../media/image62.wmf"/><Relationship Id="rId11" Type="http://schemas.openxmlformats.org/officeDocument/2006/relationships/image" Target="../media/image63.wmf"/><Relationship Id="rId12" Type="http://schemas.openxmlformats.org/officeDocument/2006/relationships/image" Target="../media/image64.wmf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image" Target="../media/image68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image" Target="../media/image72.wmf"/><Relationship Id="rId5" Type="http://schemas.openxmlformats.org/officeDocument/2006/relationships/image" Target="../media/image73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4.wmf"/><Relationship Id="rId2" Type="http://schemas.openxmlformats.org/officeDocument/2006/relationships/image" Target="../media/image75.wmf"/><Relationship Id="rId3" Type="http://schemas.openxmlformats.org/officeDocument/2006/relationships/image" Target="../media/image76.wmf"/><Relationship Id="rId4" Type="http://schemas.openxmlformats.org/officeDocument/2006/relationships/image" Target="../media/image77.wmf"/><Relationship Id="rId5" Type="http://schemas.openxmlformats.org/officeDocument/2006/relationships/image" Target="../media/image78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image" Target="../media/image81.wmf"/><Relationship Id="rId4" Type="http://schemas.openxmlformats.org/officeDocument/2006/relationships/image" Target="../media/image82.wmf"/><Relationship Id="rId5" Type="http://schemas.openxmlformats.org/officeDocument/2006/relationships/image" Target="../media/image83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image" Target="../media/image85.wmf"/><Relationship Id="rId3" Type="http://schemas.openxmlformats.org/officeDocument/2006/relationships/image" Target="../media/image86.wmf"/><Relationship Id="rId4" Type="http://schemas.openxmlformats.org/officeDocument/2006/relationships/image" Target="../media/image87.wmf"/><Relationship Id="rId5" Type="http://schemas.openxmlformats.org/officeDocument/2006/relationships/image" Target="../media/image88.wmf"/><Relationship Id="rId6" Type="http://schemas.openxmlformats.org/officeDocument/2006/relationships/image" Target="../media/image89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image" Target="../media/image91.wmf"/><Relationship Id="rId3" Type="http://schemas.openxmlformats.org/officeDocument/2006/relationships/image" Target="../media/image92.wmf"/><Relationship Id="rId4" Type="http://schemas.openxmlformats.org/officeDocument/2006/relationships/image" Target="../media/image93.wmf"/><Relationship Id="rId5" Type="http://schemas.openxmlformats.org/officeDocument/2006/relationships/image" Target="../media/image94.wmf"/><Relationship Id="rId6" Type="http://schemas.openxmlformats.org/officeDocument/2006/relationships/image" Target="../media/image95.wmf"/><Relationship Id="rId7" Type="http://schemas.openxmlformats.org/officeDocument/2006/relationships/image" Target="../media/image96.wmf"/><Relationship Id="rId8" Type="http://schemas.openxmlformats.org/officeDocument/2006/relationships/image" Target="../media/image97.wmf"/><Relationship Id="rId9" Type="http://schemas.openxmlformats.org/officeDocument/2006/relationships/image" Target="../media/image98.wmf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9.wmf"/><Relationship Id="rId2" Type="http://schemas.openxmlformats.org/officeDocument/2006/relationships/image" Target="../media/image100.wmf"/><Relationship Id="rId3" Type="http://schemas.openxmlformats.org/officeDocument/2006/relationships/image" Target="../media/image101.wmf"/><Relationship Id="rId4" Type="http://schemas.openxmlformats.org/officeDocument/2006/relationships/image" Target="../media/image102.wmf"/><Relationship Id="rId5" Type="http://schemas.openxmlformats.org/officeDocument/2006/relationships/image" Target="../media/image103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4.wmf"/><Relationship Id="rId2" Type="http://schemas.openxmlformats.org/officeDocument/2006/relationships/image" Target="../media/image105.wmf"/><Relationship Id="rId3" Type="http://schemas.openxmlformats.org/officeDocument/2006/relationships/image" Target="../media/image106.wmf"/><Relationship Id="rId4" Type="http://schemas.openxmlformats.org/officeDocument/2006/relationships/image" Target="../media/image107.wmf"/><Relationship Id="rId5" Type="http://schemas.openxmlformats.org/officeDocument/2006/relationships/image" Target="../media/image108.wmf"/><Relationship Id="rId6" Type="http://schemas.openxmlformats.org/officeDocument/2006/relationships/image" Target="../media/image109.wmf"/><Relationship Id="rId7" Type="http://schemas.openxmlformats.org/officeDocument/2006/relationships/image" Target="../media/image110.wmf"/><Relationship Id="rId8" Type="http://schemas.openxmlformats.org/officeDocument/2006/relationships/image" Target="../media/image111.wmf"/><Relationship Id="rId9" Type="http://schemas.openxmlformats.org/officeDocument/2006/relationships/image" Target="../media/image112.wmf"/><Relationship Id="rId10" Type="http://schemas.openxmlformats.org/officeDocument/2006/relationships/image" Target="../media/image113.wmf"/><Relationship Id="rId11" Type="http://schemas.openxmlformats.org/officeDocument/2006/relationships/image" Target="../media/image114.wmf"/><Relationship Id="rId12" Type="http://schemas.openxmlformats.org/officeDocument/2006/relationships/image" Target="../media/image115.wmf"/><Relationship Id="rId13" Type="http://schemas.openxmlformats.org/officeDocument/2006/relationships/image" Target="../media/image116.wmf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7.wmf"/><Relationship Id="rId2" Type="http://schemas.openxmlformats.org/officeDocument/2006/relationships/image" Target="../media/image118.wmf"/><Relationship Id="rId3" Type="http://schemas.openxmlformats.org/officeDocument/2006/relationships/image" Target="../media/image119.wmf"/><Relationship Id="rId4" Type="http://schemas.openxmlformats.org/officeDocument/2006/relationships/image" Target="../media/image120.wmf"/><Relationship Id="rId5" Type="http://schemas.openxmlformats.org/officeDocument/2006/relationships/image" Target="../media/image121.wmf"/><Relationship Id="rId6" Type="http://schemas.openxmlformats.org/officeDocument/2006/relationships/image" Target="../media/image122.wmf"/><Relationship Id="rId7" Type="http://schemas.openxmlformats.org/officeDocument/2006/relationships/image" Target="../media/image123.wmf"/><Relationship Id="rId8" Type="http://schemas.openxmlformats.org/officeDocument/2006/relationships/slideLayout" Target="../slideLayouts/slideLayout5.xml"/><Relationship Id="rId9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4.wmf"/><Relationship Id="rId2" Type="http://schemas.openxmlformats.org/officeDocument/2006/relationships/image" Target="../media/image125.wmf"/><Relationship Id="rId3" Type="http://schemas.openxmlformats.org/officeDocument/2006/relationships/image" Target="../media/image126.wmf"/><Relationship Id="rId4" Type="http://schemas.openxmlformats.org/officeDocument/2006/relationships/image" Target="../media/image127.wmf"/><Relationship Id="rId5" Type="http://schemas.openxmlformats.org/officeDocument/2006/relationships/image" Target="../media/image128.wmf"/><Relationship Id="rId6" Type="http://schemas.openxmlformats.org/officeDocument/2006/relationships/image" Target="../media/image129.wmf"/><Relationship Id="rId7" Type="http://schemas.openxmlformats.org/officeDocument/2006/relationships/image" Target="../media/image130.wmf"/><Relationship Id="rId8" Type="http://schemas.openxmlformats.org/officeDocument/2006/relationships/image" Target="../media/image131.wmf"/><Relationship Id="rId9" Type="http://schemas.openxmlformats.org/officeDocument/2006/relationships/image" Target="../media/image132.wmf"/><Relationship Id="rId10" Type="http://schemas.openxmlformats.org/officeDocument/2006/relationships/image" Target="../media/image133.wmf"/><Relationship Id="rId11" Type="http://schemas.openxmlformats.org/officeDocument/2006/relationships/image" Target="../media/image134.wmf"/><Relationship Id="rId12" Type="http://schemas.openxmlformats.org/officeDocument/2006/relationships/slideLayout" Target="../slideLayouts/slideLayout5.xml"/><Relationship Id="rId1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35.wmf"/><Relationship Id="rId2" Type="http://schemas.openxmlformats.org/officeDocument/2006/relationships/image" Target="../media/image136.wmf"/><Relationship Id="rId3" Type="http://schemas.openxmlformats.org/officeDocument/2006/relationships/image" Target="../media/image137.wmf"/><Relationship Id="rId4" Type="http://schemas.openxmlformats.org/officeDocument/2006/relationships/image" Target="../media/image138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39.wmf"/><Relationship Id="rId2" Type="http://schemas.openxmlformats.org/officeDocument/2006/relationships/image" Target="../media/image140.wmf"/><Relationship Id="rId3" Type="http://schemas.openxmlformats.org/officeDocument/2006/relationships/image" Target="../media/image141.wmf"/><Relationship Id="rId4" Type="http://schemas.openxmlformats.org/officeDocument/2006/relationships/image" Target="../media/image142.wmf"/><Relationship Id="rId5" Type="http://schemas.openxmlformats.org/officeDocument/2006/relationships/image" Target="../media/image143.wmf"/><Relationship Id="rId6" Type="http://schemas.openxmlformats.org/officeDocument/2006/relationships/image" Target="../media/image144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51800" y="5889600"/>
            <a:ext cx="2034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686640" y="5251320"/>
            <a:ext cx="1222200" cy="650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3880" y="2370240"/>
            <a:ext cx="6689880" cy="10540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BGP4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6200" y="1300320"/>
            <a:ext cx="3225960" cy="38448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2001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i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atic discove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ly trust your IGP rou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es go to all IGP rou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95560" y="1604880"/>
            <a:ext cx="3835440" cy="38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 anchorCtr="1">
            <a:noAutofit/>
          </a:bodyPr>
          <a:p>
            <a:pPr marL="257040" indent="-257040">
              <a:lnSpc>
                <a:spcPct val="95000"/>
              </a:lnSpc>
              <a:spcBef>
                <a:spcPts val="2001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0328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fically configured p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ing with outsid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 administrative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42960" y="196920"/>
            <a:ext cx="747072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ior vs. Exterior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uting Protoc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989600" y="1258920"/>
            <a:ext cx="2765160" cy="16765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00200" y="3468600"/>
            <a:ext cx="2765520" cy="1676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25280" y="1258920"/>
            <a:ext cx="2765520" cy="1676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529160" y="2657520"/>
            <a:ext cx="0" cy="38736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6000" y="1909440"/>
            <a:ext cx="1116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979960" y="1909440"/>
            <a:ext cx="1230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98680" y="4117680"/>
            <a:ext cx="1155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1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9720" y="1715760"/>
            <a:ext cx="14698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MZ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51200" y="1463760"/>
            <a:ext cx="2201760" cy="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51200" y="2668680"/>
            <a:ext cx="533520" cy="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17960" y="3044880"/>
            <a:ext cx="1668240" cy="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35640" y="2668680"/>
            <a:ext cx="465120" cy="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84720" y="2657520"/>
            <a:ext cx="0" cy="38736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03560" y="3046320"/>
            <a:ext cx="0" cy="37476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282760" y="1279440"/>
            <a:ext cx="787320" cy="461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4924440" y="1279440"/>
            <a:ext cx="787320" cy="4618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2282760" y="2384280"/>
            <a:ext cx="787320" cy="462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4924440" y="2384280"/>
            <a:ext cx="787320" cy="462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3616200" y="3222720"/>
            <a:ext cx="787680" cy="461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654280" y="152100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00280" y="257976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27560" y="152100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27560" y="257976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46680" y="344484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66480" y="5234040"/>
            <a:ext cx="7311960" cy="504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25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red network between 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militarized Zone (DMZ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ic Rout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04640" y="1414440"/>
            <a:ext cx="73123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96000"/>
          </a:bodyPr>
          <a:p>
            <a:pPr marL="246600" indent="-24660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o path inform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y versatil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ow protocol overhea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igh maintain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y bad convergence tim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quires manual configur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GP Bas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1440" y="3699000"/>
            <a:ext cx="3838320" cy="2209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 anchorCtr="1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s over TC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 vector protoc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mental upd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962600" y="1440000"/>
            <a:ext cx="2765520" cy="1676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11120" y="1490760"/>
            <a:ext cx="2765520" cy="16761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726000" y="3484440"/>
            <a:ext cx="2765160" cy="1676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892760" y="2838600"/>
            <a:ext cx="0" cy="38736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24000" y="2120400"/>
            <a:ext cx="1187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994360" y="2120400"/>
            <a:ext cx="1187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11800" y="4177800"/>
            <a:ext cx="143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1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14800" y="1690560"/>
            <a:ext cx="2201760" cy="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14800" y="2849400"/>
            <a:ext cx="533160" cy="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81560" y="3225960"/>
            <a:ext cx="1668240" cy="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8880" y="2849400"/>
            <a:ext cx="465120" cy="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47960" y="2838600"/>
            <a:ext cx="0" cy="38736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89680" y="3227400"/>
            <a:ext cx="0" cy="37476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359160" y="1251000"/>
            <a:ext cx="379440" cy="303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83040" y="1251000"/>
            <a:ext cx="303480" cy="303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4702320" y="3416400"/>
            <a:ext cx="787320" cy="4618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013000" y="3633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5286240" y="2603520"/>
            <a:ext cx="787680" cy="4618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5286240" y="1467000"/>
            <a:ext cx="787680" cy="461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2543040" y="2603520"/>
            <a:ext cx="787680" cy="461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8"/>
          <a:stretch/>
        </p:blipFill>
        <p:spPr>
          <a:xfrm>
            <a:off x="2543040" y="1467000"/>
            <a:ext cx="787680" cy="461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847960" y="2803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91160" y="2803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47960" y="1681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91160" y="1681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23480" y="950760"/>
            <a:ext cx="1114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Oper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04640" y="1414440"/>
            <a:ext cx="73123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earns multiple paths via internal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nd external BGP speake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icks the best path and installs in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IP forwarding tabl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licies applied by influencing the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est path selec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63040" y="417600"/>
            <a:ext cx="6937560" cy="5731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al BGP Pee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-1440" y="4430880"/>
            <a:ext cx="4883040" cy="12729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337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GP peer within the same 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337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required to be directly connec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337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GP neighbors should be fully mesh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398600" y="784800"/>
            <a:ext cx="5330880" cy="3893400"/>
            <a:chOff x="1398600" y="784800"/>
            <a:chExt cx="5330880" cy="3893400"/>
          </a:xfrm>
        </p:grpSpPr>
        <p:sp>
          <p:nvSpPr>
            <p:cNvPr id="177" name=""/>
            <p:cNvSpPr/>
            <p:nvPr/>
          </p:nvSpPr>
          <p:spPr>
            <a:xfrm>
              <a:off x="4430880" y="4035600"/>
              <a:ext cx="115560" cy="642600"/>
            </a:xfrm>
            <a:custGeom>
              <a:avLst/>
              <a:gdLst/>
              <a:ahLst/>
              <a:rect l="l" t="t" r="r" b="b"/>
              <a:pathLst>
                <a:path w="73" h="405">
                  <a:moveTo>
                    <a:pt x="0" y="0"/>
                  </a:moveTo>
                  <a:lnTo>
                    <a:pt x="0" y="202"/>
                  </a:lnTo>
                  <a:lnTo>
                    <a:pt x="72" y="120"/>
                  </a:lnTo>
                  <a:lnTo>
                    <a:pt x="72" y="404"/>
                  </a:lnTo>
                </a:path>
              </a:pathLst>
            </a:custGeom>
            <a:noFill/>
            <a:ln cap="rnd" w="25560">
              <a:solidFill>
                <a:srgbClr val="cf0e30"/>
              </a:solidFill>
              <a:round/>
              <a:tailEnd len="med" type="triangle" w="med"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1600200" y="1033560"/>
              <a:ext cx="4946760" cy="299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1398600" y="1905120"/>
              <a:ext cx="852480" cy="128520"/>
            </a:xfrm>
            <a:custGeom>
              <a:avLst/>
              <a:gdLst/>
              <a:ahLst/>
              <a:rect l="l" t="t" r="r" b="b"/>
              <a:pathLst>
                <a:path w="537" h="81">
                  <a:moveTo>
                    <a:pt x="536" y="80"/>
                  </a:moveTo>
                  <a:lnTo>
                    <a:pt x="179" y="80"/>
                  </a:lnTo>
                  <a:lnTo>
                    <a:pt x="249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cf0e30"/>
              </a:solidFill>
              <a:round/>
              <a:tailEnd len="med" type="triangle" w="med"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99000" y="1438200"/>
              <a:ext cx="107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 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17640" y="1272960"/>
              <a:ext cx="2631600" cy="269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213" y="21584"/>
                  </a:moveTo>
                  <a:arcTo wR="10800" hR="10800" stAng="5586974" swAng="58764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213" y="21584"/>
                  </a:moveTo>
                  <a:arcTo wR="10800" hR="10800" stAng="5586974" swAng="5876447"/>
                </a:path>
              </a:pathLst>
            </a:custGeom>
            <a:noFill/>
            <a:ln cap="rnd" w="25560">
              <a:solidFill>
                <a:srgbClr val="8901f3"/>
              </a:solidFill>
              <a:miter/>
              <a:headEnd len="med" type="triangle" w="med"/>
              <a:tailEnd len="med" type="triangle" w="med"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802240" y="1096920"/>
              <a:ext cx="3043080" cy="273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3" y="5371"/>
                  </a:moveTo>
                  <a:arcTo wR="10800" hR="10800" stAng="-8989503" swAng="57439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3" y="5371"/>
                  </a:moveTo>
                  <a:arcTo wR="10800" hR="10800" stAng="-8989503" swAng="5743992"/>
                </a:path>
              </a:pathLst>
            </a:custGeom>
            <a:noFill/>
            <a:ln cap="rnd" w="25560">
              <a:solidFill>
                <a:srgbClr val="8901f3"/>
              </a:solidFill>
              <a:miter/>
              <a:headEnd len="med" type="triangle" w="med"/>
              <a:tailEnd len="med" type="triangle" w="med"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81600" y="1522440"/>
              <a:ext cx="947880" cy="146160"/>
            </a:xfrm>
            <a:custGeom>
              <a:avLst/>
              <a:gdLst/>
              <a:ahLst/>
              <a:rect l="l" t="t" r="r" b="b"/>
              <a:pathLst>
                <a:path w="597" h="92">
                  <a:moveTo>
                    <a:pt x="0" y="91"/>
                  </a:moveTo>
                  <a:lnTo>
                    <a:pt x="298" y="91"/>
                  </a:lnTo>
                  <a:lnTo>
                    <a:pt x="176" y="0"/>
                  </a:lnTo>
                  <a:lnTo>
                    <a:pt x="596" y="0"/>
                  </a:lnTo>
                </a:path>
              </a:pathLst>
            </a:custGeom>
            <a:noFill/>
            <a:ln cap="rnd" w="25560">
              <a:solidFill>
                <a:srgbClr val="cf0e30"/>
              </a:solidFill>
              <a:round/>
              <a:tailEnd len="med" type="triangle" w="med"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43560" y="1681200"/>
              <a:ext cx="0" cy="156852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59360" y="2370240"/>
              <a:ext cx="0" cy="87948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10000" y="3251160"/>
              <a:ext cx="0" cy="47952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52720" y="2095560"/>
              <a:ext cx="382680" cy="144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36840" y="2289240"/>
              <a:ext cx="33984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4520000">
              <a:off x="3346200" y="1230840"/>
              <a:ext cx="2631240" cy="269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213" y="21584"/>
                  </a:moveTo>
                  <a:arcTo wR="10800" hR="10800" stAng="5586865" swAng="58729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213" y="21584"/>
                  </a:moveTo>
                  <a:arcTo wR="10800" hR="10800" stAng="5586865" swAng="5872965"/>
                </a:path>
              </a:pathLst>
            </a:custGeom>
            <a:noFill/>
            <a:ln cap="rnd" w="25560">
              <a:solidFill>
                <a:srgbClr val="8901f3"/>
              </a:solidFill>
              <a:miter/>
              <a:headEnd len="med" type="triangle" w="med"/>
              <a:tailEnd len="med" type="triangle" w="med"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2136600" y="1774800"/>
              <a:ext cx="100656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2550960" y="211284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677880"/>
                  <a:tab algn="l" pos="1355760"/>
                  <a:tab algn="l" pos="2033640"/>
                  <a:tab algn="l" pos="2711520"/>
                  <a:tab algn="l" pos="3389400"/>
                  <a:tab algn="l" pos="4067280"/>
                  <a:tab algn="l" pos="4745160"/>
                  <a:tab algn="l" pos="5423040"/>
                  <a:tab algn="l" pos="6100920"/>
                  <a:tab algn="l" pos="6778800"/>
                  <a:tab algn="l" pos="7456320"/>
                  <a:tab algn="l" pos="8134200"/>
                  <a:tab algn="l" pos="8812080"/>
                  <a:tab algn="l" pos="9489960"/>
                  <a:tab algn="l" pos="10167840"/>
                  <a:tab algn="l" pos="1084572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35400" y="1587600"/>
              <a:ext cx="0" cy="114912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66920" y="3249720"/>
              <a:ext cx="294984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3"/>
            <a:stretch/>
          </p:blipFill>
          <p:spPr>
            <a:xfrm>
              <a:off x="3562200" y="1998720"/>
              <a:ext cx="1006560" cy="58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4"/>
            <a:stretch/>
          </p:blipFill>
          <p:spPr>
            <a:xfrm>
              <a:off x="4946760" y="1378080"/>
              <a:ext cx="1006200" cy="58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5"/>
            <a:stretch/>
          </p:blipFill>
          <p:spPr>
            <a:xfrm>
              <a:off x="3913200" y="3533760"/>
              <a:ext cx="100656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4333680" y="385452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76560" y="23302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361120" y="17128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80960" y="1386000"/>
            <a:ext cx="3122640" cy="18954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595760" y="1386000"/>
            <a:ext cx="3122640" cy="18954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flipV="1">
            <a:off x="3395520" y="2539800"/>
            <a:ext cx="1065240" cy="525240"/>
          </a:xfrm>
          <a:prstGeom prst="line">
            <a:avLst/>
          </a:prstGeom>
          <a:ln w="25560">
            <a:solidFill>
              <a:srgbClr val="ff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62480" y="1785960"/>
            <a:ext cx="998280" cy="601560"/>
          </a:xfrm>
          <a:prstGeom prst="line">
            <a:avLst/>
          </a:prstGeom>
          <a:ln w="25560">
            <a:solidFill>
              <a:srgbClr val="ff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ternal BGP Pee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41280" y="2161800"/>
            <a:ext cx="1268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95640" y="2313000"/>
            <a:ext cx="0" cy="52560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97160" y="1862280"/>
            <a:ext cx="0" cy="44928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27200" y="2311560"/>
            <a:ext cx="1400400" cy="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7600" y="2087640"/>
            <a:ext cx="0" cy="60156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29040" y="2462040"/>
            <a:ext cx="1133640" cy="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32480" y="2161800"/>
            <a:ext cx="1268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95760" y="1638360"/>
            <a:ext cx="399240" cy="142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574" y="21572"/>
                </a:moveTo>
                <a:arcTo wR="10800" hR="10800" stAng="5153500" swAng="11019248"/>
                <a:lnTo>
                  <a:pt x="10800" y="10800"/>
                </a:lnTo>
                <a:close/>
              </a:path>
              <a:path fill="none" w="21600" h="21600">
                <a:moveTo>
                  <a:pt x="11574" y="21572"/>
                </a:moveTo>
                <a:arcTo wR="10800" hR="10800" stAng="5153500" swAng="11019248"/>
              </a:path>
            </a:pathLst>
          </a:custGeom>
          <a:noFill/>
          <a:ln cap="rnd" w="25560">
            <a:solidFill>
              <a:srgbClr val="ff808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433760" y="2219400"/>
            <a:ext cx="766800" cy="4492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727520" y="2413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2719440" y="2778120"/>
            <a:ext cx="766800" cy="4492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013200" y="29923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820960" y="1495440"/>
            <a:ext cx="766800" cy="4492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114720" y="1693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-3600" y="3798720"/>
            <a:ext cx="8116920" cy="10130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91000"/>
          </a:bodyPr>
          <a:p>
            <a:pPr marL="233640" indent="-2336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tween BGP speakers in different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640" indent="-2336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uld be directly connec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sic BGP commands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04640" y="1414440"/>
            <a:ext cx="73123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uter bgp &lt;as-number&gt;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ighbor &lt;ip address&gt; remote-as  &lt;as-number&gt;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4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command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how ip bgp summ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how ip bgp neighb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ercise - 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04640" y="1414440"/>
            <a:ext cx="73123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fine a static rout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ring the route into BGP tabl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ify if route is in the BGP tabl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ercise -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04640" y="1414440"/>
            <a:ext cx="73123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BGP pee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ify IBGP pee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51800" y="5889600"/>
            <a:ext cx="2034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25240" y="5842080"/>
            <a:ext cx="16743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686640" y="5251320"/>
            <a:ext cx="1222200" cy="6508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9560" y="2439720"/>
            <a:ext cx="6858000" cy="9903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avi Chandra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920" y="5889600"/>
            <a:ext cx="82512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799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19040" y="3658680"/>
            <a:ext cx="5639040" cy="1600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Autofit/>
          </a:bodyPr>
          <a:p>
            <a:pPr marL="257040" indent="-257040" algn="ctr">
              <a:lnSpc>
                <a:spcPct val="95000"/>
              </a:lnSpc>
              <a:spcBef>
                <a:spcPts val="27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isco System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ercise - 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04640" y="1414440"/>
            <a:ext cx="73123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BGP pee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ify EBGP pee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b Net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900680" y="1249200"/>
            <a:ext cx="2374920" cy="14306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861840" y="2316240"/>
            <a:ext cx="4237200" cy="2547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 flipV="1">
            <a:off x="3681360" y="2042640"/>
            <a:ext cx="1095480" cy="520920"/>
          </a:xfrm>
          <a:prstGeom prst="line">
            <a:avLst/>
          </a:prstGeom>
          <a:ln w="25560">
            <a:solidFill>
              <a:srgbClr val="ff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009880" y="1956960"/>
            <a:ext cx="2738160" cy="129060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543480" y="2646360"/>
            <a:ext cx="0" cy="29988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44680" y="2946240"/>
            <a:ext cx="865440" cy="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948040"/>
            <a:ext cx="0" cy="37476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54360" y="3335400"/>
            <a:ext cx="1976400" cy="1104840"/>
          </a:xfrm>
          <a:prstGeom prst="rect">
            <a:avLst/>
          </a:prstGeom>
          <a:noFill/>
          <a:ln w="25560">
            <a:solidFill>
              <a:srgbClr val="cf0e3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16160" y="3622320"/>
            <a:ext cx="1357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524560" y="1738080"/>
            <a:ext cx="1357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3468600" y="4240080"/>
            <a:ext cx="725400" cy="3952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1501920" y="3173400"/>
            <a:ext cx="725400" cy="3952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5"/>
          <a:stretch/>
        </p:blipFill>
        <p:spPr>
          <a:xfrm>
            <a:off x="1501920" y="4240080"/>
            <a:ext cx="725400" cy="3952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6"/>
          <a:stretch/>
        </p:blipFill>
        <p:spPr>
          <a:xfrm>
            <a:off x="3468600" y="3173400"/>
            <a:ext cx="725400" cy="3952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7"/>
          <a:stretch/>
        </p:blipFill>
        <p:spPr>
          <a:xfrm>
            <a:off x="3187800" y="2411280"/>
            <a:ext cx="725400" cy="3952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8"/>
          <a:stretch/>
        </p:blipFill>
        <p:spPr>
          <a:xfrm>
            <a:off x="4483080" y="1801800"/>
            <a:ext cx="725400" cy="3952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770360" y="199872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75080" y="261468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b Net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04640" y="1414440"/>
            <a:ext cx="73123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o need for BG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 default towards the IS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SP advertises the stub network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licy confined within ISP polic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-Homed A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43080" y="1563840"/>
            <a:ext cx="7435800" cy="3081240"/>
            <a:chOff x="343080" y="1563840"/>
            <a:chExt cx="7435800" cy="3081240"/>
          </a:xfrm>
        </p:grpSpPr>
        <p:pic>
          <p:nvPicPr>
            <p:cNvPr id="267" name="" descr=""/>
            <p:cNvPicPr/>
            <p:nvPr/>
          </p:nvPicPr>
          <p:blipFill>
            <a:blip r:embed="rId1"/>
            <a:stretch/>
          </p:blipFill>
          <p:spPr>
            <a:xfrm>
              <a:off x="2349360" y="2478240"/>
              <a:ext cx="3219480" cy="19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2"/>
            <a:stretch/>
          </p:blipFill>
          <p:spPr>
            <a:xfrm>
              <a:off x="343080" y="1563840"/>
              <a:ext cx="1949400" cy="11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3"/>
            <a:stretch/>
          </p:blipFill>
          <p:spPr>
            <a:xfrm>
              <a:off x="5829480" y="1733400"/>
              <a:ext cx="194940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2021040" y="2500200"/>
              <a:ext cx="974520" cy="338400"/>
            </a:xfrm>
            <a:prstGeom prst="line">
              <a:avLst/>
            </a:prstGeom>
            <a:ln w="25560">
              <a:solidFill>
                <a:srgbClr val="ff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4892760" y="2476440"/>
              <a:ext cx="1155600" cy="403200"/>
            </a:xfrm>
            <a:prstGeom prst="line">
              <a:avLst/>
            </a:prstGeom>
            <a:ln w="25560">
              <a:solidFill>
                <a:srgbClr val="ff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27440" y="2739960"/>
              <a:ext cx="2487600" cy="1716120"/>
            </a:xfrm>
            <a:custGeom>
              <a:avLst/>
              <a:gdLst/>
              <a:ahLst/>
              <a:rect l="l" t="t" r="r" b="b"/>
              <a:pathLst>
                <a:path w="1567" h="1081">
                  <a:moveTo>
                    <a:pt x="233" y="87"/>
                  </a:moveTo>
                  <a:lnTo>
                    <a:pt x="0" y="676"/>
                  </a:lnTo>
                  <a:lnTo>
                    <a:pt x="786" y="1080"/>
                  </a:lnTo>
                  <a:lnTo>
                    <a:pt x="1566" y="711"/>
                  </a:lnTo>
                  <a:lnTo>
                    <a:pt x="1137" y="0"/>
                  </a:lnTo>
                  <a:lnTo>
                    <a:pt x="272" y="0"/>
                  </a:lnTo>
                </a:path>
              </a:pathLst>
            </a:custGeom>
            <a:noFill/>
            <a:ln cap="rnd" w="25560">
              <a:solidFill>
                <a:srgbClr val="cf0e3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4813200" y="2336760"/>
              <a:ext cx="1332000" cy="48744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1995480" y="2416320"/>
              <a:ext cx="1200240" cy="37440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44920" y="2879640"/>
              <a:ext cx="931680" cy="0"/>
            </a:xfrm>
            <a:prstGeom prst="line">
              <a:avLst/>
            </a:prstGeom>
            <a:ln w="25560">
              <a:solidFill>
                <a:srgbClr val="ff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2000" y="1855800"/>
              <a:ext cx="1151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 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02080" y="3360600"/>
              <a:ext cx="115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 2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332400" y="1855800"/>
              <a:ext cx="115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 3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4"/>
            <a:stretch/>
          </p:blipFill>
          <p:spPr>
            <a:xfrm>
              <a:off x="3735360" y="4249800"/>
              <a:ext cx="72540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5"/>
            <a:stretch/>
          </p:blipFill>
          <p:spPr>
            <a:xfrm>
              <a:off x="2440080" y="3639960"/>
              <a:ext cx="725400" cy="3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6"/>
            <a:stretch/>
          </p:blipFill>
          <p:spPr>
            <a:xfrm>
              <a:off x="5030640" y="3639960"/>
              <a:ext cx="725760" cy="3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7"/>
            <a:stretch/>
          </p:blipFill>
          <p:spPr>
            <a:xfrm>
              <a:off x="2973240" y="2649600"/>
              <a:ext cx="72576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8"/>
            <a:stretch/>
          </p:blipFill>
          <p:spPr>
            <a:xfrm>
              <a:off x="4268880" y="2649600"/>
              <a:ext cx="725400" cy="395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4" name=""/>
            <p:cNvGrpSpPr/>
            <p:nvPr/>
          </p:nvGrpSpPr>
          <p:grpSpPr>
            <a:xfrm>
              <a:off x="5716440" y="2192400"/>
              <a:ext cx="725760" cy="453960"/>
              <a:chOff x="5716440" y="2192400"/>
              <a:chExt cx="725760" cy="453960"/>
            </a:xfrm>
          </p:grpSpPr>
          <p:pic>
            <p:nvPicPr>
              <p:cNvPr id="28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716440" y="2192400"/>
                <a:ext cx="725760" cy="3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" name=""/>
              <p:cNvSpPr/>
              <p:nvPr/>
            </p:nvSpPr>
            <p:spPr>
              <a:xfrm>
                <a:off x="5989680" y="237168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4532400" y="28335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267000" y="28414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1601640" y="2192400"/>
              <a:ext cx="725760" cy="461880"/>
              <a:chOff x="1601640" y="2192400"/>
              <a:chExt cx="725760" cy="461880"/>
            </a:xfrm>
          </p:grpSpPr>
          <p:pic>
            <p:nvPicPr>
              <p:cNvPr id="29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01640" y="2192400"/>
                <a:ext cx="725760" cy="3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"/>
              <p:cNvSpPr/>
              <p:nvPr/>
            </p:nvSpPr>
            <p:spPr>
              <a:xfrm>
                <a:off x="1874880" y="2379600"/>
                <a:ext cx="16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homed A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04640" y="1414440"/>
            <a:ext cx="73123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nal BGP used with IG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BGP only between border gateway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nly border gateways speak BG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terior routes must be redistributed into IGP or use defaul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2195640" y="2046240"/>
            <a:ext cx="3555720" cy="21589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671400" y="1436760"/>
            <a:ext cx="1543320" cy="9396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5929200" y="1436760"/>
            <a:ext cx="1543320" cy="9396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>
            <a:off x="3319560" y="4560840"/>
            <a:ext cx="1542960" cy="9399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2863800" y="2311560"/>
            <a:ext cx="2398680" cy="1590480"/>
          </a:xfrm>
          <a:custGeom>
            <a:avLst/>
            <a:gdLst/>
            <a:ahLst/>
            <a:rect l="l" t="t" r="r" b="b"/>
            <a:pathLst>
              <a:path w="1511" h="1002">
                <a:moveTo>
                  <a:pt x="218" y="70"/>
                </a:moveTo>
                <a:lnTo>
                  <a:pt x="0" y="659"/>
                </a:lnTo>
                <a:lnTo>
                  <a:pt x="723" y="1001"/>
                </a:lnTo>
                <a:lnTo>
                  <a:pt x="1510" y="693"/>
                </a:lnTo>
                <a:lnTo>
                  <a:pt x="1113" y="0"/>
                </a:lnTo>
                <a:lnTo>
                  <a:pt x="240" y="0"/>
                </a:lnTo>
              </a:path>
            </a:pathLst>
          </a:custGeom>
          <a:noFill/>
          <a:ln cap="rnd" w="25560">
            <a:solidFill>
              <a:srgbClr val="cf0e3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927520" y="2297160"/>
            <a:ext cx="2338200" cy="1657440"/>
          </a:xfrm>
          <a:custGeom>
            <a:avLst/>
            <a:gdLst/>
            <a:ahLst/>
            <a:rect l="l" t="t" r="r" b="b"/>
            <a:pathLst>
              <a:path w="1473" h="1044">
                <a:moveTo>
                  <a:pt x="1050" y="0"/>
                </a:moveTo>
                <a:lnTo>
                  <a:pt x="0" y="710"/>
                </a:lnTo>
                <a:lnTo>
                  <a:pt x="1472" y="710"/>
                </a:lnTo>
                <a:lnTo>
                  <a:pt x="252" y="0"/>
                </a:lnTo>
                <a:lnTo>
                  <a:pt x="714" y="1043"/>
                </a:lnTo>
                <a:lnTo>
                  <a:pt x="1050" y="0"/>
                </a:lnTo>
              </a:path>
            </a:pathLst>
          </a:custGeom>
          <a:noFill/>
          <a:ln cap="rnd" w="25560">
            <a:solidFill>
              <a:srgbClr val="ff8086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on Service Provider Net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799160" y="1922400"/>
            <a:ext cx="1331640" cy="48744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1995120" y="2071440"/>
            <a:ext cx="1198440" cy="37620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4084560" y="3879720"/>
            <a:ext cx="0" cy="82728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038400" y="2471760"/>
            <a:ext cx="2094120" cy="1365120"/>
          </a:xfrm>
          <a:custGeom>
            <a:avLst/>
            <a:gdLst/>
            <a:ahLst/>
            <a:rect l="l" t="t" r="r" b="b"/>
            <a:pathLst>
              <a:path w="1319" h="860">
                <a:moveTo>
                  <a:pt x="966" y="3"/>
                </a:moveTo>
                <a:lnTo>
                  <a:pt x="1318" y="571"/>
                </a:lnTo>
                <a:lnTo>
                  <a:pt x="639" y="859"/>
                </a:lnTo>
                <a:lnTo>
                  <a:pt x="0" y="571"/>
                </a:lnTo>
                <a:lnTo>
                  <a:pt x="226" y="0"/>
                </a:lnTo>
                <a:lnTo>
                  <a:pt x="966" y="3"/>
                </a:lnTo>
              </a:path>
            </a:pathLst>
          </a:custGeom>
          <a:noFill/>
          <a:ln cap="rnd" w="25560">
            <a:solidFill>
              <a:srgbClr val="ff8086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49240" y="1824480"/>
            <a:ext cx="773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519960" y="1824480"/>
            <a:ext cx="77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 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664080" y="5082120"/>
            <a:ext cx="77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 4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664080" y="2911680"/>
            <a:ext cx="77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 3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5"/>
          <a:stretch/>
        </p:blipFill>
        <p:spPr>
          <a:xfrm>
            <a:off x="3774960" y="4518000"/>
            <a:ext cx="633600" cy="3729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6"/>
          <a:stretch/>
        </p:blipFill>
        <p:spPr>
          <a:xfrm>
            <a:off x="2617920" y="3222720"/>
            <a:ext cx="633240" cy="3729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7"/>
          <a:stretch/>
        </p:blipFill>
        <p:spPr>
          <a:xfrm>
            <a:off x="3774960" y="3679920"/>
            <a:ext cx="633600" cy="37296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8"/>
          <a:stretch/>
        </p:blipFill>
        <p:spPr>
          <a:xfrm>
            <a:off x="4903920" y="3222720"/>
            <a:ext cx="633240" cy="3729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5155920" y="342252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021200" y="385272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859120" y="338616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011120" y="4702320"/>
            <a:ext cx="14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9"/>
          <a:stretch/>
        </p:blipFill>
        <p:spPr>
          <a:xfrm>
            <a:off x="1703520" y="1774800"/>
            <a:ext cx="633240" cy="37296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10"/>
          <a:stretch/>
        </p:blipFill>
        <p:spPr>
          <a:xfrm>
            <a:off x="2998800" y="2232000"/>
            <a:ext cx="633240" cy="37296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11"/>
          <a:stretch/>
        </p:blipFill>
        <p:spPr>
          <a:xfrm>
            <a:off x="4294080" y="2232000"/>
            <a:ext cx="633600" cy="37296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12"/>
          <a:stretch/>
        </p:blipFill>
        <p:spPr>
          <a:xfrm>
            <a:off x="5818320" y="1774800"/>
            <a:ext cx="633240" cy="3729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6059520" y="193212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35640" y="241452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40000" y="240516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944720" y="193212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vice Provider Net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04640" y="1414440"/>
            <a:ext cx="73123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BGP used to carry exterior rout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GP carries local information onl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ull IBGP mesh is requir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ble IBGP Pee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04640" y="1414440"/>
            <a:ext cx="73123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eer with loop-back addres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BGP session is not dependent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n a single interfa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oop-back interface does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ot go dow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014480" y="1428840"/>
            <a:ext cx="5575320" cy="3354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747252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ering to Loop-Back Addr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130640" y="2577960"/>
            <a:ext cx="1476360" cy="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593800" y="2673360"/>
            <a:ext cx="3071880" cy="1733400"/>
          </a:xfrm>
          <a:custGeom>
            <a:avLst/>
            <a:gdLst/>
            <a:ahLst/>
            <a:rect l="l" t="t" r="r" b="b"/>
            <a:pathLst>
              <a:path w="1935" h="1092">
                <a:moveTo>
                  <a:pt x="0" y="0"/>
                </a:moveTo>
                <a:lnTo>
                  <a:pt x="967" y="1091"/>
                </a:lnTo>
                <a:lnTo>
                  <a:pt x="1934" y="0"/>
                </a:lnTo>
              </a:path>
            </a:pathLst>
          </a:custGeom>
          <a:noFill/>
          <a:ln cap="rnd" w="25560">
            <a:solidFill>
              <a:srgbClr val="cf0e3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308400" y="1668240"/>
            <a:ext cx="1557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21360000">
            <a:off x="1990440" y="2075400"/>
            <a:ext cx="4204080" cy="194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785" y="3561"/>
                </a:moveTo>
                <a:arcTo wR="10800" hR="10800" stAng="-8274692" swAng="6113411"/>
                <a:lnTo>
                  <a:pt x="10800" y="10800"/>
                </a:lnTo>
                <a:close/>
              </a:path>
              <a:path fill="none" w="21600" h="21600">
                <a:moveTo>
                  <a:pt x="2785" y="3561"/>
                </a:moveTo>
                <a:arcTo wR="10800" hR="10800" stAng="-8274692" swAng="6113411"/>
              </a:path>
            </a:pathLst>
          </a:custGeom>
          <a:noFill/>
          <a:ln cap="rnd" w="25560">
            <a:solidFill>
              <a:srgbClr val="ff808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065480" y="2598840"/>
            <a:ext cx="3070440" cy="331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9"/>
                </a:moveTo>
                <a:arcTo wR="10800" hR="10800" stAng="-10790121" swAng="5386566"/>
                <a:lnTo>
                  <a:pt x="10800" y="10800"/>
                </a:lnTo>
                <a:close/>
              </a:path>
              <a:path fill="none" w="21600" h="21600">
                <a:moveTo>
                  <a:pt x="0" y="10769"/>
                </a:moveTo>
                <a:arcTo wR="10800" hR="10800" stAng="-10790121" swAng="5386566"/>
              </a:path>
            </a:pathLst>
          </a:custGeom>
          <a:noFill/>
          <a:ln cap="rnd" w="25560">
            <a:solidFill>
              <a:srgbClr val="ff808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92520" y="2674800"/>
            <a:ext cx="3069360" cy="316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11" y="0"/>
                </a:moveTo>
                <a:arcTo wR="10800" hR="10800" stAng="-5396445" swAng="5396445"/>
                <a:lnTo>
                  <a:pt x="10800" y="10800"/>
                </a:lnTo>
                <a:close/>
              </a:path>
              <a:path fill="none" w="21600" h="21600">
                <a:moveTo>
                  <a:pt x="10811" y="0"/>
                </a:moveTo>
                <a:arcTo wR="10800" hR="10800" stAng="-5396445" swAng="5396445"/>
              </a:path>
            </a:pathLst>
          </a:custGeom>
          <a:noFill/>
          <a:ln cap="rnd" w="25560">
            <a:solidFill>
              <a:srgbClr val="ff808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728800" y="2747880"/>
            <a:ext cx="1400400" cy="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465880" y="2075040"/>
            <a:ext cx="266400" cy="59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57" y="13143"/>
                </a:moveTo>
                <a:arcTo wR="10800" hR="10800" stAng="10048271" swAng="11533320"/>
                <a:lnTo>
                  <a:pt x="10800" y="10800"/>
                </a:lnTo>
                <a:close/>
              </a:path>
              <a:path fill="none" w="21600" h="21600">
                <a:moveTo>
                  <a:pt x="257" y="13143"/>
                </a:moveTo>
                <a:arcTo wR="10800" hR="10800" stAng="10048271" swAng="11533320"/>
              </a:path>
            </a:pathLst>
          </a:custGeom>
          <a:noFill/>
          <a:ln cap="rnd"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130640" y="3803760"/>
            <a:ext cx="266400" cy="60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55" y="13131"/>
                </a:moveTo>
                <a:arcTo wR="10800" hR="10800" stAng="10052104" swAng="11547896"/>
                <a:lnTo>
                  <a:pt x="10800" y="10800"/>
                </a:lnTo>
                <a:close/>
              </a:path>
              <a:path fill="none" w="21600" h="21600">
                <a:moveTo>
                  <a:pt x="255" y="13131"/>
                </a:moveTo>
                <a:arcTo wR="10800" hR="10800" stAng="10052104" swAng="11547896"/>
              </a:path>
            </a:pathLst>
          </a:custGeom>
          <a:noFill/>
          <a:ln cap="rnd"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328840" y="2147760"/>
            <a:ext cx="266400" cy="60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55" y="13131"/>
                </a:moveTo>
                <a:arcTo wR="10800" hR="10800" stAng="10052104" swAng="11547896"/>
                <a:lnTo>
                  <a:pt x="10800" y="10800"/>
                </a:lnTo>
                <a:close/>
              </a:path>
              <a:path fill="none" w="21600" h="21600">
                <a:moveTo>
                  <a:pt x="255" y="13131"/>
                </a:moveTo>
                <a:arcTo wR="10800" hR="10800" stAng="10052104" swAng="11547896"/>
              </a:path>
            </a:pathLst>
          </a:custGeom>
          <a:noFill/>
          <a:ln cap="rnd"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024600" y="2371680"/>
            <a:ext cx="668160" cy="152280"/>
          </a:xfrm>
          <a:custGeom>
            <a:avLst/>
            <a:gdLst/>
            <a:ahLst/>
            <a:rect l="l" t="t" r="r" b="b"/>
            <a:pathLst>
              <a:path w="421" h="96">
                <a:moveTo>
                  <a:pt x="0" y="95"/>
                </a:moveTo>
                <a:lnTo>
                  <a:pt x="210" y="95"/>
                </a:lnTo>
                <a:lnTo>
                  <a:pt x="125" y="0"/>
                </a:lnTo>
                <a:lnTo>
                  <a:pt x="420" y="0"/>
                </a:lnTo>
              </a:path>
            </a:pathLst>
          </a:custGeom>
          <a:noFill/>
          <a:ln cap="rnd" w="25560">
            <a:solidFill>
              <a:srgbClr val="cf0e30"/>
            </a:solidFill>
            <a:round/>
            <a:tailEnd len="med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477800" y="2643120"/>
            <a:ext cx="646200" cy="136440"/>
          </a:xfrm>
          <a:custGeom>
            <a:avLst/>
            <a:gdLst/>
            <a:ahLst/>
            <a:rect l="l" t="t" r="r" b="b"/>
            <a:pathLst>
              <a:path w="407" h="86">
                <a:moveTo>
                  <a:pt x="406" y="85"/>
                </a:moveTo>
                <a:lnTo>
                  <a:pt x="135" y="85"/>
                </a:lnTo>
                <a:lnTo>
                  <a:pt x="189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cf0e30"/>
            </a:solidFill>
            <a:round/>
            <a:tailEnd len="med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075200" y="4498920"/>
            <a:ext cx="135000" cy="755640"/>
          </a:xfrm>
          <a:custGeom>
            <a:avLst/>
            <a:gdLst/>
            <a:ahLst/>
            <a:rect l="l" t="t" r="r" b="b"/>
            <a:pathLst>
              <a:path w="85" h="476">
                <a:moveTo>
                  <a:pt x="0" y="0"/>
                </a:moveTo>
                <a:lnTo>
                  <a:pt x="0" y="237"/>
                </a:lnTo>
                <a:lnTo>
                  <a:pt x="84" y="141"/>
                </a:lnTo>
                <a:lnTo>
                  <a:pt x="84" y="475"/>
                </a:lnTo>
              </a:path>
            </a:pathLst>
          </a:custGeom>
          <a:noFill/>
          <a:ln cap="rnd" w="25560">
            <a:solidFill>
              <a:srgbClr val="cf0e30"/>
            </a:solidFill>
            <a:round/>
            <a:tailEnd len="med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129200" y="2222640"/>
            <a:ext cx="0" cy="75240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3645000" y="4114800"/>
            <a:ext cx="963360" cy="5238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1968480" y="2514600"/>
            <a:ext cx="963720" cy="5238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4"/>
          <a:stretch/>
        </p:blipFill>
        <p:spPr>
          <a:xfrm>
            <a:off x="5245200" y="2362320"/>
            <a:ext cx="963360" cy="523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ercise - 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04640" y="1414440"/>
            <a:ext cx="73123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able IBGP pee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ify IBGP pee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745812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rder Gateway Protocol (BGP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04640" y="1338120"/>
            <a:ext cx="73123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roduction to BG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GP Peer Relationshi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GP Attribut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pplying Policy with BG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GP - Update messag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04640" y="1414440"/>
            <a:ext cx="73123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drawn rout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dvertised rout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GP: Update Messages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04640" y="1414440"/>
            <a:ext cx="73123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93000"/>
          </a:bodyPr>
          <a:p>
            <a:pPr marL="239040" indent="-239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twork reachability inform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9040" indent="-239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twork prefix/lengt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9040" indent="-239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 :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68000"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131.108/1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07040"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131.108.0.0 255.255.0.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8000"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198/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07040"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198.0.0.0 255.0.0.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GP Attribut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04640" y="1414440"/>
            <a:ext cx="73123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at is an attribute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 pat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xt h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ocal prefere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ulti-Exit Discriminator (MED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GP Attribut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04640" y="1414440"/>
            <a:ext cx="7312320" cy="3270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GP communit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an Attribute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04640" y="2557440"/>
            <a:ext cx="7312320" cy="25322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scribes the characteristics of prefix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ransitive or non-transitiv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are mandator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58640" y="1593720"/>
            <a:ext cx="7280280" cy="741600"/>
          </a:xfrm>
          <a:prstGeom prst="rect">
            <a:avLst/>
          </a:prstGeom>
          <a:solidFill>
            <a:srgbClr val="008aae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06360" y="1589040"/>
            <a:ext cx="0" cy="752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97160" y="1589040"/>
            <a:ext cx="0" cy="752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057560" y="1589040"/>
            <a:ext cx="0" cy="752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230800" y="1589040"/>
            <a:ext cx="0" cy="752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900760" y="1589040"/>
            <a:ext cx="0" cy="752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120680" y="1565280"/>
            <a:ext cx="1268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xt 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41600" y="1565280"/>
            <a:ext cx="126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6920" y="1700280"/>
            <a:ext cx="459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294880" y="1700280"/>
            <a:ext cx="459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206960" y="1747800"/>
            <a:ext cx="880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03720" y="1700280"/>
            <a:ext cx="459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-3600" y="1118880"/>
            <a:ext cx="4240440" cy="2638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quence of AS a route has traver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p det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y poli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-Pat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2925720" y="3430080"/>
            <a:ext cx="736560" cy="83196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 flipV="1">
            <a:off x="4287600" y="3174480"/>
            <a:ext cx="1020600" cy="57492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821200" y="1959120"/>
            <a:ext cx="1076400" cy="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4230720" y="1897200"/>
            <a:ext cx="736560" cy="83016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077920" y="4083120"/>
            <a:ext cx="1636920" cy="9954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2984400" y="2593800"/>
            <a:ext cx="1636920" cy="9939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4572000" y="1449360"/>
            <a:ext cx="1636560" cy="9954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6315120" y="1427040"/>
            <a:ext cx="1636560" cy="99540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5"/>
          <a:stretch/>
        </p:blipFill>
        <p:spPr>
          <a:xfrm>
            <a:off x="4916520" y="3111480"/>
            <a:ext cx="1636560" cy="9954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 flipH="1">
            <a:off x="3608280" y="4646520"/>
            <a:ext cx="849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122720" y="4270320"/>
            <a:ext cx="2670120" cy="819360"/>
          </a:xfrm>
          <a:prstGeom prst="rect">
            <a:avLst/>
          </a:prstGeom>
          <a:solidFill>
            <a:srgbClr val="ffe59b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595920" y="1657440"/>
            <a:ext cx="113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343320" y="2975040"/>
            <a:ext cx="987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797360" y="1657440"/>
            <a:ext cx="125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363760" y="4438800"/>
            <a:ext cx="102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180040" y="3384720"/>
            <a:ext cx="1149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776840" y="1944360"/>
            <a:ext cx="129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0.10.0.0/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515280" y="1944360"/>
            <a:ext cx="129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0.10.0.0/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108400" y="3671640"/>
            <a:ext cx="1292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0.10.0.0/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944880" y="4361760"/>
            <a:ext cx="29116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38160"/>
                <a:tab algn="l" pos="1311120"/>
                <a:tab algn="l" pos="171468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  <a:tab algn="l" pos="10901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0.10.0.0/1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0  200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38160"/>
                <a:tab algn="l" pos="1311120"/>
                <a:tab algn="l" pos="171468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  <a:tab algn="l" pos="10901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0.10.0.0/1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0  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38160"/>
                <a:tab algn="l" pos="1311120"/>
                <a:tab algn="l" pos="171468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  <a:tab algn="l" pos="10901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0.10.0.0/1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0  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366520" y="2550960"/>
            <a:ext cx="2470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600" rIns="66600" tIns="33480" bIns="33480" anchor="t">
            <a:spAutoFit/>
          </a:bodyPr>
          <a:p>
            <a:pPr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0.10.0.0/16   300  200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0.10.0.0/16   300  20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369120" y="3049560"/>
            <a:ext cx="793080" cy="11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0"/>
                </a:moveTo>
                <a:arcTo wR="10800" hR="10800" stAng="-10781060" swAng="5367308"/>
                <a:lnTo>
                  <a:pt x="10800" y="10800"/>
                </a:lnTo>
                <a:close/>
              </a:path>
              <a:path fill="none" w="21600" h="21600">
                <a:moveTo>
                  <a:pt x="0" y="10740"/>
                </a:moveTo>
                <a:arcTo wR="10800" hR="10800" stAng="-10781060" swAng="5367308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ercise - 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04640" y="1414440"/>
            <a:ext cx="73123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ook at live routing tabl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xt Ho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456000" y="3922200"/>
            <a:ext cx="4262400" cy="19623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 anchorCtr="1">
            <a:normAutofit/>
          </a:bodyPr>
          <a:p>
            <a:pPr marL="225360" indent="-225360">
              <a:lnSpc>
                <a:spcPct val="95000"/>
              </a:lnSpc>
              <a:spcBef>
                <a:spcPts val="1250"/>
              </a:spcBef>
              <a:buClr>
                <a:srgbClr val="cf0e30"/>
              </a:buClr>
              <a:buFont typeface="Arial"/>
              <a:buChar char="•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hop to reach a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250"/>
              </a:spcBef>
              <a:buClr>
                <a:srgbClr val="cf0e30"/>
              </a:buClr>
              <a:buFont typeface="Arial"/>
              <a:buChar char="•"/>
              <a:tabLst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a local network is the next hop in EBGP se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603360" y="1109520"/>
            <a:ext cx="6932520" cy="3900600"/>
            <a:chOff x="603360" y="1109520"/>
            <a:chExt cx="6932520" cy="3900600"/>
          </a:xfrm>
        </p:grpSpPr>
        <p:sp>
          <p:nvSpPr>
            <p:cNvPr id="427" name=""/>
            <p:cNvSpPr/>
            <p:nvPr/>
          </p:nvSpPr>
          <p:spPr>
            <a:xfrm flipV="1">
              <a:off x="1668600" y="2685960"/>
              <a:ext cx="933480" cy="105264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406680" y="2168640"/>
              <a:ext cx="186696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9" name="" descr=""/>
            <p:cNvPicPr/>
            <p:nvPr/>
          </p:nvPicPr>
          <p:blipFill>
            <a:blip r:embed="rId1"/>
            <a:stretch/>
          </p:blipFill>
          <p:spPr>
            <a:xfrm>
              <a:off x="603360" y="3409920"/>
              <a:ext cx="24876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" descr=""/>
            <p:cNvPicPr/>
            <p:nvPr/>
          </p:nvPicPr>
          <p:blipFill>
            <a:blip r:embed="rId2"/>
            <a:stretch/>
          </p:blipFill>
          <p:spPr>
            <a:xfrm>
              <a:off x="1085760" y="1390680"/>
              <a:ext cx="24876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" descr=""/>
            <p:cNvPicPr/>
            <p:nvPr/>
          </p:nvPicPr>
          <p:blipFill>
            <a:blip r:embed="rId3"/>
            <a:stretch/>
          </p:blipFill>
          <p:spPr>
            <a:xfrm>
              <a:off x="5048280" y="1339920"/>
              <a:ext cx="248760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3209760" y="1109520"/>
              <a:ext cx="855720" cy="289080"/>
            </a:xfrm>
            <a:prstGeom prst="rect">
              <a:avLst/>
            </a:prstGeom>
            <a:solidFill>
              <a:srgbClr val="ffe59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44840" y="1109520"/>
              <a:ext cx="855720" cy="289080"/>
            </a:xfrm>
            <a:prstGeom prst="rect">
              <a:avLst/>
            </a:prstGeom>
            <a:solidFill>
              <a:srgbClr val="ffe59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143720" y="4199040"/>
              <a:ext cx="13968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9600" bIns="396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60.10.0.0/1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626480" y="2084400"/>
              <a:ext cx="13968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9600" bIns="396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50.10.0.0/1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214800" y="1130400"/>
              <a:ext cx="99828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50.10.1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32960" y="1120680"/>
              <a:ext cx="8816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9600" bIns="396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50.10.1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3673440" y="1406520"/>
              <a:ext cx="131760" cy="75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741920" y="1406520"/>
              <a:ext cx="198360" cy="75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455840" y="3917880"/>
              <a:ext cx="772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S 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899320" y="1995480"/>
              <a:ext cx="772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S 3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938240" y="1801800"/>
              <a:ext cx="773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S 2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747960" y="3075120"/>
              <a:ext cx="2428920" cy="566640"/>
            </a:xfrm>
            <a:prstGeom prst="rect">
              <a:avLst/>
            </a:prstGeom>
            <a:solidFill>
              <a:srgbClr val="ffe59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768840" y="3095640"/>
              <a:ext cx="224424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9600" bIns="39600" anchor="t">
              <a:spAutoFit/>
            </a:bodyPr>
            <a:p>
              <a:pPr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50.10.0.0/16   150.10.1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60.10.0.0/16   150.10.1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4941720" y="2308320"/>
              <a:ext cx="331920" cy="75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6" name="" descr=""/>
            <p:cNvPicPr/>
            <p:nvPr/>
          </p:nvPicPr>
          <p:blipFill>
            <a:blip r:embed="rId4"/>
            <a:stretch/>
          </p:blipFill>
          <p:spPr>
            <a:xfrm>
              <a:off x="5013360" y="1989000"/>
              <a:ext cx="633240" cy="37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" descr=""/>
            <p:cNvPicPr/>
            <p:nvPr/>
          </p:nvPicPr>
          <p:blipFill>
            <a:blip r:embed="rId5"/>
            <a:stretch/>
          </p:blipFill>
          <p:spPr>
            <a:xfrm>
              <a:off x="3019320" y="1989000"/>
              <a:ext cx="63360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3255480" y="21481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49520" y="21481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7654680" y="5889600"/>
            <a:ext cx="25956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228480" y="5842080"/>
            <a:ext cx="16743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99360" y="5889600"/>
            <a:ext cx="82512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799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-1440" y="0"/>
            <a:ext cx="595080" cy="866880"/>
            <a:chOff x="-1440" y="0"/>
            <a:chExt cx="595080" cy="866880"/>
          </a:xfrm>
        </p:grpSpPr>
        <p:sp>
          <p:nvSpPr>
            <p:cNvPr id="454" name=""/>
            <p:cNvSpPr/>
            <p:nvPr/>
          </p:nvSpPr>
          <p:spPr>
            <a:xfrm>
              <a:off x="4680" y="6480"/>
              <a:ext cx="581040" cy="62676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680" y="420840"/>
              <a:ext cx="581040" cy="4381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-360" y="414360"/>
              <a:ext cx="59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-1440" y="0"/>
              <a:ext cx="595080" cy="866880"/>
            </a:xfrm>
            <a:custGeom>
              <a:avLst/>
              <a:gdLst/>
              <a:ahLst/>
              <a:rect l="l" t="t" r="r" b="b"/>
              <a:pathLst>
                <a:path w="375" h="546">
                  <a:moveTo>
                    <a:pt x="0" y="545"/>
                  </a:moveTo>
                  <a:lnTo>
                    <a:pt x="374" y="545"/>
                  </a:lnTo>
                  <a:lnTo>
                    <a:pt x="37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2752560" y="1030320"/>
            <a:ext cx="2551320" cy="154944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2752560" y="3532320"/>
            <a:ext cx="2551320" cy="154944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rd Party Next Ho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3510000" y="3085920"/>
            <a:ext cx="0" cy="52524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67120" y="3084480"/>
            <a:ext cx="2201760" cy="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034880" y="4282920"/>
            <a:ext cx="109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9600" bIns="396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2.68.1.0/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3568680" y="2421000"/>
            <a:ext cx="477720" cy="1263600"/>
          </a:xfrm>
          <a:prstGeom prst="line">
            <a:avLst/>
          </a:prstGeom>
          <a:ln w="50760">
            <a:solidFill>
              <a:srgbClr val="ffa3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4564080" y="3084120"/>
            <a:ext cx="0" cy="120348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102200" y="4289400"/>
            <a:ext cx="933480" cy="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4119480" y="2558880"/>
            <a:ext cx="0" cy="52560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971720" y="2487600"/>
            <a:ext cx="853920" cy="289080"/>
          </a:xfrm>
          <a:prstGeom prst="rect">
            <a:avLst/>
          </a:prstGeom>
          <a:solidFill>
            <a:srgbClr val="ffe59b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903320" y="3316320"/>
            <a:ext cx="855720" cy="288720"/>
          </a:xfrm>
          <a:prstGeom prst="rect">
            <a:avLst/>
          </a:prstGeom>
          <a:solidFill>
            <a:srgbClr val="ffe59b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175360" y="3316320"/>
            <a:ext cx="853920" cy="288720"/>
          </a:xfrm>
          <a:prstGeom prst="rect">
            <a:avLst/>
          </a:prstGeom>
          <a:solidFill>
            <a:srgbClr val="ffe59b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7760" rIns="77760" tIns="39600" bIns="39600" anchor="ctr">
            <a:noAutofit/>
          </a:bodyPr>
          <a:p>
            <a:pPr algn="ctr"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0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766960" y="3460680"/>
            <a:ext cx="733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833560" y="2631960"/>
            <a:ext cx="1067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961640" y="2500200"/>
            <a:ext cx="9014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9600" bIns="39600" anchor="t">
            <a:spAutoFit/>
          </a:bodyPr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0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893240" y="3327480"/>
            <a:ext cx="9014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9600" bIns="39600" anchor="t">
            <a:spAutoFit/>
          </a:bodyPr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0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568760" y="3460680"/>
            <a:ext cx="6001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364000" y="1760400"/>
            <a:ext cx="2426040" cy="368280"/>
          </a:xfrm>
          <a:prstGeom prst="rect">
            <a:avLst/>
          </a:prstGeom>
          <a:solidFill>
            <a:srgbClr val="ffe59b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360040" y="1822320"/>
            <a:ext cx="22960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9600" bIns="39600" anchor="t">
            <a:spAutoFit/>
          </a:bodyPr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2.68.1.0/24      150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4433760" y="1906200"/>
            <a:ext cx="981360" cy="422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538440" y="4564080"/>
            <a:ext cx="1117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2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538440" y="1528560"/>
            <a:ext cx="1117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3"/>
          <a:stretch/>
        </p:blipFill>
        <p:spPr>
          <a:xfrm>
            <a:off x="3809880" y="2206800"/>
            <a:ext cx="633600" cy="37296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4"/>
          <a:stretch/>
        </p:blipFill>
        <p:spPr>
          <a:xfrm>
            <a:off x="4254480" y="3565440"/>
            <a:ext cx="633600" cy="37332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5"/>
          <a:stretch/>
        </p:blipFill>
        <p:spPr>
          <a:xfrm>
            <a:off x="3200400" y="3565440"/>
            <a:ext cx="633240" cy="37332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4047840" y="23529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438000" y="37198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492440" y="37198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569680" y="5153040"/>
            <a:ext cx="2984760" cy="8208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100000"/>
              </a:lnSpc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effic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BGP Next Ho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855440" y="4755960"/>
            <a:ext cx="4413240" cy="10746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100000"/>
              </a:lnSpc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xt hop not chang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298440" y="1116000"/>
            <a:ext cx="7116840" cy="3887640"/>
            <a:chOff x="298440" y="1116000"/>
            <a:chExt cx="7116840" cy="3887640"/>
          </a:xfrm>
        </p:grpSpPr>
        <p:sp>
          <p:nvSpPr>
            <p:cNvPr id="495" name=""/>
            <p:cNvSpPr/>
            <p:nvPr/>
          </p:nvSpPr>
          <p:spPr>
            <a:xfrm>
              <a:off x="4100400" y="1116000"/>
              <a:ext cx="943200" cy="289080"/>
            </a:xfrm>
            <a:prstGeom prst="rect">
              <a:avLst/>
            </a:prstGeom>
            <a:solidFill>
              <a:srgbClr val="ffe59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1415880" y="2692440"/>
              <a:ext cx="933480" cy="105264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7" name="" descr=""/>
            <p:cNvPicPr/>
            <p:nvPr/>
          </p:nvPicPr>
          <p:blipFill>
            <a:blip r:embed="rId1"/>
            <a:stretch/>
          </p:blipFill>
          <p:spPr>
            <a:xfrm>
              <a:off x="831960" y="1346040"/>
              <a:ext cx="24876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" descr=""/>
            <p:cNvPicPr/>
            <p:nvPr/>
          </p:nvPicPr>
          <p:blipFill>
            <a:blip r:embed="rId2"/>
            <a:stretch/>
          </p:blipFill>
          <p:spPr>
            <a:xfrm>
              <a:off x="298440" y="3403440"/>
              <a:ext cx="24876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" descr=""/>
            <p:cNvPicPr/>
            <p:nvPr/>
          </p:nvPicPr>
          <p:blipFill>
            <a:blip r:embed="rId3"/>
            <a:stretch/>
          </p:blipFill>
          <p:spPr>
            <a:xfrm>
              <a:off x="4794120" y="1346040"/>
              <a:ext cx="248760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2986200" y="1116000"/>
              <a:ext cx="942840" cy="289080"/>
            </a:xfrm>
            <a:prstGeom prst="rect">
              <a:avLst/>
            </a:prstGeom>
            <a:solidFill>
              <a:srgbClr val="ffe59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54320" y="2130480"/>
              <a:ext cx="186696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974880" y="4205160"/>
              <a:ext cx="124884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9600" bIns="396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60.10.0.0/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84560" y="2173320"/>
              <a:ext cx="124884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9600" bIns="396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50.10.0.0/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960640" y="1135080"/>
              <a:ext cx="99864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50.10.1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080600" y="1125360"/>
              <a:ext cx="100044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9600" bIns="396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50.10.1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3421080" y="1413000"/>
              <a:ext cx="131760" cy="750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489560" y="1413000"/>
              <a:ext cx="198360" cy="750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006560" y="3911400"/>
              <a:ext cx="11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 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545080" y="2233440"/>
              <a:ext cx="1170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 3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346040" y="1877760"/>
              <a:ext cx="1324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 2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5265720" y="1777680"/>
              <a:ext cx="1381320" cy="368280"/>
            </a:xfrm>
            <a:prstGeom prst="line">
              <a:avLst/>
            </a:prstGeom>
            <a:ln w="50760">
              <a:solidFill>
                <a:srgbClr val="ffa3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488480" y="2317680"/>
              <a:ext cx="932400" cy="219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7588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758825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956920" y="1790640"/>
              <a:ext cx="932400" cy="315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7604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760457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4" name="" descr=""/>
            <p:cNvPicPr/>
            <p:nvPr/>
          </p:nvPicPr>
          <p:blipFill>
            <a:blip r:embed="rId4"/>
            <a:stretch/>
          </p:blipFill>
          <p:spPr>
            <a:xfrm>
              <a:off x="6486480" y="1494000"/>
              <a:ext cx="63360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" descr=""/>
            <p:cNvPicPr/>
            <p:nvPr/>
          </p:nvPicPr>
          <p:blipFill>
            <a:blip r:embed="rId5"/>
            <a:stretch/>
          </p:blipFill>
          <p:spPr>
            <a:xfrm>
              <a:off x="4809960" y="1951200"/>
              <a:ext cx="63360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" descr=""/>
            <p:cNvPicPr/>
            <p:nvPr/>
          </p:nvPicPr>
          <p:blipFill>
            <a:blip r:embed="rId6"/>
            <a:stretch/>
          </p:blipFill>
          <p:spPr>
            <a:xfrm>
              <a:off x="2676600" y="1951200"/>
              <a:ext cx="6332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2912760" y="20736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046480" y="21006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722640" y="16434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00760" y="3524400"/>
              <a:ext cx="2414520" cy="566640"/>
            </a:xfrm>
            <a:prstGeom prst="rect">
              <a:avLst/>
            </a:prstGeom>
            <a:solidFill>
              <a:srgbClr val="ffe59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64480" y="3540240"/>
              <a:ext cx="224424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9600" bIns="39600" anchor="t">
              <a:spAutoFit/>
            </a:bodyPr>
            <a:p>
              <a:pPr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50.10.0.0/16   150.10.1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60.10.0.0/16   150.10.1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tonomous System (AS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0" y="2852280"/>
            <a:ext cx="8116920" cy="32338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ection of networks with same poli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routing protoc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 under single administrative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127240" y="1370160"/>
            <a:ext cx="3618000" cy="2192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600360" y="1692360"/>
            <a:ext cx="1013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S 1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859120" y="2517480"/>
            <a:ext cx="928800" cy="51444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32240" y="2630520"/>
            <a:ext cx="1003320" cy="36972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370400" y="2001600"/>
            <a:ext cx="996840" cy="23148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25560" y="1854360"/>
            <a:ext cx="963720" cy="52992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000160" y="1658880"/>
            <a:ext cx="1027080" cy="601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2000160" y="2695680"/>
            <a:ext cx="1027080" cy="600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438360" y="2146320"/>
            <a:ext cx="1028880" cy="600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5110200" y="2695680"/>
            <a:ext cx="1028520" cy="60156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5111640" y="1630440"/>
            <a:ext cx="1027080" cy="617760"/>
            <a:chOff x="5111640" y="1630440"/>
            <a:chExt cx="1027080" cy="617760"/>
          </a:xfrm>
        </p:grpSpPr>
        <p:pic>
          <p:nvPicPr>
            <p:cNvPr id="79" name="" descr=""/>
            <p:cNvPicPr/>
            <p:nvPr/>
          </p:nvPicPr>
          <p:blipFill>
            <a:blip r:embed="rId6"/>
            <a:stretch/>
          </p:blipFill>
          <p:spPr>
            <a:xfrm>
              <a:off x="5111640" y="1630440"/>
              <a:ext cx="1027080" cy="60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5525640" y="19429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1233360"/>
                  <a:tab algn="l" pos="2467080"/>
                  <a:tab algn="l" pos="3700440"/>
                  <a:tab algn="l" pos="4933800"/>
                  <a:tab algn="l" pos="6167520"/>
                  <a:tab algn="l" pos="7400880"/>
                  <a:tab algn="l" pos="8634240"/>
                  <a:tab algn="l" pos="98679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out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xt Hop-M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04640" y="1414440"/>
            <a:ext cx="73123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97000"/>
          </a:bodyPr>
          <a:p>
            <a:pPr marL="249120" indent="-24912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GP should carry route to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xt ho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cursive route look-u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nlinks BGP from actual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hysical topolog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llows IGP to make intelligent fowarding decis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ercise - 6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04640" y="1414440"/>
            <a:ext cx="73123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BGP nexthop exerci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2860560" y="3769920"/>
            <a:ext cx="341280" cy="407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782960" y="3798720"/>
            <a:ext cx="412920" cy="379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 flipV="1">
            <a:off x="4727160" y="1996920"/>
            <a:ext cx="933480" cy="105264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2394000" y="2071440"/>
            <a:ext cx="931680" cy="105228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4997520" y="3352680"/>
            <a:ext cx="931680" cy="105264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 flipV="1">
            <a:off x="2327040" y="3578040"/>
            <a:ext cx="664920" cy="75060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468360" y="2376360"/>
            <a:ext cx="2592360" cy="157500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2703600" y="1157400"/>
            <a:ext cx="2592360" cy="157464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5091120" y="2376360"/>
            <a:ext cx="2592360" cy="157500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4"/>
          <a:stretch/>
        </p:blipFill>
        <p:spPr>
          <a:xfrm>
            <a:off x="2690640" y="3938760"/>
            <a:ext cx="2592720" cy="157464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cal Prefere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625200" y="4586040"/>
            <a:ext cx="84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058760" y="3003480"/>
            <a:ext cx="1428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462480" y="4405320"/>
            <a:ext cx="1065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117960" y="4556160"/>
            <a:ext cx="533160" cy="601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4405320" y="4556160"/>
            <a:ext cx="533520" cy="601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350520" y="1875240"/>
            <a:ext cx="139680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9600" bIns="3960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0.10.0.0/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623400" y="1574640"/>
            <a:ext cx="84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775480" y="3003480"/>
            <a:ext cx="1123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61880" y="4740120"/>
            <a:ext cx="1986120" cy="439920"/>
          </a:xfrm>
          <a:prstGeom prst="rect">
            <a:avLst/>
          </a:prstGeom>
          <a:solidFill>
            <a:srgbClr val="ffe59b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51440" y="4722840"/>
            <a:ext cx="19515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9600" bIns="39600" anchor="t">
            <a:spAutoFit/>
          </a:bodyPr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0.10.0.0/16    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gt;  160.10.0.0/16    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116160" y="3568680"/>
            <a:ext cx="387360" cy="289080"/>
          </a:xfrm>
          <a:prstGeom prst="rect">
            <a:avLst/>
          </a:prstGeom>
          <a:solidFill>
            <a:srgbClr val="ffe59b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107880" y="3579840"/>
            <a:ext cx="4536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9600" bIns="39600" anchor="t">
            <a:spAutoFit/>
          </a:bodyPr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511520" y="3583080"/>
            <a:ext cx="389160" cy="288720"/>
          </a:xfrm>
          <a:prstGeom prst="rect">
            <a:avLst/>
          </a:prstGeom>
          <a:solidFill>
            <a:srgbClr val="ffe59b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501800" y="3594240"/>
            <a:ext cx="4536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9600" bIns="39600" anchor="t">
            <a:spAutoFit/>
          </a:bodyPr>
          <a:p>
            <a:pPr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5"/>
          <a:stretch/>
        </p:blipFill>
        <p:spPr>
          <a:xfrm>
            <a:off x="2071800" y="3486240"/>
            <a:ext cx="633240" cy="37296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6"/>
          <a:stretch/>
        </p:blipFill>
        <p:spPr>
          <a:xfrm>
            <a:off x="2808360" y="4200480"/>
            <a:ext cx="633240" cy="37296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7"/>
          <a:stretch/>
        </p:blipFill>
        <p:spPr>
          <a:xfrm>
            <a:off x="3760920" y="5051520"/>
            <a:ext cx="633240" cy="37296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8"/>
          <a:stretch/>
        </p:blipFill>
        <p:spPr>
          <a:xfrm>
            <a:off x="4548240" y="4200480"/>
            <a:ext cx="633240" cy="37296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9"/>
          <a:stretch/>
        </p:blipFill>
        <p:spPr>
          <a:xfrm>
            <a:off x="5475240" y="3486240"/>
            <a:ext cx="633600" cy="37296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5724360" y="362736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789440" y="434808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000680" y="520848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9560" y="434808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319480" y="362736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cal Prefere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04640" y="1414440"/>
            <a:ext cx="73123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ocal to an A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ed to influence BGP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th selec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th with highest local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eference wi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ercise - 7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04640" y="1414440"/>
            <a:ext cx="73123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ocal Preference exerci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332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766960" y="556416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31680" bIns="316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-Exit Discriminator (MED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2649600" y="3745080"/>
            <a:ext cx="2979720" cy="180972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2"/>
          <a:stretch/>
        </p:blipFill>
        <p:spPr>
          <a:xfrm>
            <a:off x="2649600" y="1028880"/>
            <a:ext cx="2979720" cy="180972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3859200" y="4119480"/>
            <a:ext cx="614520" cy="0"/>
          </a:xfrm>
          <a:prstGeom prst="line">
            <a:avLst/>
          </a:prstGeom>
          <a:ln w="25560">
            <a:solidFill>
              <a:srgbClr val="ff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3573360" y="2843280"/>
            <a:ext cx="534960" cy="1211040"/>
          </a:xfrm>
          <a:prstGeom prst="line">
            <a:avLst/>
          </a:prstGeom>
          <a:ln w="25560">
            <a:solidFill>
              <a:srgbClr val="ffa3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652920" y="4937040"/>
            <a:ext cx="890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2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689280" y="1768320"/>
            <a:ext cx="890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 flipV="1">
            <a:off x="4167000" y="2841120"/>
            <a:ext cx="438120" cy="1016280"/>
          </a:xfrm>
          <a:prstGeom prst="line">
            <a:avLst/>
          </a:prstGeom>
          <a:ln w="25560">
            <a:solidFill>
              <a:srgbClr val="ffa3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964680" y="4487760"/>
            <a:ext cx="1419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2.68.1.0/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748160" y="3319560"/>
            <a:ext cx="1920240" cy="99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2" y="0"/>
                </a:moveTo>
                <a:arcTo wR="10800" hR="10800" stAng="-5405683" swAng="5394716"/>
                <a:lnTo>
                  <a:pt x="10800" y="10800"/>
                </a:lnTo>
                <a:close/>
              </a:path>
              <a:path fill="none" w="21600" h="21600">
                <a:moveTo>
                  <a:pt x="10782" y="0"/>
                </a:moveTo>
                <a:arcTo wR="10800" hR="10800" stAng="-5405683" swAng="5394716"/>
              </a:path>
            </a:pathLst>
          </a:custGeom>
          <a:noFill/>
          <a:ln cap="rnd"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629240" y="3319560"/>
            <a:ext cx="1688760" cy="99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31"/>
                </a:moveTo>
                <a:arcTo wR="10800" hR="10800" stAng="-10778104" swAng="5371642"/>
                <a:lnTo>
                  <a:pt x="10800" y="10800"/>
                </a:lnTo>
                <a:close/>
              </a:path>
              <a:path fill="none" w="21600" h="21600">
                <a:moveTo>
                  <a:pt x="0" y="10731"/>
                </a:moveTo>
                <a:arcTo wR="10800" hR="10800" stAng="-10778104" swAng="5371642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3"/>
          <a:stretch/>
        </p:blipFill>
        <p:spPr>
          <a:xfrm>
            <a:off x="4332240" y="3900600"/>
            <a:ext cx="727200" cy="42696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4"/>
          <a:stretch/>
        </p:blipFill>
        <p:spPr>
          <a:xfrm>
            <a:off x="3236760" y="3900600"/>
            <a:ext cx="727200" cy="42696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5"/>
          <a:stretch/>
        </p:blipFill>
        <p:spPr>
          <a:xfrm>
            <a:off x="3778200" y="2498760"/>
            <a:ext cx="725400" cy="42696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4051440" y="2695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511440" y="40514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606920" y="40514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438880" y="3129120"/>
            <a:ext cx="1984320" cy="377640"/>
          </a:xfrm>
          <a:prstGeom prst="rect">
            <a:avLst/>
          </a:prstGeom>
          <a:solidFill>
            <a:srgbClr val="ffe59b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559480" y="3205080"/>
            <a:ext cx="1878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2.68.1.0/24    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98400" y="3129120"/>
            <a:ext cx="1982880" cy="377640"/>
          </a:xfrm>
          <a:prstGeom prst="rect">
            <a:avLst/>
          </a:prstGeom>
          <a:solidFill>
            <a:srgbClr val="ffe59b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23600" y="3205080"/>
            <a:ext cx="192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2.68.1.0/24    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-Exit Discrimina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04640" y="1414440"/>
            <a:ext cx="770904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98000"/>
          </a:bodyPr>
          <a:p>
            <a:pPr marL="251640" indent="-2516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-transi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d to convey the relativ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ference of entry poi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luences best path sel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able if paths ar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same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GP metric can be conveyed as M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04640" y="1414440"/>
            <a:ext cx="73123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veys the origin of the prefix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ree values—igp, egp, incomplet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fluences best path selec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unit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04640" y="1414440"/>
            <a:ext cx="73123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92000"/>
          </a:bodyPr>
          <a:p>
            <a:pPr marL="236160" indent="-23616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GP attribu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160" indent="-23616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d to group destin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160" indent="-23616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ed as an integ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160" indent="-23616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h destination could be membe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multiple commun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160" indent="-23616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ty attribute carried across A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160" indent="-23616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ful in applying polic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951280" y="1603440"/>
            <a:ext cx="0" cy="811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184720" y="1584360"/>
            <a:ext cx="0" cy="830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5364000" y="4025880"/>
            <a:ext cx="1986120" cy="120636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5464080" y="3502080"/>
            <a:ext cx="898200" cy="135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75"/>
                </a:moveTo>
                <a:arcTo wR="10800" hR="10800" stAng="-10791949" swAng="5379802"/>
                <a:lnTo>
                  <a:pt x="10800" y="10800"/>
                </a:lnTo>
                <a:close/>
              </a:path>
              <a:path fill="none" w="21600" h="21600">
                <a:moveTo>
                  <a:pt x="0" y="10775"/>
                </a:moveTo>
                <a:arcTo wR="10800" hR="10800" stAng="-10791949" swAng="5379802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506600" y="3503520"/>
            <a:ext cx="885960" cy="99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61" y="0"/>
                </a:moveTo>
                <a:arcTo wR="10800" hR="10800" stAng="-5412321" swAng="4984295"/>
                <a:lnTo>
                  <a:pt x="10800" y="10800"/>
                </a:lnTo>
                <a:close/>
              </a:path>
              <a:path fill="none" w="21600" h="21600">
                <a:moveTo>
                  <a:pt x="10761" y="0"/>
                </a:moveTo>
                <a:arcTo wR="10800" hR="10800" stAng="-5412321" swAng="4984295"/>
              </a:path>
            </a:pathLst>
          </a:custGeom>
          <a:noFill/>
          <a:ln cap="rnd"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2"/>
          <a:stretch/>
        </p:blipFill>
        <p:spPr>
          <a:xfrm>
            <a:off x="6005520" y="1587600"/>
            <a:ext cx="1803240" cy="109692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3"/>
          <a:stretch/>
        </p:blipFill>
        <p:spPr>
          <a:xfrm>
            <a:off x="2576520" y="2120760"/>
            <a:ext cx="2863800" cy="173988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4"/>
          <a:stretch/>
        </p:blipFill>
        <p:spPr>
          <a:xfrm>
            <a:off x="442800" y="1434960"/>
            <a:ext cx="1608120" cy="97812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5"/>
          <a:stretch/>
        </p:blipFill>
        <p:spPr>
          <a:xfrm>
            <a:off x="976320" y="4025880"/>
            <a:ext cx="1986120" cy="120636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133200" y="3371760"/>
            <a:ext cx="1832040" cy="528840"/>
          </a:xfrm>
          <a:prstGeom prst="rect">
            <a:avLst/>
          </a:prstGeom>
          <a:solidFill>
            <a:srgbClr val="ffe59b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H="1" flipV="1">
            <a:off x="1778040" y="2249640"/>
            <a:ext cx="1141200" cy="22680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H="1" flipV="1">
            <a:off x="4901760" y="3468240"/>
            <a:ext cx="700200" cy="95724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2235240" y="3449160"/>
            <a:ext cx="1030320" cy="77796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667320" y="2906640"/>
            <a:ext cx="76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026040" y="4599000"/>
            <a:ext cx="77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741320" y="1119240"/>
            <a:ext cx="2421000" cy="534600"/>
            <a:chOff x="1741320" y="1119240"/>
            <a:chExt cx="2421000" cy="534600"/>
          </a:xfrm>
        </p:grpSpPr>
        <p:sp>
          <p:nvSpPr>
            <p:cNvPr id="631" name=""/>
            <p:cNvSpPr/>
            <p:nvPr/>
          </p:nvSpPr>
          <p:spPr>
            <a:xfrm>
              <a:off x="2048040" y="1119240"/>
              <a:ext cx="1788840" cy="515880"/>
            </a:xfrm>
            <a:prstGeom prst="rect">
              <a:avLst/>
            </a:prstGeom>
            <a:solidFill>
              <a:srgbClr val="ffe59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741320" y="1124640"/>
              <a:ext cx="2421000" cy="52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ctr" anchorCtr="1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131292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60.10.0.0/1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131292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0.10.0.0/16     1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4246560" y="1135080"/>
            <a:ext cx="1876320" cy="563040"/>
            <a:chOff x="4246560" y="1135080"/>
            <a:chExt cx="1876320" cy="563040"/>
          </a:xfrm>
        </p:grpSpPr>
        <p:sp>
          <p:nvSpPr>
            <p:cNvPr id="634" name=""/>
            <p:cNvSpPr/>
            <p:nvPr/>
          </p:nvSpPr>
          <p:spPr>
            <a:xfrm>
              <a:off x="4314960" y="1135080"/>
              <a:ext cx="1722240" cy="506520"/>
            </a:xfrm>
            <a:prstGeom prst="rect">
              <a:avLst/>
            </a:prstGeom>
            <a:solidFill>
              <a:srgbClr val="ffe59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246560" y="1168920"/>
              <a:ext cx="1876320" cy="52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ctr" anchorCtr="1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131292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70.10.0.0/1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131292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80.10.0.0/1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120600" y="3383640"/>
            <a:ext cx="187956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ctr" anchorCtr="1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31292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0.10.0.0/1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31292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0.10.0.0/1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810400" y="3371760"/>
            <a:ext cx="1834920" cy="528840"/>
          </a:xfrm>
          <a:prstGeom prst="rect">
            <a:avLst/>
          </a:prstGeom>
          <a:solidFill>
            <a:srgbClr val="ffe59b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614920" y="3383640"/>
            <a:ext cx="227196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ctr" anchorCtr="1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31292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0.10.0.0/1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31292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0.10.0.0/1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3160800" y="2554200"/>
            <a:ext cx="1440" cy="84312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984920" y="2690640"/>
            <a:ext cx="0" cy="67500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438360" y="3430440"/>
            <a:ext cx="1312920" cy="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149640" y="2509920"/>
            <a:ext cx="1601640" cy="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5121360" y="2247480"/>
            <a:ext cx="920520" cy="32076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11080" y="1725480"/>
            <a:ext cx="77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577880" y="4599000"/>
            <a:ext cx="77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684840" y="2022480"/>
            <a:ext cx="77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6"/>
          <a:stretch/>
        </p:blipFill>
        <p:spPr>
          <a:xfrm>
            <a:off x="5932440" y="1951200"/>
            <a:ext cx="633600" cy="37296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7"/>
          <a:stretch/>
        </p:blipFill>
        <p:spPr>
          <a:xfrm>
            <a:off x="4675320" y="3246480"/>
            <a:ext cx="633240" cy="37296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8"/>
          <a:stretch/>
        </p:blipFill>
        <p:spPr>
          <a:xfrm>
            <a:off x="2846520" y="3246480"/>
            <a:ext cx="633240" cy="37296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9"/>
          <a:stretch/>
        </p:blipFill>
        <p:spPr>
          <a:xfrm>
            <a:off x="1436760" y="2027160"/>
            <a:ext cx="633240" cy="373320"/>
          </a:xfrm>
          <a:prstGeom prst="rect">
            <a:avLst/>
          </a:prstGeom>
          <a:ln w="0">
            <a:noFill/>
          </a:ln>
        </p:spPr>
      </p:pic>
      <p:grpSp>
        <p:nvGrpSpPr>
          <p:cNvPr id="651" name=""/>
          <p:cNvGrpSpPr/>
          <p:nvPr/>
        </p:nvGrpSpPr>
        <p:grpSpPr>
          <a:xfrm>
            <a:off x="1969920" y="4151160"/>
            <a:ext cx="633600" cy="417600"/>
            <a:chOff x="1969920" y="4151160"/>
            <a:chExt cx="633600" cy="417600"/>
          </a:xfrm>
        </p:grpSpPr>
        <p:pic>
          <p:nvPicPr>
            <p:cNvPr id="652" name="" descr=""/>
            <p:cNvPicPr/>
            <p:nvPr/>
          </p:nvPicPr>
          <p:blipFill>
            <a:blip r:embed="rId10"/>
            <a:stretch/>
          </p:blipFill>
          <p:spPr>
            <a:xfrm>
              <a:off x="1969920" y="4151160"/>
              <a:ext cx="63360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"/>
            <p:cNvSpPr/>
            <p:nvPr/>
          </p:nvSpPr>
          <p:spPr>
            <a:xfrm>
              <a:off x="2211480" y="434016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spcBef>
                  <a:spcPts val="938"/>
                </a:spcBef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1674360" y="2189160"/>
            <a:ext cx="14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087720" y="342108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2846520" y="2332080"/>
            <a:ext cx="633240" cy="414360"/>
            <a:chOff x="2846520" y="2332080"/>
            <a:chExt cx="633240" cy="414360"/>
          </a:xfrm>
        </p:grpSpPr>
        <p:pic>
          <p:nvPicPr>
            <p:cNvPr id="657" name="" descr=""/>
            <p:cNvPicPr/>
            <p:nvPr/>
          </p:nvPicPr>
          <p:blipFill>
            <a:blip r:embed="rId11"/>
            <a:stretch/>
          </p:blipFill>
          <p:spPr>
            <a:xfrm>
              <a:off x="2846520" y="2332080"/>
              <a:ext cx="6332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3092400" y="251784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spcBef>
                  <a:spcPts val="938"/>
                </a:spcBef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675320" y="2332080"/>
            <a:ext cx="633240" cy="423720"/>
            <a:chOff x="4675320" y="2332080"/>
            <a:chExt cx="633240" cy="423720"/>
          </a:xfrm>
        </p:grpSpPr>
        <p:pic>
          <p:nvPicPr>
            <p:cNvPr id="660" name="" descr=""/>
            <p:cNvPicPr/>
            <p:nvPr/>
          </p:nvPicPr>
          <p:blipFill>
            <a:blip r:embed="rId12"/>
            <a:stretch/>
          </p:blipFill>
          <p:spPr>
            <a:xfrm>
              <a:off x="4675320" y="2332080"/>
              <a:ext cx="6332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4927320" y="25272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spcBef>
                  <a:spcPts val="938"/>
                </a:spcBef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4916520" y="342108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170760" y="212076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5246640" y="4167360"/>
            <a:ext cx="633600" cy="401400"/>
            <a:chOff x="5246640" y="4167360"/>
            <a:chExt cx="633600" cy="401400"/>
          </a:xfrm>
        </p:grpSpPr>
        <p:pic>
          <p:nvPicPr>
            <p:cNvPr id="665" name="" descr=""/>
            <p:cNvPicPr/>
            <p:nvPr/>
          </p:nvPicPr>
          <p:blipFill>
            <a:blip r:embed="rId13"/>
            <a:stretch/>
          </p:blipFill>
          <p:spPr>
            <a:xfrm>
              <a:off x="5246640" y="4167360"/>
              <a:ext cx="63360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"/>
            <p:cNvSpPr/>
            <p:nvPr/>
          </p:nvSpPr>
          <p:spPr>
            <a:xfrm>
              <a:off x="5487840" y="434016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spcBef>
                  <a:spcPts val="938"/>
                </a:spcBef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tonomous System.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04640" y="1414440"/>
            <a:ext cx="73123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dentified by ‘AS number’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ervice provi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multihomed custom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anyone needing policy descrimin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plying Policy with BG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04640" y="1414440"/>
            <a:ext cx="73123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licy-based on AS path,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munity or the prefix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jecting/accep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lected rout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t attributes to influence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th selec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GP Path Selection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04640" y="1414440"/>
            <a:ext cx="73123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88000"/>
          </a:bodyPr>
          <a:p>
            <a:pPr marL="226080" indent="-22608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not consider IBGP path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not synchron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not consider path if n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te to next ho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est weight (local to route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est local preferenc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global within A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rtest AS pa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GP Path Sel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04640" y="1414440"/>
            <a:ext cx="73123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owest origin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GP &lt; EGP &lt; incomple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ulti-Exit Discrimin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ed only if paths ar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the same 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efer EBGP path over IBGP pat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GP Path Sel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04640" y="1414440"/>
            <a:ext cx="73123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th with shortest nexthop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tric wi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owest router-i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GP Path Sel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87440" y="1349280"/>
            <a:ext cx="2959200" cy="3826080"/>
          </a:xfrm>
          <a:prstGeom prst="rect">
            <a:avLst/>
          </a:prstGeom>
          <a:solidFill>
            <a:srgbClr val="ffe59b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41440" y="1424160"/>
            <a:ext cx="3060720" cy="36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GP TABLE IN AS-20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2.68.1.0/24   150.1.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0.1.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’s IP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2.68.1.0/24 150.1.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’s IP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2.68.1.0/24 160.1.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’s IP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ther one depending on IGP metric to next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4026960" y="896760"/>
            <a:ext cx="3474360" cy="4454640"/>
            <a:chOff x="4026960" y="896760"/>
            <a:chExt cx="3474360" cy="4454640"/>
          </a:xfrm>
        </p:grpSpPr>
        <p:sp>
          <p:nvSpPr>
            <p:cNvPr id="689" name=""/>
            <p:cNvSpPr/>
            <p:nvPr/>
          </p:nvSpPr>
          <p:spPr>
            <a:xfrm flipV="1">
              <a:off x="6370560" y="2239560"/>
              <a:ext cx="0" cy="150516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0" name="" descr=""/>
            <p:cNvPicPr/>
            <p:nvPr/>
          </p:nvPicPr>
          <p:blipFill>
            <a:blip r:embed="rId1"/>
            <a:stretch/>
          </p:blipFill>
          <p:spPr>
            <a:xfrm>
              <a:off x="4268880" y="896760"/>
              <a:ext cx="2805120" cy="17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" name="" descr=""/>
            <p:cNvPicPr/>
            <p:nvPr/>
          </p:nvPicPr>
          <p:blipFill>
            <a:blip r:embed="rId2"/>
            <a:stretch/>
          </p:blipFill>
          <p:spPr>
            <a:xfrm>
              <a:off x="4268880" y="3648240"/>
              <a:ext cx="2805120" cy="17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"/>
            <p:cNvSpPr/>
            <p:nvPr/>
          </p:nvSpPr>
          <p:spPr>
            <a:xfrm flipV="1">
              <a:off x="5168880" y="2239560"/>
              <a:ext cx="0" cy="150516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026960" y="2536920"/>
              <a:ext cx="1123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44280" bIns="44280" anchor="t">
              <a:spAutoFit/>
            </a:bodyPr>
            <a:p>
              <a:pPr algn="r">
                <a:tabLst>
                  <a:tab algn="l" pos="0"/>
                  <a:tab algn="l" pos="870120"/>
                  <a:tab algn="l" pos="1739880"/>
                  <a:tab algn="l" pos="2610000"/>
                  <a:tab algn="l" pos="3479760"/>
                  <a:tab algn="l" pos="4349880"/>
                  <a:tab algn="l" pos="5219640"/>
                  <a:tab algn="l" pos="6089760"/>
                  <a:tab algn="l" pos="6959520"/>
                  <a:tab algn="l" pos="7829640"/>
                  <a:tab algn="l" pos="8699400"/>
                  <a:tab algn="l" pos="9569520"/>
                  <a:tab algn="l" pos="104392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50.1.1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694400" y="4076640"/>
              <a:ext cx="2019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870120"/>
                  <a:tab algn="l" pos="1739880"/>
                  <a:tab algn="l" pos="2610000"/>
                  <a:tab algn="l" pos="3479760"/>
                  <a:tab algn="l" pos="4349880"/>
                  <a:tab algn="l" pos="5219640"/>
                  <a:tab algn="l" pos="6089760"/>
                  <a:tab algn="l" pos="6959520"/>
                  <a:tab algn="l" pos="7829640"/>
                  <a:tab algn="l" pos="8699400"/>
                  <a:tab algn="l" pos="9569520"/>
                  <a:tab algn="l" pos="104392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AS 20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010120" y="1590480"/>
              <a:ext cx="1293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870120"/>
                  <a:tab algn="l" pos="1739880"/>
                  <a:tab algn="l" pos="2610000"/>
                  <a:tab algn="l" pos="3479760"/>
                  <a:tab algn="l" pos="4349880"/>
                  <a:tab algn="l" pos="5219640"/>
                  <a:tab algn="l" pos="6089760"/>
                  <a:tab algn="l" pos="6959520"/>
                  <a:tab algn="l" pos="7829640"/>
                  <a:tab algn="l" pos="8699400"/>
                  <a:tab algn="l" pos="9569520"/>
                  <a:tab algn="l" pos="104392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AS 20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785120" y="1122480"/>
              <a:ext cx="1759680" cy="40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tabLst>
                  <a:tab algn="l" pos="0"/>
                  <a:tab algn="l" pos="1106640"/>
                  <a:tab algn="l" pos="2212920"/>
                  <a:tab algn="l" pos="3319560"/>
                  <a:tab algn="l" pos="4425840"/>
                  <a:tab algn="l" pos="5532480"/>
                  <a:tab algn="l" pos="6638760"/>
                  <a:tab algn="l" pos="7745400"/>
                  <a:tab algn="l" pos="8852040"/>
                  <a:tab algn="l" pos="99583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2.68.1.0/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376960" y="2298600"/>
              <a:ext cx="100476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346440" y="2538360"/>
              <a:ext cx="115488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tabLst>
                  <a:tab algn="l" pos="0"/>
                  <a:tab algn="l" pos="1106640"/>
                  <a:tab algn="l" pos="2212920"/>
                  <a:tab algn="l" pos="3319560"/>
                  <a:tab algn="l" pos="4425840"/>
                  <a:tab algn="l" pos="5532480"/>
                  <a:tab algn="l" pos="6638760"/>
                  <a:tab algn="l" pos="7745400"/>
                  <a:tab algn="l" pos="8852040"/>
                  <a:tab algn="l" pos="99583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0.1.1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029200" y="4021200"/>
              <a:ext cx="541440" cy="89856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5796000" y="4035600"/>
              <a:ext cx="628560" cy="96804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292720" y="3905280"/>
              <a:ext cx="1004760" cy="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2" name="" descr=""/>
            <p:cNvPicPr/>
            <p:nvPr/>
          </p:nvPicPr>
          <p:blipFill>
            <a:blip r:embed="rId3"/>
            <a:stretch/>
          </p:blipFill>
          <p:spPr>
            <a:xfrm>
              <a:off x="6031080" y="3708360"/>
              <a:ext cx="695160" cy="40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" descr=""/>
            <p:cNvPicPr/>
            <p:nvPr/>
          </p:nvPicPr>
          <p:blipFill>
            <a:blip r:embed="rId4"/>
            <a:stretch/>
          </p:blipFill>
          <p:spPr>
            <a:xfrm>
              <a:off x="4829040" y="3708360"/>
              <a:ext cx="695520" cy="4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5079600" y="38322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870120"/>
                  <a:tab algn="l" pos="1739880"/>
                  <a:tab algn="l" pos="2610000"/>
                  <a:tab algn="l" pos="3479760"/>
                  <a:tab algn="l" pos="4349880"/>
                  <a:tab algn="l" pos="5219640"/>
                  <a:tab algn="l" pos="6089760"/>
                  <a:tab algn="l" pos="6959520"/>
                  <a:tab algn="l" pos="7829640"/>
                  <a:tab algn="l" pos="8699400"/>
                  <a:tab algn="l" pos="9569520"/>
                  <a:tab algn="l" pos="104392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281280" y="38322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870120"/>
                  <a:tab algn="l" pos="1739880"/>
                  <a:tab algn="l" pos="2610000"/>
                  <a:tab algn="l" pos="3479760"/>
                  <a:tab algn="l" pos="4349880"/>
                  <a:tab algn="l" pos="5219640"/>
                  <a:tab algn="l" pos="6089760"/>
                  <a:tab algn="l" pos="6959520"/>
                  <a:tab algn="l" pos="7829640"/>
                  <a:tab algn="l" pos="8699400"/>
                  <a:tab algn="l" pos="9569520"/>
                  <a:tab algn="l" pos="104392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6" name="" descr=""/>
            <p:cNvPicPr/>
            <p:nvPr/>
          </p:nvPicPr>
          <p:blipFill>
            <a:blip r:embed="rId5"/>
            <a:stretch/>
          </p:blipFill>
          <p:spPr>
            <a:xfrm>
              <a:off x="5448240" y="4859280"/>
              <a:ext cx="696960" cy="4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5682960" y="50148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870120"/>
                  <a:tab algn="l" pos="1739880"/>
                  <a:tab algn="l" pos="2610000"/>
                  <a:tab algn="l" pos="3479760"/>
                  <a:tab algn="l" pos="4349880"/>
                  <a:tab algn="l" pos="5219640"/>
                  <a:tab algn="l" pos="6089760"/>
                  <a:tab algn="l" pos="6959520"/>
                  <a:tab algn="l" pos="7829640"/>
                  <a:tab algn="l" pos="8699400"/>
                  <a:tab algn="l" pos="9569520"/>
                  <a:tab algn="l" pos="104392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8" name="" descr=""/>
            <p:cNvPicPr/>
            <p:nvPr/>
          </p:nvPicPr>
          <p:blipFill>
            <a:blip r:embed="rId6"/>
            <a:stretch/>
          </p:blipFill>
          <p:spPr>
            <a:xfrm>
              <a:off x="4829040" y="2101680"/>
              <a:ext cx="695520" cy="4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"/>
            <p:cNvSpPr/>
            <p:nvPr/>
          </p:nvSpPr>
          <p:spPr>
            <a:xfrm>
              <a:off x="5079600" y="22525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870120"/>
                  <a:tab algn="l" pos="1739880"/>
                  <a:tab algn="l" pos="2610000"/>
                  <a:tab algn="l" pos="3479760"/>
                  <a:tab algn="l" pos="4349880"/>
                  <a:tab algn="l" pos="5219640"/>
                  <a:tab algn="l" pos="6089760"/>
                  <a:tab algn="l" pos="6959520"/>
                  <a:tab algn="l" pos="7829640"/>
                  <a:tab algn="l" pos="8699400"/>
                  <a:tab algn="l" pos="9569520"/>
                  <a:tab algn="l" pos="104392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0" name="" descr=""/>
            <p:cNvPicPr/>
            <p:nvPr/>
          </p:nvPicPr>
          <p:blipFill>
            <a:blip r:embed="rId7"/>
            <a:stretch/>
          </p:blipFill>
          <p:spPr>
            <a:xfrm>
              <a:off x="6031080" y="2101680"/>
              <a:ext cx="695160" cy="4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/>
            <p:cNvSpPr/>
            <p:nvPr/>
          </p:nvSpPr>
          <p:spPr>
            <a:xfrm>
              <a:off x="6295680" y="226836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870120"/>
                  <a:tab algn="l" pos="1739880"/>
                  <a:tab algn="l" pos="2610000"/>
                  <a:tab algn="l" pos="3479760"/>
                  <a:tab algn="l" pos="4349880"/>
                  <a:tab algn="l" pos="5219640"/>
                  <a:tab algn="l" pos="6089760"/>
                  <a:tab algn="l" pos="6959520"/>
                  <a:tab algn="l" pos="7829640"/>
                  <a:tab algn="l" pos="8699400"/>
                  <a:tab algn="l" pos="9569520"/>
                  <a:tab algn="l" pos="104392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333440" y="2392200"/>
            <a:ext cx="2203560" cy="132876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2"/>
          <a:stretch/>
        </p:blipFill>
        <p:spPr>
          <a:xfrm>
            <a:off x="4564080" y="2392200"/>
            <a:ext cx="2203560" cy="132876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3"/>
          <a:stretch/>
        </p:blipFill>
        <p:spPr>
          <a:xfrm>
            <a:off x="2844720" y="1011240"/>
            <a:ext cx="2203560" cy="1328760"/>
          </a:xfrm>
          <a:prstGeom prst="rect">
            <a:avLst/>
          </a:prstGeom>
          <a:ln w="0">
            <a:noFill/>
          </a:ln>
        </p:spPr>
      </p:pic>
      <p:sp>
        <p:nvSpPr>
          <p:cNvPr id="717" name=""/>
          <p:cNvSpPr/>
          <p:nvPr/>
        </p:nvSpPr>
        <p:spPr>
          <a:xfrm flipV="1">
            <a:off x="2963880" y="2060280"/>
            <a:ext cx="982800" cy="60804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GP Path Selection—M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4917960" y="3432240"/>
            <a:ext cx="324000" cy="74448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H="1" flipV="1">
            <a:off x="2803680" y="3584160"/>
            <a:ext cx="380880" cy="60804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4"/>
          <a:stretch/>
        </p:blipFill>
        <p:spPr>
          <a:xfrm>
            <a:off x="2844720" y="3790800"/>
            <a:ext cx="2203560" cy="132876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3432240" y="4383000"/>
            <a:ext cx="1065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857240" y="2925720"/>
            <a:ext cx="1176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432240" y="1485720"/>
            <a:ext cx="1065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388120" y="2925720"/>
            <a:ext cx="888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5"/>
          <a:stretch/>
        </p:blipFill>
        <p:spPr>
          <a:xfrm>
            <a:off x="2590920" y="3352680"/>
            <a:ext cx="556920" cy="30636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6"/>
          <a:stretch/>
        </p:blipFill>
        <p:spPr>
          <a:xfrm>
            <a:off x="2921040" y="4067280"/>
            <a:ext cx="557280" cy="30636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7"/>
          <a:stretch/>
        </p:blipFill>
        <p:spPr>
          <a:xfrm>
            <a:off x="4584600" y="4067280"/>
            <a:ext cx="557280" cy="30636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8"/>
          <a:stretch/>
        </p:blipFill>
        <p:spPr>
          <a:xfrm>
            <a:off x="4902120" y="3263760"/>
            <a:ext cx="557280" cy="30636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5086440" y="3332160"/>
            <a:ext cx="17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795920" y="4165560"/>
            <a:ext cx="12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132000" y="4165560"/>
            <a:ext cx="12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801880" y="3468600"/>
            <a:ext cx="12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9"/>
          <a:stretch/>
        </p:blipFill>
        <p:spPr>
          <a:xfrm>
            <a:off x="2590920" y="2514600"/>
            <a:ext cx="556920" cy="30636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/>
          <p:nvPr/>
        </p:nvSpPr>
        <p:spPr>
          <a:xfrm flipH="1" flipV="1">
            <a:off x="4100040" y="2136600"/>
            <a:ext cx="893880" cy="53208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-1440" y="4299120"/>
            <a:ext cx="410688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 anchorCtr="1">
            <a:noAutofit/>
          </a:bodyPr>
          <a:p>
            <a:pPr marL="112680" indent="-112680">
              <a:lnSpc>
                <a:spcPct val="95000"/>
              </a:lnSpc>
              <a:spcBef>
                <a:spcPts val="1125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200 prefered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5000"/>
              </a:lnSpc>
              <a:spcBef>
                <a:spcPts val="1125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300 bac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5000"/>
              </a:lnSpc>
              <a:spcBef>
                <a:spcPts val="1125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ase AS path  length to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10"/>
          <a:stretch/>
        </p:blipFill>
        <p:spPr>
          <a:xfrm>
            <a:off x="4902120" y="2514600"/>
            <a:ext cx="557280" cy="30636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11"/>
          <a:stretch/>
        </p:blipFill>
        <p:spPr>
          <a:xfrm>
            <a:off x="3692520" y="2031840"/>
            <a:ext cx="557280" cy="306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-Homed A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04640" y="1414440"/>
            <a:ext cx="73123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ny situations possibl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e sessions to same I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ary for only back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 share between primary and second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ively use different IS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ple Sessions to an IS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04640" y="1414440"/>
            <a:ext cx="426744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BGP to loopback add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BGP prefixes lear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loopback addres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nexth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llel paths to loopback address allows load sha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1"/>
          <a:stretch/>
        </p:blipFill>
        <p:spPr>
          <a:xfrm>
            <a:off x="4518000" y="1123920"/>
            <a:ext cx="2805120" cy="170352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2"/>
          <a:stretch/>
        </p:blipFill>
        <p:spPr>
          <a:xfrm>
            <a:off x="4657680" y="3875040"/>
            <a:ext cx="2805120" cy="1703520"/>
          </a:xfrm>
          <a:prstGeom prst="rect">
            <a:avLst/>
          </a:prstGeom>
          <a:ln w="0">
            <a:noFill/>
          </a:ln>
        </p:spPr>
      </p:pic>
      <p:grpSp>
        <p:nvGrpSpPr>
          <p:cNvPr id="747" name=""/>
          <p:cNvGrpSpPr/>
          <p:nvPr/>
        </p:nvGrpSpPr>
        <p:grpSpPr>
          <a:xfrm>
            <a:off x="5923080" y="2467080"/>
            <a:ext cx="168120" cy="1588680"/>
            <a:chOff x="5923080" y="2467080"/>
            <a:chExt cx="168120" cy="1588680"/>
          </a:xfrm>
        </p:grpSpPr>
        <p:sp>
          <p:nvSpPr>
            <p:cNvPr id="748" name=""/>
            <p:cNvSpPr/>
            <p:nvPr/>
          </p:nvSpPr>
          <p:spPr>
            <a:xfrm flipV="1">
              <a:off x="6091200" y="2550600"/>
              <a:ext cx="0" cy="150516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5923080" y="2467080"/>
              <a:ext cx="0" cy="1504800"/>
            </a:xfrm>
            <a:prstGeom prst="line">
              <a:avLst/>
            </a:prstGeom>
            <a:ln w="255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5823000" y="1831680"/>
            <a:ext cx="850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3"/>
          <a:stretch/>
        </p:blipFill>
        <p:spPr>
          <a:xfrm>
            <a:off x="5665680" y="3911760"/>
            <a:ext cx="695520" cy="40932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4"/>
          <a:stretch/>
        </p:blipFill>
        <p:spPr>
          <a:xfrm>
            <a:off x="5665680" y="2417760"/>
            <a:ext cx="696960" cy="409680"/>
          </a:xfrm>
          <a:prstGeom prst="rect">
            <a:avLst/>
          </a:prstGeom>
          <a:ln w="0">
            <a:noFill/>
          </a:ln>
        </p:spPr>
      </p:pic>
      <p:sp>
        <p:nvSpPr>
          <p:cNvPr id="753" name=""/>
          <p:cNvSpPr/>
          <p:nvPr/>
        </p:nvSpPr>
        <p:spPr>
          <a:xfrm>
            <a:off x="5910120" y="2144880"/>
            <a:ext cx="291960" cy="65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55" y="13132"/>
                </a:moveTo>
                <a:arcTo wR="10800" hR="10800" stAng="10051772" swAng="11531518"/>
                <a:lnTo>
                  <a:pt x="10800" y="10800"/>
                </a:lnTo>
                <a:close/>
              </a:path>
              <a:path fill="none" w="21600" h="21600">
                <a:moveTo>
                  <a:pt x="255" y="13132"/>
                </a:moveTo>
                <a:arcTo wR="10800" hR="10800" stAng="10051772" swAng="11531518"/>
              </a:path>
            </a:pathLst>
          </a:custGeom>
          <a:noFill/>
          <a:ln cap="rnd"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076800" y="3821040"/>
            <a:ext cx="293400" cy="66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51" y="13114"/>
                </a:moveTo>
                <a:arcTo wR="10800" hR="10800" stAng="10057572" swAng="11508909"/>
                <a:lnTo>
                  <a:pt x="10800" y="10800"/>
                </a:lnTo>
                <a:close/>
              </a:path>
              <a:path fill="none" w="21600" h="21600">
                <a:moveTo>
                  <a:pt x="251" y="13114"/>
                </a:moveTo>
                <a:arcTo wR="10800" hR="10800" stAng="10057572" swAng="11508909"/>
              </a:path>
            </a:pathLst>
          </a:custGeom>
          <a:noFill/>
          <a:ln cap="rnd"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654680" y="5889600"/>
            <a:ext cx="25956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228480" y="5842080"/>
            <a:ext cx="16743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99360" y="5889600"/>
            <a:ext cx="82512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799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-1440" y="0"/>
            <a:ext cx="595080" cy="866880"/>
            <a:chOff x="-1440" y="0"/>
            <a:chExt cx="595080" cy="866880"/>
          </a:xfrm>
        </p:grpSpPr>
        <p:sp>
          <p:nvSpPr>
            <p:cNvPr id="759" name=""/>
            <p:cNvSpPr/>
            <p:nvPr/>
          </p:nvSpPr>
          <p:spPr>
            <a:xfrm>
              <a:off x="4680" y="6480"/>
              <a:ext cx="581040" cy="62676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680" y="420840"/>
              <a:ext cx="581040" cy="4381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-360" y="414360"/>
              <a:ext cx="59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-1440" y="0"/>
              <a:ext cx="595080" cy="866880"/>
            </a:xfrm>
            <a:custGeom>
              <a:avLst/>
              <a:gdLst/>
              <a:ahLst/>
              <a:rect l="l" t="t" r="r" b="b"/>
              <a:pathLst>
                <a:path w="375" h="546">
                  <a:moveTo>
                    <a:pt x="0" y="545"/>
                  </a:moveTo>
                  <a:lnTo>
                    <a:pt x="374" y="545"/>
                  </a:lnTo>
                  <a:lnTo>
                    <a:pt x="37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5432400" y="4549320"/>
            <a:ext cx="131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2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" descr=""/>
          <p:cNvPicPr/>
          <p:nvPr/>
        </p:nvPicPr>
        <p:blipFill>
          <a:blip r:embed="rId1"/>
          <a:stretch/>
        </p:blipFill>
        <p:spPr>
          <a:xfrm>
            <a:off x="4518000" y="1123920"/>
            <a:ext cx="2805120" cy="1703520"/>
          </a:xfrm>
          <a:prstGeom prst="rect">
            <a:avLst/>
          </a:prstGeom>
          <a:ln w="0">
            <a:noFill/>
          </a:ln>
        </p:spPr>
      </p:pic>
      <p:pic>
        <p:nvPicPr>
          <p:cNvPr id="765" name="" descr=""/>
          <p:cNvPicPr/>
          <p:nvPr/>
        </p:nvPicPr>
        <p:blipFill>
          <a:blip r:embed="rId2"/>
          <a:stretch/>
        </p:blipFill>
        <p:spPr>
          <a:xfrm>
            <a:off x="4657680" y="3875040"/>
            <a:ext cx="2805120" cy="1703520"/>
          </a:xfrm>
          <a:prstGeom prst="rect">
            <a:avLst/>
          </a:prstGeom>
          <a:ln w="0">
            <a:noFill/>
          </a:ln>
        </p:spPr>
      </p:pic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ple Sessions to an IS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79280" y="1185840"/>
            <a:ext cx="365760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mplest scheme is to use defaul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earn/advertise prefix for better control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6540480" y="2485800"/>
            <a:ext cx="0" cy="164916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5518080" y="2356920"/>
            <a:ext cx="0" cy="179100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432400" y="4549320"/>
            <a:ext cx="131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2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575320" y="1517400"/>
            <a:ext cx="772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664240" y="2495520"/>
            <a:ext cx="912600" cy="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3"/>
          <a:stretch/>
        </p:blipFill>
        <p:spPr>
          <a:xfrm>
            <a:off x="5208480" y="2316240"/>
            <a:ext cx="633600" cy="37296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5435640" y="248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4"/>
          <a:stretch/>
        </p:blipFill>
        <p:spPr>
          <a:xfrm>
            <a:off x="6230880" y="2316240"/>
            <a:ext cx="633600" cy="372960"/>
          </a:xfrm>
          <a:prstGeom prst="rect">
            <a:avLst/>
          </a:prstGeom>
          <a:ln w="0">
            <a:noFill/>
          </a:ln>
        </p:spPr>
      </p:pic>
      <p:sp>
        <p:nvSpPr>
          <p:cNvPr id="776" name=""/>
          <p:cNvSpPr/>
          <p:nvPr/>
        </p:nvSpPr>
        <p:spPr>
          <a:xfrm>
            <a:off x="6470280" y="248760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587920" y="4110120"/>
            <a:ext cx="912960" cy="0"/>
          </a:xfrm>
          <a:prstGeom prst="line">
            <a:avLst/>
          </a:prstGeom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5"/>
          <a:stretch/>
        </p:blipFill>
        <p:spPr>
          <a:xfrm>
            <a:off x="6230880" y="3930480"/>
            <a:ext cx="633600" cy="373320"/>
          </a:xfrm>
          <a:prstGeom prst="rect">
            <a:avLst/>
          </a:prstGeom>
          <a:ln w="0">
            <a:noFill/>
          </a:ln>
        </p:spPr>
      </p:pic>
      <p:pic>
        <p:nvPicPr>
          <p:cNvPr id="779" name="" descr=""/>
          <p:cNvPicPr/>
          <p:nvPr/>
        </p:nvPicPr>
        <p:blipFill>
          <a:blip r:embed="rId6"/>
          <a:stretch/>
        </p:blipFill>
        <p:spPr>
          <a:xfrm>
            <a:off x="5208480" y="3930480"/>
            <a:ext cx="633600" cy="373320"/>
          </a:xfrm>
          <a:prstGeom prst="rect">
            <a:avLst/>
          </a:prstGeom>
          <a:ln w="0">
            <a:noFill/>
          </a:ln>
        </p:spPr>
      </p:pic>
      <p:sp>
        <p:nvSpPr>
          <p:cNvPr id="780" name=""/>
          <p:cNvSpPr/>
          <p:nvPr/>
        </p:nvSpPr>
        <p:spPr>
          <a:xfrm>
            <a:off x="5435640" y="4062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458040" y="4062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654680" y="5889600"/>
            <a:ext cx="25956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228480" y="5842080"/>
            <a:ext cx="16743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99360" y="5889600"/>
            <a:ext cx="82512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799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-1440" y="0"/>
            <a:ext cx="595080" cy="866880"/>
            <a:chOff x="-1440" y="0"/>
            <a:chExt cx="595080" cy="866880"/>
          </a:xfrm>
        </p:grpSpPr>
        <p:sp>
          <p:nvSpPr>
            <p:cNvPr id="786" name=""/>
            <p:cNvSpPr/>
            <p:nvPr/>
          </p:nvSpPr>
          <p:spPr>
            <a:xfrm>
              <a:off x="4680" y="6480"/>
              <a:ext cx="581040" cy="62676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680" y="420840"/>
              <a:ext cx="581040" cy="4381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-360" y="414360"/>
              <a:ext cx="59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-1440" y="0"/>
              <a:ext cx="595080" cy="866880"/>
            </a:xfrm>
            <a:custGeom>
              <a:avLst/>
              <a:gdLst/>
              <a:ahLst/>
              <a:rect l="l" t="t" r="r" b="b"/>
              <a:pathLst>
                <a:path w="375" h="546">
                  <a:moveTo>
                    <a:pt x="0" y="545"/>
                  </a:moveTo>
                  <a:lnTo>
                    <a:pt x="374" y="545"/>
                  </a:lnTo>
                  <a:lnTo>
                    <a:pt x="37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ple Session to ISP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04640" y="1414440"/>
            <a:ext cx="73123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achieve load sha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 default towards one IS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earn selected prefixes from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IS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dify the number of prefixes learnt to acheive acceptable loadsha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rminology: Exterior rout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04640" y="1414440"/>
            <a:ext cx="73123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utes learnt from other autonomous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04640" y="1414440"/>
            <a:ext cx="73123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Your network is going to grow at an exponential rat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sign to scale... but be prepared to reorganize from scratc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on’t be afraid of change!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Most network redisigns are only configuration ch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04640" y="1414440"/>
            <a:ext cx="73123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92000"/>
          </a:bodyPr>
          <a:p>
            <a:pPr marL="236160" indent="-23616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quirements for IGPs for backbon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6160" indent="-23616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GP connects your backbone together, not your client’s rout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6160" indent="-23616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us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62960"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converge quick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160" indent="-236160">
              <a:lnSpc>
                <a:spcPct val="94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ul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62960"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carry netmask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tting it all together.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necting to a custo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04640" y="1414440"/>
            <a:ext cx="73123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93000"/>
          </a:bodyPr>
          <a:p>
            <a:pPr marL="239040" indent="-239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atic rout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68000"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you control direct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8000"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no route fla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9040" indent="-239040">
              <a:lnSpc>
                <a:spcPct val="94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ared routing protocol or leak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68000"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You must filter your customers inf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8000"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route fla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9040" indent="-239040">
              <a:lnSpc>
                <a:spcPct val="94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GP for multihomed custome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ilding your backbo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04640" y="1414440"/>
            <a:ext cx="73123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 it simpl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cy is good, but expensiv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e an IGP that carrys mask inform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e an IGP that converges quickl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e OSPF, ISIS or EIGR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necting to other ISP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04640" y="1414440"/>
            <a:ext cx="73123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e BGP4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dvertise only what you serv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ake back as little as you ca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internet e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04640" y="1414440"/>
            <a:ext cx="73123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ong distance connectivity is expensiv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nect to several providers at a single poi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164960" y="1859040"/>
            <a:ext cx="242892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0" y="1440"/>
            <a:ext cx="934920" cy="6085080"/>
            <a:chOff x="0" y="1440"/>
            <a:chExt cx="934920" cy="6085080"/>
          </a:xfrm>
        </p:grpSpPr>
        <p:sp>
          <p:nvSpPr>
            <p:cNvPr id="822" name=""/>
            <p:cNvSpPr/>
            <p:nvPr/>
          </p:nvSpPr>
          <p:spPr>
            <a:xfrm>
              <a:off x="4680" y="6480"/>
              <a:ext cx="924120" cy="220968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680" y="1841400"/>
              <a:ext cx="924120" cy="65268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934920" y="1440"/>
              <a:ext cx="0" cy="6085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0" y="1838160"/>
              <a:ext cx="928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0" y="2500200"/>
              <a:ext cx="928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an IGP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4640" y="1414440"/>
            <a:ext cx="73123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ior Gateway Protoc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in an Autonomous Syst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arries information about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nal prefix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amples—OSPF, ISIS, EIGRP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an EGP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04640" y="1414440"/>
            <a:ext cx="7312320" cy="35258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terior Gateway Protoc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ed to convey routing information between Autonomous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coupled from the IG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urrent EGP is BG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35040" y="556416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68760" y="556416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4260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y Do We Need an EGP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04640" y="1414440"/>
            <a:ext cx="73123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caling to large network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erarc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 scope of fail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reachability to prefix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6T09:26:36Z</dcterms:created>
  <dc:creator>Ravi Chandra</dc:creator>
  <dc:description/>
  <dc:language>en-US</dc:language>
  <cp:lastModifiedBy>g</cp:lastModifiedBy>
  <cp:lastPrinted>1997-03-08T09:12:30Z</cp:lastPrinted>
  <dcterms:modified xsi:type="dcterms:W3CDTF">2002-12-03T19:38:07Z</dcterms:modified>
  <cp:revision>34</cp:revision>
  <dc:subject>INET-97 BGP4 slides</dc:subject>
  <dc:title>BGP4</dc:title>
</cp:coreProperties>
</file>