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ED2-44FE-4B68-A9F2-B1EBC321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886-20E9-4241-A481-91143CB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1E0-94F9-468B-B8E8-2ED27FCE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BEC-F33B-4BC1-8E21-18A8E6BE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DD3B-78B1-48D0-A6A4-B89B7719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B45-44CD-482B-88D4-02438085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69D-BB5E-4C83-B928-AF6B4858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D57-E72A-43D9-A1A9-E578677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1F7-C83E-4C00-8932-7A2A03B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179-57EA-4C08-9611-A600F92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DBE4-E85A-4689-ABED-5C2622A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AB1-9B15-4E52-A15C-0BE6D11C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101A-217E-42A3-89D0-C210675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4DAC-570C-4B07-A4AF-14054DA3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0F66-15C8-49D4-87BC-5A71F5A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1947-4D1F-45E7-85AC-3DCC721E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A287-1FD2-49B5-B09F-FBB75BA4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0A6-0A63-47D9-9C33-DDB812C8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726-2784-4B5E-A53F-4A157C56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3F5-7F52-4D48-A2BE-7188BAC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D0C-81CF-4F60-BF90-12BF826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A89-4116-4F9E-9581-1DF17C7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FCB-C64C-4C3A-993A-87A8ABD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BDB-2C1D-425B-BEBC-0F3A4AC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7CA-31EA-4791-95C0-0AECF33547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255-CF52-410D-9D6D-AF4308142F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e Stud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319000" y="514656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ff Hu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W Trac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381880" y="2514600"/>
            <a:ext cx="1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3108240"/>
            <a:ext cx="663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- US capacity expanded to &gt;60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0 Internet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Involvement now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SL technologies for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nthusi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84 - 198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ucp-styled mail conne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versity computer scienc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ms and X.25 tru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89 - Initia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441720" y="31082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3808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80640" y="3794040"/>
            <a:ext cx="6770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to create a national university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Vice-Chancellors’ Committe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rotoco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funding from Australian Research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Kbps link Melbourne -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0 -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56120" y="318456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5160" y="3641760"/>
            <a:ext cx="616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etwork Roll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Kbps national network using star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and DECnet protoco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bps Melbourne - Canberra - Sy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 sites -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nd research funding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Kbps link - Melbourne -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usenet,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1 - Academic Net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117880" y="31082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36232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7760" y="3718080"/>
            <a:ext cx="6451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ale to academic and research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bps links to Brisbane, Adela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Interne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nd research funding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Kbps link - Melbourne - US West Co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usenet, ftp, gopher, w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uptake in information resourc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2/93- Expan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260880" y="318456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RNet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8128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9200" y="3794040"/>
            <a:ext cx="6602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resellers of Internet dia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Data Network funding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8Kbps link - Melbourne - US West Co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usenet, ftp, gopher, w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audio/video conferencing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4 - Commercial Internets 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0060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7760" y="3413160"/>
            <a:ext cx="62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ustralian Internet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ustralia - U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bps tota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Wide Web takes over the n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5 - The Nation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3560" y="2590560"/>
            <a:ext cx="14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20" y="3108240"/>
            <a:ext cx="827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stra purchases AA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- US capacity expanded to 10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 Access providers exp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email, Access One, connect.com.au, On Australia,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dominates the Web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mmerce v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 Internet Service Providers in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1997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821880" y="3108240"/>
            <a:ext cx="7082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- US capacity expanded to 130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0 Internet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market opens to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 - 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industry investment in Internet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238880" y="259056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127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1965240"/>
            <a:ext cx="847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9         90         91         92         93         94         95         96       97      98     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6T00:36:10Z</dcterms:created>
  <dc:creator>gih</dc:creator>
  <dc:description/>
  <dc:language>en-US</dc:language>
  <cp:lastModifiedBy>gih</cp:lastModifiedBy>
  <dcterms:modified xsi:type="dcterms:W3CDTF">2000-07-12T10:04:28Z</dcterms:modified>
  <cp:revision>8</cp:revision>
  <dc:subject/>
  <dc:title>Case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9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