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CBE-687A-4D11-BF53-0FF68ED7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473A-0A30-4655-9E45-011A4AAA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5050-F029-4AAA-A19C-66A6C59D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0F2-3FB9-438E-A643-95603957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AC6A-8B85-403B-A6FD-1D1607FA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673D-E582-417C-BEB3-59127456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45A4-B79B-49C9-A4A3-B1047D7E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0A87-96F1-4970-8387-37750912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3B51-3612-490F-B5AA-69CA952F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5E89-BE5D-407B-B560-5B507C0E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6C93-3E68-4AC3-A0C4-0FC91161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3BE-AB8A-4781-BB0C-FCB7A954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06B4-46AE-4637-BCDA-9B98DC10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36B6-08EE-4923-8B52-52CB7A56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4DA4-8521-437F-998A-DEA0DF99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463F-38CD-437E-9DE8-785F02AC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8A0C-4B81-4FBA-BF25-CE20105B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BAD4-9598-4A2D-A03D-F61A9F48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890F-9423-4679-808F-16C4E1A0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66EE-7F68-4711-99A6-1D8EF4AB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795-F1CA-4BC0-80DB-1D6A7F32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AF2-337B-4AC4-B6A7-EF4D3D0C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2167-F071-4A53-8B4A-4ECD790E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936-11F7-474A-AA39-80F0E216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1EEE-07FD-495F-BCCC-3C72F75758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D6DE-AE8A-419D-9F84-4BEDDE290B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4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png"/><Relationship Id="rId27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6960" y="12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man Old Style"/>
              </a:rPr>
              <a:t>Architecting the Network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art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off Hust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ef Scientist, Intern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str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SOC Workshop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ple Exterior Pe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95440" y="16416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 Arran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tion of transiting AS network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nouncement of transiting networks via AS path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106640" y="3625920"/>
            <a:ext cx="6267240" cy="28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terior Peer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8280" y="1584360"/>
            <a:ext cx="841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ing a default route is cost effective and highly efficient as long as there is a suitable policy and capability match with the pe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ault-less routing is expensive, time-consuming, and can be uns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ault-less routing allows greater levels of self-determination of policy - with an operational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terior Peer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 simple model initiall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exterior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defaul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nounce CIDR aggregate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Infra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003320" y="1803240"/>
            <a:ext cx="7112160" cy="36957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 flipV="1">
            <a:off x="1619280" y="2921040"/>
            <a:ext cx="1222200" cy="10000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2952360" y="2952360"/>
            <a:ext cx="841320" cy="176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3031920" y="2905200"/>
            <a:ext cx="2889000" cy="31680"/>
          </a:xfrm>
          <a:prstGeom prst="line">
            <a:avLst/>
          </a:prstGeom>
          <a:ln w="7632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857760" y="3089160"/>
            <a:ext cx="2216160" cy="1673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2952360" y="2968560"/>
            <a:ext cx="2365560" cy="16034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683320" y="4603320"/>
            <a:ext cx="904680" cy="637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657440" y="2724120"/>
            <a:ext cx="4381560" cy="25527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Infra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dwidth is a coarse control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996840" y="2527200"/>
            <a:ext cx="7328160" cy="36957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730800" y="2492280"/>
            <a:ext cx="84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link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Infra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gineer capacity for peak demand peri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end-to-end flow patt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 to avoid sustained (&gt; 15 minutes) acute congestion on any li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antly monitor bandwidth utilisation and flow patt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trend patterns and plan according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Infra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831960" y="1724040"/>
            <a:ext cx="8016840" cy="19908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1158840" y="4057560"/>
            <a:ext cx="734868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Infra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s technology choic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eased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Switched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DS acce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Infra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sed circuit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)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84280" y="1911240"/>
            <a:ext cx="7610400" cy="44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Peer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9800" y="1879560"/>
            <a:ext cx="8331480" cy="46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Infra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(Star) T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Minimal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Simple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Maximal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Critical points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493560" y="2073240"/>
            <a:ext cx="5531040" cy="4242960"/>
            <a:chOff x="493560" y="2073240"/>
            <a:chExt cx="5531040" cy="4242960"/>
          </a:xfrm>
        </p:grpSpPr>
        <p:sp>
          <p:nvSpPr>
            <p:cNvPr id="415" name=""/>
            <p:cNvSpPr/>
            <p:nvPr/>
          </p:nvSpPr>
          <p:spPr>
            <a:xfrm>
              <a:off x="493560" y="2073240"/>
              <a:ext cx="5531040" cy="3618360"/>
            </a:xfrm>
            <a:custGeom>
              <a:avLst/>
              <a:gdLst/>
              <a:ahLst/>
              <a:rect l="l" t="t" r="r" b="b"/>
              <a:pathLst>
                <a:path w="4891" h="3267">
                  <a:moveTo>
                    <a:pt x="1052" y="760"/>
                  </a:moveTo>
                  <a:lnTo>
                    <a:pt x="1088" y="821"/>
                  </a:lnTo>
                  <a:lnTo>
                    <a:pt x="1019" y="898"/>
                  </a:lnTo>
                  <a:lnTo>
                    <a:pt x="935" y="997"/>
                  </a:lnTo>
                  <a:lnTo>
                    <a:pt x="830" y="1033"/>
                  </a:lnTo>
                  <a:lnTo>
                    <a:pt x="702" y="1080"/>
                  </a:lnTo>
                  <a:lnTo>
                    <a:pt x="544" y="1145"/>
                  </a:lnTo>
                  <a:lnTo>
                    <a:pt x="428" y="1156"/>
                  </a:lnTo>
                  <a:lnTo>
                    <a:pt x="367" y="1210"/>
                  </a:lnTo>
                  <a:lnTo>
                    <a:pt x="129" y="1402"/>
                  </a:lnTo>
                  <a:lnTo>
                    <a:pt x="97" y="1384"/>
                  </a:lnTo>
                  <a:lnTo>
                    <a:pt x="80" y="1305"/>
                  </a:lnTo>
                  <a:lnTo>
                    <a:pt x="0" y="1678"/>
                  </a:lnTo>
                  <a:lnTo>
                    <a:pt x="82" y="1739"/>
                  </a:lnTo>
                  <a:lnTo>
                    <a:pt x="145" y="1844"/>
                  </a:lnTo>
                  <a:lnTo>
                    <a:pt x="66" y="1808"/>
                  </a:lnTo>
                  <a:lnTo>
                    <a:pt x="68" y="1824"/>
                  </a:lnTo>
                  <a:lnTo>
                    <a:pt x="116" y="1878"/>
                  </a:lnTo>
                  <a:lnTo>
                    <a:pt x="116" y="1889"/>
                  </a:lnTo>
                  <a:lnTo>
                    <a:pt x="34" y="1827"/>
                  </a:lnTo>
                  <a:lnTo>
                    <a:pt x="13" y="1840"/>
                  </a:lnTo>
                  <a:lnTo>
                    <a:pt x="16" y="1860"/>
                  </a:lnTo>
                  <a:lnTo>
                    <a:pt x="174" y="2016"/>
                  </a:lnTo>
                  <a:lnTo>
                    <a:pt x="452" y="2472"/>
                  </a:lnTo>
                  <a:lnTo>
                    <a:pt x="452" y="2637"/>
                  </a:lnTo>
                  <a:lnTo>
                    <a:pt x="417" y="2688"/>
                  </a:lnTo>
                  <a:lnTo>
                    <a:pt x="382" y="2688"/>
                  </a:lnTo>
                  <a:lnTo>
                    <a:pt x="412" y="2724"/>
                  </a:lnTo>
                  <a:lnTo>
                    <a:pt x="428" y="2769"/>
                  </a:lnTo>
                  <a:lnTo>
                    <a:pt x="498" y="2769"/>
                  </a:lnTo>
                  <a:lnTo>
                    <a:pt x="516" y="2817"/>
                  </a:lnTo>
                  <a:lnTo>
                    <a:pt x="565" y="2830"/>
                  </a:lnTo>
                  <a:lnTo>
                    <a:pt x="647" y="2846"/>
                  </a:lnTo>
                  <a:lnTo>
                    <a:pt x="705" y="2843"/>
                  </a:lnTo>
                  <a:lnTo>
                    <a:pt x="769" y="2837"/>
                  </a:lnTo>
                  <a:lnTo>
                    <a:pt x="829" y="2780"/>
                  </a:lnTo>
                  <a:lnTo>
                    <a:pt x="871" y="2738"/>
                  </a:lnTo>
                  <a:lnTo>
                    <a:pt x="919" y="2738"/>
                  </a:lnTo>
                  <a:lnTo>
                    <a:pt x="987" y="2677"/>
                  </a:lnTo>
                  <a:lnTo>
                    <a:pt x="1199" y="2632"/>
                  </a:lnTo>
                  <a:lnTo>
                    <a:pt x="1214" y="2630"/>
                  </a:lnTo>
                  <a:lnTo>
                    <a:pt x="1259" y="2639"/>
                  </a:lnTo>
                  <a:lnTo>
                    <a:pt x="1305" y="2621"/>
                  </a:lnTo>
                  <a:lnTo>
                    <a:pt x="1379" y="2621"/>
                  </a:lnTo>
                  <a:lnTo>
                    <a:pt x="1441" y="2558"/>
                  </a:lnTo>
                  <a:lnTo>
                    <a:pt x="1490" y="2511"/>
                  </a:lnTo>
                  <a:lnTo>
                    <a:pt x="1616" y="2461"/>
                  </a:lnTo>
                  <a:lnTo>
                    <a:pt x="1738" y="2412"/>
                  </a:lnTo>
                  <a:lnTo>
                    <a:pt x="1808" y="2434"/>
                  </a:lnTo>
                  <a:lnTo>
                    <a:pt x="1909" y="2387"/>
                  </a:lnTo>
                  <a:lnTo>
                    <a:pt x="2010" y="2346"/>
                  </a:lnTo>
                  <a:lnTo>
                    <a:pt x="2118" y="2344"/>
                  </a:lnTo>
                  <a:lnTo>
                    <a:pt x="2244" y="2312"/>
                  </a:lnTo>
                  <a:lnTo>
                    <a:pt x="2289" y="2340"/>
                  </a:lnTo>
                  <a:lnTo>
                    <a:pt x="2562" y="2445"/>
                  </a:lnTo>
                  <a:lnTo>
                    <a:pt x="2585" y="2484"/>
                  </a:lnTo>
                  <a:lnTo>
                    <a:pt x="2718" y="2582"/>
                  </a:lnTo>
                  <a:lnTo>
                    <a:pt x="2762" y="2690"/>
                  </a:lnTo>
                  <a:lnTo>
                    <a:pt x="2997" y="2484"/>
                  </a:lnTo>
                  <a:lnTo>
                    <a:pt x="3038" y="2544"/>
                  </a:lnTo>
                  <a:lnTo>
                    <a:pt x="2949" y="2693"/>
                  </a:lnTo>
                  <a:lnTo>
                    <a:pt x="2886" y="2758"/>
                  </a:lnTo>
                  <a:lnTo>
                    <a:pt x="2982" y="2747"/>
                  </a:lnTo>
                  <a:lnTo>
                    <a:pt x="3067" y="2657"/>
                  </a:lnTo>
                  <a:lnTo>
                    <a:pt x="3084" y="2708"/>
                  </a:lnTo>
                  <a:lnTo>
                    <a:pt x="3067" y="2798"/>
                  </a:lnTo>
                  <a:lnTo>
                    <a:pt x="3098" y="2798"/>
                  </a:lnTo>
                  <a:lnTo>
                    <a:pt x="3118" y="2821"/>
                  </a:lnTo>
                  <a:lnTo>
                    <a:pt x="3183" y="2897"/>
                  </a:lnTo>
                  <a:lnTo>
                    <a:pt x="3185" y="2987"/>
                  </a:lnTo>
                  <a:lnTo>
                    <a:pt x="3316" y="3089"/>
                  </a:lnTo>
                  <a:lnTo>
                    <a:pt x="3365" y="3145"/>
                  </a:lnTo>
                  <a:lnTo>
                    <a:pt x="3501" y="3156"/>
                  </a:lnTo>
                  <a:lnTo>
                    <a:pt x="3549" y="3192"/>
                  </a:lnTo>
                  <a:lnTo>
                    <a:pt x="3591" y="3192"/>
                  </a:lnTo>
                  <a:lnTo>
                    <a:pt x="3639" y="3158"/>
                  </a:lnTo>
                  <a:lnTo>
                    <a:pt x="3610" y="3131"/>
                  </a:lnTo>
                  <a:lnTo>
                    <a:pt x="3703" y="3132"/>
                  </a:lnTo>
                  <a:lnTo>
                    <a:pt x="3668" y="3194"/>
                  </a:lnTo>
                  <a:lnTo>
                    <a:pt x="3734" y="3185"/>
                  </a:lnTo>
                  <a:lnTo>
                    <a:pt x="3905" y="3266"/>
                  </a:lnTo>
                  <a:lnTo>
                    <a:pt x="3907" y="3221"/>
                  </a:lnTo>
                  <a:lnTo>
                    <a:pt x="3937" y="3203"/>
                  </a:lnTo>
                  <a:lnTo>
                    <a:pt x="3974" y="3213"/>
                  </a:lnTo>
                  <a:lnTo>
                    <a:pt x="3988" y="3194"/>
                  </a:lnTo>
                  <a:lnTo>
                    <a:pt x="4085" y="3174"/>
                  </a:lnTo>
                  <a:lnTo>
                    <a:pt x="4154" y="3203"/>
                  </a:lnTo>
                  <a:lnTo>
                    <a:pt x="4201" y="3165"/>
                  </a:lnTo>
                  <a:lnTo>
                    <a:pt x="4270" y="3105"/>
                  </a:lnTo>
                  <a:lnTo>
                    <a:pt x="4554" y="2632"/>
                  </a:lnTo>
                  <a:lnTo>
                    <a:pt x="4661" y="2576"/>
                  </a:lnTo>
                  <a:lnTo>
                    <a:pt x="4890" y="2155"/>
                  </a:lnTo>
                  <a:lnTo>
                    <a:pt x="4873" y="1791"/>
                  </a:lnTo>
                  <a:lnTo>
                    <a:pt x="4706" y="1543"/>
                  </a:lnTo>
                  <a:lnTo>
                    <a:pt x="4723" y="1483"/>
                  </a:lnTo>
                  <a:lnTo>
                    <a:pt x="4693" y="1417"/>
                  </a:lnTo>
                  <a:lnTo>
                    <a:pt x="4674" y="1428"/>
                  </a:lnTo>
                  <a:lnTo>
                    <a:pt x="4642" y="1404"/>
                  </a:lnTo>
                  <a:lnTo>
                    <a:pt x="4626" y="1404"/>
                  </a:lnTo>
                  <a:lnTo>
                    <a:pt x="4628" y="1426"/>
                  </a:lnTo>
                  <a:lnTo>
                    <a:pt x="4590" y="1435"/>
                  </a:lnTo>
                  <a:lnTo>
                    <a:pt x="4492" y="1149"/>
                  </a:lnTo>
                  <a:lnTo>
                    <a:pt x="4254" y="1010"/>
                  </a:lnTo>
                  <a:lnTo>
                    <a:pt x="4225" y="979"/>
                  </a:lnTo>
                  <a:lnTo>
                    <a:pt x="4188" y="780"/>
                  </a:lnTo>
                  <a:lnTo>
                    <a:pt x="4109" y="661"/>
                  </a:lnTo>
                  <a:lnTo>
                    <a:pt x="4074" y="524"/>
                  </a:lnTo>
                  <a:lnTo>
                    <a:pt x="4056" y="427"/>
                  </a:lnTo>
                  <a:lnTo>
                    <a:pt x="4070" y="375"/>
                  </a:lnTo>
                  <a:lnTo>
                    <a:pt x="4039" y="355"/>
                  </a:lnTo>
                  <a:lnTo>
                    <a:pt x="3971" y="434"/>
                  </a:lnTo>
                  <a:lnTo>
                    <a:pt x="3937" y="434"/>
                  </a:lnTo>
                  <a:lnTo>
                    <a:pt x="3837" y="130"/>
                  </a:lnTo>
                  <a:lnTo>
                    <a:pt x="3837" y="0"/>
                  </a:lnTo>
                  <a:lnTo>
                    <a:pt x="3690" y="177"/>
                  </a:lnTo>
                  <a:lnTo>
                    <a:pt x="3723" y="209"/>
                  </a:lnTo>
                  <a:lnTo>
                    <a:pt x="3683" y="227"/>
                  </a:lnTo>
                  <a:lnTo>
                    <a:pt x="3683" y="321"/>
                  </a:lnTo>
                  <a:lnTo>
                    <a:pt x="3652" y="355"/>
                  </a:lnTo>
                  <a:lnTo>
                    <a:pt x="3636" y="533"/>
                  </a:lnTo>
                  <a:lnTo>
                    <a:pt x="3532" y="695"/>
                  </a:lnTo>
                  <a:lnTo>
                    <a:pt x="3501" y="763"/>
                  </a:lnTo>
                  <a:lnTo>
                    <a:pt x="3417" y="771"/>
                  </a:lnTo>
                  <a:lnTo>
                    <a:pt x="3371" y="753"/>
                  </a:lnTo>
                  <a:lnTo>
                    <a:pt x="3287" y="695"/>
                  </a:lnTo>
                  <a:lnTo>
                    <a:pt x="3069" y="596"/>
                  </a:lnTo>
                  <a:lnTo>
                    <a:pt x="2997" y="535"/>
                  </a:lnTo>
                  <a:lnTo>
                    <a:pt x="2847" y="434"/>
                  </a:lnTo>
                  <a:lnTo>
                    <a:pt x="2847" y="337"/>
                  </a:lnTo>
                  <a:lnTo>
                    <a:pt x="2897" y="308"/>
                  </a:lnTo>
                  <a:lnTo>
                    <a:pt x="2949" y="328"/>
                  </a:lnTo>
                  <a:lnTo>
                    <a:pt x="3000" y="286"/>
                  </a:lnTo>
                  <a:lnTo>
                    <a:pt x="2968" y="259"/>
                  </a:lnTo>
                  <a:lnTo>
                    <a:pt x="3016" y="168"/>
                  </a:lnTo>
                  <a:lnTo>
                    <a:pt x="2940" y="148"/>
                  </a:lnTo>
                  <a:lnTo>
                    <a:pt x="2900" y="128"/>
                  </a:lnTo>
                  <a:lnTo>
                    <a:pt x="2801" y="148"/>
                  </a:lnTo>
                  <a:lnTo>
                    <a:pt x="2416" y="7"/>
                  </a:lnTo>
                  <a:lnTo>
                    <a:pt x="2342" y="40"/>
                  </a:lnTo>
                  <a:lnTo>
                    <a:pt x="2427" y="110"/>
                  </a:lnTo>
                  <a:lnTo>
                    <a:pt x="2427" y="157"/>
                  </a:lnTo>
                  <a:lnTo>
                    <a:pt x="2381" y="168"/>
                  </a:lnTo>
                  <a:lnTo>
                    <a:pt x="2313" y="139"/>
                  </a:lnTo>
                  <a:lnTo>
                    <a:pt x="2188" y="171"/>
                  </a:lnTo>
                  <a:lnTo>
                    <a:pt x="1977" y="366"/>
                  </a:lnTo>
                  <a:lnTo>
                    <a:pt x="2039" y="403"/>
                  </a:lnTo>
                  <a:lnTo>
                    <a:pt x="2028" y="434"/>
                  </a:lnTo>
                  <a:lnTo>
                    <a:pt x="2039" y="466"/>
                  </a:lnTo>
                  <a:lnTo>
                    <a:pt x="1960" y="434"/>
                  </a:lnTo>
                  <a:lnTo>
                    <a:pt x="1922" y="403"/>
                  </a:lnTo>
                  <a:lnTo>
                    <a:pt x="1877" y="434"/>
                  </a:lnTo>
                  <a:lnTo>
                    <a:pt x="1861" y="432"/>
                  </a:lnTo>
                  <a:lnTo>
                    <a:pt x="1822" y="497"/>
                  </a:lnTo>
                  <a:lnTo>
                    <a:pt x="1806" y="479"/>
                  </a:lnTo>
                  <a:lnTo>
                    <a:pt x="1821" y="416"/>
                  </a:lnTo>
                  <a:lnTo>
                    <a:pt x="1675" y="310"/>
                  </a:lnTo>
                  <a:lnTo>
                    <a:pt x="1643" y="339"/>
                  </a:lnTo>
                  <a:lnTo>
                    <a:pt x="1574" y="358"/>
                  </a:lnTo>
                  <a:lnTo>
                    <a:pt x="1559" y="375"/>
                  </a:lnTo>
                  <a:lnTo>
                    <a:pt x="1473" y="396"/>
                  </a:lnTo>
                  <a:lnTo>
                    <a:pt x="1457" y="441"/>
                  </a:lnTo>
                  <a:lnTo>
                    <a:pt x="1403" y="479"/>
                  </a:lnTo>
                  <a:lnTo>
                    <a:pt x="1407" y="504"/>
                  </a:lnTo>
                  <a:lnTo>
                    <a:pt x="1321" y="522"/>
                  </a:lnTo>
                  <a:lnTo>
                    <a:pt x="1321" y="576"/>
                  </a:lnTo>
                  <a:lnTo>
                    <a:pt x="1291" y="603"/>
                  </a:lnTo>
                  <a:lnTo>
                    <a:pt x="1225" y="564"/>
                  </a:lnTo>
                  <a:lnTo>
                    <a:pt x="1207" y="582"/>
                  </a:lnTo>
                  <a:lnTo>
                    <a:pt x="1254" y="700"/>
                  </a:lnTo>
                  <a:lnTo>
                    <a:pt x="1221" y="700"/>
                  </a:lnTo>
                  <a:lnTo>
                    <a:pt x="1204" y="733"/>
                  </a:lnTo>
                  <a:lnTo>
                    <a:pt x="1117" y="659"/>
                  </a:lnTo>
                  <a:lnTo>
                    <a:pt x="1052" y="76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94880" y="5801400"/>
              <a:ext cx="82440" cy="59760"/>
            </a:xfrm>
            <a:custGeom>
              <a:avLst/>
              <a:gdLst/>
              <a:ahLst/>
              <a:rect l="l" t="t" r="r" b="b"/>
              <a:pathLst>
                <a:path w="73" h="54">
                  <a:moveTo>
                    <a:pt x="0" y="8"/>
                  </a:moveTo>
                  <a:lnTo>
                    <a:pt x="1" y="29"/>
                  </a:lnTo>
                  <a:lnTo>
                    <a:pt x="17" y="53"/>
                  </a:lnTo>
                  <a:lnTo>
                    <a:pt x="48" y="44"/>
                  </a:lnTo>
                  <a:lnTo>
                    <a:pt x="72" y="39"/>
                  </a:lnTo>
                  <a:lnTo>
                    <a:pt x="72" y="12"/>
                  </a:lnTo>
                  <a:lnTo>
                    <a:pt x="40" y="0"/>
                  </a:lnTo>
                  <a:lnTo>
                    <a:pt x="0" y="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07480" y="5865840"/>
              <a:ext cx="533520" cy="450360"/>
            </a:xfrm>
            <a:custGeom>
              <a:avLst/>
              <a:gdLst/>
              <a:ahLst/>
              <a:rect l="l" t="t" r="r" b="b"/>
              <a:pathLst>
                <a:path w="472" h="407">
                  <a:moveTo>
                    <a:pt x="0" y="41"/>
                  </a:moveTo>
                  <a:lnTo>
                    <a:pt x="0" y="98"/>
                  </a:lnTo>
                  <a:lnTo>
                    <a:pt x="12" y="121"/>
                  </a:lnTo>
                  <a:lnTo>
                    <a:pt x="28" y="155"/>
                  </a:lnTo>
                  <a:lnTo>
                    <a:pt x="36" y="164"/>
                  </a:lnTo>
                  <a:lnTo>
                    <a:pt x="54" y="202"/>
                  </a:lnTo>
                  <a:lnTo>
                    <a:pt x="78" y="252"/>
                  </a:lnTo>
                  <a:lnTo>
                    <a:pt x="102" y="308"/>
                  </a:lnTo>
                  <a:lnTo>
                    <a:pt x="127" y="351"/>
                  </a:lnTo>
                  <a:lnTo>
                    <a:pt x="174" y="394"/>
                  </a:lnTo>
                  <a:lnTo>
                    <a:pt x="207" y="398"/>
                  </a:lnTo>
                  <a:lnTo>
                    <a:pt x="241" y="406"/>
                  </a:lnTo>
                  <a:lnTo>
                    <a:pt x="286" y="394"/>
                  </a:lnTo>
                  <a:lnTo>
                    <a:pt x="350" y="315"/>
                  </a:lnTo>
                  <a:lnTo>
                    <a:pt x="421" y="215"/>
                  </a:lnTo>
                  <a:lnTo>
                    <a:pt x="462" y="140"/>
                  </a:lnTo>
                  <a:lnTo>
                    <a:pt x="471" y="89"/>
                  </a:lnTo>
                  <a:lnTo>
                    <a:pt x="471" y="9"/>
                  </a:lnTo>
                  <a:lnTo>
                    <a:pt x="445" y="0"/>
                  </a:lnTo>
                  <a:lnTo>
                    <a:pt x="379" y="24"/>
                  </a:lnTo>
                  <a:lnTo>
                    <a:pt x="250" y="89"/>
                  </a:lnTo>
                  <a:lnTo>
                    <a:pt x="178" y="100"/>
                  </a:lnTo>
                  <a:lnTo>
                    <a:pt x="121" y="89"/>
                  </a:lnTo>
                  <a:lnTo>
                    <a:pt x="79" y="75"/>
                  </a:lnTo>
                  <a:lnTo>
                    <a:pt x="0" y="41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09960" y="5789160"/>
              <a:ext cx="79920" cy="50760"/>
            </a:xfrm>
            <a:custGeom>
              <a:avLst/>
              <a:gdLst/>
              <a:ahLst/>
              <a:rect l="l" t="t" r="r" b="b"/>
              <a:pathLst>
                <a:path w="71" h="46">
                  <a:moveTo>
                    <a:pt x="30" y="0"/>
                  </a:moveTo>
                  <a:lnTo>
                    <a:pt x="0" y="19"/>
                  </a:lnTo>
                  <a:lnTo>
                    <a:pt x="16" y="39"/>
                  </a:lnTo>
                  <a:lnTo>
                    <a:pt x="37" y="45"/>
                  </a:lnTo>
                  <a:lnTo>
                    <a:pt x="54" y="39"/>
                  </a:lnTo>
                  <a:lnTo>
                    <a:pt x="64" y="32"/>
                  </a:lnTo>
                  <a:lnTo>
                    <a:pt x="70" y="27"/>
                  </a:lnTo>
                  <a:lnTo>
                    <a:pt x="70" y="12"/>
                  </a:lnTo>
                  <a:lnTo>
                    <a:pt x="3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90160" y="2516040"/>
              <a:ext cx="90360" cy="65160"/>
            </a:xfrm>
            <a:custGeom>
              <a:avLst/>
              <a:gdLst/>
              <a:ahLst/>
              <a:rect l="l" t="t" r="r" b="b"/>
              <a:pathLst>
                <a:path w="80" h="59">
                  <a:moveTo>
                    <a:pt x="40" y="0"/>
                  </a:moveTo>
                  <a:lnTo>
                    <a:pt x="0" y="26"/>
                  </a:lnTo>
                  <a:lnTo>
                    <a:pt x="15" y="51"/>
                  </a:lnTo>
                  <a:lnTo>
                    <a:pt x="50" y="58"/>
                  </a:lnTo>
                  <a:lnTo>
                    <a:pt x="79" y="38"/>
                  </a:lnTo>
                  <a:lnTo>
                    <a:pt x="77" y="11"/>
                  </a:lnTo>
                  <a:lnTo>
                    <a:pt x="69" y="7"/>
                  </a:lnTo>
                  <a:lnTo>
                    <a:pt x="40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85200" y="2090520"/>
              <a:ext cx="71280" cy="52920"/>
            </a:xfrm>
            <a:custGeom>
              <a:avLst/>
              <a:gdLst/>
              <a:ahLst/>
              <a:rect l="l" t="t" r="r" b="b"/>
              <a:pathLst>
                <a:path w="63" h="48">
                  <a:moveTo>
                    <a:pt x="0" y="12"/>
                  </a:moveTo>
                  <a:lnTo>
                    <a:pt x="14" y="47"/>
                  </a:lnTo>
                  <a:lnTo>
                    <a:pt x="48" y="40"/>
                  </a:lnTo>
                  <a:lnTo>
                    <a:pt x="62" y="22"/>
                  </a:lnTo>
                  <a:lnTo>
                    <a:pt x="48" y="6"/>
                  </a:lnTo>
                  <a:lnTo>
                    <a:pt x="22" y="0"/>
                  </a:lnTo>
                  <a:lnTo>
                    <a:pt x="0" y="12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57400" y="2178360"/>
              <a:ext cx="64440" cy="5184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0" y="21"/>
                  </a:lnTo>
                  <a:lnTo>
                    <a:pt x="15" y="46"/>
                  </a:lnTo>
                  <a:lnTo>
                    <a:pt x="39" y="40"/>
                  </a:lnTo>
                  <a:lnTo>
                    <a:pt x="56" y="19"/>
                  </a:lnTo>
                  <a:lnTo>
                    <a:pt x="55" y="8"/>
                  </a:lnTo>
                  <a:lnTo>
                    <a:pt x="14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95040" y="5216760"/>
              <a:ext cx="227160" cy="65160"/>
            </a:xfrm>
            <a:custGeom>
              <a:avLst/>
              <a:gdLst/>
              <a:ahLst/>
              <a:rect l="l" t="t" r="r" b="b"/>
              <a:pathLst>
                <a:path w="201" h="59">
                  <a:moveTo>
                    <a:pt x="0" y="9"/>
                  </a:moveTo>
                  <a:lnTo>
                    <a:pt x="3" y="32"/>
                  </a:lnTo>
                  <a:lnTo>
                    <a:pt x="48" y="58"/>
                  </a:lnTo>
                  <a:lnTo>
                    <a:pt x="132" y="48"/>
                  </a:lnTo>
                  <a:lnTo>
                    <a:pt x="200" y="42"/>
                  </a:lnTo>
                  <a:lnTo>
                    <a:pt x="200" y="13"/>
                  </a:lnTo>
                  <a:lnTo>
                    <a:pt x="110" y="0"/>
                  </a:lnTo>
                  <a:lnTo>
                    <a:pt x="0" y="9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"/>
          <p:cNvSpPr/>
          <p:nvPr/>
        </p:nvSpPr>
        <p:spPr>
          <a:xfrm>
            <a:off x="1297080" y="4892760"/>
            <a:ext cx="3201840" cy="787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3020760" y="2249280"/>
            <a:ext cx="1593720" cy="32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 flipV="1">
            <a:off x="3992400" y="5108400"/>
            <a:ext cx="525600" cy="524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62360" y="5548320"/>
            <a:ext cx="49320" cy="6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680000" y="5122440"/>
            <a:ext cx="395280" cy="327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5057640" y="4911840"/>
            <a:ext cx="660600" cy="210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533840" y="4187880"/>
            <a:ext cx="1181160" cy="129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4713120" y="5432400"/>
            <a:ext cx="3595680" cy="68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2890800" y="2079720"/>
            <a:ext cx="515880" cy="372960"/>
            <a:chOff x="2890800" y="2079720"/>
            <a:chExt cx="515880" cy="372960"/>
          </a:xfrm>
        </p:grpSpPr>
        <p:sp>
          <p:nvSpPr>
            <p:cNvPr id="433" name=""/>
            <p:cNvSpPr/>
            <p:nvPr/>
          </p:nvSpPr>
          <p:spPr>
            <a:xfrm>
              <a:off x="2898360" y="2187720"/>
              <a:ext cx="506880" cy="26496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90800" y="2220120"/>
              <a:ext cx="515880" cy="10188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98360" y="2079720"/>
              <a:ext cx="506880" cy="265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02320" y="2138760"/>
              <a:ext cx="216720" cy="12996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78440" y="2143080"/>
              <a:ext cx="216720" cy="12996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77640" y="2227680"/>
              <a:ext cx="154080" cy="1072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77640" y="2083320"/>
              <a:ext cx="154080" cy="11304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955800" y="4613400"/>
            <a:ext cx="515880" cy="372960"/>
            <a:chOff x="955800" y="4613400"/>
            <a:chExt cx="515880" cy="372960"/>
          </a:xfrm>
        </p:grpSpPr>
        <p:sp>
          <p:nvSpPr>
            <p:cNvPr id="441" name=""/>
            <p:cNvSpPr/>
            <p:nvPr/>
          </p:nvSpPr>
          <p:spPr>
            <a:xfrm>
              <a:off x="963360" y="4721400"/>
              <a:ext cx="506880" cy="26496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55800" y="4753800"/>
              <a:ext cx="515880" cy="10188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63360" y="4613400"/>
              <a:ext cx="506880" cy="265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67320" y="4672440"/>
              <a:ext cx="216720" cy="12996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43440" y="4676760"/>
              <a:ext cx="216720" cy="12996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42640" y="4761360"/>
              <a:ext cx="154080" cy="1072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142640" y="4617000"/>
              <a:ext cx="154080" cy="11304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3780000" y="4910040"/>
            <a:ext cx="515880" cy="372960"/>
            <a:chOff x="3780000" y="4910040"/>
            <a:chExt cx="515880" cy="372960"/>
          </a:xfrm>
        </p:grpSpPr>
        <p:sp>
          <p:nvSpPr>
            <p:cNvPr id="449" name=""/>
            <p:cNvSpPr/>
            <p:nvPr/>
          </p:nvSpPr>
          <p:spPr>
            <a:xfrm>
              <a:off x="3787560" y="5018040"/>
              <a:ext cx="506880" cy="26496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780000" y="5050800"/>
              <a:ext cx="515880" cy="10188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87560" y="4910040"/>
              <a:ext cx="506880" cy="266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91520" y="4969080"/>
              <a:ext cx="216720" cy="13032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67640" y="4973400"/>
              <a:ext cx="216720" cy="13032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966840" y="5058000"/>
              <a:ext cx="154080" cy="1072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66840" y="4913640"/>
              <a:ext cx="154080" cy="11340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621400" y="4087800"/>
            <a:ext cx="515880" cy="372960"/>
            <a:chOff x="5621400" y="4087800"/>
            <a:chExt cx="515880" cy="372960"/>
          </a:xfrm>
        </p:grpSpPr>
        <p:sp>
          <p:nvSpPr>
            <p:cNvPr id="457" name=""/>
            <p:cNvSpPr/>
            <p:nvPr/>
          </p:nvSpPr>
          <p:spPr>
            <a:xfrm>
              <a:off x="5628960" y="4195800"/>
              <a:ext cx="506880" cy="26496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621400" y="4228200"/>
              <a:ext cx="515880" cy="10188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28960" y="4087800"/>
              <a:ext cx="506880" cy="265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632920" y="4146840"/>
              <a:ext cx="216720" cy="12996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09040" y="4151160"/>
              <a:ext cx="216720" cy="12996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08240" y="4235760"/>
              <a:ext cx="154080" cy="1072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08240" y="4091400"/>
              <a:ext cx="154080" cy="11304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910040" y="5022720"/>
            <a:ext cx="515880" cy="372960"/>
            <a:chOff x="4910040" y="5022720"/>
            <a:chExt cx="515880" cy="372960"/>
          </a:xfrm>
        </p:grpSpPr>
        <p:sp>
          <p:nvSpPr>
            <p:cNvPr id="465" name=""/>
            <p:cNvSpPr/>
            <p:nvPr/>
          </p:nvSpPr>
          <p:spPr>
            <a:xfrm>
              <a:off x="4917600" y="5130720"/>
              <a:ext cx="506880" cy="26496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10040" y="5163480"/>
              <a:ext cx="515880" cy="10188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17600" y="5022720"/>
              <a:ext cx="506880" cy="266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21560" y="5081760"/>
              <a:ext cx="216720" cy="13032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97680" y="5086080"/>
              <a:ext cx="216720" cy="13032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96880" y="5170680"/>
              <a:ext cx="154080" cy="1072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96880" y="5026320"/>
              <a:ext cx="154080" cy="11340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468680" y="5992920"/>
            <a:ext cx="516240" cy="372960"/>
            <a:chOff x="4468680" y="5992920"/>
            <a:chExt cx="516240" cy="372960"/>
          </a:xfrm>
        </p:grpSpPr>
        <p:sp>
          <p:nvSpPr>
            <p:cNvPr id="473" name=""/>
            <p:cNvSpPr/>
            <p:nvPr/>
          </p:nvSpPr>
          <p:spPr>
            <a:xfrm>
              <a:off x="4476240" y="6100920"/>
              <a:ext cx="507240" cy="26496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68680" y="6133320"/>
              <a:ext cx="516240" cy="10188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76240" y="5992920"/>
              <a:ext cx="507240" cy="265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80200" y="6051960"/>
              <a:ext cx="217080" cy="12996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756680" y="6056280"/>
              <a:ext cx="217080" cy="12996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55880" y="6140880"/>
              <a:ext cx="154080" cy="1072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55880" y="5996520"/>
              <a:ext cx="154080" cy="11304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408560" y="5419800"/>
            <a:ext cx="515880" cy="372960"/>
            <a:chOff x="4408560" y="5419800"/>
            <a:chExt cx="515880" cy="372960"/>
          </a:xfrm>
        </p:grpSpPr>
        <p:sp>
          <p:nvSpPr>
            <p:cNvPr id="481" name=""/>
            <p:cNvSpPr/>
            <p:nvPr/>
          </p:nvSpPr>
          <p:spPr>
            <a:xfrm>
              <a:off x="4416120" y="5527800"/>
              <a:ext cx="506880" cy="26496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08560" y="5560200"/>
              <a:ext cx="515880" cy="10188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16120" y="5419800"/>
              <a:ext cx="506880" cy="265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20080" y="5478840"/>
              <a:ext cx="216720" cy="12996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96200" y="5483160"/>
              <a:ext cx="216720" cy="12996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95400" y="5567760"/>
              <a:ext cx="154080" cy="1072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95400" y="5423400"/>
              <a:ext cx="154080" cy="11304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376960" y="4699080"/>
            <a:ext cx="515880" cy="372960"/>
            <a:chOff x="5376960" y="4699080"/>
            <a:chExt cx="515880" cy="372960"/>
          </a:xfrm>
        </p:grpSpPr>
        <p:sp>
          <p:nvSpPr>
            <p:cNvPr id="489" name=""/>
            <p:cNvSpPr/>
            <p:nvPr/>
          </p:nvSpPr>
          <p:spPr>
            <a:xfrm>
              <a:off x="5384520" y="4807080"/>
              <a:ext cx="506880" cy="26496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76960" y="4839480"/>
              <a:ext cx="515880" cy="10188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84520" y="4699080"/>
              <a:ext cx="506880" cy="265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388480" y="4758120"/>
              <a:ext cx="216720" cy="12996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64600" y="4762440"/>
              <a:ext cx="216720" cy="12996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563800" y="4847040"/>
              <a:ext cx="154080" cy="1072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63800" y="4702680"/>
              <a:ext cx="154080" cy="11304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8021520" y="5370480"/>
            <a:ext cx="515880" cy="372960"/>
            <a:chOff x="8021520" y="5370480"/>
            <a:chExt cx="515880" cy="372960"/>
          </a:xfrm>
        </p:grpSpPr>
        <p:sp>
          <p:nvSpPr>
            <p:cNvPr id="497" name=""/>
            <p:cNvSpPr/>
            <p:nvPr/>
          </p:nvSpPr>
          <p:spPr>
            <a:xfrm>
              <a:off x="8029080" y="5478480"/>
              <a:ext cx="506880" cy="26496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21520" y="5510880"/>
              <a:ext cx="515880" cy="10188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029080" y="5370480"/>
              <a:ext cx="506880" cy="265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033040" y="5429520"/>
              <a:ext cx="216720" cy="12996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309160" y="5433840"/>
              <a:ext cx="216720" cy="12996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208360" y="5518440"/>
              <a:ext cx="154080" cy="1072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208360" y="5374080"/>
              <a:ext cx="154080" cy="11304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402120" y="4660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30920" y="602280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b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79760" y="40798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802480" y="48150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1920" y="509904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ber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1520" y="552456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lbou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80000" y="488304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ela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742520" y="50655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31560" y="239400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rw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831960" y="1530360"/>
            <a:ext cx="7340400" cy="49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Infra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25040" y="1542960"/>
            <a:ext cx="841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h Top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 Resiliency against link or site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Higher communications lease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870120" y="3174840"/>
            <a:ext cx="593064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493560" y="2073240"/>
            <a:ext cx="5531040" cy="4242960"/>
            <a:chOff x="493560" y="2073240"/>
            <a:chExt cx="5531040" cy="4242960"/>
          </a:xfrm>
        </p:grpSpPr>
        <p:sp>
          <p:nvSpPr>
            <p:cNvPr id="519" name=""/>
            <p:cNvSpPr/>
            <p:nvPr/>
          </p:nvSpPr>
          <p:spPr>
            <a:xfrm>
              <a:off x="493560" y="2073240"/>
              <a:ext cx="5531040" cy="3618360"/>
            </a:xfrm>
            <a:custGeom>
              <a:avLst/>
              <a:gdLst/>
              <a:ahLst/>
              <a:rect l="l" t="t" r="r" b="b"/>
              <a:pathLst>
                <a:path w="4891" h="3267">
                  <a:moveTo>
                    <a:pt x="1052" y="760"/>
                  </a:moveTo>
                  <a:lnTo>
                    <a:pt x="1088" y="821"/>
                  </a:lnTo>
                  <a:lnTo>
                    <a:pt x="1019" y="898"/>
                  </a:lnTo>
                  <a:lnTo>
                    <a:pt x="935" y="997"/>
                  </a:lnTo>
                  <a:lnTo>
                    <a:pt x="830" y="1033"/>
                  </a:lnTo>
                  <a:lnTo>
                    <a:pt x="702" y="1080"/>
                  </a:lnTo>
                  <a:lnTo>
                    <a:pt x="544" y="1145"/>
                  </a:lnTo>
                  <a:lnTo>
                    <a:pt x="428" y="1156"/>
                  </a:lnTo>
                  <a:lnTo>
                    <a:pt x="367" y="1210"/>
                  </a:lnTo>
                  <a:lnTo>
                    <a:pt x="129" y="1402"/>
                  </a:lnTo>
                  <a:lnTo>
                    <a:pt x="97" y="1384"/>
                  </a:lnTo>
                  <a:lnTo>
                    <a:pt x="80" y="1305"/>
                  </a:lnTo>
                  <a:lnTo>
                    <a:pt x="0" y="1678"/>
                  </a:lnTo>
                  <a:lnTo>
                    <a:pt x="82" y="1739"/>
                  </a:lnTo>
                  <a:lnTo>
                    <a:pt x="145" y="1844"/>
                  </a:lnTo>
                  <a:lnTo>
                    <a:pt x="66" y="1808"/>
                  </a:lnTo>
                  <a:lnTo>
                    <a:pt x="68" y="1824"/>
                  </a:lnTo>
                  <a:lnTo>
                    <a:pt x="116" y="1878"/>
                  </a:lnTo>
                  <a:lnTo>
                    <a:pt x="116" y="1889"/>
                  </a:lnTo>
                  <a:lnTo>
                    <a:pt x="34" y="1827"/>
                  </a:lnTo>
                  <a:lnTo>
                    <a:pt x="13" y="1840"/>
                  </a:lnTo>
                  <a:lnTo>
                    <a:pt x="16" y="1860"/>
                  </a:lnTo>
                  <a:lnTo>
                    <a:pt x="174" y="2016"/>
                  </a:lnTo>
                  <a:lnTo>
                    <a:pt x="452" y="2472"/>
                  </a:lnTo>
                  <a:lnTo>
                    <a:pt x="452" y="2637"/>
                  </a:lnTo>
                  <a:lnTo>
                    <a:pt x="417" y="2688"/>
                  </a:lnTo>
                  <a:lnTo>
                    <a:pt x="382" y="2688"/>
                  </a:lnTo>
                  <a:lnTo>
                    <a:pt x="412" y="2724"/>
                  </a:lnTo>
                  <a:lnTo>
                    <a:pt x="428" y="2769"/>
                  </a:lnTo>
                  <a:lnTo>
                    <a:pt x="498" y="2769"/>
                  </a:lnTo>
                  <a:lnTo>
                    <a:pt x="516" y="2817"/>
                  </a:lnTo>
                  <a:lnTo>
                    <a:pt x="565" y="2830"/>
                  </a:lnTo>
                  <a:lnTo>
                    <a:pt x="647" y="2846"/>
                  </a:lnTo>
                  <a:lnTo>
                    <a:pt x="705" y="2843"/>
                  </a:lnTo>
                  <a:lnTo>
                    <a:pt x="769" y="2837"/>
                  </a:lnTo>
                  <a:lnTo>
                    <a:pt x="829" y="2780"/>
                  </a:lnTo>
                  <a:lnTo>
                    <a:pt x="871" y="2738"/>
                  </a:lnTo>
                  <a:lnTo>
                    <a:pt x="919" y="2738"/>
                  </a:lnTo>
                  <a:lnTo>
                    <a:pt x="987" y="2677"/>
                  </a:lnTo>
                  <a:lnTo>
                    <a:pt x="1199" y="2632"/>
                  </a:lnTo>
                  <a:lnTo>
                    <a:pt x="1214" y="2630"/>
                  </a:lnTo>
                  <a:lnTo>
                    <a:pt x="1259" y="2639"/>
                  </a:lnTo>
                  <a:lnTo>
                    <a:pt x="1305" y="2621"/>
                  </a:lnTo>
                  <a:lnTo>
                    <a:pt x="1379" y="2621"/>
                  </a:lnTo>
                  <a:lnTo>
                    <a:pt x="1441" y="2558"/>
                  </a:lnTo>
                  <a:lnTo>
                    <a:pt x="1490" y="2511"/>
                  </a:lnTo>
                  <a:lnTo>
                    <a:pt x="1616" y="2461"/>
                  </a:lnTo>
                  <a:lnTo>
                    <a:pt x="1738" y="2412"/>
                  </a:lnTo>
                  <a:lnTo>
                    <a:pt x="1808" y="2434"/>
                  </a:lnTo>
                  <a:lnTo>
                    <a:pt x="1909" y="2387"/>
                  </a:lnTo>
                  <a:lnTo>
                    <a:pt x="2010" y="2346"/>
                  </a:lnTo>
                  <a:lnTo>
                    <a:pt x="2118" y="2344"/>
                  </a:lnTo>
                  <a:lnTo>
                    <a:pt x="2244" y="2312"/>
                  </a:lnTo>
                  <a:lnTo>
                    <a:pt x="2289" y="2340"/>
                  </a:lnTo>
                  <a:lnTo>
                    <a:pt x="2562" y="2445"/>
                  </a:lnTo>
                  <a:lnTo>
                    <a:pt x="2585" y="2484"/>
                  </a:lnTo>
                  <a:lnTo>
                    <a:pt x="2718" y="2582"/>
                  </a:lnTo>
                  <a:lnTo>
                    <a:pt x="2762" y="2690"/>
                  </a:lnTo>
                  <a:lnTo>
                    <a:pt x="2997" y="2484"/>
                  </a:lnTo>
                  <a:lnTo>
                    <a:pt x="3038" y="2544"/>
                  </a:lnTo>
                  <a:lnTo>
                    <a:pt x="2949" y="2693"/>
                  </a:lnTo>
                  <a:lnTo>
                    <a:pt x="2886" y="2758"/>
                  </a:lnTo>
                  <a:lnTo>
                    <a:pt x="2982" y="2747"/>
                  </a:lnTo>
                  <a:lnTo>
                    <a:pt x="3067" y="2657"/>
                  </a:lnTo>
                  <a:lnTo>
                    <a:pt x="3084" y="2708"/>
                  </a:lnTo>
                  <a:lnTo>
                    <a:pt x="3067" y="2798"/>
                  </a:lnTo>
                  <a:lnTo>
                    <a:pt x="3098" y="2798"/>
                  </a:lnTo>
                  <a:lnTo>
                    <a:pt x="3118" y="2821"/>
                  </a:lnTo>
                  <a:lnTo>
                    <a:pt x="3183" y="2897"/>
                  </a:lnTo>
                  <a:lnTo>
                    <a:pt x="3185" y="2987"/>
                  </a:lnTo>
                  <a:lnTo>
                    <a:pt x="3316" y="3089"/>
                  </a:lnTo>
                  <a:lnTo>
                    <a:pt x="3365" y="3145"/>
                  </a:lnTo>
                  <a:lnTo>
                    <a:pt x="3501" y="3156"/>
                  </a:lnTo>
                  <a:lnTo>
                    <a:pt x="3549" y="3192"/>
                  </a:lnTo>
                  <a:lnTo>
                    <a:pt x="3591" y="3192"/>
                  </a:lnTo>
                  <a:lnTo>
                    <a:pt x="3639" y="3158"/>
                  </a:lnTo>
                  <a:lnTo>
                    <a:pt x="3610" y="3131"/>
                  </a:lnTo>
                  <a:lnTo>
                    <a:pt x="3703" y="3132"/>
                  </a:lnTo>
                  <a:lnTo>
                    <a:pt x="3668" y="3194"/>
                  </a:lnTo>
                  <a:lnTo>
                    <a:pt x="3734" y="3185"/>
                  </a:lnTo>
                  <a:lnTo>
                    <a:pt x="3905" y="3266"/>
                  </a:lnTo>
                  <a:lnTo>
                    <a:pt x="3907" y="3221"/>
                  </a:lnTo>
                  <a:lnTo>
                    <a:pt x="3937" y="3203"/>
                  </a:lnTo>
                  <a:lnTo>
                    <a:pt x="3974" y="3213"/>
                  </a:lnTo>
                  <a:lnTo>
                    <a:pt x="3988" y="3194"/>
                  </a:lnTo>
                  <a:lnTo>
                    <a:pt x="4085" y="3174"/>
                  </a:lnTo>
                  <a:lnTo>
                    <a:pt x="4154" y="3203"/>
                  </a:lnTo>
                  <a:lnTo>
                    <a:pt x="4201" y="3165"/>
                  </a:lnTo>
                  <a:lnTo>
                    <a:pt x="4270" y="3105"/>
                  </a:lnTo>
                  <a:lnTo>
                    <a:pt x="4554" y="2632"/>
                  </a:lnTo>
                  <a:lnTo>
                    <a:pt x="4661" y="2576"/>
                  </a:lnTo>
                  <a:lnTo>
                    <a:pt x="4890" y="2155"/>
                  </a:lnTo>
                  <a:lnTo>
                    <a:pt x="4873" y="1791"/>
                  </a:lnTo>
                  <a:lnTo>
                    <a:pt x="4706" y="1543"/>
                  </a:lnTo>
                  <a:lnTo>
                    <a:pt x="4723" y="1483"/>
                  </a:lnTo>
                  <a:lnTo>
                    <a:pt x="4693" y="1417"/>
                  </a:lnTo>
                  <a:lnTo>
                    <a:pt x="4674" y="1428"/>
                  </a:lnTo>
                  <a:lnTo>
                    <a:pt x="4642" y="1404"/>
                  </a:lnTo>
                  <a:lnTo>
                    <a:pt x="4626" y="1404"/>
                  </a:lnTo>
                  <a:lnTo>
                    <a:pt x="4628" y="1426"/>
                  </a:lnTo>
                  <a:lnTo>
                    <a:pt x="4590" y="1435"/>
                  </a:lnTo>
                  <a:lnTo>
                    <a:pt x="4492" y="1149"/>
                  </a:lnTo>
                  <a:lnTo>
                    <a:pt x="4254" y="1010"/>
                  </a:lnTo>
                  <a:lnTo>
                    <a:pt x="4225" y="979"/>
                  </a:lnTo>
                  <a:lnTo>
                    <a:pt x="4188" y="780"/>
                  </a:lnTo>
                  <a:lnTo>
                    <a:pt x="4109" y="661"/>
                  </a:lnTo>
                  <a:lnTo>
                    <a:pt x="4074" y="524"/>
                  </a:lnTo>
                  <a:lnTo>
                    <a:pt x="4056" y="427"/>
                  </a:lnTo>
                  <a:lnTo>
                    <a:pt x="4070" y="375"/>
                  </a:lnTo>
                  <a:lnTo>
                    <a:pt x="4039" y="355"/>
                  </a:lnTo>
                  <a:lnTo>
                    <a:pt x="3971" y="434"/>
                  </a:lnTo>
                  <a:lnTo>
                    <a:pt x="3937" y="434"/>
                  </a:lnTo>
                  <a:lnTo>
                    <a:pt x="3837" y="130"/>
                  </a:lnTo>
                  <a:lnTo>
                    <a:pt x="3837" y="0"/>
                  </a:lnTo>
                  <a:lnTo>
                    <a:pt x="3690" y="177"/>
                  </a:lnTo>
                  <a:lnTo>
                    <a:pt x="3723" y="209"/>
                  </a:lnTo>
                  <a:lnTo>
                    <a:pt x="3683" y="227"/>
                  </a:lnTo>
                  <a:lnTo>
                    <a:pt x="3683" y="321"/>
                  </a:lnTo>
                  <a:lnTo>
                    <a:pt x="3652" y="355"/>
                  </a:lnTo>
                  <a:lnTo>
                    <a:pt x="3636" y="533"/>
                  </a:lnTo>
                  <a:lnTo>
                    <a:pt x="3532" y="695"/>
                  </a:lnTo>
                  <a:lnTo>
                    <a:pt x="3501" y="763"/>
                  </a:lnTo>
                  <a:lnTo>
                    <a:pt x="3417" y="771"/>
                  </a:lnTo>
                  <a:lnTo>
                    <a:pt x="3371" y="753"/>
                  </a:lnTo>
                  <a:lnTo>
                    <a:pt x="3287" y="695"/>
                  </a:lnTo>
                  <a:lnTo>
                    <a:pt x="3069" y="596"/>
                  </a:lnTo>
                  <a:lnTo>
                    <a:pt x="2997" y="535"/>
                  </a:lnTo>
                  <a:lnTo>
                    <a:pt x="2847" y="434"/>
                  </a:lnTo>
                  <a:lnTo>
                    <a:pt x="2847" y="337"/>
                  </a:lnTo>
                  <a:lnTo>
                    <a:pt x="2897" y="308"/>
                  </a:lnTo>
                  <a:lnTo>
                    <a:pt x="2949" y="328"/>
                  </a:lnTo>
                  <a:lnTo>
                    <a:pt x="3000" y="286"/>
                  </a:lnTo>
                  <a:lnTo>
                    <a:pt x="2968" y="259"/>
                  </a:lnTo>
                  <a:lnTo>
                    <a:pt x="3016" y="168"/>
                  </a:lnTo>
                  <a:lnTo>
                    <a:pt x="2940" y="148"/>
                  </a:lnTo>
                  <a:lnTo>
                    <a:pt x="2900" y="128"/>
                  </a:lnTo>
                  <a:lnTo>
                    <a:pt x="2801" y="148"/>
                  </a:lnTo>
                  <a:lnTo>
                    <a:pt x="2416" y="7"/>
                  </a:lnTo>
                  <a:lnTo>
                    <a:pt x="2342" y="40"/>
                  </a:lnTo>
                  <a:lnTo>
                    <a:pt x="2427" y="110"/>
                  </a:lnTo>
                  <a:lnTo>
                    <a:pt x="2427" y="157"/>
                  </a:lnTo>
                  <a:lnTo>
                    <a:pt x="2381" y="168"/>
                  </a:lnTo>
                  <a:lnTo>
                    <a:pt x="2313" y="139"/>
                  </a:lnTo>
                  <a:lnTo>
                    <a:pt x="2188" y="171"/>
                  </a:lnTo>
                  <a:lnTo>
                    <a:pt x="1977" y="366"/>
                  </a:lnTo>
                  <a:lnTo>
                    <a:pt x="2039" y="403"/>
                  </a:lnTo>
                  <a:lnTo>
                    <a:pt x="2028" y="434"/>
                  </a:lnTo>
                  <a:lnTo>
                    <a:pt x="2039" y="466"/>
                  </a:lnTo>
                  <a:lnTo>
                    <a:pt x="1960" y="434"/>
                  </a:lnTo>
                  <a:lnTo>
                    <a:pt x="1922" y="403"/>
                  </a:lnTo>
                  <a:lnTo>
                    <a:pt x="1877" y="434"/>
                  </a:lnTo>
                  <a:lnTo>
                    <a:pt x="1861" y="432"/>
                  </a:lnTo>
                  <a:lnTo>
                    <a:pt x="1822" y="497"/>
                  </a:lnTo>
                  <a:lnTo>
                    <a:pt x="1806" y="479"/>
                  </a:lnTo>
                  <a:lnTo>
                    <a:pt x="1821" y="416"/>
                  </a:lnTo>
                  <a:lnTo>
                    <a:pt x="1675" y="310"/>
                  </a:lnTo>
                  <a:lnTo>
                    <a:pt x="1643" y="339"/>
                  </a:lnTo>
                  <a:lnTo>
                    <a:pt x="1574" y="358"/>
                  </a:lnTo>
                  <a:lnTo>
                    <a:pt x="1559" y="375"/>
                  </a:lnTo>
                  <a:lnTo>
                    <a:pt x="1473" y="396"/>
                  </a:lnTo>
                  <a:lnTo>
                    <a:pt x="1457" y="441"/>
                  </a:lnTo>
                  <a:lnTo>
                    <a:pt x="1403" y="479"/>
                  </a:lnTo>
                  <a:lnTo>
                    <a:pt x="1407" y="504"/>
                  </a:lnTo>
                  <a:lnTo>
                    <a:pt x="1321" y="522"/>
                  </a:lnTo>
                  <a:lnTo>
                    <a:pt x="1321" y="576"/>
                  </a:lnTo>
                  <a:lnTo>
                    <a:pt x="1291" y="603"/>
                  </a:lnTo>
                  <a:lnTo>
                    <a:pt x="1225" y="564"/>
                  </a:lnTo>
                  <a:lnTo>
                    <a:pt x="1207" y="582"/>
                  </a:lnTo>
                  <a:lnTo>
                    <a:pt x="1254" y="700"/>
                  </a:lnTo>
                  <a:lnTo>
                    <a:pt x="1221" y="700"/>
                  </a:lnTo>
                  <a:lnTo>
                    <a:pt x="1204" y="733"/>
                  </a:lnTo>
                  <a:lnTo>
                    <a:pt x="1117" y="659"/>
                  </a:lnTo>
                  <a:lnTo>
                    <a:pt x="1052" y="76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394880" y="5801400"/>
              <a:ext cx="82440" cy="59760"/>
            </a:xfrm>
            <a:custGeom>
              <a:avLst/>
              <a:gdLst/>
              <a:ahLst/>
              <a:rect l="l" t="t" r="r" b="b"/>
              <a:pathLst>
                <a:path w="73" h="54">
                  <a:moveTo>
                    <a:pt x="0" y="8"/>
                  </a:moveTo>
                  <a:lnTo>
                    <a:pt x="1" y="29"/>
                  </a:lnTo>
                  <a:lnTo>
                    <a:pt x="17" y="53"/>
                  </a:lnTo>
                  <a:lnTo>
                    <a:pt x="48" y="44"/>
                  </a:lnTo>
                  <a:lnTo>
                    <a:pt x="72" y="39"/>
                  </a:lnTo>
                  <a:lnTo>
                    <a:pt x="72" y="12"/>
                  </a:lnTo>
                  <a:lnTo>
                    <a:pt x="40" y="0"/>
                  </a:lnTo>
                  <a:lnTo>
                    <a:pt x="0" y="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07480" y="5865840"/>
              <a:ext cx="533520" cy="450360"/>
            </a:xfrm>
            <a:custGeom>
              <a:avLst/>
              <a:gdLst/>
              <a:ahLst/>
              <a:rect l="l" t="t" r="r" b="b"/>
              <a:pathLst>
                <a:path w="472" h="407">
                  <a:moveTo>
                    <a:pt x="0" y="41"/>
                  </a:moveTo>
                  <a:lnTo>
                    <a:pt x="0" y="98"/>
                  </a:lnTo>
                  <a:lnTo>
                    <a:pt x="12" y="121"/>
                  </a:lnTo>
                  <a:lnTo>
                    <a:pt x="28" y="155"/>
                  </a:lnTo>
                  <a:lnTo>
                    <a:pt x="36" y="164"/>
                  </a:lnTo>
                  <a:lnTo>
                    <a:pt x="54" y="202"/>
                  </a:lnTo>
                  <a:lnTo>
                    <a:pt x="78" y="252"/>
                  </a:lnTo>
                  <a:lnTo>
                    <a:pt x="102" y="308"/>
                  </a:lnTo>
                  <a:lnTo>
                    <a:pt x="127" y="351"/>
                  </a:lnTo>
                  <a:lnTo>
                    <a:pt x="174" y="394"/>
                  </a:lnTo>
                  <a:lnTo>
                    <a:pt x="207" y="398"/>
                  </a:lnTo>
                  <a:lnTo>
                    <a:pt x="241" y="406"/>
                  </a:lnTo>
                  <a:lnTo>
                    <a:pt x="286" y="394"/>
                  </a:lnTo>
                  <a:lnTo>
                    <a:pt x="350" y="315"/>
                  </a:lnTo>
                  <a:lnTo>
                    <a:pt x="421" y="215"/>
                  </a:lnTo>
                  <a:lnTo>
                    <a:pt x="462" y="140"/>
                  </a:lnTo>
                  <a:lnTo>
                    <a:pt x="471" y="89"/>
                  </a:lnTo>
                  <a:lnTo>
                    <a:pt x="471" y="9"/>
                  </a:lnTo>
                  <a:lnTo>
                    <a:pt x="445" y="0"/>
                  </a:lnTo>
                  <a:lnTo>
                    <a:pt x="379" y="24"/>
                  </a:lnTo>
                  <a:lnTo>
                    <a:pt x="250" y="89"/>
                  </a:lnTo>
                  <a:lnTo>
                    <a:pt x="178" y="100"/>
                  </a:lnTo>
                  <a:lnTo>
                    <a:pt x="121" y="89"/>
                  </a:lnTo>
                  <a:lnTo>
                    <a:pt x="79" y="75"/>
                  </a:lnTo>
                  <a:lnTo>
                    <a:pt x="0" y="41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09960" y="5789160"/>
              <a:ext cx="79920" cy="50760"/>
            </a:xfrm>
            <a:custGeom>
              <a:avLst/>
              <a:gdLst/>
              <a:ahLst/>
              <a:rect l="l" t="t" r="r" b="b"/>
              <a:pathLst>
                <a:path w="71" h="46">
                  <a:moveTo>
                    <a:pt x="30" y="0"/>
                  </a:moveTo>
                  <a:lnTo>
                    <a:pt x="0" y="19"/>
                  </a:lnTo>
                  <a:lnTo>
                    <a:pt x="16" y="39"/>
                  </a:lnTo>
                  <a:lnTo>
                    <a:pt x="37" y="45"/>
                  </a:lnTo>
                  <a:lnTo>
                    <a:pt x="54" y="39"/>
                  </a:lnTo>
                  <a:lnTo>
                    <a:pt x="64" y="32"/>
                  </a:lnTo>
                  <a:lnTo>
                    <a:pt x="70" y="27"/>
                  </a:lnTo>
                  <a:lnTo>
                    <a:pt x="70" y="12"/>
                  </a:lnTo>
                  <a:lnTo>
                    <a:pt x="30" y="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90160" y="2516040"/>
              <a:ext cx="90360" cy="65160"/>
            </a:xfrm>
            <a:custGeom>
              <a:avLst/>
              <a:gdLst/>
              <a:ahLst/>
              <a:rect l="l" t="t" r="r" b="b"/>
              <a:pathLst>
                <a:path w="80" h="59">
                  <a:moveTo>
                    <a:pt x="40" y="0"/>
                  </a:moveTo>
                  <a:lnTo>
                    <a:pt x="0" y="26"/>
                  </a:lnTo>
                  <a:lnTo>
                    <a:pt x="15" y="51"/>
                  </a:lnTo>
                  <a:lnTo>
                    <a:pt x="50" y="58"/>
                  </a:lnTo>
                  <a:lnTo>
                    <a:pt x="79" y="38"/>
                  </a:lnTo>
                  <a:lnTo>
                    <a:pt x="77" y="11"/>
                  </a:lnTo>
                  <a:lnTo>
                    <a:pt x="69" y="7"/>
                  </a:lnTo>
                  <a:lnTo>
                    <a:pt x="40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85200" y="2090520"/>
              <a:ext cx="71280" cy="52920"/>
            </a:xfrm>
            <a:custGeom>
              <a:avLst/>
              <a:gdLst/>
              <a:ahLst/>
              <a:rect l="l" t="t" r="r" b="b"/>
              <a:pathLst>
                <a:path w="63" h="48">
                  <a:moveTo>
                    <a:pt x="0" y="12"/>
                  </a:moveTo>
                  <a:lnTo>
                    <a:pt x="14" y="47"/>
                  </a:lnTo>
                  <a:lnTo>
                    <a:pt x="48" y="40"/>
                  </a:lnTo>
                  <a:lnTo>
                    <a:pt x="62" y="22"/>
                  </a:lnTo>
                  <a:lnTo>
                    <a:pt x="48" y="6"/>
                  </a:lnTo>
                  <a:lnTo>
                    <a:pt x="22" y="0"/>
                  </a:lnTo>
                  <a:lnTo>
                    <a:pt x="0" y="12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57400" y="2178360"/>
              <a:ext cx="64440" cy="5184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0" y="21"/>
                  </a:lnTo>
                  <a:lnTo>
                    <a:pt x="15" y="46"/>
                  </a:lnTo>
                  <a:lnTo>
                    <a:pt x="39" y="40"/>
                  </a:lnTo>
                  <a:lnTo>
                    <a:pt x="56" y="19"/>
                  </a:lnTo>
                  <a:lnTo>
                    <a:pt x="55" y="8"/>
                  </a:lnTo>
                  <a:lnTo>
                    <a:pt x="14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95040" y="5216760"/>
              <a:ext cx="227160" cy="65160"/>
            </a:xfrm>
            <a:custGeom>
              <a:avLst/>
              <a:gdLst/>
              <a:ahLst/>
              <a:rect l="l" t="t" r="r" b="b"/>
              <a:pathLst>
                <a:path w="201" h="59">
                  <a:moveTo>
                    <a:pt x="0" y="9"/>
                  </a:moveTo>
                  <a:lnTo>
                    <a:pt x="3" y="32"/>
                  </a:lnTo>
                  <a:lnTo>
                    <a:pt x="48" y="58"/>
                  </a:lnTo>
                  <a:lnTo>
                    <a:pt x="132" y="48"/>
                  </a:lnTo>
                  <a:lnTo>
                    <a:pt x="200" y="42"/>
                  </a:lnTo>
                  <a:lnTo>
                    <a:pt x="200" y="13"/>
                  </a:lnTo>
                  <a:lnTo>
                    <a:pt x="110" y="0"/>
                  </a:lnTo>
                  <a:lnTo>
                    <a:pt x="0" y="9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252440" y="4781520"/>
            <a:ext cx="4400640" cy="9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3008160" y="2253960"/>
            <a:ext cx="2595600" cy="262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sh Top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"/>
          <p:cNvSpPr/>
          <p:nvPr/>
        </p:nvSpPr>
        <p:spPr>
          <a:xfrm>
            <a:off x="1165320" y="4809960"/>
            <a:ext cx="3416040" cy="82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3020760" y="2249280"/>
            <a:ext cx="1593720" cy="329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3992400" y="5108040"/>
            <a:ext cx="640080" cy="47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662360" y="5548320"/>
            <a:ext cx="4932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646520" y="5122800"/>
            <a:ext cx="478080" cy="409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5057640" y="4911840"/>
            <a:ext cx="660600" cy="21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4549680" y="4253040"/>
            <a:ext cx="1332000" cy="12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730760" y="3708000"/>
            <a:ext cx="3792600" cy="194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2120" y="4660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930920" y="602280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b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79760" y="40798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02480" y="48150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1920" y="509904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ber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1520" y="552456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lbour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80000" y="488304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ela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202960" y="29797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190240" y="206064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rw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046400" y="4865760"/>
            <a:ext cx="144648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629320" y="4214880"/>
            <a:ext cx="328680" cy="68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185840" y="3530160"/>
            <a:ext cx="7209000" cy="124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654520" y="3614760"/>
            <a:ext cx="2840040" cy="13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707080" y="3571920"/>
            <a:ext cx="2641680" cy="121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955800" y="4613400"/>
            <a:ext cx="366480" cy="241200"/>
            <a:chOff x="955800" y="4613400"/>
            <a:chExt cx="366480" cy="241200"/>
          </a:xfrm>
        </p:grpSpPr>
        <p:sp>
          <p:nvSpPr>
            <p:cNvPr id="553" name=""/>
            <p:cNvSpPr/>
            <p:nvPr/>
          </p:nvSpPr>
          <p:spPr>
            <a:xfrm>
              <a:off x="961200" y="4683240"/>
              <a:ext cx="360000" cy="17136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55800" y="4704120"/>
              <a:ext cx="366480" cy="6588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61200" y="4613400"/>
              <a:ext cx="360000" cy="171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64080" y="4651560"/>
              <a:ext cx="154080" cy="8424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60280" y="4654440"/>
              <a:ext cx="154080" cy="8424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088640" y="4709160"/>
              <a:ext cx="109440" cy="6912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088640" y="4615560"/>
              <a:ext cx="109440" cy="7308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816280" y="2155680"/>
            <a:ext cx="366480" cy="241560"/>
            <a:chOff x="2816280" y="2155680"/>
            <a:chExt cx="366480" cy="241560"/>
          </a:xfrm>
        </p:grpSpPr>
        <p:sp>
          <p:nvSpPr>
            <p:cNvPr id="561" name=""/>
            <p:cNvSpPr/>
            <p:nvPr/>
          </p:nvSpPr>
          <p:spPr>
            <a:xfrm>
              <a:off x="2821680" y="2225520"/>
              <a:ext cx="360000" cy="17172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6280" y="2246760"/>
              <a:ext cx="366480" cy="6588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21680" y="2155680"/>
              <a:ext cx="360000" cy="1720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24560" y="2193840"/>
              <a:ext cx="154080" cy="8424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20760" y="2196720"/>
              <a:ext cx="154080" cy="8424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949120" y="2251440"/>
              <a:ext cx="109440" cy="694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949120" y="2157840"/>
              <a:ext cx="109440" cy="7344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4540320" y="5997600"/>
            <a:ext cx="366480" cy="241200"/>
            <a:chOff x="4540320" y="5997600"/>
            <a:chExt cx="366480" cy="241200"/>
          </a:xfrm>
        </p:grpSpPr>
        <p:sp>
          <p:nvSpPr>
            <p:cNvPr id="569" name=""/>
            <p:cNvSpPr/>
            <p:nvPr/>
          </p:nvSpPr>
          <p:spPr>
            <a:xfrm>
              <a:off x="4545720" y="6067440"/>
              <a:ext cx="360000" cy="17136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40320" y="6088320"/>
              <a:ext cx="366480" cy="6588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45720" y="5997600"/>
              <a:ext cx="360000" cy="171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48600" y="6035760"/>
              <a:ext cx="154080" cy="8424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0" y="6038640"/>
              <a:ext cx="154080" cy="8424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73160" y="6093360"/>
              <a:ext cx="109440" cy="6912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73160" y="5999760"/>
              <a:ext cx="109440" cy="7308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735360" y="5011560"/>
            <a:ext cx="366840" cy="241560"/>
            <a:chOff x="3735360" y="5011560"/>
            <a:chExt cx="366840" cy="241560"/>
          </a:xfrm>
        </p:grpSpPr>
        <p:sp>
          <p:nvSpPr>
            <p:cNvPr id="577" name=""/>
            <p:cNvSpPr/>
            <p:nvPr/>
          </p:nvSpPr>
          <p:spPr>
            <a:xfrm>
              <a:off x="3740760" y="5081400"/>
              <a:ext cx="360360" cy="17172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735360" y="5102640"/>
              <a:ext cx="366840" cy="6588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40760" y="5011560"/>
              <a:ext cx="360360" cy="1720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743640" y="5049720"/>
              <a:ext cx="154080" cy="8424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939840" y="5052600"/>
              <a:ext cx="154080" cy="8424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68200" y="5107320"/>
              <a:ext cx="109440" cy="694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68200" y="5013720"/>
              <a:ext cx="109440" cy="7344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016600" y="5060880"/>
            <a:ext cx="366480" cy="241200"/>
            <a:chOff x="5016600" y="5060880"/>
            <a:chExt cx="366480" cy="241200"/>
          </a:xfrm>
        </p:grpSpPr>
        <p:sp>
          <p:nvSpPr>
            <p:cNvPr id="585" name=""/>
            <p:cNvSpPr/>
            <p:nvPr/>
          </p:nvSpPr>
          <p:spPr>
            <a:xfrm>
              <a:off x="5022000" y="5130720"/>
              <a:ext cx="360000" cy="17136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16600" y="5151600"/>
              <a:ext cx="366480" cy="6588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22000" y="5060880"/>
              <a:ext cx="360000" cy="171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24880" y="5099040"/>
              <a:ext cx="154080" cy="8424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21080" y="5101920"/>
              <a:ext cx="154080" cy="8424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149440" y="5156640"/>
              <a:ext cx="109440" cy="6912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49440" y="5063040"/>
              <a:ext cx="109440" cy="7308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5443560" y="4765680"/>
            <a:ext cx="366840" cy="241200"/>
            <a:chOff x="5443560" y="4765680"/>
            <a:chExt cx="366840" cy="241200"/>
          </a:xfrm>
        </p:grpSpPr>
        <p:sp>
          <p:nvSpPr>
            <p:cNvPr id="593" name=""/>
            <p:cNvSpPr/>
            <p:nvPr/>
          </p:nvSpPr>
          <p:spPr>
            <a:xfrm>
              <a:off x="5448960" y="4835520"/>
              <a:ext cx="360360" cy="17136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443560" y="4856400"/>
              <a:ext cx="366840" cy="6588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448960" y="4765680"/>
              <a:ext cx="360360" cy="171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451840" y="4803840"/>
              <a:ext cx="154080" cy="8424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648040" y="4806720"/>
              <a:ext cx="154080" cy="8424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76400" y="4861440"/>
              <a:ext cx="109440" cy="6912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76400" y="4767840"/>
              <a:ext cx="109440" cy="7308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772240" y="4125960"/>
            <a:ext cx="366480" cy="241200"/>
            <a:chOff x="5772240" y="4125960"/>
            <a:chExt cx="366480" cy="241200"/>
          </a:xfrm>
        </p:grpSpPr>
        <p:sp>
          <p:nvSpPr>
            <p:cNvPr id="601" name=""/>
            <p:cNvSpPr/>
            <p:nvPr/>
          </p:nvSpPr>
          <p:spPr>
            <a:xfrm>
              <a:off x="5777640" y="4195800"/>
              <a:ext cx="360000" cy="17136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72240" y="4216680"/>
              <a:ext cx="366480" cy="6588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77640" y="4125960"/>
              <a:ext cx="360000" cy="171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80520" y="4164120"/>
              <a:ext cx="154080" cy="8424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76720" y="4167000"/>
              <a:ext cx="154080" cy="8424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905080" y="4221720"/>
              <a:ext cx="109440" cy="6912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905080" y="4128120"/>
              <a:ext cx="109440" cy="7308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425840" y="5472000"/>
            <a:ext cx="366840" cy="241560"/>
            <a:chOff x="4425840" y="5472000"/>
            <a:chExt cx="366840" cy="241560"/>
          </a:xfrm>
        </p:grpSpPr>
        <p:sp>
          <p:nvSpPr>
            <p:cNvPr id="609" name=""/>
            <p:cNvSpPr/>
            <p:nvPr/>
          </p:nvSpPr>
          <p:spPr>
            <a:xfrm>
              <a:off x="4431240" y="5541840"/>
              <a:ext cx="360360" cy="17172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25840" y="5563080"/>
              <a:ext cx="366840" cy="6588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431240" y="5472000"/>
              <a:ext cx="360360" cy="1720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34120" y="5510160"/>
              <a:ext cx="154080" cy="8424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30320" y="5513040"/>
              <a:ext cx="154080" cy="8424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558680" y="5567760"/>
              <a:ext cx="109440" cy="694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558680" y="5474160"/>
              <a:ext cx="109440" cy="7344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8250120" y="3349800"/>
            <a:ext cx="515880" cy="372960"/>
            <a:chOff x="8250120" y="3349800"/>
            <a:chExt cx="515880" cy="372960"/>
          </a:xfrm>
        </p:grpSpPr>
        <p:sp>
          <p:nvSpPr>
            <p:cNvPr id="617" name=""/>
            <p:cNvSpPr/>
            <p:nvPr/>
          </p:nvSpPr>
          <p:spPr>
            <a:xfrm>
              <a:off x="8257680" y="3457800"/>
              <a:ext cx="506880" cy="26496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250120" y="3490200"/>
              <a:ext cx="515880" cy="10188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257680" y="3349800"/>
              <a:ext cx="506880" cy="265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261640" y="3408840"/>
              <a:ext cx="216720" cy="12996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537760" y="3413160"/>
              <a:ext cx="216720" cy="12996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36960" y="3497760"/>
              <a:ext cx="154080" cy="1072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36960" y="3353400"/>
              <a:ext cx="154080" cy="11304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1386000" y="1574640"/>
            <a:ext cx="6651360" cy="49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71520" y="231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7" name=""/>
          <p:cNvSpPr/>
          <p:nvPr/>
        </p:nvSpPr>
        <p:spPr>
          <a:xfrm>
            <a:off x="47628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1179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119160" y="426960"/>
            <a:ext cx="7764480" cy="6081480"/>
            <a:chOff x="119160" y="426960"/>
            <a:chExt cx="7764480" cy="6081480"/>
          </a:xfrm>
        </p:grpSpPr>
        <p:sp>
          <p:nvSpPr>
            <p:cNvPr id="630" name=""/>
            <p:cNvSpPr/>
            <p:nvPr/>
          </p:nvSpPr>
          <p:spPr>
            <a:xfrm>
              <a:off x="119160" y="426960"/>
              <a:ext cx="7764480" cy="5186160"/>
            </a:xfrm>
            <a:custGeom>
              <a:avLst/>
              <a:gdLst/>
              <a:ahLst/>
              <a:rect l="l" t="t" r="r" b="b"/>
              <a:pathLst>
                <a:path w="4891" h="3267">
                  <a:moveTo>
                    <a:pt x="1052" y="760"/>
                  </a:moveTo>
                  <a:lnTo>
                    <a:pt x="1088" y="821"/>
                  </a:lnTo>
                  <a:lnTo>
                    <a:pt x="1019" y="898"/>
                  </a:lnTo>
                  <a:lnTo>
                    <a:pt x="935" y="997"/>
                  </a:lnTo>
                  <a:lnTo>
                    <a:pt x="830" y="1033"/>
                  </a:lnTo>
                  <a:lnTo>
                    <a:pt x="702" y="1080"/>
                  </a:lnTo>
                  <a:lnTo>
                    <a:pt x="544" y="1145"/>
                  </a:lnTo>
                  <a:lnTo>
                    <a:pt x="428" y="1156"/>
                  </a:lnTo>
                  <a:lnTo>
                    <a:pt x="367" y="1210"/>
                  </a:lnTo>
                  <a:lnTo>
                    <a:pt x="129" y="1402"/>
                  </a:lnTo>
                  <a:lnTo>
                    <a:pt x="97" y="1384"/>
                  </a:lnTo>
                  <a:lnTo>
                    <a:pt x="80" y="1305"/>
                  </a:lnTo>
                  <a:lnTo>
                    <a:pt x="0" y="1678"/>
                  </a:lnTo>
                  <a:lnTo>
                    <a:pt x="82" y="1739"/>
                  </a:lnTo>
                  <a:lnTo>
                    <a:pt x="145" y="1844"/>
                  </a:lnTo>
                  <a:lnTo>
                    <a:pt x="66" y="1808"/>
                  </a:lnTo>
                  <a:lnTo>
                    <a:pt x="68" y="1824"/>
                  </a:lnTo>
                  <a:lnTo>
                    <a:pt x="116" y="1878"/>
                  </a:lnTo>
                  <a:lnTo>
                    <a:pt x="116" y="1889"/>
                  </a:lnTo>
                  <a:lnTo>
                    <a:pt x="34" y="1827"/>
                  </a:lnTo>
                  <a:lnTo>
                    <a:pt x="13" y="1840"/>
                  </a:lnTo>
                  <a:lnTo>
                    <a:pt x="16" y="1860"/>
                  </a:lnTo>
                  <a:lnTo>
                    <a:pt x="174" y="2016"/>
                  </a:lnTo>
                  <a:lnTo>
                    <a:pt x="452" y="2472"/>
                  </a:lnTo>
                  <a:lnTo>
                    <a:pt x="452" y="2637"/>
                  </a:lnTo>
                  <a:lnTo>
                    <a:pt x="417" y="2688"/>
                  </a:lnTo>
                  <a:lnTo>
                    <a:pt x="382" y="2688"/>
                  </a:lnTo>
                  <a:lnTo>
                    <a:pt x="412" y="2724"/>
                  </a:lnTo>
                  <a:lnTo>
                    <a:pt x="428" y="2769"/>
                  </a:lnTo>
                  <a:lnTo>
                    <a:pt x="498" y="2769"/>
                  </a:lnTo>
                  <a:lnTo>
                    <a:pt x="516" y="2817"/>
                  </a:lnTo>
                  <a:lnTo>
                    <a:pt x="565" y="2830"/>
                  </a:lnTo>
                  <a:lnTo>
                    <a:pt x="647" y="2846"/>
                  </a:lnTo>
                  <a:lnTo>
                    <a:pt x="705" y="2843"/>
                  </a:lnTo>
                  <a:lnTo>
                    <a:pt x="769" y="2837"/>
                  </a:lnTo>
                  <a:lnTo>
                    <a:pt x="829" y="2780"/>
                  </a:lnTo>
                  <a:lnTo>
                    <a:pt x="871" y="2738"/>
                  </a:lnTo>
                  <a:lnTo>
                    <a:pt x="919" y="2738"/>
                  </a:lnTo>
                  <a:lnTo>
                    <a:pt x="987" y="2677"/>
                  </a:lnTo>
                  <a:lnTo>
                    <a:pt x="1199" y="2632"/>
                  </a:lnTo>
                  <a:lnTo>
                    <a:pt x="1214" y="2630"/>
                  </a:lnTo>
                  <a:lnTo>
                    <a:pt x="1259" y="2639"/>
                  </a:lnTo>
                  <a:lnTo>
                    <a:pt x="1305" y="2621"/>
                  </a:lnTo>
                  <a:lnTo>
                    <a:pt x="1379" y="2621"/>
                  </a:lnTo>
                  <a:lnTo>
                    <a:pt x="1441" y="2558"/>
                  </a:lnTo>
                  <a:lnTo>
                    <a:pt x="1490" y="2511"/>
                  </a:lnTo>
                  <a:lnTo>
                    <a:pt x="1616" y="2461"/>
                  </a:lnTo>
                  <a:lnTo>
                    <a:pt x="1738" y="2412"/>
                  </a:lnTo>
                  <a:lnTo>
                    <a:pt x="1808" y="2434"/>
                  </a:lnTo>
                  <a:lnTo>
                    <a:pt x="1909" y="2387"/>
                  </a:lnTo>
                  <a:lnTo>
                    <a:pt x="2010" y="2346"/>
                  </a:lnTo>
                  <a:lnTo>
                    <a:pt x="2118" y="2344"/>
                  </a:lnTo>
                  <a:lnTo>
                    <a:pt x="2244" y="2312"/>
                  </a:lnTo>
                  <a:lnTo>
                    <a:pt x="2289" y="2340"/>
                  </a:lnTo>
                  <a:lnTo>
                    <a:pt x="2562" y="2445"/>
                  </a:lnTo>
                  <a:lnTo>
                    <a:pt x="2585" y="2484"/>
                  </a:lnTo>
                  <a:lnTo>
                    <a:pt x="2718" y="2582"/>
                  </a:lnTo>
                  <a:lnTo>
                    <a:pt x="2762" y="2690"/>
                  </a:lnTo>
                  <a:lnTo>
                    <a:pt x="2997" y="2484"/>
                  </a:lnTo>
                  <a:lnTo>
                    <a:pt x="3038" y="2544"/>
                  </a:lnTo>
                  <a:lnTo>
                    <a:pt x="2949" y="2693"/>
                  </a:lnTo>
                  <a:lnTo>
                    <a:pt x="2886" y="2758"/>
                  </a:lnTo>
                  <a:lnTo>
                    <a:pt x="2982" y="2747"/>
                  </a:lnTo>
                  <a:lnTo>
                    <a:pt x="3067" y="2657"/>
                  </a:lnTo>
                  <a:lnTo>
                    <a:pt x="3084" y="2708"/>
                  </a:lnTo>
                  <a:lnTo>
                    <a:pt x="3067" y="2798"/>
                  </a:lnTo>
                  <a:lnTo>
                    <a:pt x="3098" y="2798"/>
                  </a:lnTo>
                  <a:lnTo>
                    <a:pt x="3118" y="2821"/>
                  </a:lnTo>
                  <a:lnTo>
                    <a:pt x="3183" y="2897"/>
                  </a:lnTo>
                  <a:lnTo>
                    <a:pt x="3185" y="2987"/>
                  </a:lnTo>
                  <a:lnTo>
                    <a:pt x="3316" y="3089"/>
                  </a:lnTo>
                  <a:lnTo>
                    <a:pt x="3365" y="3145"/>
                  </a:lnTo>
                  <a:lnTo>
                    <a:pt x="3501" y="3156"/>
                  </a:lnTo>
                  <a:lnTo>
                    <a:pt x="3549" y="3192"/>
                  </a:lnTo>
                  <a:lnTo>
                    <a:pt x="3591" y="3192"/>
                  </a:lnTo>
                  <a:lnTo>
                    <a:pt x="3639" y="3158"/>
                  </a:lnTo>
                  <a:lnTo>
                    <a:pt x="3610" y="3131"/>
                  </a:lnTo>
                  <a:lnTo>
                    <a:pt x="3703" y="3132"/>
                  </a:lnTo>
                  <a:lnTo>
                    <a:pt x="3668" y="3194"/>
                  </a:lnTo>
                  <a:lnTo>
                    <a:pt x="3734" y="3185"/>
                  </a:lnTo>
                  <a:lnTo>
                    <a:pt x="3905" y="3266"/>
                  </a:lnTo>
                  <a:lnTo>
                    <a:pt x="3907" y="3221"/>
                  </a:lnTo>
                  <a:lnTo>
                    <a:pt x="3937" y="3203"/>
                  </a:lnTo>
                  <a:lnTo>
                    <a:pt x="3974" y="3213"/>
                  </a:lnTo>
                  <a:lnTo>
                    <a:pt x="3988" y="3194"/>
                  </a:lnTo>
                  <a:lnTo>
                    <a:pt x="4085" y="3174"/>
                  </a:lnTo>
                  <a:lnTo>
                    <a:pt x="4154" y="3203"/>
                  </a:lnTo>
                  <a:lnTo>
                    <a:pt x="4201" y="3165"/>
                  </a:lnTo>
                  <a:lnTo>
                    <a:pt x="4270" y="3105"/>
                  </a:lnTo>
                  <a:lnTo>
                    <a:pt x="4554" y="2632"/>
                  </a:lnTo>
                  <a:lnTo>
                    <a:pt x="4661" y="2576"/>
                  </a:lnTo>
                  <a:lnTo>
                    <a:pt x="4890" y="2155"/>
                  </a:lnTo>
                  <a:lnTo>
                    <a:pt x="4873" y="1791"/>
                  </a:lnTo>
                  <a:lnTo>
                    <a:pt x="4706" y="1543"/>
                  </a:lnTo>
                  <a:lnTo>
                    <a:pt x="4723" y="1483"/>
                  </a:lnTo>
                  <a:lnTo>
                    <a:pt x="4693" y="1417"/>
                  </a:lnTo>
                  <a:lnTo>
                    <a:pt x="4674" y="1428"/>
                  </a:lnTo>
                  <a:lnTo>
                    <a:pt x="4642" y="1404"/>
                  </a:lnTo>
                  <a:lnTo>
                    <a:pt x="4626" y="1404"/>
                  </a:lnTo>
                  <a:lnTo>
                    <a:pt x="4628" y="1426"/>
                  </a:lnTo>
                  <a:lnTo>
                    <a:pt x="4590" y="1435"/>
                  </a:lnTo>
                  <a:lnTo>
                    <a:pt x="4492" y="1149"/>
                  </a:lnTo>
                  <a:lnTo>
                    <a:pt x="4254" y="1010"/>
                  </a:lnTo>
                  <a:lnTo>
                    <a:pt x="4225" y="979"/>
                  </a:lnTo>
                  <a:lnTo>
                    <a:pt x="4188" y="780"/>
                  </a:lnTo>
                  <a:lnTo>
                    <a:pt x="4109" y="661"/>
                  </a:lnTo>
                  <a:lnTo>
                    <a:pt x="4074" y="524"/>
                  </a:lnTo>
                  <a:lnTo>
                    <a:pt x="4056" y="427"/>
                  </a:lnTo>
                  <a:lnTo>
                    <a:pt x="4070" y="375"/>
                  </a:lnTo>
                  <a:lnTo>
                    <a:pt x="4039" y="355"/>
                  </a:lnTo>
                  <a:lnTo>
                    <a:pt x="3971" y="434"/>
                  </a:lnTo>
                  <a:lnTo>
                    <a:pt x="3937" y="434"/>
                  </a:lnTo>
                  <a:lnTo>
                    <a:pt x="3837" y="130"/>
                  </a:lnTo>
                  <a:lnTo>
                    <a:pt x="3837" y="0"/>
                  </a:lnTo>
                  <a:lnTo>
                    <a:pt x="3690" y="177"/>
                  </a:lnTo>
                  <a:lnTo>
                    <a:pt x="3723" y="209"/>
                  </a:lnTo>
                  <a:lnTo>
                    <a:pt x="3683" y="227"/>
                  </a:lnTo>
                  <a:lnTo>
                    <a:pt x="3683" y="321"/>
                  </a:lnTo>
                  <a:lnTo>
                    <a:pt x="3652" y="355"/>
                  </a:lnTo>
                  <a:lnTo>
                    <a:pt x="3636" y="533"/>
                  </a:lnTo>
                  <a:lnTo>
                    <a:pt x="3532" y="695"/>
                  </a:lnTo>
                  <a:lnTo>
                    <a:pt x="3501" y="763"/>
                  </a:lnTo>
                  <a:lnTo>
                    <a:pt x="3417" y="771"/>
                  </a:lnTo>
                  <a:lnTo>
                    <a:pt x="3371" y="753"/>
                  </a:lnTo>
                  <a:lnTo>
                    <a:pt x="3287" y="695"/>
                  </a:lnTo>
                  <a:lnTo>
                    <a:pt x="3069" y="596"/>
                  </a:lnTo>
                  <a:lnTo>
                    <a:pt x="2997" y="535"/>
                  </a:lnTo>
                  <a:lnTo>
                    <a:pt x="2847" y="434"/>
                  </a:lnTo>
                  <a:lnTo>
                    <a:pt x="2847" y="337"/>
                  </a:lnTo>
                  <a:lnTo>
                    <a:pt x="2897" y="308"/>
                  </a:lnTo>
                  <a:lnTo>
                    <a:pt x="2949" y="328"/>
                  </a:lnTo>
                  <a:lnTo>
                    <a:pt x="3000" y="286"/>
                  </a:lnTo>
                  <a:lnTo>
                    <a:pt x="2968" y="259"/>
                  </a:lnTo>
                  <a:lnTo>
                    <a:pt x="3016" y="168"/>
                  </a:lnTo>
                  <a:lnTo>
                    <a:pt x="2940" y="148"/>
                  </a:lnTo>
                  <a:lnTo>
                    <a:pt x="2900" y="128"/>
                  </a:lnTo>
                  <a:lnTo>
                    <a:pt x="2801" y="148"/>
                  </a:lnTo>
                  <a:lnTo>
                    <a:pt x="2416" y="7"/>
                  </a:lnTo>
                  <a:lnTo>
                    <a:pt x="2342" y="40"/>
                  </a:lnTo>
                  <a:lnTo>
                    <a:pt x="2427" y="110"/>
                  </a:lnTo>
                  <a:lnTo>
                    <a:pt x="2427" y="157"/>
                  </a:lnTo>
                  <a:lnTo>
                    <a:pt x="2381" y="168"/>
                  </a:lnTo>
                  <a:lnTo>
                    <a:pt x="2313" y="139"/>
                  </a:lnTo>
                  <a:lnTo>
                    <a:pt x="2188" y="171"/>
                  </a:lnTo>
                  <a:lnTo>
                    <a:pt x="1977" y="366"/>
                  </a:lnTo>
                  <a:lnTo>
                    <a:pt x="2039" y="403"/>
                  </a:lnTo>
                  <a:lnTo>
                    <a:pt x="2028" y="434"/>
                  </a:lnTo>
                  <a:lnTo>
                    <a:pt x="2039" y="466"/>
                  </a:lnTo>
                  <a:lnTo>
                    <a:pt x="1960" y="434"/>
                  </a:lnTo>
                  <a:lnTo>
                    <a:pt x="1922" y="403"/>
                  </a:lnTo>
                  <a:lnTo>
                    <a:pt x="1877" y="434"/>
                  </a:lnTo>
                  <a:lnTo>
                    <a:pt x="1861" y="432"/>
                  </a:lnTo>
                  <a:lnTo>
                    <a:pt x="1822" y="497"/>
                  </a:lnTo>
                  <a:lnTo>
                    <a:pt x="1806" y="479"/>
                  </a:lnTo>
                  <a:lnTo>
                    <a:pt x="1821" y="416"/>
                  </a:lnTo>
                  <a:lnTo>
                    <a:pt x="1675" y="310"/>
                  </a:lnTo>
                  <a:lnTo>
                    <a:pt x="1643" y="339"/>
                  </a:lnTo>
                  <a:lnTo>
                    <a:pt x="1574" y="358"/>
                  </a:lnTo>
                  <a:lnTo>
                    <a:pt x="1559" y="375"/>
                  </a:lnTo>
                  <a:lnTo>
                    <a:pt x="1473" y="396"/>
                  </a:lnTo>
                  <a:lnTo>
                    <a:pt x="1457" y="441"/>
                  </a:lnTo>
                  <a:lnTo>
                    <a:pt x="1403" y="479"/>
                  </a:lnTo>
                  <a:lnTo>
                    <a:pt x="1407" y="504"/>
                  </a:lnTo>
                  <a:lnTo>
                    <a:pt x="1321" y="522"/>
                  </a:lnTo>
                  <a:lnTo>
                    <a:pt x="1321" y="576"/>
                  </a:lnTo>
                  <a:lnTo>
                    <a:pt x="1291" y="603"/>
                  </a:lnTo>
                  <a:lnTo>
                    <a:pt x="1225" y="564"/>
                  </a:lnTo>
                  <a:lnTo>
                    <a:pt x="1207" y="582"/>
                  </a:lnTo>
                  <a:lnTo>
                    <a:pt x="1254" y="700"/>
                  </a:lnTo>
                  <a:lnTo>
                    <a:pt x="1221" y="700"/>
                  </a:lnTo>
                  <a:lnTo>
                    <a:pt x="1204" y="733"/>
                  </a:lnTo>
                  <a:lnTo>
                    <a:pt x="1117" y="659"/>
                  </a:lnTo>
                  <a:lnTo>
                    <a:pt x="1052" y="760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595840" y="5770440"/>
              <a:ext cx="115920" cy="85680"/>
            </a:xfrm>
            <a:custGeom>
              <a:avLst/>
              <a:gdLst/>
              <a:ahLst/>
              <a:rect l="l" t="t" r="r" b="b"/>
              <a:pathLst>
                <a:path w="73" h="54">
                  <a:moveTo>
                    <a:pt x="0" y="8"/>
                  </a:moveTo>
                  <a:lnTo>
                    <a:pt x="1" y="29"/>
                  </a:lnTo>
                  <a:lnTo>
                    <a:pt x="17" y="53"/>
                  </a:lnTo>
                  <a:lnTo>
                    <a:pt x="48" y="44"/>
                  </a:lnTo>
                  <a:lnTo>
                    <a:pt x="72" y="39"/>
                  </a:lnTo>
                  <a:lnTo>
                    <a:pt x="72" y="12"/>
                  </a:lnTo>
                  <a:lnTo>
                    <a:pt x="40" y="0"/>
                  </a:lnTo>
                  <a:lnTo>
                    <a:pt x="0" y="8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13480" y="5862600"/>
              <a:ext cx="749160" cy="645840"/>
            </a:xfrm>
            <a:custGeom>
              <a:avLst/>
              <a:gdLst/>
              <a:ahLst/>
              <a:rect l="l" t="t" r="r" b="b"/>
              <a:pathLst>
                <a:path w="472" h="407">
                  <a:moveTo>
                    <a:pt x="0" y="41"/>
                  </a:moveTo>
                  <a:lnTo>
                    <a:pt x="0" y="98"/>
                  </a:lnTo>
                  <a:lnTo>
                    <a:pt x="12" y="121"/>
                  </a:lnTo>
                  <a:lnTo>
                    <a:pt x="28" y="155"/>
                  </a:lnTo>
                  <a:lnTo>
                    <a:pt x="36" y="164"/>
                  </a:lnTo>
                  <a:lnTo>
                    <a:pt x="54" y="202"/>
                  </a:lnTo>
                  <a:lnTo>
                    <a:pt x="78" y="252"/>
                  </a:lnTo>
                  <a:lnTo>
                    <a:pt x="102" y="308"/>
                  </a:lnTo>
                  <a:lnTo>
                    <a:pt x="127" y="351"/>
                  </a:lnTo>
                  <a:lnTo>
                    <a:pt x="174" y="394"/>
                  </a:lnTo>
                  <a:lnTo>
                    <a:pt x="207" y="398"/>
                  </a:lnTo>
                  <a:lnTo>
                    <a:pt x="241" y="406"/>
                  </a:lnTo>
                  <a:lnTo>
                    <a:pt x="286" y="394"/>
                  </a:lnTo>
                  <a:lnTo>
                    <a:pt x="350" y="315"/>
                  </a:lnTo>
                  <a:lnTo>
                    <a:pt x="421" y="215"/>
                  </a:lnTo>
                  <a:lnTo>
                    <a:pt x="462" y="140"/>
                  </a:lnTo>
                  <a:lnTo>
                    <a:pt x="471" y="89"/>
                  </a:lnTo>
                  <a:lnTo>
                    <a:pt x="471" y="9"/>
                  </a:lnTo>
                  <a:lnTo>
                    <a:pt x="445" y="0"/>
                  </a:lnTo>
                  <a:lnTo>
                    <a:pt x="379" y="24"/>
                  </a:lnTo>
                  <a:lnTo>
                    <a:pt x="250" y="89"/>
                  </a:lnTo>
                  <a:lnTo>
                    <a:pt x="178" y="100"/>
                  </a:lnTo>
                  <a:lnTo>
                    <a:pt x="121" y="89"/>
                  </a:lnTo>
                  <a:lnTo>
                    <a:pt x="79" y="75"/>
                  </a:lnTo>
                  <a:lnTo>
                    <a:pt x="0" y="41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78680" y="5752800"/>
              <a:ext cx="112680" cy="73080"/>
            </a:xfrm>
            <a:custGeom>
              <a:avLst/>
              <a:gdLst/>
              <a:ahLst/>
              <a:rect l="l" t="t" r="r" b="b"/>
              <a:pathLst>
                <a:path w="71" h="46">
                  <a:moveTo>
                    <a:pt x="30" y="0"/>
                  </a:moveTo>
                  <a:lnTo>
                    <a:pt x="0" y="19"/>
                  </a:lnTo>
                  <a:lnTo>
                    <a:pt x="16" y="39"/>
                  </a:lnTo>
                  <a:lnTo>
                    <a:pt x="37" y="45"/>
                  </a:lnTo>
                  <a:lnTo>
                    <a:pt x="54" y="39"/>
                  </a:lnTo>
                  <a:lnTo>
                    <a:pt x="64" y="32"/>
                  </a:lnTo>
                  <a:lnTo>
                    <a:pt x="70" y="27"/>
                  </a:lnTo>
                  <a:lnTo>
                    <a:pt x="70" y="12"/>
                  </a:lnTo>
                  <a:lnTo>
                    <a:pt x="30" y="0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887720" y="1062000"/>
              <a:ext cx="127080" cy="93600"/>
            </a:xfrm>
            <a:custGeom>
              <a:avLst/>
              <a:gdLst/>
              <a:ahLst/>
              <a:rect l="l" t="t" r="r" b="b"/>
              <a:pathLst>
                <a:path w="80" h="59">
                  <a:moveTo>
                    <a:pt x="40" y="0"/>
                  </a:moveTo>
                  <a:lnTo>
                    <a:pt x="0" y="26"/>
                  </a:lnTo>
                  <a:lnTo>
                    <a:pt x="15" y="51"/>
                  </a:lnTo>
                  <a:lnTo>
                    <a:pt x="50" y="58"/>
                  </a:lnTo>
                  <a:lnTo>
                    <a:pt x="79" y="38"/>
                  </a:lnTo>
                  <a:lnTo>
                    <a:pt x="77" y="11"/>
                  </a:lnTo>
                  <a:lnTo>
                    <a:pt x="69" y="7"/>
                  </a:lnTo>
                  <a:lnTo>
                    <a:pt x="40" y="0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757680" y="452160"/>
              <a:ext cx="100080" cy="76320"/>
            </a:xfrm>
            <a:custGeom>
              <a:avLst/>
              <a:gdLst/>
              <a:ahLst/>
              <a:rect l="l" t="t" r="r" b="b"/>
              <a:pathLst>
                <a:path w="63" h="48">
                  <a:moveTo>
                    <a:pt x="0" y="12"/>
                  </a:moveTo>
                  <a:lnTo>
                    <a:pt x="14" y="47"/>
                  </a:lnTo>
                  <a:lnTo>
                    <a:pt x="48" y="40"/>
                  </a:lnTo>
                  <a:lnTo>
                    <a:pt x="62" y="22"/>
                  </a:lnTo>
                  <a:lnTo>
                    <a:pt x="48" y="6"/>
                  </a:lnTo>
                  <a:lnTo>
                    <a:pt x="22" y="0"/>
                  </a:lnTo>
                  <a:lnTo>
                    <a:pt x="0" y="12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78040" y="577800"/>
              <a:ext cx="90720" cy="7452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0" y="21"/>
                  </a:lnTo>
                  <a:lnTo>
                    <a:pt x="15" y="46"/>
                  </a:lnTo>
                  <a:lnTo>
                    <a:pt x="39" y="40"/>
                  </a:lnTo>
                  <a:lnTo>
                    <a:pt x="56" y="19"/>
                  </a:lnTo>
                  <a:lnTo>
                    <a:pt x="55" y="8"/>
                  </a:lnTo>
                  <a:lnTo>
                    <a:pt x="14" y="0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613400" y="4932360"/>
              <a:ext cx="318960" cy="93600"/>
            </a:xfrm>
            <a:custGeom>
              <a:avLst/>
              <a:gdLst/>
              <a:ahLst/>
              <a:rect l="l" t="t" r="r" b="b"/>
              <a:pathLst>
                <a:path w="201" h="59">
                  <a:moveTo>
                    <a:pt x="0" y="9"/>
                  </a:moveTo>
                  <a:lnTo>
                    <a:pt x="3" y="32"/>
                  </a:lnTo>
                  <a:lnTo>
                    <a:pt x="48" y="58"/>
                  </a:lnTo>
                  <a:lnTo>
                    <a:pt x="132" y="48"/>
                  </a:lnTo>
                  <a:lnTo>
                    <a:pt x="200" y="42"/>
                  </a:lnTo>
                  <a:lnTo>
                    <a:pt x="200" y="13"/>
                  </a:lnTo>
                  <a:lnTo>
                    <a:pt x="110" y="0"/>
                  </a:lnTo>
                  <a:lnTo>
                    <a:pt x="0" y="9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 flipV="1">
            <a:off x="7448400" y="4083120"/>
            <a:ext cx="1497240" cy="52704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5956200" y="4533840"/>
            <a:ext cx="1301760" cy="806400"/>
          </a:xfrm>
          <a:prstGeom prst="line">
            <a:avLst/>
          </a:prstGeom>
          <a:ln w="1015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000080" y="4330800"/>
            <a:ext cx="3921120" cy="3366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26040" y="4724280"/>
            <a:ext cx="754200" cy="5590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133880" y="596880"/>
            <a:ext cx="1758960" cy="46990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918040" y="5321160"/>
            <a:ext cx="154080" cy="10414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937120" y="5121000"/>
            <a:ext cx="793800" cy="2077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767640" y="4541760"/>
            <a:ext cx="555480" cy="6429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33840" y="2324160"/>
            <a:ext cx="403200" cy="174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407360" y="3673440"/>
            <a:ext cx="190440" cy="7747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15000" y="5624640"/>
            <a:ext cx="474840" cy="1965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140440" y="4838760"/>
            <a:ext cx="596880" cy="2160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5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09800" y="4471920"/>
            <a:ext cx="534960" cy="2160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5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969320" y="4200480"/>
            <a:ext cx="422280" cy="1922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154560" y="5253120"/>
            <a:ext cx="508320" cy="1522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5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63600" y="0"/>
            <a:ext cx="385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elstra Interne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un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157400" y="4305240"/>
            <a:ext cx="5951520" cy="1303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263760" y="4229280"/>
            <a:ext cx="482760" cy="1965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412040" y="3924360"/>
            <a:ext cx="476280" cy="1969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81800" y="4614840"/>
            <a:ext cx="514440" cy="344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947000" y="5010120"/>
            <a:ext cx="666720" cy="177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765920" y="4886280"/>
            <a:ext cx="422280" cy="1922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012680" y="1587600"/>
            <a:ext cx="6863040" cy="27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851200" y="3409920"/>
            <a:ext cx="441360" cy="2350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4923000" y="4565520"/>
          <a:ext cx="222120" cy="2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3000" y="4565520"/>
                    <a:ext cx="222120" cy="219240"/>
                  </a:xfrm>
                  <a:prstGeom prst="rect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878040" y="4203720"/>
          <a:ext cx="222120" cy="21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8040" y="4203720"/>
                    <a:ext cx="222120" cy="218880"/>
                  </a:xfrm>
                  <a:prstGeom prst="rect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5799240" y="5189400"/>
          <a:ext cx="222120" cy="21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9240" y="5189400"/>
                    <a:ext cx="222120" cy="219240"/>
                  </a:xfrm>
                  <a:prstGeom prst="rect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8" name=""/>
          <p:cNvSpPr/>
          <p:nvPr/>
        </p:nvSpPr>
        <p:spPr>
          <a:xfrm>
            <a:off x="366120" y="6070680"/>
            <a:ext cx="3785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stra Internet Point of Pres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0" y="6066000"/>
          <a:ext cx="374760" cy="37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66000"/>
                    <a:ext cx="374760" cy="371160"/>
                  </a:xfrm>
                  <a:prstGeom prst="rect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71" name=""/>
          <p:cNvSpPr/>
          <p:nvPr/>
        </p:nvSpPr>
        <p:spPr>
          <a:xfrm>
            <a:off x="8399880" y="3822840"/>
            <a:ext cx="856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206040" y="6222960"/>
            <a:ext cx="833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b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78520" y="5103720"/>
            <a:ext cx="1071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be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521480" y="4508640"/>
            <a:ext cx="902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845840" y="3263760"/>
            <a:ext cx="104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724920" y="4508640"/>
            <a:ext cx="102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ela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357000" y="835200"/>
            <a:ext cx="856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rw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0" y="4184640"/>
            <a:ext cx="69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483040" y="5270400"/>
            <a:ext cx="698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945920" y="1330200"/>
            <a:ext cx="856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5502240" y="577800"/>
            <a:ext cx="1782720" cy="3905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7165800" y="4403880"/>
          <a:ext cx="222480" cy="218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65800" y="4403880"/>
                    <a:ext cx="222480" cy="218880"/>
                  </a:xfrm>
                  <a:prstGeom prst="rect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4" name=""/>
          <p:cNvSpPr/>
          <p:nvPr/>
        </p:nvSpPr>
        <p:spPr>
          <a:xfrm>
            <a:off x="5896080" y="1714680"/>
            <a:ext cx="403200" cy="174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851000" y="301680"/>
            <a:ext cx="979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As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’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986960" y="5938920"/>
            <a:ext cx="856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5996160" y="6242040"/>
          <a:ext cx="222120" cy="219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96160" y="6242040"/>
                    <a:ext cx="222120" cy="219240"/>
                  </a:xfrm>
                  <a:prstGeom prst="rect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89" name=""/>
          <p:cNvGraphicFramePr/>
          <p:nvPr/>
        </p:nvGraphicFramePr>
        <p:xfrm>
          <a:off x="3973680" y="450720"/>
          <a:ext cx="222120" cy="219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73680" y="450720"/>
                    <a:ext cx="222120" cy="219240"/>
                  </a:xfrm>
                  <a:prstGeom prst="rect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6697800" y="5060880"/>
          <a:ext cx="222120" cy="219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97800" y="5060880"/>
                    <a:ext cx="222120" cy="219240"/>
                  </a:xfrm>
                  <a:prstGeom prst="rect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7502400" y="4146480"/>
          <a:ext cx="222480" cy="219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02400" y="4146480"/>
                    <a:ext cx="222480" cy="219240"/>
                  </a:xfrm>
                  <a:prstGeom prst="rect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95" name=""/>
          <p:cNvSpPr/>
          <p:nvPr/>
        </p:nvSpPr>
        <p:spPr>
          <a:xfrm>
            <a:off x="6897600" y="4838760"/>
            <a:ext cx="507960" cy="1810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5 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06400" y="5251320"/>
            <a:ext cx="120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lbour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26280" y="4809960"/>
            <a:ext cx="50796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191360" y="2406600"/>
            <a:ext cx="469800" cy="111780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7089840" y="2241720"/>
          <a:ext cx="222120" cy="218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89840" y="2241720"/>
                    <a:ext cx="222120" cy="218880"/>
                  </a:xfrm>
                  <a:prstGeom prst="rect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01" name=""/>
          <p:cNvGraphicFramePr/>
          <p:nvPr/>
        </p:nvGraphicFramePr>
        <p:xfrm>
          <a:off x="7585200" y="3460680"/>
          <a:ext cx="222120" cy="219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85200" y="3460680"/>
                    <a:ext cx="222120" cy="219240"/>
                  </a:xfrm>
                  <a:prstGeom prst="rect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7832880" y="3613320"/>
          <a:ext cx="225360" cy="222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832880" y="3613320"/>
                    <a:ext cx="225360" cy="222120"/>
                  </a:xfrm>
                  <a:prstGeom prst="rect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05" name=""/>
          <p:cNvSpPr/>
          <p:nvPr/>
        </p:nvSpPr>
        <p:spPr>
          <a:xfrm>
            <a:off x="7229520" y="2905200"/>
            <a:ext cx="385560" cy="174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8594640" y="5060880"/>
          <a:ext cx="225360" cy="2224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594640" y="5060880"/>
                    <a:ext cx="225360" cy="222480"/>
                  </a:xfrm>
                  <a:prstGeom prst="rect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08" name=""/>
          <p:cNvSpPr/>
          <p:nvPr/>
        </p:nvSpPr>
        <p:spPr>
          <a:xfrm>
            <a:off x="8174520" y="4799160"/>
            <a:ext cx="109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ck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958680" y="720720"/>
            <a:ext cx="3127680" cy="34704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71880" y="2533680"/>
            <a:ext cx="403200" cy="174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Infra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- Resiliency via Dial-on-Dem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 backup circuits using ISDN, X.25 or mod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of matching backup capacity against primary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Infra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ss to common switched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Infra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 and ATM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ed Service contract (and enforce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iff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vs static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behavi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Peer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is my pe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ting betwe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network (they pay me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provider network (I pay them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network (we pay each other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no Internet mechanisms to objectively determine who is a peer network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Infrastructure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33"/>
                </a:solidFill>
                <a:latin typeface="Tahoma"/>
              </a:rPr>
              <a:t>Co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outers driving major internal trunk li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d206"/>
                </a:solidFill>
                <a:latin typeface="Tahoma"/>
              </a:rPr>
              <a:t>Ed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outers providing client connection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outers used on client s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5940360" y="4362480"/>
            <a:ext cx="1238400" cy="799560"/>
            <a:chOff x="5940360" y="4362480"/>
            <a:chExt cx="1238400" cy="799560"/>
          </a:xfrm>
        </p:grpSpPr>
        <p:sp>
          <p:nvSpPr>
            <p:cNvPr id="720" name=""/>
            <p:cNvSpPr/>
            <p:nvPr/>
          </p:nvSpPr>
          <p:spPr>
            <a:xfrm>
              <a:off x="5959440" y="4593960"/>
              <a:ext cx="1216080" cy="568080"/>
            </a:xfrm>
            <a:prstGeom prst="ellipse">
              <a:avLst/>
            </a:prstGeom>
            <a:gradFill rotWithShape="0">
              <a:gsLst>
                <a:gs pos="0">
                  <a:srgbClr val="b12300"/>
                </a:gs>
                <a:gs pos="50000">
                  <a:srgbClr val="ff3300"/>
                </a:gs>
                <a:gs pos="100000">
                  <a:srgbClr val="b123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940360" y="4663800"/>
              <a:ext cx="1238400" cy="218520"/>
            </a:xfrm>
            <a:prstGeom prst="rect">
              <a:avLst/>
            </a:prstGeom>
            <a:gradFill rotWithShape="0">
              <a:gsLst>
                <a:gs pos="0">
                  <a:srgbClr val="b12300"/>
                </a:gs>
                <a:gs pos="50000">
                  <a:srgbClr val="ff3300"/>
                </a:gs>
                <a:gs pos="100000">
                  <a:srgbClr val="b12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959440" y="4362480"/>
              <a:ext cx="1216080" cy="5695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969160" y="4489200"/>
              <a:ext cx="520560" cy="2790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630840" y="4498560"/>
              <a:ext cx="520920" cy="2790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389640" y="4679640"/>
              <a:ext cx="370080" cy="2296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389640" y="4370040"/>
              <a:ext cx="370080" cy="24264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4680000" y="4335480"/>
            <a:ext cx="1247760" cy="919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3741840" y="3998880"/>
            <a:ext cx="925560" cy="718920"/>
            <a:chOff x="3741840" y="3998880"/>
            <a:chExt cx="925560" cy="718920"/>
          </a:xfrm>
        </p:grpSpPr>
        <p:sp>
          <p:nvSpPr>
            <p:cNvPr id="729" name=""/>
            <p:cNvSpPr/>
            <p:nvPr/>
          </p:nvSpPr>
          <p:spPr>
            <a:xfrm>
              <a:off x="3755520" y="4207320"/>
              <a:ext cx="909000" cy="51048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741840" y="4269960"/>
              <a:ext cx="925560" cy="19656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755520" y="3998880"/>
              <a:ext cx="909000" cy="512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63080" y="4113000"/>
              <a:ext cx="389160" cy="25092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58080" y="4121280"/>
              <a:ext cx="389160" cy="25092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077360" y="4284360"/>
              <a:ext cx="276480" cy="20664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077360" y="4005720"/>
              <a:ext cx="276480" cy="21816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3741840" y="4518000"/>
            <a:ext cx="957240" cy="569520"/>
            <a:chOff x="3741840" y="4518000"/>
            <a:chExt cx="957240" cy="569520"/>
          </a:xfrm>
        </p:grpSpPr>
        <p:sp>
          <p:nvSpPr>
            <p:cNvPr id="737" name=""/>
            <p:cNvSpPr/>
            <p:nvPr/>
          </p:nvSpPr>
          <p:spPr>
            <a:xfrm>
              <a:off x="3756240" y="4682880"/>
              <a:ext cx="940320" cy="40464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741840" y="4732920"/>
              <a:ext cx="957240" cy="15588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56240" y="4518000"/>
              <a:ext cx="94032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763800" y="4608360"/>
              <a:ext cx="402480" cy="19872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275720" y="4615200"/>
              <a:ext cx="402480" cy="19872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088880" y="4744080"/>
              <a:ext cx="285840" cy="16380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88880" y="4523400"/>
              <a:ext cx="285840" cy="17280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3741840" y="4888080"/>
            <a:ext cx="958680" cy="701280"/>
            <a:chOff x="3741840" y="4888080"/>
            <a:chExt cx="958680" cy="701280"/>
          </a:xfrm>
        </p:grpSpPr>
        <p:sp>
          <p:nvSpPr>
            <p:cNvPr id="745" name=""/>
            <p:cNvSpPr/>
            <p:nvPr/>
          </p:nvSpPr>
          <p:spPr>
            <a:xfrm>
              <a:off x="3756240" y="5091120"/>
              <a:ext cx="941400" cy="49824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741840" y="5152680"/>
              <a:ext cx="958680" cy="19188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756240" y="4888080"/>
              <a:ext cx="941400" cy="49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63800" y="4999320"/>
              <a:ext cx="402840" cy="2448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76440" y="5007600"/>
              <a:ext cx="402840" cy="2448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089240" y="5166360"/>
              <a:ext cx="286560" cy="20160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89240" y="4894920"/>
              <a:ext cx="286560" cy="21312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1676520" y="3362400"/>
            <a:ext cx="663480" cy="601200"/>
            <a:chOff x="1676520" y="3362400"/>
            <a:chExt cx="663480" cy="601200"/>
          </a:xfrm>
        </p:grpSpPr>
        <p:sp>
          <p:nvSpPr>
            <p:cNvPr id="753" name=""/>
            <p:cNvSpPr/>
            <p:nvPr/>
          </p:nvSpPr>
          <p:spPr>
            <a:xfrm>
              <a:off x="1686600" y="3536280"/>
              <a:ext cx="651600" cy="427320"/>
            </a:xfrm>
            <a:prstGeom prst="ellipse">
              <a:avLst/>
            </a:prstGeom>
            <a:gradFill rotWithShape="0">
              <a:gsLst>
                <a:gs pos="0">
                  <a:srgbClr val="946f1d"/>
                </a:gs>
                <a:gs pos="50000">
                  <a:srgbClr val="d5a12a"/>
                </a:gs>
                <a:gs pos="100000">
                  <a:srgbClr val="946f1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676520" y="3588840"/>
              <a:ext cx="663480" cy="164880"/>
            </a:xfrm>
            <a:prstGeom prst="rect">
              <a:avLst/>
            </a:prstGeom>
            <a:gradFill rotWithShape="0">
              <a:gsLst>
                <a:gs pos="0">
                  <a:srgbClr val="946f1d"/>
                </a:gs>
                <a:gs pos="50000">
                  <a:srgbClr val="d5a12a"/>
                </a:gs>
                <a:gs pos="100000">
                  <a:srgbClr val="946f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86600" y="3362400"/>
              <a:ext cx="651600" cy="428400"/>
            </a:xfrm>
            <a:prstGeom prst="ellipse">
              <a:avLst/>
            </a:prstGeom>
            <a:solidFill>
              <a:srgbClr val="d5a12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91640" y="3457440"/>
              <a:ext cx="279000" cy="20988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46600" y="3465000"/>
              <a:ext cx="279000" cy="20988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917000" y="3600720"/>
              <a:ext cx="198000" cy="17316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7000" y="3368160"/>
              <a:ext cx="198000" cy="18216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1693800" y="3773520"/>
            <a:ext cx="663480" cy="601200"/>
            <a:chOff x="1693800" y="3773520"/>
            <a:chExt cx="663480" cy="601200"/>
          </a:xfrm>
        </p:grpSpPr>
        <p:sp>
          <p:nvSpPr>
            <p:cNvPr id="761" name=""/>
            <p:cNvSpPr/>
            <p:nvPr/>
          </p:nvSpPr>
          <p:spPr>
            <a:xfrm>
              <a:off x="1703880" y="3947400"/>
              <a:ext cx="651600" cy="427320"/>
            </a:xfrm>
            <a:prstGeom prst="ellipse">
              <a:avLst/>
            </a:prstGeom>
            <a:gradFill rotWithShape="0">
              <a:gsLst>
                <a:gs pos="0">
                  <a:srgbClr val="946f1d"/>
                </a:gs>
                <a:gs pos="50000">
                  <a:srgbClr val="d5a12a"/>
                </a:gs>
                <a:gs pos="100000">
                  <a:srgbClr val="946f1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693800" y="3999960"/>
              <a:ext cx="663480" cy="164880"/>
            </a:xfrm>
            <a:prstGeom prst="rect">
              <a:avLst/>
            </a:prstGeom>
            <a:gradFill rotWithShape="0">
              <a:gsLst>
                <a:gs pos="0">
                  <a:srgbClr val="946f1d"/>
                </a:gs>
                <a:gs pos="50000">
                  <a:srgbClr val="d5a12a"/>
                </a:gs>
                <a:gs pos="100000">
                  <a:srgbClr val="946f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703880" y="3773520"/>
              <a:ext cx="651600" cy="428400"/>
            </a:xfrm>
            <a:prstGeom prst="ellipse">
              <a:avLst/>
            </a:prstGeom>
            <a:solidFill>
              <a:srgbClr val="d5a12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708920" y="3868560"/>
              <a:ext cx="279000" cy="20988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063880" y="3876120"/>
              <a:ext cx="279000" cy="20988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934280" y="4011840"/>
              <a:ext cx="198000" cy="17316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934280" y="3779280"/>
              <a:ext cx="198000" cy="18216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709640" y="4214880"/>
            <a:ext cx="663840" cy="601200"/>
            <a:chOff x="1709640" y="4214880"/>
            <a:chExt cx="663840" cy="601200"/>
          </a:xfrm>
        </p:grpSpPr>
        <p:sp>
          <p:nvSpPr>
            <p:cNvPr id="769" name=""/>
            <p:cNvSpPr/>
            <p:nvPr/>
          </p:nvSpPr>
          <p:spPr>
            <a:xfrm>
              <a:off x="1719720" y="4388760"/>
              <a:ext cx="651960" cy="427320"/>
            </a:xfrm>
            <a:prstGeom prst="ellipse">
              <a:avLst/>
            </a:prstGeom>
            <a:gradFill rotWithShape="0">
              <a:gsLst>
                <a:gs pos="0">
                  <a:srgbClr val="946f1d"/>
                </a:gs>
                <a:gs pos="50000">
                  <a:srgbClr val="d5a12a"/>
                </a:gs>
                <a:gs pos="100000">
                  <a:srgbClr val="946f1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709640" y="4441320"/>
              <a:ext cx="663840" cy="164880"/>
            </a:xfrm>
            <a:prstGeom prst="rect">
              <a:avLst/>
            </a:prstGeom>
            <a:gradFill rotWithShape="0">
              <a:gsLst>
                <a:gs pos="0">
                  <a:srgbClr val="946f1d"/>
                </a:gs>
                <a:gs pos="50000">
                  <a:srgbClr val="d5a12a"/>
                </a:gs>
                <a:gs pos="100000">
                  <a:srgbClr val="946f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719720" y="4214880"/>
              <a:ext cx="651960" cy="428400"/>
            </a:xfrm>
            <a:prstGeom prst="ellipse">
              <a:avLst/>
            </a:prstGeom>
            <a:solidFill>
              <a:srgbClr val="d5a12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24760" y="4309920"/>
              <a:ext cx="279000" cy="20988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079720" y="4317480"/>
              <a:ext cx="279000" cy="20988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950480" y="4453200"/>
              <a:ext cx="198000" cy="17316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950480" y="4220640"/>
              <a:ext cx="198000" cy="18216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1709640" y="4640400"/>
            <a:ext cx="663840" cy="601200"/>
            <a:chOff x="1709640" y="4640400"/>
            <a:chExt cx="663840" cy="601200"/>
          </a:xfrm>
        </p:grpSpPr>
        <p:sp>
          <p:nvSpPr>
            <p:cNvPr id="777" name=""/>
            <p:cNvSpPr/>
            <p:nvPr/>
          </p:nvSpPr>
          <p:spPr>
            <a:xfrm>
              <a:off x="1719720" y="4814280"/>
              <a:ext cx="651960" cy="427320"/>
            </a:xfrm>
            <a:prstGeom prst="ellipse">
              <a:avLst/>
            </a:prstGeom>
            <a:gradFill rotWithShape="0">
              <a:gsLst>
                <a:gs pos="0">
                  <a:srgbClr val="946f1d"/>
                </a:gs>
                <a:gs pos="50000">
                  <a:srgbClr val="d5a12a"/>
                </a:gs>
                <a:gs pos="100000">
                  <a:srgbClr val="946f1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09640" y="4866840"/>
              <a:ext cx="663840" cy="164880"/>
            </a:xfrm>
            <a:prstGeom prst="rect">
              <a:avLst/>
            </a:prstGeom>
            <a:gradFill rotWithShape="0">
              <a:gsLst>
                <a:gs pos="0">
                  <a:srgbClr val="946f1d"/>
                </a:gs>
                <a:gs pos="50000">
                  <a:srgbClr val="d5a12a"/>
                </a:gs>
                <a:gs pos="100000">
                  <a:srgbClr val="946f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719720" y="4640400"/>
              <a:ext cx="651960" cy="428400"/>
            </a:xfrm>
            <a:prstGeom prst="ellipse">
              <a:avLst/>
            </a:prstGeom>
            <a:solidFill>
              <a:srgbClr val="d5a12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724760" y="4735440"/>
              <a:ext cx="279000" cy="20988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079720" y="4743000"/>
              <a:ext cx="279000" cy="20988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950480" y="4878720"/>
              <a:ext cx="198000" cy="17316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950480" y="4646160"/>
              <a:ext cx="198000" cy="18216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1709640" y="5065560"/>
            <a:ext cx="663840" cy="601560"/>
            <a:chOff x="1709640" y="5065560"/>
            <a:chExt cx="663840" cy="601560"/>
          </a:xfrm>
        </p:grpSpPr>
        <p:sp>
          <p:nvSpPr>
            <p:cNvPr id="785" name=""/>
            <p:cNvSpPr/>
            <p:nvPr/>
          </p:nvSpPr>
          <p:spPr>
            <a:xfrm>
              <a:off x="1719720" y="5239440"/>
              <a:ext cx="651960" cy="427680"/>
            </a:xfrm>
            <a:prstGeom prst="ellipse">
              <a:avLst/>
            </a:prstGeom>
            <a:gradFill rotWithShape="0">
              <a:gsLst>
                <a:gs pos="0">
                  <a:srgbClr val="946f1d"/>
                </a:gs>
                <a:gs pos="50000">
                  <a:srgbClr val="d5a12a"/>
                </a:gs>
                <a:gs pos="100000">
                  <a:srgbClr val="946f1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09640" y="5292000"/>
              <a:ext cx="663840" cy="164880"/>
            </a:xfrm>
            <a:prstGeom prst="rect">
              <a:avLst/>
            </a:prstGeom>
            <a:gradFill rotWithShape="0">
              <a:gsLst>
                <a:gs pos="0">
                  <a:srgbClr val="946f1d"/>
                </a:gs>
                <a:gs pos="50000">
                  <a:srgbClr val="d5a12a"/>
                </a:gs>
                <a:gs pos="100000">
                  <a:srgbClr val="946f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19720" y="5065560"/>
              <a:ext cx="651960" cy="428760"/>
            </a:xfrm>
            <a:prstGeom prst="ellipse">
              <a:avLst/>
            </a:prstGeom>
            <a:solidFill>
              <a:srgbClr val="d5a12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724760" y="5160600"/>
              <a:ext cx="279000" cy="21024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079720" y="5168160"/>
              <a:ext cx="279000" cy="21024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950480" y="5304240"/>
              <a:ext cx="198000" cy="17316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950480" y="5071320"/>
              <a:ext cx="198000" cy="18252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1709640" y="5491080"/>
            <a:ext cx="663840" cy="601560"/>
            <a:chOff x="1709640" y="5491080"/>
            <a:chExt cx="663840" cy="601560"/>
          </a:xfrm>
        </p:grpSpPr>
        <p:sp>
          <p:nvSpPr>
            <p:cNvPr id="793" name=""/>
            <p:cNvSpPr/>
            <p:nvPr/>
          </p:nvSpPr>
          <p:spPr>
            <a:xfrm>
              <a:off x="1719720" y="5664960"/>
              <a:ext cx="651960" cy="427680"/>
            </a:xfrm>
            <a:prstGeom prst="ellipse">
              <a:avLst/>
            </a:prstGeom>
            <a:gradFill rotWithShape="0">
              <a:gsLst>
                <a:gs pos="0">
                  <a:srgbClr val="946f1d"/>
                </a:gs>
                <a:gs pos="50000">
                  <a:srgbClr val="d5a12a"/>
                </a:gs>
                <a:gs pos="100000">
                  <a:srgbClr val="946f1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709640" y="5717520"/>
              <a:ext cx="663840" cy="164880"/>
            </a:xfrm>
            <a:prstGeom prst="rect">
              <a:avLst/>
            </a:prstGeom>
            <a:gradFill rotWithShape="0">
              <a:gsLst>
                <a:gs pos="0">
                  <a:srgbClr val="946f1d"/>
                </a:gs>
                <a:gs pos="50000">
                  <a:srgbClr val="d5a12a"/>
                </a:gs>
                <a:gs pos="100000">
                  <a:srgbClr val="946f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19720" y="5491080"/>
              <a:ext cx="651960" cy="428760"/>
            </a:xfrm>
            <a:prstGeom prst="ellipse">
              <a:avLst/>
            </a:prstGeom>
            <a:solidFill>
              <a:srgbClr val="d5a12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724760" y="5586120"/>
              <a:ext cx="279000" cy="21024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079720" y="5593680"/>
              <a:ext cx="279000" cy="21024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950480" y="5729760"/>
              <a:ext cx="198000" cy="17316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50480" y="5496840"/>
              <a:ext cx="198000" cy="18252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725480" y="5916600"/>
            <a:ext cx="663840" cy="601200"/>
            <a:chOff x="1725480" y="5916600"/>
            <a:chExt cx="663840" cy="601200"/>
          </a:xfrm>
        </p:grpSpPr>
        <p:sp>
          <p:nvSpPr>
            <p:cNvPr id="801" name=""/>
            <p:cNvSpPr/>
            <p:nvPr/>
          </p:nvSpPr>
          <p:spPr>
            <a:xfrm>
              <a:off x="1735560" y="6090480"/>
              <a:ext cx="651960" cy="427320"/>
            </a:xfrm>
            <a:prstGeom prst="ellipse">
              <a:avLst/>
            </a:prstGeom>
            <a:gradFill rotWithShape="0">
              <a:gsLst>
                <a:gs pos="0">
                  <a:srgbClr val="946f1d"/>
                </a:gs>
                <a:gs pos="50000">
                  <a:srgbClr val="d5a12a"/>
                </a:gs>
                <a:gs pos="100000">
                  <a:srgbClr val="946f1d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725480" y="6143040"/>
              <a:ext cx="663840" cy="164880"/>
            </a:xfrm>
            <a:prstGeom prst="rect">
              <a:avLst/>
            </a:prstGeom>
            <a:gradFill rotWithShape="0">
              <a:gsLst>
                <a:gs pos="0">
                  <a:srgbClr val="946f1d"/>
                </a:gs>
                <a:gs pos="50000">
                  <a:srgbClr val="d5a12a"/>
                </a:gs>
                <a:gs pos="100000">
                  <a:srgbClr val="946f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735560" y="5916600"/>
              <a:ext cx="651960" cy="428400"/>
            </a:xfrm>
            <a:prstGeom prst="ellipse">
              <a:avLst/>
            </a:prstGeom>
            <a:solidFill>
              <a:srgbClr val="d5a12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740600" y="6011640"/>
              <a:ext cx="279000" cy="20988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095560" y="6019200"/>
              <a:ext cx="279000" cy="20988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966320" y="6154920"/>
              <a:ext cx="198000" cy="17316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966320" y="5922360"/>
              <a:ext cx="198000" cy="18216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2298600" y="3662280"/>
            <a:ext cx="1495440" cy="5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397240" y="4056120"/>
            <a:ext cx="141264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316240" y="4498920"/>
            <a:ext cx="142704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2397240" y="4680000"/>
            <a:ext cx="12650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2414520" y="5270040"/>
            <a:ext cx="132876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2332080" y="5369040"/>
            <a:ext cx="149364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2414520" y="5500800"/>
            <a:ext cx="142884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7143840" y="3940200"/>
            <a:ext cx="755640" cy="657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159680" y="4745160"/>
            <a:ext cx="1231920" cy="1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 within the Networ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ing an Interior Routing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 (V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)IG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-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less routing protocols are now essential for this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 within the Networ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ity and stability of the routing domain is essent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g protocol is not used to learn new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ity of the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and integrity of the routing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g protocol is only used to promulgate the route withi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 within the Networ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static routes to dampen down route fl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 transition of a route (up / down) causes all routers to undertake a cache dump and rebuild the route table from received routing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Flapping can destroy network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outing within the Networ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ne approach – used for scale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Use OSPF as a link state maintenance protocol for the internal network infra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Use static routes at the edge for retail customer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Use eBGP for wholesale, peer and upstream acces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Use BGP route attributes to associate policy with the rou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Use I-BGP + default to carry customer routes in the Access 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Use I-BGP to carry full routes in the Core 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Peer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do I pe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shore 1: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shore at a layer 2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shore via Service Prov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shore at a layer 2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Peer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Consid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ort routes via BGP4 using CID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 routes using whatever works easily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 Consid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se bandwidth used by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se operational s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Route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tain registered Autonomous System number (A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your Regional Regis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ggregate mask which covers all announced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ounce CIDR aggregate to peer via BGP4 s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ngle Exterior Pe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ounce local nets via CIDR aggregate using BGP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hesise static default route directed to exterior peer 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11360" y="3479760"/>
            <a:ext cx="780408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ple Exterior Pe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3240" y="1981080"/>
            <a:ext cx="8754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ly Imposed Policy different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49e0"/>
                </a:solidFill>
                <a:latin typeface="Tahoma"/>
              </a:rPr>
              <a:t>Academic &amp; Research peer external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d206"/>
                </a:solidFill>
                <a:latin typeface="Tahoma"/>
              </a:rPr>
              <a:t>Commercial peer external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is Destination address-based - not source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route based on best policy m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routes are imported from other network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path based on destination net - not local source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ple Exterior Pe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308320" y="2050920"/>
            <a:ext cx="6340320" cy="2748240"/>
            <a:chOff x="2308320" y="2050920"/>
            <a:chExt cx="6340320" cy="2748240"/>
          </a:xfrm>
        </p:grpSpPr>
        <p:grpSp>
          <p:nvGrpSpPr>
            <p:cNvPr id="103" name=""/>
            <p:cNvGrpSpPr/>
            <p:nvPr/>
          </p:nvGrpSpPr>
          <p:grpSpPr>
            <a:xfrm>
              <a:off x="2523960" y="2290680"/>
              <a:ext cx="6124680" cy="2508480"/>
              <a:chOff x="2523960" y="2290680"/>
              <a:chExt cx="6124680" cy="2508480"/>
            </a:xfrm>
          </p:grpSpPr>
          <p:sp>
            <p:nvSpPr>
              <p:cNvPr id="104" name=""/>
              <p:cNvSpPr/>
              <p:nvPr/>
            </p:nvSpPr>
            <p:spPr>
              <a:xfrm>
                <a:off x="2523960" y="3089160"/>
                <a:ext cx="2257560" cy="11527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551400" y="2722680"/>
                <a:ext cx="2232000" cy="11649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719680" y="3532320"/>
                <a:ext cx="2244960" cy="11397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237280" y="2924280"/>
                <a:ext cx="2257200" cy="1152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944880" y="3646440"/>
                <a:ext cx="2230560" cy="11527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654440" y="2290680"/>
                <a:ext cx="2257560" cy="11653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48280" y="2898720"/>
                <a:ext cx="2244960" cy="11653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416640" y="3379680"/>
                <a:ext cx="2232000" cy="11653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308320" y="2050920"/>
              <a:ext cx="6099120" cy="2506680"/>
              <a:chOff x="2308320" y="2050920"/>
              <a:chExt cx="6099120" cy="2506680"/>
            </a:xfrm>
          </p:grpSpPr>
          <p:sp>
            <p:nvSpPr>
              <p:cNvPr id="113" name=""/>
              <p:cNvSpPr/>
              <p:nvPr/>
            </p:nvSpPr>
            <p:spPr>
              <a:xfrm>
                <a:off x="2308320" y="2835360"/>
                <a:ext cx="2219400" cy="116532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09840" y="2481120"/>
                <a:ext cx="2244960" cy="115272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78480" y="3292560"/>
                <a:ext cx="2232000" cy="113976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997520" y="2671920"/>
                <a:ext cx="2255760" cy="116496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691080" y="3392640"/>
                <a:ext cx="2244600" cy="116496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00640" y="2050920"/>
                <a:ext cx="2257200" cy="116532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07080" y="2658960"/>
                <a:ext cx="2232000" cy="116532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162840" y="3152880"/>
                <a:ext cx="2244600" cy="113976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749160" y="1914480"/>
            <a:ext cx="1533600" cy="825480"/>
          </a:xfrm>
          <a:prstGeom prst="line">
            <a:avLst/>
          </a:prstGeom>
          <a:ln w="101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77480" y="2606760"/>
            <a:ext cx="1832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52800" y="26067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19400" y="296244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03960" y="4521240"/>
            <a:ext cx="1152720" cy="771480"/>
          </a:xfrm>
          <a:prstGeom prst="line">
            <a:avLst/>
          </a:prstGeom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790640" y="2468520"/>
            <a:ext cx="5407200" cy="2706840"/>
            <a:chOff x="1790640" y="2468520"/>
            <a:chExt cx="5407200" cy="2706840"/>
          </a:xfrm>
        </p:grpSpPr>
        <p:sp>
          <p:nvSpPr>
            <p:cNvPr id="127" name=""/>
            <p:cNvSpPr/>
            <p:nvPr/>
          </p:nvSpPr>
          <p:spPr>
            <a:xfrm>
              <a:off x="6062760" y="4281120"/>
              <a:ext cx="862920" cy="858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" y="15494"/>
                  </a:moveTo>
                  <a:arcTo wR="10800" hR="10800" stAng="9254198" swAng="18925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" y="15494"/>
                  </a:moveTo>
                  <a:arcTo wR="10800" hR="10800" stAng="9254198" swAng="1892509"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944880" y="4756320"/>
              <a:ext cx="2268720" cy="419040"/>
            </a:xfrm>
            <a:prstGeom prst="line">
              <a:avLst/>
            </a:prstGeom>
            <a:ln w="7632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90640" y="2784240"/>
              <a:ext cx="861480" cy="86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973" y="21379"/>
                  </a:moveTo>
                  <a:arcTo wR="10800" hR="10800" stAng="4703486" swAng="19044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973" y="21379"/>
                  </a:moveTo>
                  <a:arcTo wR="10800" hR="10800" stAng="4703486" swAng="1904420"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139840" y="3493800"/>
              <a:ext cx="68400" cy="887400"/>
            </a:xfrm>
            <a:prstGeom prst="line">
              <a:avLst/>
            </a:prstGeom>
            <a:ln w="7632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89520" y="3830760"/>
              <a:ext cx="417600" cy="188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99080" y="2981160"/>
              <a:ext cx="41940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78800" y="3525840"/>
              <a:ext cx="419040" cy="190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51080" y="3398760"/>
              <a:ext cx="419040" cy="190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40280" y="2867040"/>
              <a:ext cx="417600" cy="190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54440"/>
              <a:ext cx="419040" cy="1890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22800" y="3875040"/>
              <a:ext cx="12600" cy="201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35400" y="3875040"/>
              <a:ext cx="12960" cy="201600"/>
            </a:xfrm>
            <a:prstGeom prst="rect">
              <a:avLst/>
            </a:prstGeom>
            <a:solidFill>
              <a:srgbClr val="07ff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48360" y="3875040"/>
              <a:ext cx="12600" cy="201600"/>
            </a:xfrm>
            <a:prstGeom prst="rect">
              <a:avLst/>
            </a:prstGeom>
            <a:solidFill>
              <a:srgbClr val="0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60960" y="3875040"/>
              <a:ext cx="12600" cy="201600"/>
            </a:xfrm>
            <a:prstGeom prst="rect">
              <a:avLst/>
            </a:prstGeom>
            <a:solidFill>
              <a:srgbClr val="17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73560" y="3875040"/>
              <a:ext cx="12960" cy="201600"/>
            </a:xfrm>
            <a:prstGeom prst="rect">
              <a:avLst/>
            </a:prstGeom>
            <a:solidFill>
              <a:srgbClr val="1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86520" y="3875040"/>
              <a:ext cx="12600" cy="201600"/>
            </a:xfrm>
            <a:prstGeom prst="rect">
              <a:avLst/>
            </a:prstGeom>
            <a:solidFill>
              <a:srgbClr val="26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99120" y="3875040"/>
              <a:ext cx="12600" cy="201600"/>
            </a:xfrm>
            <a:prstGeom prst="rect">
              <a:avLst/>
            </a:prstGeom>
            <a:solidFill>
              <a:srgbClr val="2e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11720" y="3875040"/>
              <a:ext cx="12600" cy="201600"/>
            </a:xfrm>
            <a:prstGeom prst="rect">
              <a:avLst/>
            </a:prstGeom>
            <a:solidFill>
              <a:srgbClr val="36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24320" y="3875040"/>
              <a:ext cx="12960" cy="201600"/>
            </a:xfrm>
            <a:prstGeom prst="rect">
              <a:avLst/>
            </a:prstGeom>
            <a:solidFill>
              <a:srgbClr val="3e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37280" y="3875040"/>
              <a:ext cx="12600" cy="201600"/>
            </a:xfrm>
            <a:prstGeom prst="rect">
              <a:avLst/>
            </a:prstGeom>
            <a:solidFill>
              <a:srgbClr val="45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9880" y="3875040"/>
              <a:ext cx="12600" cy="201600"/>
            </a:xfrm>
            <a:prstGeom prst="rect">
              <a:avLst/>
            </a:prstGeom>
            <a:solidFill>
              <a:srgbClr val="4d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62480" y="3875040"/>
              <a:ext cx="12960" cy="201600"/>
            </a:xfrm>
            <a:prstGeom prst="rect">
              <a:avLst/>
            </a:prstGeom>
            <a:solidFill>
              <a:srgbClr val="55f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75440" y="3875040"/>
              <a:ext cx="12600" cy="201600"/>
            </a:xfrm>
            <a:prstGeom prst="rect">
              <a:avLst/>
            </a:prstGeom>
            <a:solidFill>
              <a:srgbClr val="5df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88040" y="3875040"/>
              <a:ext cx="12600" cy="201600"/>
            </a:xfrm>
            <a:prstGeom prst="rect">
              <a:avLst/>
            </a:prstGeom>
            <a:solidFill>
              <a:srgbClr val="64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00640" y="3875040"/>
              <a:ext cx="12600" cy="201600"/>
            </a:xfrm>
            <a:prstGeom prst="rect">
              <a:avLst/>
            </a:prstGeom>
            <a:solidFill>
              <a:srgbClr val="6c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13240" y="3875040"/>
              <a:ext cx="12960" cy="201600"/>
            </a:xfrm>
            <a:prstGeom prst="rect">
              <a:avLst/>
            </a:prstGeom>
            <a:solidFill>
              <a:srgbClr val="74f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26200" y="3875040"/>
              <a:ext cx="12600" cy="201600"/>
            </a:xfrm>
            <a:prstGeom prst="rect">
              <a:avLst/>
            </a:prstGeom>
            <a:solidFill>
              <a:srgbClr val="7cf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8800" y="3875040"/>
              <a:ext cx="12600" cy="201600"/>
            </a:xfrm>
            <a:prstGeom prst="rect">
              <a:avLst/>
            </a:prstGeom>
            <a:solidFill>
              <a:srgbClr val="83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51400" y="3875040"/>
              <a:ext cx="12600" cy="201600"/>
            </a:xfrm>
            <a:prstGeom prst="rect">
              <a:avLst/>
            </a:prstGeom>
            <a:solidFill>
              <a:srgbClr val="8bff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64000" y="3875040"/>
              <a:ext cx="12960" cy="201600"/>
            </a:xfrm>
            <a:prstGeom prst="rect">
              <a:avLst/>
            </a:prstGeom>
            <a:solidFill>
              <a:srgbClr val="93f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76960" y="3875040"/>
              <a:ext cx="12600" cy="201600"/>
            </a:xfrm>
            <a:prstGeom prst="rect">
              <a:avLst/>
            </a:prstGeom>
            <a:solidFill>
              <a:srgbClr val="9bf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89560" y="3875040"/>
              <a:ext cx="12600" cy="201600"/>
            </a:xfrm>
            <a:prstGeom prst="rect">
              <a:avLst/>
            </a:prstGeom>
            <a:solidFill>
              <a:srgbClr val="a2f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02160" y="3875040"/>
              <a:ext cx="12960" cy="201600"/>
            </a:xfrm>
            <a:prstGeom prst="rect">
              <a:avLst/>
            </a:prstGeom>
            <a:solidFill>
              <a:srgbClr val="aaf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5120" y="3875040"/>
              <a:ext cx="12600" cy="201600"/>
            </a:xfrm>
            <a:prstGeom prst="rect">
              <a:avLst/>
            </a:prstGeom>
            <a:solidFill>
              <a:srgbClr val="b2f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27720" y="3875040"/>
              <a:ext cx="12600" cy="201600"/>
            </a:xfrm>
            <a:prstGeom prst="rect">
              <a:avLst/>
            </a:prstGeom>
            <a:solidFill>
              <a:srgbClr val="baf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40320" y="3875040"/>
              <a:ext cx="12600" cy="201600"/>
            </a:xfrm>
            <a:prstGeom prst="rect">
              <a:avLst/>
            </a:prstGeom>
            <a:solidFill>
              <a:srgbClr val="c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52920" y="3875040"/>
              <a:ext cx="12960" cy="201600"/>
            </a:xfrm>
            <a:prstGeom prst="rect">
              <a:avLst/>
            </a:prstGeom>
            <a:solidFill>
              <a:srgbClr val="c9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65880" y="3875040"/>
              <a:ext cx="12600" cy="201600"/>
            </a:xfrm>
            <a:prstGeom prst="rect">
              <a:avLst/>
            </a:prstGeom>
            <a:solidFill>
              <a:srgbClr val="d1f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78480" y="3875040"/>
              <a:ext cx="12600" cy="201600"/>
            </a:xfrm>
            <a:prstGeom prst="rect">
              <a:avLst/>
            </a:prstGeom>
            <a:solidFill>
              <a:srgbClr val="d9f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91080" y="3875040"/>
              <a:ext cx="12960" cy="201600"/>
            </a:xfrm>
            <a:prstGeom prst="rect">
              <a:avLst/>
            </a:prstGeom>
            <a:solidFill>
              <a:srgbClr val="e0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04040" y="3875040"/>
              <a:ext cx="12600" cy="201600"/>
            </a:xfrm>
            <a:prstGeom prst="rect">
              <a:avLst/>
            </a:prstGeom>
            <a:solidFill>
              <a:srgbClr val="e8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16640" y="3875040"/>
              <a:ext cx="12600" cy="201600"/>
            </a:xfrm>
            <a:prstGeom prst="rect">
              <a:avLst/>
            </a:prstGeom>
            <a:solidFill>
              <a:srgbClr val="f0f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29240" y="3875040"/>
              <a:ext cx="12600" cy="201600"/>
            </a:xfrm>
            <a:prstGeom prst="rect">
              <a:avLst/>
            </a:prstGeom>
            <a:solidFill>
              <a:srgbClr val="f8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41840" y="3875040"/>
              <a:ext cx="12960" cy="201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29280" y="3881520"/>
              <a:ext cx="419040" cy="189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21200" y="3367080"/>
              <a:ext cx="12600" cy="2030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33800" y="3367080"/>
              <a:ext cx="12960" cy="203040"/>
            </a:xfrm>
            <a:prstGeom prst="rect">
              <a:avLst/>
            </a:prstGeom>
            <a:solidFill>
              <a:srgbClr val="07ff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46760" y="3367080"/>
              <a:ext cx="12600" cy="203040"/>
            </a:xfrm>
            <a:prstGeom prst="rect">
              <a:avLst/>
            </a:prstGeom>
            <a:solidFill>
              <a:srgbClr val="0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59360" y="3367080"/>
              <a:ext cx="12600" cy="203040"/>
            </a:xfrm>
            <a:prstGeom prst="rect">
              <a:avLst/>
            </a:prstGeom>
            <a:solidFill>
              <a:srgbClr val="17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71960" y="3367080"/>
              <a:ext cx="12960" cy="203040"/>
            </a:xfrm>
            <a:prstGeom prst="rect">
              <a:avLst/>
            </a:prstGeom>
            <a:solidFill>
              <a:srgbClr val="1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84920" y="3367080"/>
              <a:ext cx="12600" cy="203040"/>
            </a:xfrm>
            <a:prstGeom prst="rect">
              <a:avLst/>
            </a:prstGeom>
            <a:solidFill>
              <a:srgbClr val="26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97520" y="3367080"/>
              <a:ext cx="12600" cy="203040"/>
            </a:xfrm>
            <a:prstGeom prst="rect">
              <a:avLst/>
            </a:prstGeom>
            <a:solidFill>
              <a:srgbClr val="2e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10120" y="3367080"/>
              <a:ext cx="12600" cy="203040"/>
            </a:xfrm>
            <a:prstGeom prst="rect">
              <a:avLst/>
            </a:prstGeom>
            <a:solidFill>
              <a:srgbClr val="36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22720" y="3367080"/>
              <a:ext cx="12960" cy="203040"/>
            </a:xfrm>
            <a:prstGeom prst="rect">
              <a:avLst/>
            </a:prstGeom>
            <a:solidFill>
              <a:srgbClr val="3e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35680" y="3367080"/>
              <a:ext cx="12600" cy="203040"/>
            </a:xfrm>
            <a:prstGeom prst="rect">
              <a:avLst/>
            </a:prstGeom>
            <a:solidFill>
              <a:srgbClr val="45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48280" y="3367080"/>
              <a:ext cx="11160" cy="203040"/>
            </a:xfrm>
            <a:prstGeom prst="rect">
              <a:avLst/>
            </a:prstGeom>
            <a:solidFill>
              <a:srgbClr val="4d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59440" y="3367080"/>
              <a:ext cx="12600" cy="203040"/>
            </a:xfrm>
            <a:prstGeom prst="rect">
              <a:avLst/>
            </a:prstGeom>
            <a:solidFill>
              <a:srgbClr val="55f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72040" y="3367080"/>
              <a:ext cx="12600" cy="203040"/>
            </a:xfrm>
            <a:prstGeom prst="rect">
              <a:avLst/>
            </a:prstGeom>
            <a:solidFill>
              <a:srgbClr val="5df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4640" y="3367080"/>
              <a:ext cx="12960" cy="203040"/>
            </a:xfrm>
            <a:prstGeom prst="rect">
              <a:avLst/>
            </a:prstGeom>
            <a:solidFill>
              <a:srgbClr val="64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97600" y="3367080"/>
              <a:ext cx="12600" cy="203040"/>
            </a:xfrm>
            <a:prstGeom prst="rect">
              <a:avLst/>
            </a:prstGeom>
            <a:solidFill>
              <a:srgbClr val="6c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10200" y="3367080"/>
              <a:ext cx="12600" cy="203040"/>
            </a:xfrm>
            <a:prstGeom prst="rect">
              <a:avLst/>
            </a:prstGeom>
            <a:solidFill>
              <a:srgbClr val="74f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22800" y="3367080"/>
              <a:ext cx="12600" cy="203040"/>
            </a:xfrm>
            <a:prstGeom prst="rect">
              <a:avLst/>
            </a:prstGeom>
            <a:solidFill>
              <a:srgbClr val="7cf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3367080"/>
              <a:ext cx="12960" cy="203040"/>
            </a:xfrm>
            <a:prstGeom prst="rect">
              <a:avLst/>
            </a:prstGeom>
            <a:solidFill>
              <a:srgbClr val="83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48360" y="3367080"/>
              <a:ext cx="12600" cy="203040"/>
            </a:xfrm>
            <a:prstGeom prst="rect">
              <a:avLst/>
            </a:prstGeom>
            <a:solidFill>
              <a:srgbClr val="8bff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60960" y="3367080"/>
              <a:ext cx="12600" cy="203040"/>
            </a:xfrm>
            <a:prstGeom prst="rect">
              <a:avLst/>
            </a:prstGeom>
            <a:solidFill>
              <a:srgbClr val="93f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73560" y="3367080"/>
              <a:ext cx="12960" cy="203040"/>
            </a:xfrm>
            <a:prstGeom prst="rect">
              <a:avLst/>
            </a:prstGeom>
            <a:solidFill>
              <a:srgbClr val="9bf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86520" y="3367080"/>
              <a:ext cx="12600" cy="203040"/>
            </a:xfrm>
            <a:prstGeom prst="rect">
              <a:avLst/>
            </a:prstGeom>
            <a:solidFill>
              <a:srgbClr val="a2f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99120" y="3367080"/>
              <a:ext cx="12600" cy="203040"/>
            </a:xfrm>
            <a:prstGeom prst="rect">
              <a:avLst/>
            </a:prstGeom>
            <a:solidFill>
              <a:srgbClr val="aaf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11720" y="3367080"/>
              <a:ext cx="12600" cy="203040"/>
            </a:xfrm>
            <a:prstGeom prst="rect">
              <a:avLst/>
            </a:prstGeom>
            <a:solidFill>
              <a:srgbClr val="b2f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24320" y="3367080"/>
              <a:ext cx="12960" cy="203040"/>
            </a:xfrm>
            <a:prstGeom prst="rect">
              <a:avLst/>
            </a:prstGeom>
            <a:solidFill>
              <a:srgbClr val="baf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37280" y="3367080"/>
              <a:ext cx="12600" cy="203040"/>
            </a:xfrm>
            <a:prstGeom prst="rect">
              <a:avLst/>
            </a:prstGeom>
            <a:solidFill>
              <a:srgbClr val="c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49880" y="3367080"/>
              <a:ext cx="12600" cy="203040"/>
            </a:xfrm>
            <a:prstGeom prst="rect">
              <a:avLst/>
            </a:prstGeom>
            <a:solidFill>
              <a:srgbClr val="c9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62480" y="3367080"/>
              <a:ext cx="12960" cy="203040"/>
            </a:xfrm>
            <a:prstGeom prst="rect">
              <a:avLst/>
            </a:prstGeom>
            <a:solidFill>
              <a:srgbClr val="d1f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75440" y="3367080"/>
              <a:ext cx="12600" cy="203040"/>
            </a:xfrm>
            <a:prstGeom prst="rect">
              <a:avLst/>
            </a:prstGeom>
            <a:solidFill>
              <a:srgbClr val="d9f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88040" y="3367080"/>
              <a:ext cx="12600" cy="203040"/>
            </a:xfrm>
            <a:prstGeom prst="rect">
              <a:avLst/>
            </a:prstGeom>
            <a:solidFill>
              <a:srgbClr val="e0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00640" y="3367080"/>
              <a:ext cx="12600" cy="203040"/>
            </a:xfrm>
            <a:prstGeom prst="rect">
              <a:avLst/>
            </a:prstGeom>
            <a:solidFill>
              <a:srgbClr val="e8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13240" y="3367080"/>
              <a:ext cx="12960" cy="203040"/>
            </a:xfrm>
            <a:prstGeom prst="rect">
              <a:avLst/>
            </a:prstGeom>
            <a:solidFill>
              <a:srgbClr val="f0f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26200" y="3367080"/>
              <a:ext cx="12600" cy="203040"/>
            </a:xfrm>
            <a:prstGeom prst="rect">
              <a:avLst/>
            </a:prstGeom>
            <a:solidFill>
              <a:srgbClr val="f8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38800" y="3367080"/>
              <a:ext cx="12600" cy="203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27680" y="3373560"/>
              <a:ext cx="417600" cy="190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57840" y="2759040"/>
              <a:ext cx="12600" cy="203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70440" y="2759040"/>
              <a:ext cx="12960" cy="203400"/>
            </a:xfrm>
            <a:prstGeom prst="rect">
              <a:avLst/>
            </a:prstGeom>
            <a:solidFill>
              <a:srgbClr val="07ff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83400" y="2759040"/>
              <a:ext cx="12600" cy="203400"/>
            </a:xfrm>
            <a:prstGeom prst="rect">
              <a:avLst/>
            </a:prstGeom>
            <a:solidFill>
              <a:srgbClr val="0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96000" y="2759040"/>
              <a:ext cx="12600" cy="203400"/>
            </a:xfrm>
            <a:prstGeom prst="rect">
              <a:avLst/>
            </a:prstGeom>
            <a:solidFill>
              <a:srgbClr val="17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08600" y="2759040"/>
              <a:ext cx="12600" cy="203400"/>
            </a:xfrm>
            <a:prstGeom prst="rect">
              <a:avLst/>
            </a:prstGeom>
            <a:solidFill>
              <a:srgbClr val="1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21200" y="2759040"/>
              <a:ext cx="12960" cy="203400"/>
            </a:xfrm>
            <a:prstGeom prst="rect">
              <a:avLst/>
            </a:prstGeom>
            <a:solidFill>
              <a:srgbClr val="26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34160" y="2759040"/>
              <a:ext cx="12600" cy="203400"/>
            </a:xfrm>
            <a:prstGeom prst="rect">
              <a:avLst/>
            </a:prstGeom>
            <a:solidFill>
              <a:srgbClr val="2e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46760" y="2759040"/>
              <a:ext cx="12600" cy="203400"/>
            </a:xfrm>
            <a:prstGeom prst="rect">
              <a:avLst/>
            </a:prstGeom>
            <a:solidFill>
              <a:srgbClr val="36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59360" y="2759040"/>
              <a:ext cx="12960" cy="203400"/>
            </a:xfrm>
            <a:prstGeom prst="rect">
              <a:avLst/>
            </a:prstGeom>
            <a:solidFill>
              <a:srgbClr val="3e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72320" y="2759040"/>
              <a:ext cx="12600" cy="203400"/>
            </a:xfrm>
            <a:prstGeom prst="rect">
              <a:avLst/>
            </a:prstGeom>
            <a:solidFill>
              <a:srgbClr val="45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84920" y="2759040"/>
              <a:ext cx="12600" cy="203400"/>
            </a:xfrm>
            <a:prstGeom prst="rect">
              <a:avLst/>
            </a:prstGeom>
            <a:solidFill>
              <a:srgbClr val="4d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97520" y="2759040"/>
              <a:ext cx="12600" cy="203400"/>
            </a:xfrm>
            <a:prstGeom prst="rect">
              <a:avLst/>
            </a:prstGeom>
            <a:solidFill>
              <a:srgbClr val="55f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10120" y="2759040"/>
              <a:ext cx="12960" cy="203400"/>
            </a:xfrm>
            <a:prstGeom prst="rect">
              <a:avLst/>
            </a:prstGeom>
            <a:solidFill>
              <a:srgbClr val="5df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23080" y="2759040"/>
              <a:ext cx="12600" cy="203400"/>
            </a:xfrm>
            <a:prstGeom prst="rect">
              <a:avLst/>
            </a:prstGeom>
            <a:solidFill>
              <a:srgbClr val="64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35680" y="2759040"/>
              <a:ext cx="12600" cy="203400"/>
            </a:xfrm>
            <a:prstGeom prst="rect">
              <a:avLst/>
            </a:prstGeom>
            <a:solidFill>
              <a:srgbClr val="6c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48280" y="2759040"/>
              <a:ext cx="12960" cy="203400"/>
            </a:xfrm>
            <a:prstGeom prst="rect">
              <a:avLst/>
            </a:prstGeom>
            <a:solidFill>
              <a:srgbClr val="74f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61240" y="2759040"/>
              <a:ext cx="12600" cy="203400"/>
            </a:xfrm>
            <a:prstGeom prst="rect">
              <a:avLst/>
            </a:prstGeom>
            <a:solidFill>
              <a:srgbClr val="7cf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73840" y="2759040"/>
              <a:ext cx="12600" cy="203400"/>
            </a:xfrm>
            <a:prstGeom prst="rect">
              <a:avLst/>
            </a:prstGeom>
            <a:solidFill>
              <a:srgbClr val="83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86440" y="2759040"/>
              <a:ext cx="12600" cy="203400"/>
            </a:xfrm>
            <a:prstGeom prst="rect">
              <a:avLst/>
            </a:prstGeom>
            <a:solidFill>
              <a:srgbClr val="8bff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99040" y="2759040"/>
              <a:ext cx="12960" cy="203400"/>
            </a:xfrm>
            <a:prstGeom prst="rect">
              <a:avLst/>
            </a:prstGeom>
            <a:solidFill>
              <a:srgbClr val="93f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12000" y="2759040"/>
              <a:ext cx="12600" cy="203400"/>
            </a:xfrm>
            <a:prstGeom prst="rect">
              <a:avLst/>
            </a:prstGeom>
            <a:solidFill>
              <a:srgbClr val="9bf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24600" y="2759040"/>
              <a:ext cx="12600" cy="203400"/>
            </a:xfrm>
            <a:prstGeom prst="rect">
              <a:avLst/>
            </a:prstGeom>
            <a:solidFill>
              <a:srgbClr val="a2f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37200" y="2759040"/>
              <a:ext cx="12600" cy="203400"/>
            </a:xfrm>
            <a:prstGeom prst="rect">
              <a:avLst/>
            </a:prstGeom>
            <a:solidFill>
              <a:srgbClr val="aaf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49800" y="2759040"/>
              <a:ext cx="12960" cy="203400"/>
            </a:xfrm>
            <a:prstGeom prst="rect">
              <a:avLst/>
            </a:prstGeom>
            <a:solidFill>
              <a:srgbClr val="b2f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62760" y="2759040"/>
              <a:ext cx="12600" cy="203400"/>
            </a:xfrm>
            <a:prstGeom prst="rect">
              <a:avLst/>
            </a:prstGeom>
            <a:solidFill>
              <a:srgbClr val="baf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75360" y="2759040"/>
              <a:ext cx="12600" cy="203400"/>
            </a:xfrm>
            <a:prstGeom prst="rect">
              <a:avLst/>
            </a:prstGeom>
            <a:solidFill>
              <a:srgbClr val="c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87960" y="2759040"/>
              <a:ext cx="12960" cy="203400"/>
            </a:xfrm>
            <a:prstGeom prst="rect">
              <a:avLst/>
            </a:prstGeom>
            <a:solidFill>
              <a:srgbClr val="c9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00920" y="2759040"/>
              <a:ext cx="12600" cy="203400"/>
            </a:xfrm>
            <a:prstGeom prst="rect">
              <a:avLst/>
            </a:prstGeom>
            <a:solidFill>
              <a:srgbClr val="d1f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13520" y="2759040"/>
              <a:ext cx="12600" cy="203400"/>
            </a:xfrm>
            <a:prstGeom prst="rect">
              <a:avLst/>
            </a:prstGeom>
            <a:solidFill>
              <a:srgbClr val="d9f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6120" y="2759040"/>
              <a:ext cx="11160" cy="203400"/>
            </a:xfrm>
            <a:prstGeom prst="rect">
              <a:avLst/>
            </a:prstGeom>
            <a:solidFill>
              <a:srgbClr val="e0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37280" y="2759040"/>
              <a:ext cx="12600" cy="203400"/>
            </a:xfrm>
            <a:prstGeom prst="rect">
              <a:avLst/>
            </a:prstGeom>
            <a:solidFill>
              <a:srgbClr val="e8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49880" y="2759040"/>
              <a:ext cx="12960" cy="203400"/>
            </a:xfrm>
            <a:prstGeom prst="rect">
              <a:avLst/>
            </a:prstGeom>
            <a:solidFill>
              <a:srgbClr val="f0f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62840" y="2759040"/>
              <a:ext cx="12600" cy="203400"/>
            </a:xfrm>
            <a:prstGeom prst="rect">
              <a:avLst/>
            </a:prstGeom>
            <a:solidFill>
              <a:srgbClr val="f8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5440" y="2759040"/>
              <a:ext cx="12600" cy="203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4320" y="2765520"/>
              <a:ext cx="417240" cy="190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00640" y="4064040"/>
              <a:ext cx="12600" cy="2030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13240" y="4064040"/>
              <a:ext cx="12600" cy="203040"/>
            </a:xfrm>
            <a:prstGeom prst="rect">
              <a:avLst/>
            </a:prstGeom>
            <a:solidFill>
              <a:srgbClr val="07ff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25840" y="4064040"/>
              <a:ext cx="12960" cy="203040"/>
            </a:xfrm>
            <a:prstGeom prst="rect">
              <a:avLst/>
            </a:prstGeom>
            <a:solidFill>
              <a:srgbClr val="0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38800" y="4064040"/>
              <a:ext cx="12600" cy="203040"/>
            </a:xfrm>
            <a:prstGeom prst="rect">
              <a:avLst/>
            </a:prstGeom>
            <a:solidFill>
              <a:srgbClr val="17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51400" y="4064040"/>
              <a:ext cx="12600" cy="203040"/>
            </a:xfrm>
            <a:prstGeom prst="rect">
              <a:avLst/>
            </a:prstGeom>
            <a:solidFill>
              <a:srgbClr val="1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64000" y="4064040"/>
              <a:ext cx="12600" cy="203040"/>
            </a:xfrm>
            <a:prstGeom prst="rect">
              <a:avLst/>
            </a:prstGeom>
            <a:solidFill>
              <a:srgbClr val="26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76600" y="4064040"/>
              <a:ext cx="12960" cy="203040"/>
            </a:xfrm>
            <a:prstGeom prst="rect">
              <a:avLst/>
            </a:prstGeom>
            <a:solidFill>
              <a:srgbClr val="2e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89560" y="4064040"/>
              <a:ext cx="12600" cy="203040"/>
            </a:xfrm>
            <a:prstGeom prst="rect">
              <a:avLst/>
            </a:prstGeom>
            <a:solidFill>
              <a:srgbClr val="36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02160" y="4064040"/>
              <a:ext cx="12600" cy="203040"/>
            </a:xfrm>
            <a:prstGeom prst="rect">
              <a:avLst/>
            </a:prstGeom>
            <a:solidFill>
              <a:srgbClr val="3e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14760" y="4064040"/>
              <a:ext cx="12960" cy="203040"/>
            </a:xfrm>
            <a:prstGeom prst="rect">
              <a:avLst/>
            </a:prstGeom>
            <a:solidFill>
              <a:srgbClr val="45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27720" y="4064040"/>
              <a:ext cx="12600" cy="203040"/>
            </a:xfrm>
            <a:prstGeom prst="rect">
              <a:avLst/>
            </a:prstGeom>
            <a:solidFill>
              <a:srgbClr val="4d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40320" y="4064040"/>
              <a:ext cx="12600" cy="203040"/>
            </a:xfrm>
            <a:prstGeom prst="rect">
              <a:avLst/>
            </a:prstGeom>
            <a:solidFill>
              <a:srgbClr val="55f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52920" y="4064040"/>
              <a:ext cx="12600" cy="203040"/>
            </a:xfrm>
            <a:prstGeom prst="rect">
              <a:avLst/>
            </a:prstGeom>
            <a:solidFill>
              <a:srgbClr val="5df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65520" y="4064040"/>
              <a:ext cx="12960" cy="203040"/>
            </a:xfrm>
            <a:prstGeom prst="rect">
              <a:avLst/>
            </a:prstGeom>
            <a:solidFill>
              <a:srgbClr val="64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78480" y="4064040"/>
              <a:ext cx="12600" cy="203040"/>
            </a:xfrm>
            <a:prstGeom prst="rect">
              <a:avLst/>
            </a:prstGeom>
            <a:solidFill>
              <a:srgbClr val="6c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91080" y="4064040"/>
              <a:ext cx="12600" cy="203040"/>
            </a:xfrm>
            <a:prstGeom prst="rect">
              <a:avLst/>
            </a:prstGeom>
            <a:solidFill>
              <a:srgbClr val="74f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03680" y="4064040"/>
              <a:ext cx="12600" cy="203040"/>
            </a:xfrm>
            <a:prstGeom prst="rect">
              <a:avLst/>
            </a:prstGeom>
            <a:solidFill>
              <a:srgbClr val="7cf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16280" y="4064040"/>
              <a:ext cx="12960" cy="203040"/>
            </a:xfrm>
            <a:prstGeom prst="rect">
              <a:avLst/>
            </a:prstGeom>
            <a:solidFill>
              <a:srgbClr val="83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29240" y="4064040"/>
              <a:ext cx="12600" cy="203040"/>
            </a:xfrm>
            <a:prstGeom prst="rect">
              <a:avLst/>
            </a:prstGeom>
            <a:solidFill>
              <a:srgbClr val="8bff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41840" y="4064040"/>
              <a:ext cx="12600" cy="203040"/>
            </a:xfrm>
            <a:prstGeom prst="rect">
              <a:avLst/>
            </a:prstGeom>
            <a:solidFill>
              <a:srgbClr val="93f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54440" y="4064040"/>
              <a:ext cx="12960" cy="203040"/>
            </a:xfrm>
            <a:prstGeom prst="rect">
              <a:avLst/>
            </a:prstGeom>
            <a:solidFill>
              <a:srgbClr val="9bf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67400" y="4064040"/>
              <a:ext cx="12600" cy="203040"/>
            </a:xfrm>
            <a:prstGeom prst="rect">
              <a:avLst/>
            </a:prstGeom>
            <a:solidFill>
              <a:srgbClr val="a2f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80000" y="4064040"/>
              <a:ext cx="12600" cy="203040"/>
            </a:xfrm>
            <a:prstGeom prst="rect">
              <a:avLst/>
            </a:prstGeom>
            <a:solidFill>
              <a:srgbClr val="aaf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92600" y="4064040"/>
              <a:ext cx="12600" cy="203040"/>
            </a:xfrm>
            <a:prstGeom prst="rect">
              <a:avLst/>
            </a:prstGeom>
            <a:solidFill>
              <a:srgbClr val="b2f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05200" y="4064040"/>
              <a:ext cx="12960" cy="203040"/>
            </a:xfrm>
            <a:prstGeom prst="rect">
              <a:avLst/>
            </a:prstGeom>
            <a:solidFill>
              <a:srgbClr val="baf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18160" y="4064040"/>
              <a:ext cx="12600" cy="203040"/>
            </a:xfrm>
            <a:prstGeom prst="rect">
              <a:avLst/>
            </a:prstGeom>
            <a:solidFill>
              <a:srgbClr val="c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30760" y="4064040"/>
              <a:ext cx="12600" cy="203040"/>
            </a:xfrm>
            <a:prstGeom prst="rect">
              <a:avLst/>
            </a:prstGeom>
            <a:solidFill>
              <a:srgbClr val="c9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43360" y="4064040"/>
              <a:ext cx="12960" cy="203040"/>
            </a:xfrm>
            <a:prstGeom prst="rect">
              <a:avLst/>
            </a:prstGeom>
            <a:solidFill>
              <a:srgbClr val="d1f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56320" y="4064040"/>
              <a:ext cx="12600" cy="203040"/>
            </a:xfrm>
            <a:prstGeom prst="rect">
              <a:avLst/>
            </a:prstGeom>
            <a:solidFill>
              <a:srgbClr val="d9f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68920" y="4064040"/>
              <a:ext cx="12600" cy="203040"/>
            </a:xfrm>
            <a:prstGeom prst="rect">
              <a:avLst/>
            </a:prstGeom>
            <a:solidFill>
              <a:srgbClr val="e0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81520" y="4064040"/>
              <a:ext cx="12600" cy="203040"/>
            </a:xfrm>
            <a:prstGeom prst="rect">
              <a:avLst/>
            </a:prstGeom>
            <a:solidFill>
              <a:srgbClr val="e8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94120" y="4064040"/>
              <a:ext cx="12960" cy="203040"/>
            </a:xfrm>
            <a:prstGeom prst="rect">
              <a:avLst/>
            </a:prstGeom>
            <a:solidFill>
              <a:srgbClr val="f0f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07080" y="4064040"/>
              <a:ext cx="12600" cy="203040"/>
            </a:xfrm>
            <a:prstGeom prst="rect">
              <a:avLst/>
            </a:prstGeom>
            <a:solidFill>
              <a:srgbClr val="f8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19680" y="4064040"/>
              <a:ext cx="12600" cy="203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06760" y="4070520"/>
              <a:ext cx="419400" cy="190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41840" y="3228840"/>
              <a:ext cx="12960" cy="201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54800" y="3228840"/>
              <a:ext cx="12600" cy="201600"/>
            </a:xfrm>
            <a:prstGeom prst="rect">
              <a:avLst/>
            </a:prstGeom>
            <a:solidFill>
              <a:srgbClr val="07ff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67400" y="3228840"/>
              <a:ext cx="12600" cy="201600"/>
            </a:xfrm>
            <a:prstGeom prst="rect">
              <a:avLst/>
            </a:prstGeom>
            <a:solidFill>
              <a:srgbClr val="0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80000" y="3228840"/>
              <a:ext cx="12600" cy="201600"/>
            </a:xfrm>
            <a:prstGeom prst="rect">
              <a:avLst/>
            </a:prstGeom>
            <a:solidFill>
              <a:srgbClr val="17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92600" y="3228840"/>
              <a:ext cx="12960" cy="201600"/>
            </a:xfrm>
            <a:prstGeom prst="rect">
              <a:avLst/>
            </a:prstGeom>
            <a:solidFill>
              <a:srgbClr val="1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05560" y="3228840"/>
              <a:ext cx="12600" cy="201600"/>
            </a:xfrm>
            <a:prstGeom prst="rect">
              <a:avLst/>
            </a:prstGeom>
            <a:solidFill>
              <a:srgbClr val="26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18160" y="3228840"/>
              <a:ext cx="12600" cy="201600"/>
            </a:xfrm>
            <a:prstGeom prst="rect">
              <a:avLst/>
            </a:prstGeom>
            <a:solidFill>
              <a:srgbClr val="2e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30760" y="3228840"/>
              <a:ext cx="12960" cy="201600"/>
            </a:xfrm>
            <a:prstGeom prst="rect">
              <a:avLst/>
            </a:prstGeom>
            <a:solidFill>
              <a:srgbClr val="36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43720" y="3228840"/>
              <a:ext cx="12600" cy="201600"/>
            </a:xfrm>
            <a:prstGeom prst="rect">
              <a:avLst/>
            </a:prstGeom>
            <a:solidFill>
              <a:srgbClr val="3e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56320" y="3228840"/>
              <a:ext cx="12600" cy="201600"/>
            </a:xfrm>
            <a:prstGeom prst="rect">
              <a:avLst/>
            </a:prstGeom>
            <a:solidFill>
              <a:srgbClr val="45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68920" y="3228840"/>
              <a:ext cx="12600" cy="201600"/>
            </a:xfrm>
            <a:prstGeom prst="rect">
              <a:avLst/>
            </a:prstGeom>
            <a:solidFill>
              <a:srgbClr val="4d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81520" y="3228840"/>
              <a:ext cx="12960" cy="201600"/>
            </a:xfrm>
            <a:prstGeom prst="rect">
              <a:avLst/>
            </a:prstGeom>
            <a:solidFill>
              <a:srgbClr val="55f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94480" y="3228840"/>
              <a:ext cx="12600" cy="201600"/>
            </a:xfrm>
            <a:prstGeom prst="rect">
              <a:avLst/>
            </a:prstGeom>
            <a:solidFill>
              <a:srgbClr val="5df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7080" y="3228840"/>
              <a:ext cx="12600" cy="201600"/>
            </a:xfrm>
            <a:prstGeom prst="rect">
              <a:avLst/>
            </a:prstGeom>
            <a:solidFill>
              <a:srgbClr val="64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19680" y="3228840"/>
              <a:ext cx="12960" cy="201600"/>
            </a:xfrm>
            <a:prstGeom prst="rect">
              <a:avLst/>
            </a:prstGeom>
            <a:solidFill>
              <a:srgbClr val="6c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32640" y="3228840"/>
              <a:ext cx="12600" cy="201600"/>
            </a:xfrm>
            <a:prstGeom prst="rect">
              <a:avLst/>
            </a:prstGeom>
            <a:solidFill>
              <a:srgbClr val="74f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45240" y="3228840"/>
              <a:ext cx="12600" cy="201600"/>
            </a:xfrm>
            <a:prstGeom prst="rect">
              <a:avLst/>
            </a:prstGeom>
            <a:solidFill>
              <a:srgbClr val="7cf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57840" y="3228840"/>
              <a:ext cx="12600" cy="201600"/>
            </a:xfrm>
            <a:prstGeom prst="rect">
              <a:avLst/>
            </a:prstGeom>
            <a:solidFill>
              <a:srgbClr val="83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70440" y="3228840"/>
              <a:ext cx="12960" cy="201600"/>
            </a:xfrm>
            <a:prstGeom prst="rect">
              <a:avLst/>
            </a:prstGeom>
            <a:solidFill>
              <a:srgbClr val="8bff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83400" y="3228840"/>
              <a:ext cx="12600" cy="201600"/>
            </a:xfrm>
            <a:prstGeom prst="rect">
              <a:avLst/>
            </a:prstGeom>
            <a:solidFill>
              <a:srgbClr val="93ff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228840"/>
              <a:ext cx="12600" cy="201600"/>
            </a:xfrm>
            <a:prstGeom prst="rect">
              <a:avLst/>
            </a:prstGeom>
            <a:solidFill>
              <a:srgbClr val="9bf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08600" y="3228840"/>
              <a:ext cx="12600" cy="201600"/>
            </a:xfrm>
            <a:prstGeom prst="rect">
              <a:avLst/>
            </a:prstGeom>
            <a:solidFill>
              <a:srgbClr val="a2f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21200" y="3228840"/>
              <a:ext cx="12960" cy="201600"/>
            </a:xfrm>
            <a:prstGeom prst="rect">
              <a:avLst/>
            </a:prstGeom>
            <a:solidFill>
              <a:srgbClr val="aaf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34160" y="3228840"/>
              <a:ext cx="12600" cy="201600"/>
            </a:xfrm>
            <a:prstGeom prst="rect">
              <a:avLst/>
            </a:prstGeom>
            <a:solidFill>
              <a:srgbClr val="b2f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46760" y="3228840"/>
              <a:ext cx="12600" cy="201600"/>
            </a:xfrm>
            <a:prstGeom prst="rect">
              <a:avLst/>
            </a:prstGeom>
            <a:solidFill>
              <a:srgbClr val="baf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59360" y="3228840"/>
              <a:ext cx="12960" cy="201600"/>
            </a:xfrm>
            <a:prstGeom prst="rect">
              <a:avLst/>
            </a:prstGeom>
            <a:solidFill>
              <a:srgbClr val="c1ff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72320" y="3228840"/>
              <a:ext cx="12600" cy="201600"/>
            </a:xfrm>
            <a:prstGeom prst="rect">
              <a:avLst/>
            </a:prstGeom>
            <a:solidFill>
              <a:srgbClr val="c9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84920" y="3228840"/>
              <a:ext cx="12600" cy="201600"/>
            </a:xfrm>
            <a:prstGeom prst="rect">
              <a:avLst/>
            </a:prstGeom>
            <a:solidFill>
              <a:srgbClr val="d1f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97520" y="3228840"/>
              <a:ext cx="12600" cy="201600"/>
            </a:xfrm>
            <a:prstGeom prst="rect">
              <a:avLst/>
            </a:prstGeom>
            <a:solidFill>
              <a:srgbClr val="d9f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10120" y="3228840"/>
              <a:ext cx="12960" cy="201600"/>
            </a:xfrm>
            <a:prstGeom prst="rect">
              <a:avLst/>
            </a:prstGeom>
            <a:solidFill>
              <a:srgbClr val="e0f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23080" y="3228840"/>
              <a:ext cx="12600" cy="201600"/>
            </a:xfrm>
            <a:prstGeom prst="rect">
              <a:avLst/>
            </a:prstGeom>
            <a:solidFill>
              <a:srgbClr val="e8f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35680" y="3228840"/>
              <a:ext cx="12600" cy="201600"/>
            </a:xfrm>
            <a:prstGeom prst="rect">
              <a:avLst/>
            </a:prstGeom>
            <a:solidFill>
              <a:srgbClr val="f0f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48280" y="3228840"/>
              <a:ext cx="12960" cy="201600"/>
            </a:xfrm>
            <a:prstGeom prst="rect">
              <a:avLst/>
            </a:prstGeom>
            <a:solidFill>
              <a:srgbClr val="f8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61240" y="3228840"/>
              <a:ext cx="12600" cy="201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48320" y="3235320"/>
              <a:ext cx="419040" cy="189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8800" y="2468520"/>
              <a:ext cx="12600" cy="203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51400" y="2468520"/>
              <a:ext cx="12600" cy="203400"/>
            </a:xfrm>
            <a:prstGeom prst="rect">
              <a:avLst/>
            </a:prstGeom>
            <a:solidFill>
              <a:srgbClr val="07ff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64000" y="2468520"/>
              <a:ext cx="12960" cy="203400"/>
            </a:xfrm>
            <a:prstGeom prst="rect">
              <a:avLst/>
            </a:prstGeom>
            <a:solidFill>
              <a:srgbClr val="0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376960" y="2468520"/>
              <a:ext cx="12600" cy="203400"/>
            </a:xfrm>
            <a:prstGeom prst="rect">
              <a:avLst/>
            </a:prstGeom>
            <a:solidFill>
              <a:srgbClr val="17f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89560" y="2468520"/>
              <a:ext cx="12600" cy="203400"/>
            </a:xfrm>
            <a:prstGeom prst="rect">
              <a:avLst/>
            </a:prstGeom>
            <a:solidFill>
              <a:srgbClr val="1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02160" y="2468520"/>
              <a:ext cx="12960" cy="203400"/>
            </a:xfrm>
            <a:prstGeom prst="rect">
              <a:avLst/>
            </a:prstGeom>
            <a:solidFill>
              <a:srgbClr val="26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15120" y="2468520"/>
              <a:ext cx="12600" cy="203400"/>
            </a:xfrm>
            <a:prstGeom prst="rect">
              <a:avLst/>
            </a:prstGeom>
            <a:solidFill>
              <a:srgbClr val="2e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27720" y="2468520"/>
              <a:ext cx="12600" cy="203400"/>
            </a:xfrm>
            <a:prstGeom prst="rect">
              <a:avLst/>
            </a:prstGeom>
            <a:solidFill>
              <a:srgbClr val="36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40320" y="2468520"/>
              <a:ext cx="12600" cy="203400"/>
            </a:xfrm>
            <a:prstGeom prst="rect">
              <a:avLst/>
            </a:prstGeom>
            <a:solidFill>
              <a:srgbClr val="3e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52920" y="2468520"/>
              <a:ext cx="12960" cy="203400"/>
            </a:xfrm>
            <a:prstGeom prst="rect">
              <a:avLst/>
            </a:prstGeom>
            <a:solidFill>
              <a:srgbClr val="45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65880" y="2468520"/>
              <a:ext cx="12600" cy="203400"/>
            </a:xfrm>
            <a:prstGeom prst="rect">
              <a:avLst/>
            </a:prstGeom>
            <a:solidFill>
              <a:srgbClr val="4d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78480" y="2468520"/>
              <a:ext cx="12600" cy="203400"/>
            </a:xfrm>
            <a:prstGeom prst="rect">
              <a:avLst/>
            </a:prstGeom>
            <a:solidFill>
              <a:srgbClr val="55f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91080" y="2468520"/>
              <a:ext cx="12960" cy="203400"/>
            </a:xfrm>
            <a:prstGeom prst="rect">
              <a:avLst/>
            </a:prstGeom>
            <a:solidFill>
              <a:srgbClr val="5df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04040" y="2468520"/>
              <a:ext cx="12600" cy="203400"/>
            </a:xfrm>
            <a:prstGeom prst="rect">
              <a:avLst/>
            </a:prstGeom>
            <a:solidFill>
              <a:srgbClr val="64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16640" y="2468520"/>
              <a:ext cx="12600" cy="203400"/>
            </a:xfrm>
            <a:prstGeom prst="rect">
              <a:avLst/>
            </a:prstGeom>
            <a:solidFill>
              <a:srgbClr val="6c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5529240" y="2468520"/>
            <a:ext cx="12600" cy="203400"/>
          </a:xfrm>
          <a:prstGeom prst="rect">
            <a:avLst/>
          </a:prstGeom>
          <a:solidFill>
            <a:srgbClr val="74f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41840" y="2468520"/>
            <a:ext cx="12960" cy="203400"/>
          </a:xfrm>
          <a:prstGeom prst="rect">
            <a:avLst/>
          </a:prstGeom>
          <a:solidFill>
            <a:srgbClr val="7cff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54800" y="2468520"/>
            <a:ext cx="12600" cy="203400"/>
          </a:xfrm>
          <a:prstGeom prst="rect">
            <a:avLst/>
          </a:prstGeom>
          <a:solidFill>
            <a:srgbClr val="83ff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7400" y="2468520"/>
            <a:ext cx="12600" cy="203400"/>
          </a:xfrm>
          <a:prstGeom prst="rect">
            <a:avLst/>
          </a:prstGeom>
          <a:solidFill>
            <a:srgbClr val="8bf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80000" y="2468520"/>
            <a:ext cx="12600" cy="203400"/>
          </a:xfrm>
          <a:prstGeom prst="rect">
            <a:avLst/>
          </a:prstGeom>
          <a:solidFill>
            <a:srgbClr val="93ff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92600" y="2468520"/>
            <a:ext cx="12960" cy="203400"/>
          </a:xfrm>
          <a:prstGeom prst="rect">
            <a:avLst/>
          </a:prstGeom>
          <a:solidFill>
            <a:srgbClr val="9bff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05560" y="2468520"/>
            <a:ext cx="12600" cy="203400"/>
          </a:xfrm>
          <a:prstGeom prst="rect">
            <a:avLst/>
          </a:prstGeom>
          <a:solidFill>
            <a:srgbClr val="a2f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18160" y="2468520"/>
            <a:ext cx="12600" cy="203400"/>
          </a:xfrm>
          <a:prstGeom prst="rect">
            <a:avLst/>
          </a:prstGeom>
          <a:solidFill>
            <a:srgbClr val="aaf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30760" y="2468520"/>
            <a:ext cx="12960" cy="203400"/>
          </a:xfrm>
          <a:prstGeom prst="rect">
            <a:avLst/>
          </a:prstGeom>
          <a:solidFill>
            <a:srgbClr val="b2ff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43720" y="2468520"/>
            <a:ext cx="12600" cy="203400"/>
          </a:xfrm>
          <a:prstGeom prst="rect">
            <a:avLst/>
          </a:prstGeom>
          <a:solidFill>
            <a:srgbClr val="baff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56320" y="2468520"/>
            <a:ext cx="12600" cy="203400"/>
          </a:xfrm>
          <a:prstGeom prst="rect">
            <a:avLst/>
          </a:prstGeom>
          <a:solidFill>
            <a:srgbClr val="c1ff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68920" y="2468520"/>
            <a:ext cx="12600" cy="203400"/>
          </a:xfrm>
          <a:prstGeom prst="rect">
            <a:avLst/>
          </a:prstGeom>
          <a:solidFill>
            <a:srgbClr val="c9ff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81520" y="2468520"/>
            <a:ext cx="12960" cy="203400"/>
          </a:xfrm>
          <a:prstGeom prst="rect">
            <a:avLst/>
          </a:prstGeom>
          <a:solidFill>
            <a:srgbClr val="d1ff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94480" y="2468520"/>
            <a:ext cx="12600" cy="203400"/>
          </a:xfrm>
          <a:prstGeom prst="rect">
            <a:avLst/>
          </a:prstGeom>
          <a:solidFill>
            <a:srgbClr val="d9ff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07080" y="2468520"/>
            <a:ext cx="12600" cy="203400"/>
          </a:xfrm>
          <a:prstGeom prst="rect">
            <a:avLst/>
          </a:prstGeom>
          <a:solidFill>
            <a:srgbClr val="e0f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19680" y="2468520"/>
            <a:ext cx="12960" cy="203400"/>
          </a:xfrm>
          <a:prstGeom prst="rect">
            <a:avLst/>
          </a:prstGeom>
          <a:solidFill>
            <a:srgbClr val="e8f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2640" y="2468520"/>
            <a:ext cx="12600" cy="203400"/>
          </a:xfrm>
          <a:prstGeom prst="rect">
            <a:avLst/>
          </a:prstGeom>
          <a:solidFill>
            <a:srgbClr val="f0f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45240" y="2468520"/>
            <a:ext cx="12600" cy="203400"/>
          </a:xfrm>
          <a:prstGeom prst="rect">
            <a:avLst/>
          </a:prstGeom>
          <a:solidFill>
            <a:srgbClr val="f8f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57840" y="2468520"/>
            <a:ext cx="12600" cy="203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45280" y="2475000"/>
            <a:ext cx="41904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651360" y="4950000"/>
            <a:ext cx="96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16520" y="495000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652080" y="5305320"/>
            <a:ext cx="848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02400" y="530532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654240" y="5659560"/>
            <a:ext cx="118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32520" y="56595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642360" y="601488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a BGP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1720" y="2621520"/>
            <a:ext cx="861120" cy="85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6" y="11347"/>
                </a:moveTo>
                <a:arcTo wR="10800" hR="10800" stAng="174235" swAng="1938250"/>
                <a:lnTo>
                  <a:pt x="10800" y="10800"/>
                </a:lnTo>
                <a:close/>
              </a:path>
              <a:path fill="none" w="21600" h="21600">
                <a:moveTo>
                  <a:pt x="21586" y="11347"/>
                </a:moveTo>
                <a:arcTo wR="10800" hR="10800" stAng="174235" swAng="1938250"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3309840" y="3139560"/>
            <a:ext cx="976320" cy="343080"/>
          </a:xfrm>
          <a:prstGeom prst="line">
            <a:avLst/>
          </a:prstGeom>
          <a:ln w="88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3560" y="4456080"/>
            <a:ext cx="3048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cy Matched CI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44840" y="445608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7800" y="4811760"/>
            <a:ext cx="375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gregate announ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54400" y="48117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6080" y="5165640"/>
            <a:ext cx="3323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ally configur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711240" y="516564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5920" y="5519880"/>
            <a:ext cx="257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ior gate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89600" y="3619440"/>
            <a:ext cx="666720" cy="28584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851120" y="2440080"/>
            <a:ext cx="1238040" cy="799560"/>
            <a:chOff x="1851120" y="2440080"/>
            <a:chExt cx="1238040" cy="799560"/>
          </a:xfrm>
        </p:grpSpPr>
        <p:sp>
          <p:nvSpPr>
            <p:cNvPr id="365" name=""/>
            <p:cNvSpPr/>
            <p:nvPr/>
          </p:nvSpPr>
          <p:spPr>
            <a:xfrm>
              <a:off x="1869840" y="2671560"/>
              <a:ext cx="1215720" cy="568080"/>
            </a:xfrm>
            <a:prstGeom prst="ellipse">
              <a:avLst/>
            </a:prstGeom>
            <a:gradFill rotWithShape="0">
              <a:gsLst>
                <a:gs pos="0">
                  <a:srgbClr val="b12300"/>
                </a:gs>
                <a:gs pos="50000">
                  <a:srgbClr val="ff3300"/>
                </a:gs>
                <a:gs pos="100000">
                  <a:srgbClr val="b123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51120" y="2741400"/>
              <a:ext cx="1238040" cy="218520"/>
            </a:xfrm>
            <a:prstGeom prst="rect">
              <a:avLst/>
            </a:prstGeom>
            <a:gradFill rotWithShape="0">
              <a:gsLst>
                <a:gs pos="0">
                  <a:srgbClr val="b12300"/>
                </a:gs>
                <a:gs pos="50000">
                  <a:srgbClr val="ff3300"/>
                </a:gs>
                <a:gs pos="100000">
                  <a:srgbClr val="b12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69840" y="2440080"/>
              <a:ext cx="1215720" cy="5695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79560" y="2566800"/>
              <a:ext cx="520200" cy="2790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41240" y="2576160"/>
              <a:ext cx="520560" cy="2790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00040" y="2757240"/>
              <a:ext cx="369720" cy="2296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00040" y="2447640"/>
              <a:ext cx="369720" cy="24264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253200" y="3984480"/>
            <a:ext cx="1238040" cy="800280"/>
            <a:chOff x="6253200" y="3984480"/>
            <a:chExt cx="1238040" cy="800280"/>
          </a:xfrm>
        </p:grpSpPr>
        <p:sp>
          <p:nvSpPr>
            <p:cNvPr id="373" name=""/>
            <p:cNvSpPr/>
            <p:nvPr/>
          </p:nvSpPr>
          <p:spPr>
            <a:xfrm>
              <a:off x="6271920" y="4216320"/>
              <a:ext cx="1215720" cy="568440"/>
            </a:xfrm>
            <a:prstGeom prst="ellipse">
              <a:avLst/>
            </a:prstGeom>
            <a:gradFill rotWithShape="0">
              <a:gsLst>
                <a:gs pos="0">
                  <a:srgbClr val="b12300"/>
                </a:gs>
                <a:gs pos="50000">
                  <a:srgbClr val="ff3300"/>
                </a:gs>
                <a:gs pos="100000">
                  <a:srgbClr val="b123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53200" y="4286160"/>
              <a:ext cx="1238040" cy="218880"/>
            </a:xfrm>
            <a:prstGeom prst="rect">
              <a:avLst/>
            </a:prstGeom>
            <a:gradFill rotWithShape="0">
              <a:gsLst>
                <a:gs pos="0">
                  <a:srgbClr val="b12300"/>
                </a:gs>
                <a:gs pos="50000">
                  <a:srgbClr val="ff3300"/>
                </a:gs>
                <a:gs pos="100000">
                  <a:srgbClr val="b12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71920" y="3984480"/>
              <a:ext cx="1215720" cy="5698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81640" y="4111560"/>
              <a:ext cx="520200" cy="27936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43320" y="4120920"/>
              <a:ext cx="520560" cy="27936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702120" y="4302000"/>
              <a:ext cx="369720" cy="23004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02120" y="3992400"/>
              <a:ext cx="369720" cy="24300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971800" y="3043080"/>
            <a:ext cx="3629160" cy="1000440"/>
          </a:xfrm>
          <a:prstGeom prst="line">
            <a:avLst/>
          </a:prstGeom>
          <a:ln w="381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9T17:14:49Z</dcterms:created>
  <dc:creator/>
  <dc:description/>
  <dc:language>en-US</dc:language>
  <cp:lastModifiedBy>g</cp:lastModifiedBy>
  <cp:lastPrinted>1996-06-17T04:39:02Z</cp:lastPrinted>
  <dcterms:modified xsi:type="dcterms:W3CDTF">2002-12-03T18:47:52Z</dcterms:modified>
  <cp:revision>23</cp:revision>
  <dc:subject/>
  <dc:title>Inet Workshop 9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my documents\isocwk98\t4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