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D4D-2E1D-4713-9B8A-ECF32BAD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90B-0A9E-4996-B973-CF425ED2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29B-E561-4C75-908F-E5C079AE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71D-C6AD-4EBC-869C-48F5D5D9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F082-6DA0-48DE-A8D0-6ECCFD38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6A20-6395-4B34-A7F2-266AEF0B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921E-323D-4FDD-9D67-53391587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0901-7693-42AD-999F-28AD9F9D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7B3A-D698-4F4C-97A8-705D2581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804D-C72C-4053-B663-FC28AB48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1132-88FB-45D6-98FE-46553F4A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93D-EBA5-4C33-8531-5EA6EF53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5ABA-499F-4450-8782-98279333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5054-BBC9-4985-9D9C-71116BA8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DE4D-99C1-4BF3-B235-47131041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5075-74D9-41A9-90D9-7F3D50D8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5E6A-83C1-4419-8169-D912EAFE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6290-C6B1-4D25-B53C-C31902F7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BFC-EE10-41AE-9C74-FE69655E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A34-ED03-4E97-8720-18D15D2F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9647-1E81-4FA4-BD1F-7D6F2B6E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31B-11BB-4A1A-810A-1D8F2E35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D3B0-5B35-4E39-90E3-0A267B3E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3816-A7F6-491E-8848-D5C80BA4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CBD0-D48F-453A-AEA3-B5635680F4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70AE-84B9-425F-9F4E-AEB45BD404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6960" y="12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man Old Style"/>
              </a:rPr>
              <a:t>Architecting the Network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art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off Hust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ef Scientist, Intern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str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SOC Workshop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ient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</a:t>
            </a:r>
            <a:r>
              <a:rPr b="0" lang="en-US" sz="3200" spc="-1" strike="noStrike">
                <a:solidFill>
                  <a:srgbClr val="ff6633"/>
                </a:solidFill>
                <a:latin typeface="Tahoma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o both POP and end-to-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long as all routing integrity is maintained within the POP locations for all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ntegrity of the system is maintained within a set of "core" rou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376280" y="5573880"/>
            <a:ext cx="2009880" cy="1070640"/>
            <a:chOff x="1376280" y="5573880"/>
            <a:chExt cx="2009880" cy="1070640"/>
          </a:xfrm>
        </p:grpSpPr>
        <p:grpSp>
          <p:nvGrpSpPr>
            <p:cNvPr id="112" name=""/>
            <p:cNvGrpSpPr/>
            <p:nvPr/>
          </p:nvGrpSpPr>
          <p:grpSpPr>
            <a:xfrm>
              <a:off x="1412280" y="5653080"/>
              <a:ext cx="1973880" cy="991440"/>
              <a:chOff x="1412280" y="5653080"/>
              <a:chExt cx="1973880" cy="991440"/>
            </a:xfrm>
          </p:grpSpPr>
          <p:sp>
            <p:nvSpPr>
              <p:cNvPr id="113" name=""/>
              <p:cNvSpPr/>
              <p:nvPr/>
            </p:nvSpPr>
            <p:spPr>
              <a:xfrm>
                <a:off x="1412280" y="5967000"/>
                <a:ext cx="723600" cy="4590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740960" y="5821560"/>
                <a:ext cx="723600" cy="458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440440" y="6141600"/>
                <a:ext cx="723600" cy="4518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5640" y="5900760"/>
                <a:ext cx="729360" cy="459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66960" y="6185520"/>
                <a:ext cx="723240" cy="4590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93760" y="5653080"/>
                <a:ext cx="729360" cy="459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512440" y="5893560"/>
                <a:ext cx="723600" cy="459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62560" y="6082920"/>
                <a:ext cx="723600" cy="45900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376280" y="5573880"/>
              <a:ext cx="1973880" cy="990360"/>
              <a:chOff x="1376280" y="5573880"/>
              <a:chExt cx="1973880" cy="990360"/>
            </a:xfrm>
          </p:grpSpPr>
          <p:sp>
            <p:nvSpPr>
              <p:cNvPr id="122" name=""/>
              <p:cNvSpPr/>
              <p:nvPr/>
            </p:nvSpPr>
            <p:spPr>
              <a:xfrm>
                <a:off x="1376280" y="5886720"/>
                <a:ext cx="723600" cy="45900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04960" y="5741280"/>
                <a:ext cx="723600" cy="45900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404800" y="6061320"/>
                <a:ext cx="723600" cy="45180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249640" y="5821560"/>
                <a:ext cx="729360" cy="45828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830960" y="6105240"/>
                <a:ext cx="723600" cy="45900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057760" y="5573880"/>
                <a:ext cx="729360" cy="45900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476440" y="5814360"/>
                <a:ext cx="723600" cy="45828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626560" y="6003720"/>
                <a:ext cx="723600" cy="45828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3260880" y="4127400"/>
            <a:ext cx="4258800" cy="1858680"/>
            <a:chOff x="3260880" y="4127400"/>
            <a:chExt cx="4258800" cy="1858680"/>
          </a:xfrm>
        </p:grpSpPr>
        <p:grpSp>
          <p:nvGrpSpPr>
            <p:cNvPr id="131" name=""/>
            <p:cNvGrpSpPr/>
            <p:nvPr/>
          </p:nvGrpSpPr>
          <p:grpSpPr>
            <a:xfrm>
              <a:off x="3337200" y="4265280"/>
              <a:ext cx="4182480" cy="1720800"/>
              <a:chOff x="3337200" y="4265280"/>
              <a:chExt cx="4182480" cy="1720800"/>
            </a:xfrm>
          </p:grpSpPr>
          <p:sp>
            <p:nvSpPr>
              <p:cNvPr id="132" name=""/>
              <p:cNvSpPr/>
              <p:nvPr/>
            </p:nvSpPr>
            <p:spPr>
              <a:xfrm>
                <a:off x="3337200" y="4809960"/>
                <a:ext cx="1533240" cy="7966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033800" y="4557600"/>
                <a:ext cx="1533240" cy="7952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516280" y="5113080"/>
                <a:ext cx="1533240" cy="784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87960" y="4695480"/>
                <a:ext cx="1545840" cy="7970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00560" y="5189400"/>
                <a:ext cx="1532880" cy="7966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81520" y="4265280"/>
                <a:ext cx="1545840" cy="7970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668920" y="4682880"/>
                <a:ext cx="1533240" cy="7970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986440" y="5011560"/>
                <a:ext cx="1533240" cy="7966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260880" y="4127400"/>
              <a:ext cx="4183200" cy="1719000"/>
              <a:chOff x="3260880" y="4127400"/>
              <a:chExt cx="4183200" cy="1719000"/>
            </a:xfrm>
          </p:grpSpPr>
          <p:sp>
            <p:nvSpPr>
              <p:cNvPr id="141" name=""/>
              <p:cNvSpPr/>
              <p:nvPr/>
            </p:nvSpPr>
            <p:spPr>
              <a:xfrm>
                <a:off x="3260880" y="4670280"/>
                <a:ext cx="1533600" cy="79668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57840" y="4417920"/>
                <a:ext cx="1533600" cy="79668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40680" y="4973400"/>
                <a:ext cx="1533600" cy="78408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12000" y="4557600"/>
                <a:ext cx="1546200" cy="79524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224600" y="5049720"/>
                <a:ext cx="1533600" cy="79668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705560" y="4127400"/>
                <a:ext cx="1546200" cy="79668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592960" y="4544640"/>
                <a:ext cx="1533600" cy="79560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910480" y="4873320"/>
                <a:ext cx="1533600" cy="795240"/>
              </a:xfrm>
              <a:prstGeom prst="ellipse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ient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7200" y="138096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has a network with some IP add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operate a network with some IP add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you join these two networks together at the IP leve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 </a:t>
            </a:r>
            <a:r>
              <a:rPr b="0" lang="en-US" sz="3200" spc="-1" strike="noStrike">
                <a:solidFill>
                  <a:srgbClr val="ff6633"/>
                </a:solidFill>
                <a:latin typeface="Tahoma"/>
              </a:rPr>
              <a:t>ROUT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752200" y="5361120"/>
            <a:ext cx="793800" cy="701640"/>
          </a:xfrm>
          <a:prstGeom prst="line">
            <a:avLst/>
          </a:prstGeom>
          <a:ln w="88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216240" y="5100480"/>
            <a:ext cx="614520" cy="537840"/>
            <a:chOff x="3216240" y="5100480"/>
            <a:chExt cx="614520" cy="537840"/>
          </a:xfrm>
        </p:grpSpPr>
        <p:sp>
          <p:nvSpPr>
            <p:cNvPr id="153" name=""/>
            <p:cNvSpPr/>
            <p:nvPr/>
          </p:nvSpPr>
          <p:spPr>
            <a:xfrm>
              <a:off x="3225240" y="5256360"/>
              <a:ext cx="603720" cy="38196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16240" y="5303160"/>
              <a:ext cx="614520" cy="14724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5240" y="5100480"/>
              <a:ext cx="603720" cy="383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30280" y="5185800"/>
              <a:ext cx="258120" cy="18792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58960" y="5192280"/>
              <a:ext cx="258120" cy="18792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9080" y="5313960"/>
              <a:ext cx="183600" cy="15480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39080" y="5105520"/>
              <a:ext cx="183600" cy="16344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532240" y="5697360"/>
            <a:ext cx="614160" cy="537840"/>
            <a:chOff x="2532240" y="5697360"/>
            <a:chExt cx="614160" cy="537840"/>
          </a:xfrm>
        </p:grpSpPr>
        <p:sp>
          <p:nvSpPr>
            <p:cNvPr id="161" name=""/>
            <p:cNvSpPr/>
            <p:nvPr/>
          </p:nvSpPr>
          <p:spPr>
            <a:xfrm>
              <a:off x="2541240" y="5853240"/>
              <a:ext cx="603360" cy="38196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32240" y="5900040"/>
              <a:ext cx="614160" cy="14724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41240" y="5697360"/>
              <a:ext cx="603360" cy="383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46280" y="5782680"/>
              <a:ext cx="258120" cy="18792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74600" y="5789160"/>
              <a:ext cx="258120" cy="18792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54720" y="5910840"/>
              <a:ext cx="183600" cy="15480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54720" y="5702400"/>
              <a:ext cx="183600" cy="16344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08240" y="1558800"/>
            <a:ext cx="6210000" cy="5194440"/>
          </a:xfrm>
          <a:prstGeom prst="roundRect">
            <a:avLst>
              <a:gd name="adj" fmla="val 12495"/>
            </a:avLst>
          </a:prstGeom>
          <a:solidFill>
            <a:srgbClr val="d4d4d4"/>
          </a:solidFill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ient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46360" y="1728720"/>
            <a:ext cx="535932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ient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Tahoma"/>
              </a:rPr>
              <a:t>Choice of client boundary routing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RIP as Network / client boundary routing protoco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ly implem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pplicable in all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upport for classless address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ient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Tahoma"/>
              </a:rPr>
              <a:t>Choice of client boundary routing protoc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RIPv2 as Network / client boundary routing protocol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 yet widely implemen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pplicable in all ca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 support for classless address ex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ient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Tahoma"/>
              </a:rPr>
              <a:t>Choice of client boundary routing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ATIC ROUTES as Network / client boundary routing protoco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ly implem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upport classless address advertis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careful design to sc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support dynamic multi-homed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ient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5276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Tahoma"/>
              </a:rPr>
              <a:t>Choice of client boundary routing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f Classless Client boundary routing protoco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GRP - proprietary B-F Distance V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PF - IETF Std Link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PV2 - IETF Std B-F Distance V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GP4 - IETF Std Inter Domain Routing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ue of clean separation between interior routing environment and client boundary routing environment may dictate use of BGP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ient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posed client interface routing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2800" spc="-1" strike="noStrike">
                <a:solidFill>
                  <a:srgbClr val="ff6633"/>
                </a:solidFill>
                <a:latin typeface="Tahoma"/>
              </a:rPr>
              <a:t>static rout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singly homed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2800" spc="-1" strike="noStrike">
                <a:solidFill>
                  <a:srgbClr val="ff6633"/>
                </a:solidFill>
                <a:latin typeface="Tahoma"/>
              </a:rPr>
              <a:t>statics of specifics plus aggregat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multiple connections to the same prov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2800" spc="-1" strike="noStrike">
                <a:solidFill>
                  <a:srgbClr val="ff6633"/>
                </a:solidFill>
                <a:latin typeface="Tahoma"/>
              </a:rPr>
              <a:t>BGP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multiply homed clients using multiple provi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3600" y="20268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ient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1760" y="3111480"/>
            <a:ext cx="7448400" cy="370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rou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plus sin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conn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087720" y="1278000"/>
            <a:ext cx="5543640" cy="55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ient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0440" y="1851120"/>
            <a:ext cx="8515440" cy="47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Routing Guide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f inbound routing filters to preserve networ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 client advertising bogus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erve integrity of client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bstract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er Interface design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57440" y="2717640"/>
            <a:ext cx="485136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ient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Routing Guide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f outbound static default route to simplify clien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 of presented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 of presented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sees only an external defaul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ient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762360" y="1593720"/>
            <a:ext cx="4464000" cy="4989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3440" y="2897280"/>
            <a:ext cx="268452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ient Conne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ers provi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ient Conne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IP / PPP implementations in h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ital price differential between hosts and router is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ing cost is higher using hosts as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s single end host access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4360" y="101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 to the Cli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23440" y="1626840"/>
            <a:ext cx="8618760" cy="38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client interf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lit of client and provider network - multiple default pat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mmetric routes can be gener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network internal breakage causes black hole ro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s careful management and clear understanding of the routing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use CIDR ro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best advantag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125960" y="4519440"/>
            <a:ext cx="5016600" cy="23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1680" y="11088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 to the Cli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7600" y="139392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provider can provide "default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onnected providers must resort to explicit provision of routes to enumerate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providers must ensure that the client is not used as a transit facility through explicit route management on the part of all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09800" y="4584600"/>
            <a:ext cx="7061040" cy="18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tributed Client suppo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7440" y="16732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Virtual Private Network architecture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VPNs via filtering - unwi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VPNs via tunne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VPNs via MP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050920" y="3389400"/>
            <a:ext cx="694872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ari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ress translation technologies at the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ed firewall / routing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ryption at the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H="1">
            <a:off x="1954080" y="4745160"/>
            <a:ext cx="903600" cy="7887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852280" y="3817800"/>
            <a:ext cx="398520" cy="947880"/>
          </a:xfrm>
          <a:prstGeom prst="line">
            <a:avLst/>
          </a:prstGeom>
          <a:ln w="88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005280" y="3817800"/>
            <a:ext cx="398160" cy="947880"/>
          </a:xfrm>
          <a:prstGeom prst="line">
            <a:avLst/>
          </a:prstGeom>
          <a:ln w="88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157200" y="3817800"/>
            <a:ext cx="398520" cy="947880"/>
          </a:xfrm>
          <a:prstGeom prst="line">
            <a:avLst/>
          </a:prstGeom>
          <a:ln w="88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309480" y="3817800"/>
            <a:ext cx="398520" cy="947880"/>
          </a:xfrm>
          <a:prstGeom prst="line">
            <a:avLst/>
          </a:prstGeom>
          <a:ln w="88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462480" y="3817800"/>
            <a:ext cx="398160" cy="947880"/>
          </a:xfrm>
          <a:prstGeom prst="line">
            <a:avLst/>
          </a:prstGeom>
          <a:ln w="88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614400" y="3817800"/>
            <a:ext cx="398520" cy="947880"/>
          </a:xfrm>
          <a:prstGeom prst="line">
            <a:avLst/>
          </a:prstGeom>
          <a:ln w="88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766680" y="3817800"/>
            <a:ext cx="398520" cy="947880"/>
          </a:xfrm>
          <a:prstGeom prst="line">
            <a:avLst/>
          </a:prstGeom>
          <a:ln w="88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138400" y="2608200"/>
            <a:ext cx="4183200" cy="1720800"/>
            <a:chOff x="2138400" y="2608200"/>
            <a:chExt cx="4183200" cy="1720800"/>
          </a:xfrm>
        </p:grpSpPr>
        <p:sp>
          <p:nvSpPr>
            <p:cNvPr id="216" name=""/>
            <p:cNvSpPr/>
            <p:nvPr/>
          </p:nvSpPr>
          <p:spPr>
            <a:xfrm>
              <a:off x="2138400" y="3152880"/>
              <a:ext cx="1533600" cy="7966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35360" y="2900520"/>
              <a:ext cx="1533600" cy="7952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17840" y="3456000"/>
              <a:ext cx="1533600" cy="784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89520" y="3038400"/>
              <a:ext cx="1546200" cy="797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02120" y="3532320"/>
              <a:ext cx="1533240" cy="7966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83080" y="2608200"/>
              <a:ext cx="1546200" cy="797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70480" y="3025800"/>
              <a:ext cx="1533600" cy="797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3354480"/>
              <a:ext cx="1533600" cy="7966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062080" y="2470320"/>
            <a:ext cx="4183200" cy="1719000"/>
            <a:chOff x="2062080" y="2470320"/>
            <a:chExt cx="4183200" cy="1719000"/>
          </a:xfrm>
        </p:grpSpPr>
        <p:sp>
          <p:nvSpPr>
            <p:cNvPr id="225" name=""/>
            <p:cNvSpPr/>
            <p:nvPr/>
          </p:nvSpPr>
          <p:spPr>
            <a:xfrm>
              <a:off x="2062080" y="3013200"/>
              <a:ext cx="1533600" cy="796680"/>
            </a:xfrm>
            <a:prstGeom prst="ellipse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59040" y="2760840"/>
              <a:ext cx="1533600" cy="796680"/>
            </a:xfrm>
            <a:prstGeom prst="ellipse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41880" y="3316320"/>
              <a:ext cx="1533600" cy="784080"/>
            </a:xfrm>
            <a:prstGeom prst="ellipse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13200" y="2900520"/>
              <a:ext cx="1546200" cy="795240"/>
            </a:xfrm>
            <a:prstGeom prst="ellipse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25800" y="3392640"/>
              <a:ext cx="1533600" cy="796680"/>
            </a:xfrm>
            <a:prstGeom prst="ellipse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6760" y="2470320"/>
              <a:ext cx="1546200" cy="796680"/>
            </a:xfrm>
            <a:prstGeom prst="ellipse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94160" y="2887560"/>
              <a:ext cx="1533600" cy="795600"/>
            </a:xfrm>
            <a:prstGeom prst="ellipse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11680" y="3216240"/>
              <a:ext cx="1533600" cy="795240"/>
            </a:xfrm>
            <a:prstGeom prst="ellipse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971800" y="3753000"/>
            <a:ext cx="1238040" cy="799920"/>
            <a:chOff x="2971800" y="3753000"/>
            <a:chExt cx="1238040" cy="799920"/>
          </a:xfrm>
        </p:grpSpPr>
        <p:sp>
          <p:nvSpPr>
            <p:cNvPr id="234" name=""/>
            <p:cNvSpPr/>
            <p:nvPr/>
          </p:nvSpPr>
          <p:spPr>
            <a:xfrm>
              <a:off x="2990520" y="3984840"/>
              <a:ext cx="1216080" cy="568080"/>
            </a:xfrm>
            <a:prstGeom prst="ellipse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71800" y="4054680"/>
              <a:ext cx="1238040" cy="218880"/>
            </a:xfrm>
            <a:prstGeom prst="rect">
              <a:avLst/>
            </a:prstGeom>
            <a:gradFill rotWithShape="0">
              <a:gsLst>
                <a:gs pos="0">
                  <a:srgbClr val="008d00"/>
                </a:gs>
                <a:gs pos="50000">
                  <a:srgbClr val="00cc00"/>
                </a:gs>
                <a:gs pos="100000">
                  <a:srgbClr val="008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90520" y="3753000"/>
              <a:ext cx="1216080" cy="569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00240" y="3880080"/>
              <a:ext cx="520560" cy="27936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62280" y="3889440"/>
              <a:ext cx="520560" cy="27936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20720" y="4070520"/>
              <a:ext cx="370080" cy="23004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20720" y="3760920"/>
              <a:ext cx="370080" cy="24300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H="1">
            <a:off x="2500200" y="4749840"/>
            <a:ext cx="542880" cy="8049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065400" y="4721400"/>
            <a:ext cx="114480" cy="8874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30720" y="4726080"/>
            <a:ext cx="395280" cy="8046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49520" y="4730760"/>
            <a:ext cx="1068480" cy="8049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02160" y="4753080"/>
            <a:ext cx="1446120" cy="7873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38600" y="4707000"/>
            <a:ext cx="2135160" cy="7873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39880" y="5346720"/>
            <a:ext cx="378000" cy="295200"/>
          </a:xfrm>
          <a:prstGeom prst="rect">
            <a:avLst/>
          </a:prstGeom>
          <a:solidFill>
            <a:srgbClr val="b95a1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81400" y="5346720"/>
            <a:ext cx="377640" cy="295200"/>
          </a:xfrm>
          <a:prstGeom prst="rect">
            <a:avLst/>
          </a:prstGeom>
          <a:solidFill>
            <a:srgbClr val="b95a1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24360" y="5346720"/>
            <a:ext cx="377640" cy="295200"/>
          </a:xfrm>
          <a:prstGeom prst="rect">
            <a:avLst/>
          </a:prstGeom>
          <a:solidFill>
            <a:srgbClr val="b95a1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65520" y="5346720"/>
            <a:ext cx="378000" cy="295200"/>
          </a:xfrm>
          <a:prstGeom prst="rect">
            <a:avLst/>
          </a:prstGeom>
          <a:solidFill>
            <a:srgbClr val="b95a1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08480" y="5346720"/>
            <a:ext cx="378000" cy="295200"/>
          </a:xfrm>
          <a:prstGeom prst="rect">
            <a:avLst/>
          </a:prstGeom>
          <a:solidFill>
            <a:srgbClr val="b95a1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0000" y="5346720"/>
            <a:ext cx="377640" cy="295200"/>
          </a:xfrm>
          <a:prstGeom prst="rect">
            <a:avLst/>
          </a:prstGeom>
          <a:solidFill>
            <a:srgbClr val="b95a1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92600" y="5346720"/>
            <a:ext cx="378000" cy="295200"/>
          </a:xfrm>
          <a:prstGeom prst="rect">
            <a:avLst/>
          </a:prstGeom>
          <a:solidFill>
            <a:srgbClr val="b95a1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 Access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TN dial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DN dial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issues are simila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uthentication and user access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and billing 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structure support for intermittent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781360" y="2610000"/>
            <a:ext cx="1600200" cy="533160"/>
          </a:xfrm>
          <a:prstGeom prst="ellipse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2876400"/>
            <a:ext cx="1600200" cy="533520"/>
          </a:xfrm>
          <a:prstGeom prst="ellipse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24400" y="2381400"/>
            <a:ext cx="1600200" cy="533160"/>
          </a:xfrm>
          <a:prstGeom prst="ellipse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2685960"/>
            <a:ext cx="1600200" cy="533520"/>
          </a:xfrm>
          <a:prstGeom prst="ellipse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55920" y="2432160"/>
            <a:ext cx="5981400" cy="2781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ient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4672080" y="2808360"/>
            <a:ext cx="4471920" cy="3227400"/>
            <a:chOff x="4672080" y="2808360"/>
            <a:chExt cx="4471920" cy="3227400"/>
          </a:xfrm>
        </p:grpSpPr>
        <p:sp>
          <p:nvSpPr>
            <p:cNvPr id="257" name=""/>
            <p:cNvSpPr/>
            <p:nvPr/>
          </p:nvSpPr>
          <p:spPr>
            <a:xfrm>
              <a:off x="4930920" y="2808360"/>
              <a:ext cx="2512800" cy="9684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2080" y="3354480"/>
              <a:ext cx="2513160" cy="9684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83360" y="2828880"/>
              <a:ext cx="2513160" cy="9684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62720" y="3124440"/>
              <a:ext cx="2513160" cy="9684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40280" y="4229280"/>
              <a:ext cx="2513160" cy="9684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84800" y="5067360"/>
              <a:ext cx="2513160" cy="9684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05680" y="4148280"/>
              <a:ext cx="2512800" cy="13777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48400" y="3884760"/>
              <a:ext cx="2513160" cy="9684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31200" y="3375000"/>
              <a:ext cx="2512800" cy="9684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 flipV="1">
            <a:off x="1674720" y="3432240"/>
            <a:ext cx="2971800" cy="147600"/>
          </a:xfrm>
          <a:prstGeom prst="line">
            <a:avLst/>
          </a:prstGeom>
          <a:ln w="57240">
            <a:solidFill>
              <a:srgbClr val="9966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 Access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5549760" y="3497400"/>
            <a:ext cx="2184480" cy="648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56160" y="3584520"/>
            <a:ext cx="2216160" cy="15750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19640" y="3218040"/>
            <a:ext cx="1214280" cy="558720"/>
          </a:xfrm>
          <a:prstGeom prst="rect">
            <a:avLst/>
          </a:prstGeom>
          <a:solidFill>
            <a:srgbClr val="b95a1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82600" y="3300480"/>
            <a:ext cx="657360" cy="4762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79560" y="412416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Client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69640" y="2236680"/>
            <a:ext cx="17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Dial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77720" y="1957320"/>
            <a:ext cx="123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16520" y="5291280"/>
            <a:ext cx="118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Mai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N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11680" y="3497400"/>
            <a:ext cx="292428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09240" y="4075200"/>
            <a:ext cx="24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02480" y="3301920"/>
            <a:ext cx="476280" cy="820800"/>
          </a:xfrm>
          <a:prstGeom prst="rect">
            <a:avLst/>
          </a:prstGeom>
          <a:solidFill>
            <a:srgbClr val="bb3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82160" y="3666960"/>
            <a:ext cx="475920" cy="820800"/>
          </a:xfrm>
          <a:prstGeom prst="rect">
            <a:avLst/>
          </a:prstGeom>
          <a:solidFill>
            <a:srgbClr val="bb399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567400" y="3513240"/>
            <a:ext cx="31680" cy="165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57880" y="5013360"/>
            <a:ext cx="476280" cy="820800"/>
          </a:xfrm>
          <a:prstGeom prst="rect">
            <a:avLst/>
          </a:prstGeom>
          <a:solidFill>
            <a:srgbClr val="5acf1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ss Mechanis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1120" y="153036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m ban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ry level for small IS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managemen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1382"/>
                </a:solidFill>
                <a:latin typeface="Tahoma"/>
              </a:rPr>
              <a:t>ISDN Primary Rat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manage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and power bud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 PSTN and ISDN servic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thenticating the Us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PP component of link se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 authentication details to access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server consults Radius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us server providers answ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/ yes with profile loaded into access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accounting enab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dius Accounting provides per session accounting at session term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Accoun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ect session accounting recor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session service (server and por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termination rea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address assigned for 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dress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676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ress Pools configured per ISDN PRI 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address assignment per s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has service implications, as the client cannot assume a permanent name / address 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 LAN connection is not readily sup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route filter loading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ent Servi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d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 access and account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Domain name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S browser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erver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ther Servi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roxy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s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tp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me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 Access Servi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4405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Intensiv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elpdesk is the major cost component of a dial acc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ly Competitiv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startup capital costs for new p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ing of equipment retail with acc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ervice margins are now a my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 Access Dire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dity low margin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tual dial pops via L2 tunneling from CO telco port ban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oS on dial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ther Access Mod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infra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ISP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/ data 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with CATV roll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ient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Homed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ly connected clients using any one of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sed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dio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modem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uses single service provider who offers the client a "default"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's networks are advertised to the Internet exclusively via the prov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ther Access Mod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DS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uniform servi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ISP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TN imp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V imp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infrastructure imp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existing copper infra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ther Access Mod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, packet radio, GS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utility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spectrum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coverage with LOS earth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availabl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no wir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ient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emarcation of boundary between client and network is required for consistency of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demarcation model is required for the network to ensure manageability and operabil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twork service should never transit a client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ient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57280" y="155592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OP Access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is responsible for CPE router and tai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rovider provides router attachment points at a number of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Boundary located at POP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58920" y="4038480"/>
            <a:ext cx="450864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ient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2200" y="157464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mprehensive Servi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rovider installs and operates CPE router and tai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rovider attaches to client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Boundary located at LAN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58880" y="4057560"/>
            <a:ext cx="32418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ient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nfused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rovider installs tai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rovider installs router interface card in client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and network provider operate client router simultane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Client Interfa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 or end-to-end service model depends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co bulk purchase tariff dis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vendor bulk purchase dis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ff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xpertise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servic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 Site service model is preferable from a commercial persp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9T17:14:49Z</dcterms:created>
  <dc:creator/>
  <dc:description/>
  <dc:language>en-US</dc:language>
  <cp:lastModifiedBy>g</cp:lastModifiedBy>
  <cp:lastPrinted>1996-06-17T04:39:02Z</cp:lastPrinted>
  <dcterms:modified xsi:type="dcterms:W3CDTF">2002-12-03T18:45:01Z</dcterms:modified>
  <cp:revision>21</cp:revision>
  <dc:subject/>
  <dc:title>Inet Workshop 9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my documents\isocwk98\t4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