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708-27AC-4812-BB23-A7F758BF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D4F-ECF4-406F-9124-1D6ACA6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114-039A-45D1-9FAB-028EC6BF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38A-4172-4EB8-A1B1-8A7B8C41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D66-5A15-4E09-98DF-59A228E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0CD9-140F-41BE-A4BB-17BAEC47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EED-6CD8-42FB-AB12-D304320F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4116-0994-481E-B047-5F156AB8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89D4-FEBB-4E7D-817D-5AA77D60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5423-BE07-4056-8464-8342D066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1427-F084-4D5A-B3D8-7109106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E41-E53F-4A96-8A7B-65C7BB72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02D8-019C-48C8-B0D6-64A99F3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06FE-1FCC-4354-90B9-75E295A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7E09-FC65-40E3-BA62-CC254924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BF55-4C3C-483E-998B-E356268D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37CC-34D8-4BFC-9113-0EDE7A54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D1C-95E8-46B5-B131-E862E629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1FC-8D9F-48E4-A0CB-FECAFFD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050-F7C2-4383-A1FD-AAAA52D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C9C-27E6-4BF0-B49E-1B5AA390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DDD-01A4-4D1C-AB13-D24E9A0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0EC-23CA-46C1-BF30-100A954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F5C-AEB2-4703-82A4-BDB31A6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D80-55B1-485C-AB1B-FA8BD79A23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8E02-E9D3-4739-B198-D938A08459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6960" y="12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Architecting the Network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echnical Manag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str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SOC Worksho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Implementable means using components which are seen to work w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on’t build a production network using experimental hardware and softwa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service which solves your client’s actual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not to solve artificial requirement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inclusive with involv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ational network will need the efforts of many individuals to make it 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folk to get involved, and share the responsibility of making it hap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1680" y="1672920"/>
            <a:ext cx="43117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esign objective is to minimise costs and maximise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Unless you are a telco bandwidth lease will dominate all other cost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ven then it will probably dominate all other cost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unit cost of bandwidth is the major design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61040" y="2033640"/>
          <a:ext cx="938520" cy="100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1040" y="2033640"/>
                    <a:ext cx="9385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398840" y="1851120"/>
          <a:ext cx="4399200" cy="34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8840" y="1851120"/>
                    <a:ext cx="439920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 Consid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and operational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 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6120" y="1990440"/>
            <a:ext cx="7966080" cy="375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ordable capacity defines delivered service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today's problems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service which matches current needs before matching future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Transport Service C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ed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s and ISDN dynamic access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Interfa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 Compon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Service 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and Servi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PROXIES and C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work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Operational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Accou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e and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of Architectural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ating Architecture into a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ng an Engineering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 Consid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 Consid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onal Experi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9800" y="1466640"/>
            <a:ext cx="8142480" cy="37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ustralian Internet - AA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ed in May 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ly 45 client sites (to 45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st implementation budg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itially $US 1.2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st initial staff resources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e 95:  $10M p.a. with 5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onal Experi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elstra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urchased AARNet operations and customer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ommenced July 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lco National Internet Backbone and provi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June 97: $80M p.a. carriag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p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of Public Infrastructure on a National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33"/>
                </a:solidFill>
                <a:latin typeface="Tahoma"/>
              </a:rPr>
              <a:t>Design issues will vary for commercial and/or corporate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ord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ble to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d to meet actual end client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(and develops) local expert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5440" y="12574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33"/>
                </a:solidFill>
                <a:latin typeface="Tahoma"/>
              </a:rPr>
              <a:t>Simplic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key attribute of any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erse, complex and uncoordinated architectures result in very high implementation and operational costs, and are resistant to subsequent incremental engine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unctional adequacy means doing what is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but NOT doing what is unnecessary or what is not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intin focus on solving the objectives of the network’s servic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ordability means keeping the network within the bounds of availabl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can’t pay for it you’ll never be allowed to build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small and allow for incremental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9T17:14:49Z</dcterms:created>
  <dc:creator/>
  <dc:description/>
  <dc:language>en-US</dc:language>
  <cp:lastModifiedBy>g</cp:lastModifiedBy>
  <cp:lastPrinted>1996-06-17T04:39:02Z</cp:lastPrinted>
  <dcterms:modified xsi:type="dcterms:W3CDTF">2002-12-03T18:32:00Z</dcterms:modified>
  <cp:revision>22</cp:revision>
  <dc:subject/>
  <dc:title>Inet Workshop 9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