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338-BF0A-4724-A1D7-10D8813A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C12E-7EE9-4EE3-8FB7-9A022EA3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1130-A26B-4C34-A957-05B8B774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B07-2AD8-4D18-901A-DCEB55F5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CB3D-26EE-4E3B-9CBC-DD67DEE6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985F-4C43-487A-B54F-45E86C4E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DCD5-97C9-4BDB-AE88-14018391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EBCA-BE28-40E9-88D1-F940280B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C14B-4367-4B1B-9ED4-A5114103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6B45-9A48-4EF1-829E-85940D63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41D9-5356-4CCA-AB5D-23AE41DB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2E5-EC65-4C13-B389-1628A800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2077-1AC7-4058-9D3E-5880A19F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6041-EBCD-4D85-8A59-3971CA63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8ED3-1D51-4936-886D-768C88B0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9252-DD81-4232-9620-4EA95B02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F637-35C3-42A8-85A0-6D03ECD5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6056-4499-418B-9205-1B0759BF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7AF4-2586-4000-A320-1BF15199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1FD-A3F2-4668-B651-2B677965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E2A5-B450-438E-A351-185C18DB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63B6-59D7-4D62-A741-05072BF6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B78B-CE4E-4FC4-9EC9-662C5710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F86-03C9-4D38-B34E-39370BA4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F9F3-A863-411D-A1AB-E807BC1391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EF2F-7B09-40A5-9DD9-4F662FA006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 Black"/>
              </a:rPr>
              <a:t>Network Manag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0560" y="3507840"/>
            <a:ext cx="7277040" cy="23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 Black"/>
              </a:rPr>
              <a:t>NTW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 Black"/>
              </a:rPr>
              <a:t>Track 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Wednesday P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ecurity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tecting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cident Hand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Thursday 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twork Management and Op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Thursday P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pacity 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Friday 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ames and Addresses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role of the DNS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ame and address structures and administrative arrangements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urrent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ISP Service Portfol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SP service consid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Friday P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ISP Industry Trends and Fu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echnology fu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SP fu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elco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Saturday 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ISP Business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es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comments and discus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Questions</a:t>
            </a:r>
            <a:r>
              <a:rPr b="0" lang="en-A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nd possibly answer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r Instruc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Barbara Fra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Geoff Hust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ur Zincir-Heyw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vid Conr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Each day we will…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tart at a decent hour -  9: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morning break  - 10: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lunch - 12:30 -13:4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fternoon break 15: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ompleted 5:30 (or thereabou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ome evening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Mond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troduction and Over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National Internet ev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The Internet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troduction to Rou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Tuesd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Architecture of the I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Management Tools and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Costs and Pric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Business Plan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1640" y="19051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Wednesd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Thursd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Management &amp; Ope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Capacity Plan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Frid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DNS infrastructur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ISP Servi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Industry Tre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aturd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Pres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Q &amp;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nday 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7520" y="1905120"/>
            <a:ext cx="8736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dministriv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etting Expec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Intro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udents to describe themselves and their objectives for this we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Evolution of National Internet Infra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Monday P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How is the Internet glued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llustrating the structure within the an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Introduction to IP Rou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Tuesday 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ost and Pricing Aspects of the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Internet Business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preadsheet model of Internet Service enterpr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Tuesday P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rchitecture of an Internet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echnical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Operational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esource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ervice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nd your homework assignment is..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Wednesday 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ecurity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Current Threats and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ecurity Policy and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1T08:24:18Z</dcterms:created>
  <dc:creator>geoff</dc:creator>
  <dc:description/>
  <dc:language>en-US</dc:language>
  <cp:lastModifiedBy>gih</cp:lastModifiedBy>
  <cp:lastPrinted>1996-06-17T02:21:46Z</cp:lastPrinted>
  <dcterms:modified xsi:type="dcterms:W3CDTF">2000-07-12T10:10:45Z</dcterms:modified>
  <cp:revision>23</cp:revision>
  <dc:subject/>
  <dc:title>Network Management Stre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telstra.net/gih</vt:lpwstr>
  </property>
  <property fmtid="{D5CDD505-2E9C-101B-9397-08002B2CF9AE}" pid="9" name="LinkColor">
    <vt:r8>16711782</vt:r8>
  </property>
  <property fmtid="{D5CDD505-2E9C-101B-9397-08002B2CF9AE}" pid="10" name="MailAddress">
    <vt:lpwstr>gih@telstra.net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my documents\isocwk99\t4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