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DFA9-49B5-4F09-8434-3BFE4542E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8E8C-5DDC-4A2B-B625-185E7F566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E67B-5005-4139-B628-FFB749BF5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2403-61D3-4D2F-BA5C-A8AEF4930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1F427-5A55-473E-8B8D-C2EAA2DA8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6A6AA-D2E5-47E4-AD32-F367B0E65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71808-8650-41B3-9877-47BC469C6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5EC8F-5524-4D46-9EE2-4688A6FF7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6A048-1007-4024-80F8-8172CB19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A060D-2265-4903-9458-3B36D8F73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DECA5-F257-4667-91FD-06E905C6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5287-9034-4388-B0A8-7446E7CE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4F68D-F247-45F7-AAF1-7B27F010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24260-D718-4EBB-B22C-12C288F7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CB001-3956-47F1-8694-1D5EF546A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7E693-E5D7-4791-A83F-578BECCC0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AFD94-810C-49D3-B9FD-813A2A6A1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2F87-2CD5-4309-962D-78FFE0481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4B1D-A271-4896-8AB2-6B72511B2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6424-AFFF-4DEA-BCD8-E528E8137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2A7A-E6A0-4072-A02F-1E2E8AEB0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FE6E-FDE6-4BF5-A1BF-5A7B4DE5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6BB7-64FD-4748-B276-E31CB10C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6EB0-41B0-4BD6-B4CC-E478F229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EDEF5-B0EB-4936-970D-CA2698CD9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F2DD7-264C-425D-B2AC-AF27CC954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ddress Registri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Conr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c@isc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t Software Consort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Provider Independent Addresse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r independent (PI) addresses can be obtained from your prov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is is not the best choice as it means punching a hole in your provider’s address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(most?) provides do not allow this anym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ISPs might not listen to your routes, even though your provider allows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t Registries allocate (PI)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ey have no control over whether those addresses are ro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ernet Registry Go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rnet Registries have the following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rvation of routing table e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rvation of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r allocation of the remaining unallocated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e first two goals tend to be mutually exclusi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rvation of routing table space implies allocating the largest block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rvation of address space implies allocating the smallest block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ocation vs. Assignmen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6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context of the Internet Registries there is a difference between allocation and ass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cation is the sub-delegation of address space to be used for further sub-dele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a block of addresses allocated to a service provider will be sub-delegated to the service provider’s custo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ment is the sub-delegation of address space to an end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further sub-delegation is expected to occur outside of the organization assigned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stries do NOT like to make assig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ail vs. wholesale disti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ocation guidelin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18960" y="12193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s are allocated to ISPs in power of 2 sized blocks on bit boundaries that create single routing e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ose blocks should remain int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gnments to customers should be done as “loans” for the duration of the connectivity con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Ps must assign address space effici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 length subnet technologies are assu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cating addresses to highly transient customers (e.g., dialup IP) is discoura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assignment can be very space ineffic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s are allocated using a “slow start” procedure to insure efficient address space usage with a minimum of routing entries gene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low Start” (RIPE and APNIC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8720" y="1219320"/>
            <a:ext cx="795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nitial /19 is allocated to all new IS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romise between waste of space and router table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the /19 is consumed additional space is allo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unt of space allocated depends on compliance with registry polici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additional allocation is doubling existing space (e.g., subtracting a bit from prefix leng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P has a /19, new allocation is a /19 giving a total of /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is to provide ISP with enough space to satisfy requirements for 3 to 6 mon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Assignment Window”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-start is a very rough tool to enforce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way to insure assignments done appropriately until after a /19 has been assig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is to limit amount of address space the ISP can assign without checking with a regi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“Assignment Window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W determines how much address space can be assigned autonomously by the I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P gets an “assignment window” of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W grows as the regional registry gains confidence in their assignment/allocation procedures/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W can be decreased if procedures/policies viol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low Start” (ARIN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n ISP has used less than a /19 and is not multi-homed, ARIN will not allo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yond a /19, ARIN’s allocation policy is almost the same as APNIC and RIPE-N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ssignment window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porting Requiremen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addresses assigned by an ISP must be reported to the appropriate regional registry by updating the registry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operational staff to determine the registrant of assigned addresses for network trouble-shooting, security incident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he registries to determine the amount of address space the ISP is utilizing for 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mits studies of address space uti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stries will only allocate additional space if 80% of existing space has been uti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ssignment guidelin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716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ssignment is the delegation of authority over a block of IP addresses to an end enterprise for internal use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nterprise will not sub-delegate those addr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ust be demonstrated via network engineering and deployment plans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% of the requested address space will be utilized immediat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% of the requested address space will be utilized within one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 length subnet technologies will be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rganization must account for all previously assigned space and must demonstrate at least 80% of that space has been utiliz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Network Engineering Pl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716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rder for a registry to obtain reasonable assurance address requests aren’t overstated, network engineering are reque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gineering plans should incl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 subnetting information, including number of hosts initially and after on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escription of network topolo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escription of the routing plans, including routing protocols, routing hardware and software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fficient detail should be provided to enable the registry staff to understand the need for the space reque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gional Regis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ample: AP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stry Policies and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stry Fu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Network Deployment Pl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3716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ddition, network deployment plans may be requested to further corroborate the requ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ployment plans should incl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hosts to be deployed per time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ed network growth during that time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cations of network topology to account for the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e should be taken to insure the engineering and deployment plan numbers m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gistry Cos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3716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,the US Gov’t paid for Internet registry ser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, all regional registries recover costs via a “membership” fee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s are allocated to memb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NIC has non-member f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N also has fees associated with address space al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es are intended to cover the cost of providing registry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ing the cost among all organizations which use the regi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NIC Membership Fe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38098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zes self-determ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stinction in level of service based on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urrent fees based on yearly payment (cost recovery is the go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llment plan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ederation category i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f-determined size plus an additional fee which corresponds to the amount of resources consu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944640" y="1982880"/>
          <a:ext cx="8134200" cy="193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4640" y="1982880"/>
                    <a:ext cx="8134200" cy="19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NIC Membership Growth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3392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233360" y="1514520"/>
          <a:ext cx="7526520" cy="534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3360" y="1514520"/>
                    <a:ext cx="7526520" cy="534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NIC Non-Member Fe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organizations don’t want to be members, so APNIC has a non-member price schedule for registry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requests must still be jus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219320" y="4267080"/>
          <a:ext cx="7542000" cy="218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267080"/>
                    <a:ext cx="7542000" cy="21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gional Registries were created to support the varying speeds at which the Internet was developing in the different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cation and assignment policies are globally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gional registries have evolved towards being self-fu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ere to get more inform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t regis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FC 1466 describes the partitioning and allocation blocks of the regional registries.  The registry procedures described in RFC 1466 are obsole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FC 2050 describes current registry allocation and assignment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NIC information: www.apnic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N information: www.arin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PE-NCC information: www.ripe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ANA information: www.iana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 the Beginning…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 allocation and registration performed as an afterthou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administrative function of keeping track of who had what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 kept in text files, accessible by wh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restrictions on amount alloc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s allocated to anyone who as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lization of registry functions occurred in the early 80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ct to SRI, later to GSI, Funded by US D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gional Address Registri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the Internet grew, having all registry function in the US became unten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hough not for technical reason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FC 1466 specifies the creation of regional address registries based on geographical monopo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C 1466 acknowledged the existence of RIPE-N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provided for the delegation of blocks to new regis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s a unified “registry” with the IANA as overall coord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sion made for the creation of new regis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 consensus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gional Registri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523880" y="1752480"/>
          <a:ext cx="7620120" cy="455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752480"/>
                    <a:ext cx="7620120" cy="45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8" name=""/>
          <p:cNvGrpSpPr/>
          <p:nvPr/>
        </p:nvGrpSpPr>
        <p:grpSpPr>
          <a:xfrm>
            <a:off x="1295280" y="3962520"/>
            <a:ext cx="1665000" cy="1906560"/>
            <a:chOff x="1295280" y="3962520"/>
            <a:chExt cx="1665000" cy="1906560"/>
          </a:xfrm>
        </p:grpSpPr>
        <p:grpSp>
          <p:nvGrpSpPr>
            <p:cNvPr id="139" name=""/>
            <p:cNvGrpSpPr/>
            <p:nvPr/>
          </p:nvGrpSpPr>
          <p:grpSpPr>
            <a:xfrm>
              <a:off x="1295280" y="3962520"/>
              <a:ext cx="1181880" cy="368280"/>
              <a:chOff x="1295280" y="3962520"/>
              <a:chExt cx="1181880" cy="368280"/>
            </a:xfrm>
          </p:grpSpPr>
          <p:sp>
            <p:nvSpPr>
              <p:cNvPr id="140" name=""/>
              <p:cNvSpPr/>
              <p:nvPr/>
            </p:nvSpPr>
            <p:spPr>
              <a:xfrm>
                <a:off x="1295280" y="4000680"/>
                <a:ext cx="30492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738800" y="3962520"/>
                <a:ext cx="73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ARI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1295280" y="4305240"/>
              <a:ext cx="304920" cy="22860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39160" y="426708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PNI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4624560"/>
              <a:ext cx="304920" cy="22860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38800" y="4586400"/>
              <a:ext cx="122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IPE-NC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295280" y="4929120"/>
              <a:ext cx="304920" cy="228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738080" y="4890960"/>
              <a:ext cx="10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LyCNI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295280" y="5234040"/>
              <a:ext cx="304920" cy="228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737720" y="5195880"/>
              <a:ext cx="91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friNI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295280" y="5538960"/>
              <a:ext cx="304920" cy="228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738080" y="5500800"/>
              <a:ext cx="98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FSUNI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ddress Registry Structur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regional registries exist beneath the I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regional registries are being discu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NIC and ARIN have an intermediate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ederations/national NICs respectiv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066680" y="3962520"/>
          <a:ext cx="7772400" cy="240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962520"/>
                    <a:ext cx="7772400" cy="24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An Example: APNIC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ed as a pilot project by the APCCIRN/APE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lot project initiated on September 1, 19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CCIRN/APEPG renamed in 1994 to AP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pril, 1994 APNIC was delegated 202/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ual APNIC operation beg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pril, 1996 APNIC, Ltd. was incorporated in the Seychelles, operates out of Toky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July, 1997 APNIC decides to move to Brisb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February, 1998 APNIC Pty Ltd. incorporated in Austra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267080" y="55627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00800" y="3352680"/>
            <a:ext cx="0" cy="2210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NIC Structur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344600" y="2003400"/>
          <a:ext cx="734364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4600" y="2003400"/>
                    <a:ext cx="734364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APNIC Do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cate Internet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 addr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-addr.arpa dom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 registration info for those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 via whois and WW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w database also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 a list of AP region Internet Service Provi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te the development of the Internet in the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ia Pacific Rim Internet Conference on Operational Technologies (APRIC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emerging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e, APIA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aison with the other regional regis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8T18:20:28Z</dcterms:created>
  <dc:creator>David R. Conrad</dc:creator>
  <dc:description/>
  <dc:language>en-US</dc:language>
  <cp:lastModifiedBy>gih</cp:lastModifiedBy>
  <dcterms:modified xsi:type="dcterms:W3CDTF">1999-06-16T21:24:48Z</dcterms:modified>
  <cp:revision>15</cp:revision>
  <dc:subject/>
  <dc:title>APNIC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F:\t4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