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4BD-5710-4A52-8194-2BC8096E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1ED-9DAC-47BE-8D73-EED6B826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C37-656B-4549-9A5E-D17DECFB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F7E-F353-4340-9CD6-C70B9258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532-4231-408F-AFC4-3A0A6F38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BF1-02BF-482A-9849-5819318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AA5-2DDD-4AC7-9BE7-1E6BB6D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8B36-7B9C-465E-A225-AB542515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18F-3C36-4E10-908F-B22067D0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1804-9F2F-4BB1-8369-5268C843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4B1-8929-4972-B86A-C31E7D8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BCE-0452-44FC-94DA-39365830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EB29-114D-4EE5-B81E-321AF602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76EB-F5E7-4A5A-A4D6-17014B6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5F89-01C7-4510-991C-ADC59379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318-3BF8-4603-B6B2-11E31B0D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FC31-3643-49BF-B0F1-52DDC99D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6C0-3AE0-440F-B83F-8AA630C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EB4-6124-4300-9DE0-37C3DC4D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025-354F-44AC-B487-C8A4F36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2B5-3843-4510-B03A-B1F2053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C05-6A86-40D4-9030-AC0656A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14C-A139-414A-AF84-C000BA8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26B-168A-4DEC-B41D-A91F609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B84-664E-42EC-BD22-B2B01715B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ABCB-8B8B-4A49-B5C7-26912630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ing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Co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c@is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Software Consor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vate vs. Global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networks that cannot be routed on the Internet with address translation techniques to provide Internet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Internet address necessary for an entir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t to break fundamental TCP/IP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another point of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37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rmal Interne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cularly wasteful for sites which do not connect to the Internet or do so through 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eally need global addresses for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ost flexibility in case site decides to connect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hom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homing is defined as a single site having multiple connections to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for reliability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may not offer the level of reliability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ulti-homing to be effective, addresses must be in the global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ss aggregated the address, the more likely it will still be visible if part of the network goe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filters still appl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irtual Hos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WW protocol (HTTP 1.0)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web site requires an additional IP addresses, even though a single machine can host multiple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a single machine having hundreds or thousands of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in HTTP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 lot of browsers won’t understand 1.1 for a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federations/National N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NIC and ARIN have an intermediate layer between the regional registry and the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derations of service providers, perhaps organized by national boundaries (national N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vide better loc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ame reason the regional registries wer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ntribute to the global routing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confederations only assign to I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Protocol Version 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ere (are) very worried about running out of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st doesn’t go as far as it used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 fixes this problem and som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bits of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0,282,366,920,900,000,000,000,000,000,000,000,000+ possible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s IP header, adds more easily processed options, includes “flow ta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implementations available from mos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s less than enthusi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oes not solve rout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ddresses are a critical resource managed via a hierarchy of allocation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s are the normal allocators for 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registries generally allocate to I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of use predominates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due to routabil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cerns about availability of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resolves the availability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n’t address the routability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ing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ability, hierarchical addressing, and address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Scar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s. Dynamic/Private vs. Global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homing and Virtual Ho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derations/National 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out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is growing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than router vendors can keep upgrading router technology (and keep router prices reason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ddress allocated outside a service provider block must show up in the global rout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entries in those tables are very lim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update to those entries must be propagated glob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ervice providers are filtering out smaller globally routed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allocations affect fewer people and tend to “flap”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SPs don’t filter, their routers m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Routing Table Grow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bgptable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60703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erarchical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high performance large networks can get larger is if you h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always take time/resources to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 to hide information is to aggrega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65 aggregates all telephone numbers in Singap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aan Bataar”, Mongolia aggregates all postal addresses in Ulaan Bat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0/22 aggregates all 1024 hosts from 202.12.28.0 - 202.12.31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ddresses are hierarchically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roviders get a block from a regional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SP’s customers get address from that IS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SP customer’s customers get addresses from the customer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 Ownersh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with hierarchical add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ite changes providers, it should renumber out of the old provider’s address space into the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the non-aggregatable addresses be treated the same as top level aggregated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must show up in the global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ies the service providers own the addresses not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umbering can b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ddressing can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 Scarc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is growing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concerns that 4,294,967,295 addresses are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given an average utilization &lt;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think we have already run out of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bout half of the address space has been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echnologies (NAT, ALG) reduce the need for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ddress gets scarcer, organizations will have incentive to use it more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ress Registry Polic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2050 documented address allocation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curren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two years to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no claims whether current practice is a good idea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documented by RFC 2050 were defined by the “Internet 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easy balance between end users and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ial authority is the 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ere does the IANA get its autho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ic vs. Dynamic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ialing up to the Internet, addresses assigned when the modem conn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s can be configured so that machines get Internet addresses when they 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use of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ose machines on the net hav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conven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5288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es are assigned to the user or the machine, regardless of whether i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venient as Internet connectivity OK over physical disconnect/re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less efficient in use of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ly if users have multiple dialup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8T18:29:28Z</dcterms:created>
  <dc:creator>David R. Conrad</dc:creator>
  <dc:description/>
  <dc:language>en-US</dc:language>
  <cp:lastModifiedBy>gih</cp:lastModifiedBy>
  <dcterms:modified xsi:type="dcterms:W3CDTF">1999-06-16T21:13:47Z</dcterms:modified>
  <cp:revision>6</cp:revision>
  <dc:subject/>
  <dc:title>Addressing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