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226-C8B1-4389-B83B-13F5A6B5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C1A-51A3-4642-B18A-4191BDD2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DCC-4AC2-48BA-825A-5FD1202C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2BE-489C-411B-A2C7-EF088CDB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4859-58A3-4CDB-81A5-D50443CB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57E1-145E-4164-986C-5E901420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B359-5033-4538-92E6-95643792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1E0D-D7D3-4B8B-BD06-0D03012F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55D2-5C60-4ACF-8627-D9911E0A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6613-76AA-4C44-A833-0A90E36E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6C99-402B-4741-8CF5-3890DEF6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E29-C87E-4B53-BC08-541A280D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9727-73D2-4021-A121-1415800C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A39F-776A-4704-8A56-B5126C11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F679-D78F-44B0-AB38-5ED71EC9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4FF0-7C9A-421F-8B99-CDA70EE3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B375-1429-49F9-A197-4B0E37E1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1DF-ED38-4435-8EA9-5EFDD8A3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7F7A-98E6-4D9E-B24E-FD867F88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3E2-CA04-43DE-A3B1-5F042F20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B548-25F4-4A58-8AB5-FE7F7DCB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1632-B416-4C46-8C42-E49EC1BB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204-A0A0-4985-BC1D-CE9CF8BB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B0D-0451-403D-BBB2-99607BC4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95EB-8A73-41E7-928E-67FE4A166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1D68-4531-4EA7-9AC6-956669FFE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net Addressing</a:t>
            </a:r>
            <a:br>
              <a:rPr sz="44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 Technical Overview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R. Con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c@isc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ubnett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41440" y="1218960"/>
            <a:ext cx="77025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full addressing was a better fit than 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lass A and B networks impossible to man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was to partition large networks internally into sub-networks (subne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“class C” (8 bit host part) sized subnets although variable length subnets used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43000" y="4038480"/>
          <a:ext cx="71024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038480"/>
                    <a:ext cx="71024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assless Address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get what I just told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full addressing is officially “Bad”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8480" indent="-141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sizes just don’t fit all -- very wast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olution is to use variable length partitioning between the host and network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partitioning for a site provided by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tion is dotted quad followed by a “/” and the network part length, e.g., 202.12.28.129/2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rst host on 64 host network starting at 202.12.28.1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ub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828800" y="4724280"/>
          <a:ext cx="6350040" cy="26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724280"/>
                    <a:ext cx="6350040" cy="26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ample of Classless Address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591000" y="2819520"/>
          <a:ext cx="5553000" cy="35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1000" y="2819520"/>
                    <a:ext cx="5553000" cy="35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202.12.28.0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24 host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unced as a single network (importan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7 sub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.12.28.0/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.12.28.128/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.12.28.192/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.12.29.0/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.12.30.0/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.12.31.0/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.12.31.128/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addresses are 32 bit fixed length globally uniqu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bset of all IPv4 address 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addresses have evolved over time to be more flexible and to include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, classless addressing is in use providing arbitrary host and network part leng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Address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Address Allo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ddresses -- How to get here from the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s provide information on how to locate something, e.g., what route to take from here to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addresses comb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ing portion, known as the network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me portion known as the host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plit an Internet address into the network part and the host part has changed over tim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Beginn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when the TCP/IP protocols were first being designed, there was a big argument between fixed length and variable length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length will always be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f you make it big enough, no one will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length will always take more cycles to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re are tricks you can play to minimize the 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cision was made for fixed, 32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or has it, by a flip of a coi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P version 4 Address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43080" y="1981080"/>
            <a:ext cx="77025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bit unsigned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values 0 - 4,294,967,2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written as a “dotted quad of octe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8 bit values with a range of 0-255 separated by “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202.12.28.129 can be written as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73240" y="4419720"/>
          <a:ext cx="75643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240" y="4419720"/>
                    <a:ext cx="75643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nternet Address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et of IPv4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an infinit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d globally unique by the 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 allocated by delegated authorities such as Internet service providers or regional 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d to be rou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 as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tioned into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ost part that identifies a particular machine on a local or wide area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twork part that gives routers information how to get to the local or wide area network via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nternet Address Structur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ly, the architects of the Internet thought 256 networks would be more than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d a few very large (16,777,216 hosts)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wrong (in case you were wond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s were partitioned as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bit network part, 24 bit host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66680" y="4572000"/>
          <a:ext cx="7772400" cy="16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0"/>
                    <a:ext cx="7772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assfull Address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addressing plan too li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256 networks with many fewer hosts tha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was to create address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05120" y="3352680"/>
          <a:ext cx="548640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352680"/>
                    <a:ext cx="548640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A way too 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million hosts in a flat network is unthink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B too 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65536 host addresses is too many in mo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 65534 hosts all responding to a broad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C too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ites initially connecting to the Internet were large Universities, 256 was too small f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more flexibil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8T18:38:04Z</dcterms:created>
  <dc:creator>David R. Conrad</dc:creator>
  <dc:description/>
  <dc:language>en-US</dc:language>
  <cp:lastModifiedBy>gih</cp:lastModifiedBy>
  <dcterms:modified xsi:type="dcterms:W3CDTF">1999-06-16T21:17:18Z</dcterms:modified>
  <cp:revision>5</cp:revision>
  <dc:subject/>
  <dc:title>Internet Addressing A Brief Introduction and Hist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my documents\isocwk98\t4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