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257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257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257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2108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2108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257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257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257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C02-C3B1-407F-A636-81D0CD4E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BA9-7EE0-4E56-A57B-07E756FE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A51-2C31-4A62-9EFD-AD2009E6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08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1BD-8B5E-47A2-8E91-B1BD9675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21F-26DD-410F-9F45-F89E1D46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D0E-72E6-4F73-BBE3-AF350436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08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57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BB4-1E90-492C-AA4F-510864D5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57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699-B5E1-42E0-A702-53B9194F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57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B64-A4BF-4E66-81C0-333F69CA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57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CA6-B599-4FC9-A2E3-156A7147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57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57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B94-EE65-488E-AF56-C5DEB7DC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108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108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57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57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57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378-B773-4B4E-AD41-EC9621F2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108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08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57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257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108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57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240" y="6264360"/>
            <a:ext cx="749160" cy="58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88120" y="1596960"/>
            <a:ext cx="3744720" cy="5261040"/>
          </a:xfrm>
          <a:custGeom>
            <a:avLst/>
            <a:gdLst/>
            <a:ahLst/>
            <a:rect l="l" t="t" r="r" b="b"/>
            <a:pathLst>
              <a:path w="2359" h="3314">
                <a:moveTo>
                  <a:pt x="1905" y="3312"/>
                </a:moveTo>
                <a:lnTo>
                  <a:pt x="2358" y="3313"/>
                </a:lnTo>
                <a:lnTo>
                  <a:pt x="2358" y="1437"/>
                </a:lnTo>
                <a:lnTo>
                  <a:pt x="0" y="0"/>
                </a:lnTo>
                <a:lnTo>
                  <a:pt x="201" y="150"/>
                </a:lnTo>
                <a:lnTo>
                  <a:pt x="366" y="279"/>
                </a:lnTo>
                <a:lnTo>
                  <a:pt x="552" y="441"/>
                </a:lnTo>
                <a:lnTo>
                  <a:pt x="732" y="612"/>
                </a:lnTo>
                <a:lnTo>
                  <a:pt x="996" y="903"/>
                </a:lnTo>
                <a:lnTo>
                  <a:pt x="1230" y="1212"/>
                </a:lnTo>
                <a:lnTo>
                  <a:pt x="1400" y="1482"/>
                </a:lnTo>
                <a:lnTo>
                  <a:pt x="1548" y="1761"/>
                </a:lnTo>
                <a:lnTo>
                  <a:pt x="1665" y="2040"/>
                </a:lnTo>
                <a:lnTo>
                  <a:pt x="1751" y="2295"/>
                </a:lnTo>
                <a:lnTo>
                  <a:pt x="1809" y="2511"/>
                </a:lnTo>
                <a:lnTo>
                  <a:pt x="1863" y="2778"/>
                </a:lnTo>
                <a:lnTo>
                  <a:pt x="1890" y="3012"/>
                </a:lnTo>
                <a:lnTo>
                  <a:pt x="1905" y="3312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2851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8410320" y="12600"/>
            <a:ext cx="16820640" cy="136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41400"/>
            <a:ext cx="8445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7760" y="6329520"/>
          <a:ext cx="660600" cy="49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60" y="6329520"/>
                    <a:ext cx="66060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283400" y="6627960"/>
            <a:ext cx="928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Slide </a:t>
            </a:r>
            <a:fld id="{4EA7464B-B162-41BE-9EBD-16226081E34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83160" y="6627960"/>
            <a:ext cx="2572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ffffff"/>
              </a:buClr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1996 G. Huston.  All Rights Reserv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906320" y="6589800"/>
            <a:ext cx="951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G. Huston  INT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5AA7-F0A0-4911-950A-1477AD3FC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The Internet in Australi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ff Hus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stra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+Interop 96, Sydney, November 19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net Startup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1520" y="2004840"/>
            <a:ext cx="877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to resell academic and research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A &amp; R funding demands by on-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commercial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entry cost and high perceived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flow of skill set from A &amp; R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on of distinct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of control over th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market per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994 - Commercial Internets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514600"/>
            <a:ext cx="7391160" cy="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640" y="196524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9         90         91         92         93         94         95         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867280" y="25905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6680" y="3413160"/>
            <a:ext cx="6820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Australian Internet Servic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Australia - US lin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bps total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ld Wide Web takes over the n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NSFNET program winds down to be repla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 multi-provider US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995 - The National Interne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438280"/>
            <a:ext cx="7391520" cy="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680" y="188928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9         90         91         92         93         94         95         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781680" y="2514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7440" y="3260880"/>
            <a:ext cx="8272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stra purchases AA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ralia - US capacity expanded to 10Mb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l Access providers exp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zemail, Access One, connect.com.au, On Australia,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scape dominates the Web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Commerce vi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-provider Interconnection issues surface in 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0"/>
            <a:ext cx="7391520" cy="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360" y="173664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9         90         91         92         93         94         95         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696080" y="2438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1160" y="3184560"/>
            <a:ext cx="665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ralia - US capacity expanded to 50Mb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0 Internet Servic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market opens to inclu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d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scale telco investment in Internet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mmunications market takes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co involvement now visibl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growth pressure on the Internet from a very large investment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tened activity bases move into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lectronic markets open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communications market o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5600" y="2141640"/>
            <a:ext cx="843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tentially revolutionary communications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rchic administrativ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growth fati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ed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oherent utilit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3160" y="2244600"/>
            <a:ext cx="8712000" cy="422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5384880"/>
            <a:ext cx="124920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22640" y="3301920"/>
            <a:ext cx="3825720" cy="13176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01760" y="2884320"/>
          <a:ext cx="3648240" cy="20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1760" y="2884320"/>
                    <a:ext cx="364824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day’s Environ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31600" y="3513240"/>
            <a:ext cx="3180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1280" y="2260440"/>
            <a:ext cx="3929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60" y="4902120"/>
            <a:ext cx="570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munications Ut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33960" y="2222640"/>
            <a:ext cx="2932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26760" y="4797360"/>
            <a:ext cx="1876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20760" y="2824200"/>
          <a:ext cx="50472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0760" y="2824200"/>
                    <a:ext cx="5047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2920" y="2814480"/>
          <a:ext cx="47628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2920" y="2814480"/>
                    <a:ext cx="4762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198440" y="5799240"/>
          <a:ext cx="54936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98440" y="5799240"/>
                    <a:ext cx="5493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09480" y="5921280"/>
          <a:ext cx="536760" cy="28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5921280"/>
                    <a:ext cx="53676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613560" y="5452920"/>
            <a:ext cx="0" cy="6620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08880" y="6121440"/>
            <a:ext cx="9190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07080" y="5492880"/>
            <a:ext cx="968400" cy="64764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89440" y="4858920"/>
            <a:ext cx="1873080" cy="125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egulated Service Provide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entry price as an I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active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variability in pricing and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levels of consumer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volatility in the market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general poorly financially resour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regulatory structure initiated through consumer protection initiatives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835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bone “wholesaler” and Access “retailer”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change as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bone providers enter the retail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ailers band together to defend existing market sh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technologies impact on PSTN dial access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he retail markets, opened through rapid market expansion, close as the expansion pace slakens off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demand exceeds capability of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performance levels due to saturation of existing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f growth patterns for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ing supply systems are indicating signs of st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demand will continue to outpace supply rates for the next 3 - 5 years at l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Internet in Austral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77640" y="2209680"/>
            <a:ext cx="574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volutionary P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urrent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ures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34680" y="2192400"/>
            <a:ext cx="842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and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pay per view mark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advertising market which can survive “fast forward”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spamming jam email to the extent that public directories are withdraw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ny moderating factor on behaviou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ertising models will evolve - the current match of the model to the medium is too poor to be eff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comme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’s the transac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’s the ban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’s my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pays the tax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he market grow faster than the regulators can regulate to save the current syst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11320" y="2403360"/>
            <a:ext cx="6296040" cy="429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38280" y="187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thinking in an Exponenti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3880" y="2476440"/>
            <a:ext cx="0" cy="3667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52800" y="2914560"/>
            <a:ext cx="4449600" cy="3230640"/>
          </a:xfrm>
          <a:custGeom>
            <a:avLst/>
            <a:gdLst/>
            <a:ahLst/>
            <a:rect l="l" t="t" r="r" b="b"/>
            <a:pathLst>
              <a:path w="2803" h="2035">
                <a:moveTo>
                  <a:pt x="2796" y="0"/>
                </a:moveTo>
                <a:lnTo>
                  <a:pt x="2802" y="36"/>
                </a:lnTo>
                <a:lnTo>
                  <a:pt x="2802" y="2022"/>
                </a:lnTo>
                <a:lnTo>
                  <a:pt x="0" y="2034"/>
                </a:lnTo>
                <a:lnTo>
                  <a:pt x="114" y="2010"/>
                </a:lnTo>
                <a:lnTo>
                  <a:pt x="420" y="1974"/>
                </a:lnTo>
                <a:lnTo>
                  <a:pt x="954" y="1866"/>
                </a:lnTo>
                <a:lnTo>
                  <a:pt x="1422" y="1698"/>
                </a:lnTo>
                <a:lnTo>
                  <a:pt x="1830" y="1482"/>
                </a:lnTo>
                <a:lnTo>
                  <a:pt x="2262" y="1152"/>
                </a:lnTo>
                <a:lnTo>
                  <a:pt x="2550" y="792"/>
                </a:lnTo>
                <a:lnTo>
                  <a:pt x="2712" y="456"/>
                </a:lnTo>
                <a:lnTo>
                  <a:pt x="2784" y="144"/>
                </a:lnTo>
              </a:path>
            </a:pathLst>
          </a:custGeom>
          <a:solidFill>
            <a:srgbClr val="c6423a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09720" y="6143760"/>
            <a:ext cx="5159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2952720" y="-349200"/>
            <a:ext cx="9556200" cy="647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27720" y="58784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8160" y="6221520"/>
            <a:ext cx="69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15760" y="6173640"/>
            <a:ext cx="69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31000" y="5773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44960" y="263988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18880" y="33163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86240" y="3495600"/>
            <a:ext cx="1114560" cy="11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net Fu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3800" y="2340000"/>
            <a:ext cx="6295680" cy="429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93880" y="2476440"/>
            <a:ext cx="0" cy="3667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52800" y="2914560"/>
            <a:ext cx="4449600" cy="3230640"/>
          </a:xfrm>
          <a:custGeom>
            <a:avLst/>
            <a:gdLst/>
            <a:ahLst/>
            <a:rect l="l" t="t" r="r" b="b"/>
            <a:pathLst>
              <a:path w="2803" h="2035">
                <a:moveTo>
                  <a:pt x="2796" y="0"/>
                </a:moveTo>
                <a:lnTo>
                  <a:pt x="2802" y="36"/>
                </a:lnTo>
                <a:lnTo>
                  <a:pt x="2802" y="2022"/>
                </a:lnTo>
                <a:lnTo>
                  <a:pt x="0" y="2034"/>
                </a:lnTo>
                <a:lnTo>
                  <a:pt x="114" y="2010"/>
                </a:lnTo>
                <a:lnTo>
                  <a:pt x="420" y="1974"/>
                </a:lnTo>
                <a:lnTo>
                  <a:pt x="954" y="1866"/>
                </a:lnTo>
                <a:lnTo>
                  <a:pt x="1422" y="1698"/>
                </a:lnTo>
                <a:lnTo>
                  <a:pt x="1830" y="1482"/>
                </a:lnTo>
                <a:lnTo>
                  <a:pt x="2262" y="1152"/>
                </a:lnTo>
                <a:lnTo>
                  <a:pt x="2550" y="792"/>
                </a:lnTo>
                <a:lnTo>
                  <a:pt x="2712" y="456"/>
                </a:lnTo>
                <a:lnTo>
                  <a:pt x="2784" y="144"/>
                </a:lnTo>
              </a:path>
            </a:pathLst>
          </a:custGeom>
          <a:solidFill>
            <a:srgbClr val="c6423a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09720" y="6143760"/>
            <a:ext cx="5159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2952720" y="-349200"/>
            <a:ext cx="9556200" cy="647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27720" y="58784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8160" y="6221520"/>
            <a:ext cx="69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30360" y="6237360"/>
            <a:ext cx="696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31000" y="5773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09160" y="487188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000240" y="5286240"/>
            <a:ext cx="15840" cy="69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9400" y="4700520"/>
            <a:ext cx="60004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4" y="0"/>
                </a:moveTo>
                <a:arcTo wR="10800" hR="10800" stAng="-5401819" swAng="5401819"/>
                <a:lnTo>
                  <a:pt x="10800" y="10800"/>
                </a:lnTo>
                <a:close/>
              </a:path>
              <a:path fill="none" w="21600" h="21600">
                <a:moveTo>
                  <a:pt x="10794" y="0"/>
                </a:moveTo>
                <a:arcTo wR="10800" hR="10800" stAng="-5401819" swAng="5401819"/>
              </a:path>
            </a:pathLst>
          </a:custGeom>
          <a:noFill/>
          <a:ln cap="rnd"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" y="4700520"/>
            <a:ext cx="6701400" cy="269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56" y="1592"/>
                </a:moveTo>
                <a:arcTo wR="10800" hR="10800" stAng="-7290193" swAng="1888564"/>
                <a:lnTo>
                  <a:pt x="10800" y="10800"/>
                </a:lnTo>
                <a:close/>
              </a:path>
              <a:path fill="none" w="21600" h="21600">
                <a:moveTo>
                  <a:pt x="5156" y="1592"/>
                </a:moveTo>
                <a:arcTo wR="10800" hR="10800" stAng="-7290193" swAng="1888564"/>
              </a:path>
            </a:pathLst>
          </a:custGeom>
          <a:noFill/>
          <a:ln cap="rnd"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7120" y="5504040"/>
            <a:ext cx="1962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9"/>
                </a:solidFill>
                <a:latin typeface="Times New Roman"/>
              </a:rPr>
              <a:t>Internet Mar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82800" y="4344840"/>
            <a:ext cx="1721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one mark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ar Term Fu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inalisation or expansion of existing commercial players as investment pressures are bought to b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sion rates open niche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rkets close down when growth rates stabilise, due to competitive price pres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there are 460 Internet Service Providers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number will probably dec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s - Internet / Tel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he Internet drive out the telco voice busin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ce over the Internet is technically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widespread deployment a likely outco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service quality be a determinant fact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existing phone players survive if the squeeze happe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utcome is unlikely in the next 5 - 10 years. Longer term predictions are highly speculat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s - Internet / Tel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Internet market survive the tel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ment pres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ion of value of existing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asset holdings of communications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ically regulatory position of the Tel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s - Tech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single “killer application” for the Intern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ternet is FAR more versatile than tha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edding communications and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Internet chip” as a base of new consume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market expansion based on expansion of consumer products which use digital 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s - Tech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108160"/>
            <a:ext cx="832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Internet survive massive consumerism in technology ter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gmentation in addres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gmentation in name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ling pressures in the routing space surpass available sili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nel capacity pressures surpass available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rvice quality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gmentation in connectivity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s - Tech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it look li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es, Screens, Keyboards and M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Assis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Comp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Commun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just smart, but highly communicative plastic money c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ly well connected and well informed coffee ma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989 - Initiat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514600"/>
            <a:ext cx="7391160" cy="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640" y="196524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9         90         91         92         93         94         95         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720" y="310824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A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38080" y="25905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6680" y="3794040"/>
            <a:ext cx="6770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ive to create a national universit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ralian Vice-Chancellors’ Committee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rotocol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d funding from Australian Research Counc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Kbps link Melbourne - Hawa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s - the Information Econo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force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lit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ll special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force profile largely ach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s - the Information Econo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domestic communication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ucturing may be necessary to achieve maximal potential from the existing infrastructure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cally separate the provision of basic bit carriage from layered services of voice and data swi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 of public and private investment profiles may be necedssary to achieve effective infrastructur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s - the Information Econo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national infastructure fall prey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tional telco consort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O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a politically tenable / stable outc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s - the Information Econo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international communication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ea cable systems under stress due to Internet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expansion of cable rollout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restructuring of international communications agre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s - Soci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et will drive a process of socia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 the basis of economic w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 the flows of information within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model of social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unrealistic to anticipate a smooth transitio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tarting Point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7840" y="196524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thusiasts - anything that can be made to work  - cheapl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and research  base - computing de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ing services interfacing to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UCP, dial-IP, ACS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sed knowledge and high enthusia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ed expertise with no managemen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not scale easily beyond hundreds (or low thousa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7840" y="6091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ademic and Research Networ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ing commitment to Internet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Academic and Research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funding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commer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visible telco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content empha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ary funding a strong driver in this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990 - Implem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514600"/>
            <a:ext cx="7391160" cy="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3640" y="196524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9         90         91         92         93         94         95         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56120" y="318456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A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905120" y="25905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52640" y="3641760"/>
            <a:ext cx="616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Network Roll-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Kbps national network using star top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CP/IP and DECnet protocol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bps Melbourne - Canberra - Syd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8 sites - univers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c and research funding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Kbps link - Melbourne - Hawa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, usenet, f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991 - Academic Net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2514600"/>
            <a:ext cx="7391160" cy="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3640" y="196524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9         90         91         92         93         94         95         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17880" y="318456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ARNet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819520" y="25905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4880" y="3794040"/>
            <a:ext cx="64515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ale to academic and research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bps links to Brisbane, Adela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CP/IP Internet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c and research funding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Kbps link - Melbourne - US West Co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, usenet, ftp, gopher, w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brary uptake in information resource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pan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ing pressures 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ure to service A &amp; R fri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mental bo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entities working in areas common with A &amp; 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d funding and strong dynamic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outgrows its available funding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s to commercialise to cross subsidise A &amp; R networking grow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346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992/93- Expan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514600"/>
            <a:ext cx="7391160" cy="0"/>
          </a:xfrm>
          <a:prstGeom prst="line">
            <a:avLst/>
          </a:prstGeom>
          <a:ln w="127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3640" y="1965240"/>
            <a:ext cx="7559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9         90         91         92         93         94         95         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0880" y="318456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ARNet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267080" y="25905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75960" y="3794040"/>
            <a:ext cx="6602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resellers of Internet dial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ata Network funding initi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8Kbps link - Melbourne - US West Co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, usenet, ftp, gopher, w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cast audio/video conferencing 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 Commercial Internet takes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Geoff Huston</dc:creator>
  <dc:description/>
  <dc:language>en-US</dc:language>
  <cp:lastModifiedBy>gih</cp:lastModifiedBy>
  <cp:lastPrinted>31133-07-15T17:49:05Z</cp:lastPrinted>
  <dcterms:modified xsi:type="dcterms:W3CDTF">1998-03-10T12:57:44Z</dcterms:modified>
  <cp:revision>19391</cp:revision>
  <dc:subject/>
  <dc:title>The Inter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telstra.net/gih</vt:lpwstr>
  </property>
  <property fmtid="{D5CDD505-2E9C-101B-9397-08002B2CF9AE}" pid="9" name="LinkColor">
    <vt:r8>16711782</vt:r8>
  </property>
  <property fmtid="{D5CDD505-2E9C-101B-9397-08002B2CF9AE}" pid="10" name="MailAddress">
    <vt:lpwstr>gih@telstra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