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7120" y="408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980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7120" y="408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09800" y="408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5120" y="1935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882760" y="1935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27120" y="408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5120" y="408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882760" y="408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800" y="193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9800" y="193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7120" y="408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980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9800" y="408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9800" y="1935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7120" y="408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447920"/>
            <a:ext cx="8215200" cy="303840"/>
            <a:chOff x="228600" y="1447920"/>
            <a:chExt cx="8215200" cy="303840"/>
          </a:xfrm>
        </p:grpSpPr>
        <p:sp>
          <p:nvSpPr>
            <p:cNvPr id="1" name=""/>
            <p:cNvSpPr/>
            <p:nvPr/>
          </p:nvSpPr>
          <p:spPr>
            <a:xfrm>
              <a:off x="228600" y="1447920"/>
              <a:ext cx="8215200" cy="1486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465e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1675800"/>
              <a:ext cx="8215200" cy="759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465e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5" name=""/>
          <p:cNvSpPr/>
          <p:nvPr/>
        </p:nvSpPr>
        <p:spPr>
          <a:xfrm>
            <a:off x="209520" y="152280"/>
            <a:ext cx="90360" cy="90720"/>
          </a:xfrm>
          <a:prstGeom prst="ellipse">
            <a:avLst/>
          </a:prstGeom>
          <a:solidFill>
            <a:srgbClr val="b4d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9520" y="378000"/>
            <a:ext cx="90360" cy="90360"/>
          </a:xfrm>
          <a:prstGeom prst="ellipse">
            <a:avLst/>
          </a:prstGeom>
          <a:solidFill>
            <a:srgbClr val="b4d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09520" y="604800"/>
            <a:ext cx="90360" cy="90360"/>
          </a:xfrm>
          <a:prstGeom prst="ellipse">
            <a:avLst/>
          </a:prstGeom>
          <a:solidFill>
            <a:srgbClr val="b4d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09520" y="830160"/>
            <a:ext cx="90360" cy="90720"/>
          </a:xfrm>
          <a:prstGeom prst="ellipse">
            <a:avLst/>
          </a:prstGeom>
          <a:solidFill>
            <a:srgbClr val="b4d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09520" y="1057320"/>
            <a:ext cx="90360" cy="90360"/>
          </a:xfrm>
          <a:prstGeom prst="ellipse">
            <a:avLst/>
          </a:prstGeom>
          <a:solidFill>
            <a:srgbClr val="b4d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74000" y="6594480"/>
            <a:ext cx="90720" cy="90360"/>
          </a:xfrm>
          <a:prstGeom prst="ellipse">
            <a:avLst/>
          </a:prstGeom>
          <a:solidFill>
            <a:srgbClr val="386c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331040" y="6581880"/>
            <a:ext cx="90360" cy="90360"/>
          </a:xfrm>
          <a:prstGeom prst="ellipse">
            <a:avLst/>
          </a:prstGeom>
          <a:solidFill>
            <a:srgbClr val="386c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716960" y="6594480"/>
            <a:ext cx="90360" cy="90360"/>
          </a:xfrm>
          <a:prstGeom prst="ellipse">
            <a:avLst/>
          </a:prstGeom>
          <a:solidFill>
            <a:srgbClr val="386c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102520" y="6594480"/>
            <a:ext cx="90720" cy="90360"/>
          </a:xfrm>
          <a:prstGeom prst="ellipse">
            <a:avLst/>
          </a:prstGeom>
          <a:solidFill>
            <a:srgbClr val="386c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488440" y="6594480"/>
            <a:ext cx="90360" cy="90360"/>
          </a:xfrm>
          <a:prstGeom prst="ellipse">
            <a:avLst/>
          </a:prstGeom>
          <a:solidFill>
            <a:srgbClr val="386c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 IPv4 Addresses have a Value?</a:t>
            </a:r>
            <a:endParaRPr b="0" lang="en-US" sz="44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4862520" y="59072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ETF PIARA BOF June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eoff Hu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But gateway technologies cost money too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rrec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 = C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st of deploy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lue = 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uteabilit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+ 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urit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+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rtabilit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 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ced functionality -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ith depreciated capital compon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o a non-speculative buyer will never offer more than V for IPv4 addres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re is now an established upper bound on a scarcity price premium so a monopoly of supply of resource essential to functionality cannot be secured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Are there any other upper bounds?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Pv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milar Cost and Value calculation can be undertak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 V6 develops the cost will come down and the value will increa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0960" y="169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Book Antiqua"/>
              </a:rPr>
              <a:t>So Whats the Value of an IPv4 Address ?</a:t>
            </a:r>
            <a:endParaRPr b="0" lang="en-US" sz="36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ever the market will be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t people tell me that addresses are fre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ue - the registries give away new IPv4 addres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Book Antiqua"/>
              </a:rPr>
              <a:t>What about address registries?</a:t>
            </a:r>
            <a:endParaRPr b="0" lang="en-US" sz="36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egisteries limit trading due t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umping free IPv4 addresses on the market from the unallocated IPv4 address poo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lices which deny a traded address access to the regist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se polic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duce the production value of alternative technologies through artificial price fixing of the IPv4 address, inhibiting their deploy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annot endure as the unallocated address pool shrink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4040" y="286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Book Antiqua"/>
              </a:rPr>
              <a:t>What will happen ….</a:t>
            </a:r>
            <a:endParaRPr b="0" lang="en-US" sz="36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Pv4 addresses will be traded as a market commodity sooner or lat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ither in a chaotic fashion 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ithin the constraints of a fair and open mar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lso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lternative translation technologies will have a wider market and increas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Pv6 will have adopters moving beyond experiment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YES !</a:t>
            </a:r>
            <a:endParaRPr b="0" lang="en-US" sz="60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7120" y="42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 Antiqua"/>
              </a:rPr>
              <a:t>Well then -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ive me a dollar value for an address!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ook Antiqua"/>
              </a:rPr>
              <a:t>No</a:t>
            </a:r>
            <a:r>
              <a:rPr b="0" lang="en-US" sz="4400" spc="-1" strike="noStrike">
                <a:solidFill>
                  <a:srgbClr val="000099"/>
                </a:solidFill>
                <a:latin typeface="Book Antiqua"/>
              </a:rPr>
              <a:t> - I Won’t !</a:t>
            </a:r>
            <a:endParaRPr b="0" lang="en-US" sz="44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 Antiqua"/>
              </a:rPr>
              <a:t>An Address Value is variable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lue = ((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quenes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+ 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uteabilit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+ 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iguous siz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* U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tility facto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- C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st of addres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ach participant’s estimation of the value factor will va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refore the ‘value’ will vary according to the buyer and sell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39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But ...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I still want to know how much they are worth!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n find a buy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market approach indicates that market value is established by selling address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 the buyer’s offer is less than your calculation of V then you won’t sell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if buyer’s offer is greater than the buyer’s current calculation of V then the buyer is undertaking future price specula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 Antiqua"/>
              </a:rPr>
              <a:t>So if I can sell addresses, maybe I should hoard them instead?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a finite resource market with escalating demand the market price starts to exhibit a scarcity premium, where the scarcity premium is related to the level of demand over supp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arding and speculative buying can be used to establish a monopoly position and thereby exert complete control over supply and pri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 Beers is an excellent example of this market trading practice in the diamond wholesale mar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So ..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Book Antiqua"/>
              </a:rPr>
              <a:t>Lets speculate and buy up the address pool</a:t>
            </a:r>
            <a:endParaRPr b="0" lang="en-US" sz="3200" spc="-1" strike="noStrike">
              <a:solidFill>
                <a:srgbClr val="000099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7120" y="193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ut this is not a monopoly market of finite go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lication gateways and address translation technologies can be deployed to provide desired functionality in many many ca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3:40:25Z</dcterms:created>
  <dc:creator>geoff</dc:creator>
  <dc:description/>
  <dc:language>en-US</dc:language>
  <cp:lastModifiedBy>Geoff Huston</cp:lastModifiedBy>
  <dcterms:modified xsi:type="dcterms:W3CDTF">2003-08-25T01:30:11Z</dcterms:modified>
  <cp:revision>4</cp:revision>
  <dc:subject/>
  <dc:title>Do IPv4 Addresses have a Valu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