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F4CE-C96C-4813-A074-B49DFC6A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C13-A248-4D3F-83FF-0A06A000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992-E382-4B26-8ACB-4C904A5E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7DA-3992-485C-9494-CAB865DE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4D5-5962-462C-854B-2501ADC9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D67-4531-4B7D-90F2-37108732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8CD-CACA-40AB-8BBE-F962B9AC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8FB-E47D-47FC-8EDC-8685FDDE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898-EBF8-48E8-8002-4EAC7A47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502-92F6-4F10-B164-BB32ED4D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F10-1711-4167-8AA3-5C9B531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BDC-34A7-4EDD-97CD-EBECAF39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mony Tex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armony Tex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armony Tex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armony Tex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FF35-CB99-41F3-A380-5793C1FB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armony Text"/>
                <a:ea typeface="ＭＳ Ｐゴシック"/>
              </a:rPr>
              <a:t>Unique Local IPv6 Unicast Addresses 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A review from an RIR perspective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Geoff Huston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August 2003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mony Text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IPv6 address architecture includes the requirement for local use addresses that are: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Useable in a local (non-connected context)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Span more than a link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Are not components of a provider aggregate address block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Not intended to be globally routed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Unique (no NATS!)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Unicast addresses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mony Text"/>
              </a:rPr>
              <a:t>Local Use Addresses</a:t>
            </a: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The IETF IPv6 Working Group is considering alternatives to Site-Local Addresses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(This presentation is not intended to be a repeat of the Site-Local debate!)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One proposal is to use a block of the Global Unicast Address space for “local” use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Where “local” implies “not anticipated to be globally routed”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See “draft-hunden-ipv6-global-local-addr-02.txt” for the complete text of the proposal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mony Text"/>
              </a:rPr>
              <a:t>Questions Raised by the Proposal</a:t>
            </a:r>
            <a:endParaRPr b="0" lang="en-US" sz="40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What are the desireable characteristics of Local Use addresses?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What distribution mechanisms are called for?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Is there a role for the RIRs here?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mony Text"/>
              </a:rPr>
              <a:t>If so what issues would this raise for the RIRs to consider?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armony Text"/>
              </a:rPr>
              <a:t>Characteristics of Local Use Addresses</a:t>
            </a:r>
            <a:endParaRPr b="0" lang="en-US" sz="40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Harmony Text"/>
              </a:rPr>
              <a:t>Exclusive use of a common prefix drawn from the global unicast address space for all local use addresses (FC00::/7)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Harmony Text"/>
              </a:rPr>
              <a:t>Unique assignment of a fixed size local use address block (/48) from within the pool of addresses defined by this prefix, using a Global ID as the block prefix.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Harmony Text"/>
              </a:rPr>
              <a:t>There is no internal structure within the global ID, and these global IDs cannot be aggregated in a routing context.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Harmony Text"/>
              </a:rPr>
              <a:t>The assignment information must be recorded and stored in a reliable manner.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Harmony Text"/>
              </a:rPr>
              <a:t>Local Use Addresses are not intended to be passed within the global routing environment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Harmony Text"/>
              </a:rPr>
              <a:t>The Proposal</a:t>
            </a: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Harmony Text"/>
              </a:rPr>
              <a:t>Use /48 blocks drawn from FC00::/7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Harmony Text"/>
              </a:rPr>
              <a:t>An End user may either: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Harmony Text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Harmony Text"/>
              </a:rPr>
              <a:t>use a random number pick to draw a /48 block from FC00::/8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Harmony Text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Harmony Text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Harmony Text"/>
              </a:rPr>
              <a:t>obtain a unique /48 block from a registry that manages FD00::/8</a:t>
            </a:r>
            <a:endParaRPr b="0" lang="en-US" sz="3200" spc="-1" strike="noStrike">
              <a:solidFill>
                <a:srgbClr val="000000"/>
              </a:solidFill>
              <a:latin typeface="Harmony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Harmony Text"/>
              </a:rPr>
              <a:t>A Local Use Registry System</a:t>
            </a: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Harmony Text"/>
              </a:rPr>
              <a:t>A Local Use Registry system should be: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Readily accessible for anybody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Highly automated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No justification required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Limited identity requirement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Rapid turnaround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Inexpensive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Allocate randomly from the block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Transparency of charges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Allow for once-and-forever allocation services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Allow for agency structures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Reliable and enduring records of unique allocations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Harmony Text"/>
              </a:rPr>
              <a:t>Limited publication of allocations</a:t>
            </a:r>
            <a:endParaRPr b="0" lang="en-US" sz="2000" spc="-1" strike="noStrike">
              <a:solidFill>
                <a:srgbClr val="000000"/>
              </a:solidFill>
              <a:latin typeface="Harmony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Harmony Text"/>
              </a:rPr>
              <a:t>RIR Considerations</a:t>
            </a: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Service model (renewable, non-renewable)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Transaction model rather then membership based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Service fees to be cost-based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Record management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High volume low value transaction model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Preserve Local Use Address Characteristics (non-aggregatable, no public per-allocation records, stable allocations, non-hoardable) 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Regulatory issues (competition, fee setting, equal access)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mony Text"/>
              </a:rPr>
              <a:t>RIR Considerations</a:t>
            </a:r>
            <a:endParaRPr b="0" lang="en-US" sz="4400" spc="-1" strike="noStrike">
              <a:solidFill>
                <a:srgbClr val="000000"/>
              </a:solidFill>
              <a:latin typeface="Harmony Tex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This can be seen as a distinct service activity, not a seamless adjunct to existing activities: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Transactions, not membership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High volume, low value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Automated applications without evaluation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Limited publication of allocations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armony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mony Text"/>
              </a:rPr>
              <a:t>Considerations:</a:t>
            </a: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Local agency activities?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Wholesaling? 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Transfers?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armony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armony Tex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mony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06:45:24Z</dcterms:created>
  <dc:creator>Geoff Huston</dc:creator>
  <dc:description/>
  <dc:language>en-US</dc:language>
  <cp:lastModifiedBy>Geoff Huston</cp:lastModifiedBy>
  <dcterms:modified xsi:type="dcterms:W3CDTF">2003-08-10T11:05:33Z</dcterms:modified>
  <cp:revision>6</cp:revision>
  <dc:subject/>
  <dc:title> Unique Local IPv6 Unicast Addresses </dc:title>
</cp:coreProperties>
</file>