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60A-FC04-4CE0-8983-F2DDDB1C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CD0-1610-432B-AF13-067AA2E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37D-89AF-48C9-8401-FC1B1CBD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A50-BB12-49DE-AB31-8698AE06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565-E145-42D0-ADE0-B001D29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F8B-5F58-4EA1-919F-9548716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9E0-3F16-487E-8D8F-42A41A7A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558-DD60-477F-AD15-A8E07BD6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A63-21FD-4D9D-94FF-01BED34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666-701B-4C84-AA4C-BB9EF84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422-85A6-497E-B509-58EC8A1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533-B648-4F86-8062-9CDC9F2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C2B-757B-430F-953E-772E779DF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PEER Route Attribu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e a well-known transitive advisory scope attrib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ed by originating AS to route pre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retable as advice to limit the scope of propagation of the prefix so that the prefix is not advertised across bilateral SKA peer inter-AS 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ed in draft-huston-nopeer-00.t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7997760" y="6218280"/>
            <a:ext cx="113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ff H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l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nded Us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 the TE usage of BGP where specific routes are selectively advertised and a covering aggregate is more generally announc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PEER would be applied to the more specific advertis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re specifics would be propagated to the extent that the originating AS has direct and indirect upstream service relationsh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tential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 the unbounded propagation of more specific entries to a scope limit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iginating AS fu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ffective TE scope where the originator’s policy has some leve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c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53% of table entries are more specific prefixes of enclosing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6% share a common origin AS with the immediately enclosing aggreg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% share a common AS path with the immediately enclosing aggreg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PEER could reduce the unbounded propagation of TE-based more specifics to a logical boundary of “funded agent”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3:58:05Z</dcterms:created>
  <dc:creator>gih</dc:creator>
  <dc:description/>
  <dc:language>en-US</dc:language>
  <cp:lastModifiedBy>gih</cp:lastModifiedBy>
  <dcterms:modified xsi:type="dcterms:W3CDTF">2002-03-18T22:28:01Z</dcterms:modified>
  <cp:revision>4</cp:revision>
  <dc:subject/>
  <dc:title>NOPEER Attribute</dc:title>
</cp:coreProperties>
</file>