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343-8AF6-44BF-81A6-BAE5F442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8E1-2DD0-4E38-BB31-3841B0BD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C57A-1AEE-4087-8387-987310D0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9C59-1EED-47AC-9825-D4C5D87B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0EA-1C5E-4E1A-9102-621CB146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0FB-A9DF-466D-A2E5-EE8860EE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C99C-22CB-45F9-9B26-1D4477D7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656-F6BE-416F-8D66-6DC9F0A4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33B-51CB-418C-BCE7-E6541D7D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EF2-A3D4-416D-A05E-96788CD0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709-BE32-4DE3-8CDE-E61075C1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04A-3150-456A-B2B1-4AAAD75A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6B5B-4F17-4E5A-99B3-2E36D2881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PEER Route Attribu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se a well-known transitive advisory scope attrib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ed by originating AS to route prefix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pretable as advice to limit the scope of propagation of the prefix so that the prefix is not advertised across bilateral SKA peer inter-AS conne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cumented in draft-huston-nopeer-00.tx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7997760" y="6218280"/>
            <a:ext cx="1137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off Hu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ls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nded Us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 the TE usage of BGP where specific routes are selectively advertised and a covering aggregate is more generally announc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PEER would be applied to the more specific advertis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re specifics would be propagated to the extent that the originating AS has direct and indirect upstream service relationshi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tential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uce the unbounded propagation of more specific entries to a scope limited 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originating AS fun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effective TE scope where the originator’s policy has some leve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ifica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53% of table entries are more specific prefixes of enclosing aggreg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 thes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6% share a common origin AS with the immediately enclosing aggreg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1% share a common AS path with the immediately enclosing aggreg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PEER could reduce the unbounded propagation of TE-based more specifics to a logical boundary of “funded agent”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13:58:05Z</dcterms:created>
  <dc:creator>gih</dc:creator>
  <dc:description/>
  <dc:language>en-US</dc:language>
  <cp:lastModifiedBy>gih</cp:lastModifiedBy>
  <dcterms:modified xsi:type="dcterms:W3CDTF">2002-03-18T22:28:01Z</dcterms:modified>
  <cp:revision>4</cp:revision>
  <dc:subject/>
  <dc:title>NOPEER Attribute</dc:title>
</cp:coreProperties>
</file>